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4A2-38C4-4FD1-B553-58D0BEC9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A5F-B210-4BD2-8DD6-5792AACA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C14-ABAF-4566-88FD-50EE09B2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D86-D189-4AF7-94A6-4F585104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B495-E80D-4872-A498-67F9E395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2D03-5C67-4F3B-8808-3F0CD2DD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435E-0F87-4054-8D2B-98D918A6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6A70-79D1-44FB-BE93-E17F96B7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E8EB-7055-44B3-9A78-A1E0BC14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8F49-C528-4173-B936-6EF622DC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F67E-F775-4D4E-A3A4-EE78EA4C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9DF-1DA2-49B9-9DA9-1FF735C7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7D57-05A4-4AB2-ABA8-09E916D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79AE-0E23-45AA-9684-7A553963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32A2-0932-4111-BB9A-88A10F13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CEC3-3CD4-4CB6-B57E-3201C26F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66FB-2DEF-4C4D-99B5-6D1C4BC3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FB0-8462-4F86-9C7C-6E724985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872-6A77-475D-A3D0-D8EF48EB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43F-8326-4783-B870-778026E2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795-263D-43EA-9E67-8CD60C4F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932-8848-4C82-8CAC-4D5DA48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E32-1FE1-4213-AAF3-85AA4AF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64D-D7CB-497F-8DF2-9C3CB6D3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E826-9C15-448C-9279-1666AA6A014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A2EE-CFED-4EF6-9378-9908ACD93C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3;&#1089;&#1086;&#1083;&#1102;&#1090;&#1080;&#1079;&#1084;" TargetMode="External"/><Relationship Id="rId2" Type="http://schemas.openxmlformats.org/officeDocument/2006/relationships/hyperlink" Target="http://ru.wikipedia.org/wiki/&#1040;&#1074;&#1090;&#1086;&#1088;&#1080;&#1090;&#1072;&#1088;&#1080;&#1079;&#1084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9;&#1085;&#1086;&#1082;" TargetMode="External"/><Relationship Id="rId2" Type="http://schemas.openxmlformats.org/officeDocument/2006/relationships/hyperlink" Target="http://ru.wikipedia.org/wiki/&#1052;&#1086;&#1085;&#1086;&#1087;&#1086;&#1083;&#1080;&#1103;" TargetMode="External"/><Relationship Id="rId3" Type="http://schemas.openxmlformats.org/officeDocument/2006/relationships/hyperlink" Target="http://ru.wikipedia.org/wiki/&#1050;&#1072;&#1088;&#1090;&#1077;&#1083;&#1100;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72;&#1076;&#1077;&#1084;&#1080;&#1095;&#1077;&#1089;&#1082;&#1080;&#1077;_&#1089;&#1074;&#1086;&#1073;&#1086;&#1076;&#1099;" TargetMode="External"/><Relationship Id="rId2" Type="http://schemas.openxmlformats.org/officeDocument/2006/relationships/hyperlink" Target="http://ru.wikipedia.org/wiki/&#1051;&#1080;&#1090;&#1077;&#1088;&#1072;&#1090;&#1091;&#1088;&#1072;" TargetMode="External"/><Relationship Id="rId3" Type="http://schemas.openxmlformats.org/officeDocument/2006/relationships/hyperlink" Target="http://ru.wikipedia.org/wiki/&#1048;&#1089;&#1082;&#1091;&#1089;&#1089;&#1090;&#1074;&#1086;" TargetMode="External"/><Relationship Id="rId4" Type="http://schemas.openxmlformats.org/officeDocument/2006/relationships/hyperlink" Target="http://ru.wikipedia.org/wiki/&#1040;&#1079;&#1072;&#1088;&#1090;&#1085;&#1099;&#1077;_&#1080;&#1075;&#1088;&#1099;" TargetMode="External"/><Relationship Id="rId5" Type="http://schemas.openxmlformats.org/officeDocument/2006/relationships/hyperlink" Target="http://ru.wikipedia.org/wiki/&#1055;&#1088;&#1086;&#1089;&#1090;&#1080;&#1090;&#1091;&#1094;&#1080;&#1103;" TargetMode="External"/><Relationship Id="rId6" Type="http://schemas.openxmlformats.org/officeDocument/2006/relationships/hyperlink" Target="http://ru.wikipedia.org/wiki/&#1040;&#1073;&#1086;&#1088;&#1090;" TargetMode="External"/><Relationship Id="rId7" Type="http://schemas.openxmlformats.org/officeDocument/2006/relationships/hyperlink" Target="http://ru.wikipedia.org/wiki/&#1069;&#1074;&#1090;&#1072;&#1085;&#1072;&#1079;&#1080;&#1103;" TargetMode="External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90;&#1080;&#1081;_&#1084;&#1080;&#1088;" TargetMode="External"/><Relationship Id="rId2" Type="http://schemas.openxmlformats.org/officeDocument/2006/relationships/hyperlink" Target="http://ru.wikipedia.org/wiki/&#1050;&#1086;&#1083;&#1086;&#1085;&#1080;&#1072;&#1083;&#1080;&#1079;&#1084;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86;" TargetMode="External"/><Relationship Id="rId2" Type="http://schemas.openxmlformats.org/officeDocument/2006/relationships/hyperlink" Target="http://ru.wikipedia.org/wiki/&#1062;&#1077;&#1088;&#1082;&#1086;&#1074;&#1100;" TargetMode="External"/><Relationship Id="rId3" Type="http://schemas.openxmlformats.org/officeDocument/2006/relationships/hyperlink" Target="http://ru.wikipedia.org/wiki/&#1055;&#1088;&#1072;&#1074;&#1086;&#1074;&#1086;&#1077;_&#1075;&#1086;&#1089;&#1091;&#1076;&#1072;&#1088;&#1089;&#1090;&#1074;&#1086;" TargetMode="External"/><Relationship Id="rId4" Type="http://schemas.openxmlformats.org/officeDocument/2006/relationships/hyperlink" Target="http://ru.wikipedia.org/wiki/&#1052;&#1086;&#1085;&#1072;&#1088;&#1093;" TargetMode="External"/><Relationship Id="rId5" Type="http://schemas.openxmlformats.org/officeDocument/2006/relationships/hyperlink" Target="http://ru.wikipedia.org/wiki/&#1069;&#1087;&#1080;&#1089;&#1090;&#1077;&#1084;&#1086;&#1083;&#1086;&#1075;&#1080;&#1103;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9;&#1090;&#1077;&#1089;&#1090;&#1074;&#1077;&#1085;&#1085;&#1086;&#1077;_&#1087;&#1088;&#1072;&#1074;&#1086;" TargetMode="External"/><Relationship Id="rId2" Type="http://schemas.openxmlformats.org/officeDocument/2006/relationships/hyperlink" Target="http://ru.wikipedia.org/wiki/&#1043;&#1088;&#1072;&#1078;&#1076;&#1072;&#1085;&#1089;&#1082;&#1080;&#1077;_&#1087;&#1088;&#1072;&#1074;&#1072;" TargetMode="External"/><Relationship Id="rId3" Type="http://schemas.openxmlformats.org/officeDocument/2006/relationships/hyperlink" Target="http://ru.wikipedia.org/wiki/&#1056;&#1072;&#1074;&#1085;&#1086;&#1087;&#1088;&#1072;&#1074;&#1080;&#1077;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91;&#1084;&#1072;&#1085;&#1080;&#1079;&#1084;" TargetMode="External"/><Relationship Id="rId2" Type="http://schemas.openxmlformats.org/officeDocument/2006/relationships/hyperlink" Target="http://ru.wikipedia.org/wiki/&#1069;&#1087;&#1086;&#1093;&#1072;_&#1055;&#1088;&#1086;&#1089;&#1074;&#1077;&#1097;&#1077;&#1085;&#1080;&#1103;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86;&#1082;&#1082;,_&#1044;&#1078;&#1086;&#1085;" TargetMode="External"/><Relationship Id="rId2" Type="http://schemas.openxmlformats.org/officeDocument/2006/relationships/hyperlink" Target="http://ru.wikipedia.org/wiki/1690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3;&#1100;&#1090;&#1077;&#1088;" TargetMode="External"/><Relationship Id="rId2" Type="http://schemas.openxmlformats.org/officeDocument/2006/relationships/hyperlink" Target="http://ru.wikipedia.org/wiki/&#1046;&#1072;&#1085;_&#1046;&#1072;&#1082;_&#1056;&#1091;&#1089;&#1089;&#1086;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101;&#1074;&#1080;&#1076;_&#1070;&#1084;" TargetMode="External"/><Relationship Id="rId2" Type="http://schemas.openxmlformats.org/officeDocument/2006/relationships/hyperlink" Target="http://ru.wikipedia.org/wiki/&#1048;&#1084;&#1084;&#1072;&#1085;&#1091;&#1080;&#1083;_&#1050;&#1072;&#1085;&#1090;" TargetMode="External"/><Relationship Id="rId3" Type="http://schemas.openxmlformats.org/officeDocument/2006/relationships/hyperlink" Target="http://ru.wikipedia.org/wiki/&#1048;&#1084;&#1084;&#1072;&#1085;&#1091;&#1080;&#1083;_&#1050;&#1072;&#1085;&#1090;" TargetMode="External"/><Relationship Id="rId4" Type="http://schemas.openxmlformats.org/officeDocument/2006/relationships/hyperlink" Target="http://ru.wikipedia.org/wiki/&#1040;&#1076;&#1072;&#1084;_&#1057;&#1084;&#1080;&#1090;" TargetMode="Externa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1;&#1085;,_&#1058;&#1086;&#1084;&#1072;&#1089;" TargetMode="External"/><Relationship Id="rId2" Type="http://schemas.openxmlformats.org/officeDocument/2006/relationships/hyperlink" Target="http://ru.wikipedia.org/wiki/&#1055;&#1077;&#1081;&#1085;,_&#1058;&#1086;&#1084;&#1072;&#1089;" TargetMode="External"/><Relationship Id="rId3" Type="http://schemas.openxmlformats.org/officeDocument/2006/relationships/hyperlink" Target="http://ru.wikipedia.org/wiki/&#1058;&#1086;&#1084;&#1072;&#1089;_&#1044;&#1078;&#1077;&#1092;&#1092;&#1077;&#1088;&#1089;&#1086;&#1085;" TargetMode="External"/><Relationship Id="rId4" Type="http://schemas.openxmlformats.org/officeDocument/2006/relationships/hyperlink" Target="http://ru.wikipedia.org/wiki/&#1058;&#1086;&#1084;&#1072;&#1089;_&#1044;&#1078;&#1077;&#1092;&#1092;&#1077;&#1088;&#1089;&#1086;&#1085;" TargetMode="External"/><Relationship Id="rId5" Type="http://schemas.openxmlformats.org/officeDocument/2006/relationships/hyperlink" Target="http://ru.wikipedia.org/wiki/&#1040;&#1076;&#1072;&#1084;&#1089;,_&#1044;&#1078;&#1086;&#1085;_(&#1087;&#1088;&#1077;&#1079;&#1080;&#1076;&#1077;&#1085;&#1090;)" TargetMode="External"/><Relationship Id="rId6" Type="http://schemas.openxmlformats.org/officeDocument/2006/relationships/hyperlink" Target="http://ru.wikipedia.org/wiki/&#1056;&#1077;&#1089;&#1087;&#1091;&#1073;&#1083;&#1080;&#1082;&#1072;" TargetMode="External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90;&#1086;&#1088;&#1080;&#1103;_&#1056;&#1086;&#1089;&#1089;&#1080;&#1080;" TargetMode="External"/><Relationship Id="rId2" Type="http://schemas.openxmlformats.org/officeDocument/2006/relationships/hyperlink" Target="http://ru.wikipedia.org/wiki/&#1046;&#1072;&#1083;&#1086;&#1074;&#1072;&#1085;&#1085;&#1072;&#1103;_&#1075;&#1088;&#1072;&#1084;&#1086;&#1090;&#1072;_&#1076;&#1074;&#1086;&#1088;&#1103;&#1085;&#1089;&#1090;&#1074;&#1091;" TargetMode="External"/><Relationship Id="rId3" Type="http://schemas.openxmlformats.org/officeDocument/2006/relationships/hyperlink" Target="http://ru.wikipedia.org/wiki/&#1042;&#1086;&#1089;&#1089;&#1090;&#1072;&#1085;&#1080;&#1077;_&#1076;&#1077;&#1082;&#1072;&#1073;&#1088;&#1080;&#1089;&#1090;&#1086;&#1074;" TargetMode="External"/><Relationship Id="rId4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5" Type="http://schemas.openxmlformats.org/officeDocument/2006/relationships/hyperlink" Target="http://ru.wikipedia.org/wiki/&#1056;&#1077;&#1074;&#1086;&#1083;&#1102;&#1094;&#1080;&#1103;_1905" TargetMode="External"/><Relationship Id="rId6" Type="http://schemas.openxmlformats.org/officeDocument/2006/relationships/hyperlink" Target="http://ru.wikipedia.org/wiki/&#1044;&#1091;&#1072;&#1083;&#1080;&#1089;&#1090;&#1080;&#1095;&#1077;&#1089;&#1082;&#1072;&#1103;_&#1084;&#1086;&#1085;&#1072;&#1088;&#1093;&#1080;&#1103;" TargetMode="External"/><Relationship Id="rId7" Type="http://schemas.openxmlformats.org/officeDocument/2006/relationships/hyperlink" Target="http://ru.wikipedia.org/wiki/&#1060;&#1077;&#1074;&#1088;&#1072;&#1083;&#1100;&#1089;&#1082;&#1072;&#1103;_&#1088;&#1077;&#1074;&#1086;&#1083;&#1102;&#1094;&#1080;&#1103;_1917" TargetMode="External"/><Relationship Id="rId8" Type="http://schemas.openxmlformats.org/officeDocument/2006/relationships/hyperlink" Target="http://ru.wikipedia.org/wiki/&#1055;&#1077;&#1088;&#1077;&#1089;&#1090;&#1088;&#1086;&#1081;&#1082;&#1072;" TargetMode="External"/><Relationship Id="rId9" Type="http://schemas.openxmlformats.org/officeDocument/2006/relationships/hyperlink" Target="http://ru.wikipedia.org/wiki/&#1056;&#1099;&#1085;&#1086;&#1095;&#1085;&#1072;&#1103;_&#1101;&#1082;&#1086;&#1085;&#1086;&#1084;&#1080;&#1082;&#1072;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ffffcc"/>
                </a:solidFill>
                <a:uFillTx/>
                <a:latin typeface="Arial"/>
              </a:rPr>
              <a:t>Либерализм</a:t>
            </a:r>
            <a:endParaRPr b="0" lang="en-US" sz="8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5610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История 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основные принцип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Выполнила Енина Г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МКОУ СОШ пгт Яросла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201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2584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Формы либерализ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» означает движение за либеральную демократию и против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бсолют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 или </a:t>
            </a:r>
            <a:r>
              <a:rPr b="0" lang="en-US" sz="29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авторитаризма</a:t>
            </a:r>
            <a:r>
              <a:rPr b="0" lang="en-US" sz="2900" spc="-1" strike="noStrike" u="sng">
                <a:solidFill>
                  <a:srgbClr val="eaeaea"/>
                </a:solidFill>
                <a:uFillTx/>
                <a:latin typeface="Monotype Corsiva"/>
              </a:rPr>
              <a:t>; «экономический либерализм» — за частную собственность и против государственного регулирования; «культурный либерализм» — за личную свободу и против ограничений на неё из соображений патриотизма или религии; «социальный либерализм» — за равенство возможностей и против экономической эксплуатации. </a:t>
            </a: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овременный либерализм</a:t>
            </a:r>
            <a:r>
              <a:rPr b="0" lang="en-US" sz="2900" spc="-1" strike="noStrike">
                <a:solidFill>
                  <a:srgbClr val="eaeaea"/>
                </a:solidFill>
                <a:latin typeface="Monotype Corsiva"/>
              </a:rPr>
              <a:t> в большинстве развитых стран представляет собой смесь всех этих форм. 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олитический либерализм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Политический либерализм — убеждение, что отдельные личности являются основой закона и общества и что общественные институты существуют для того, чтобы способствовать наделению индивидуумов реальной властью, без заискивания перед элитами. В основе лежит представление, что каждый человек лучше всего знает, что для него лучше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Экономически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Экономический или классический либерализм выступает за индивидуальные права на собственность и свободу контракта. Девизом этой формы либерализма является «свободное частное предприятие». Экономические либералы полагают, что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рынок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не нуждается в государственном регулировании. Некоторые из них готовы допустить правительственный надзор над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монополи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картелями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, другие утверждают, что монополизация рынка возникает только как последствие действий государства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Культурный либерал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01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Monotype Corsiva"/>
              </a:rPr>
              <a:t>Культурный либерализм фокусирует внимание на правах личности, относящихся к сознанию и образу жизни, включая такие вопросы, как религиозная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академическая свобод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защита от вмешательства государства в личную жизнь. Культурный либерализм в той или иной степени возражает против государственного регулирования таких областей как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литература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искусство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а также таких вопросов как деятельность научных круго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зартные игр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роституц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аборты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использование противозачаточных средств, </a:t>
            </a:r>
            <a:r>
              <a:rPr b="0" lang="en-US" sz="26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эвтаназия</a:t>
            </a:r>
            <a:r>
              <a:rPr b="0" lang="en-US" sz="2600" spc="-1" strike="noStrike" u="sng">
                <a:solidFill>
                  <a:srgbClr val="eaeaea"/>
                </a:solidFill>
                <a:uFillTx/>
                <a:latin typeface="Monotype Corsiva"/>
              </a:rPr>
              <a:t>, употребление алкоголя и других наркотиков.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084720" y="1413000"/>
            <a:ext cx="25354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Социальный либерализ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Сторонники социального либерализма утверждают, что без гарантии позитивных прав невозможна справедливая реализация негативных прав, поскольку на практике малообеспеченное население жертвует своими правами ради выживания, а суды чаще склоняются в пользу богатых. Социальный либерализм поддерживает введение некоторых ограничений на экономическую конкуренцию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третьего покол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8355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Либерализм третьего поколения стал следствием послевоенной борьбы стран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ретьего мира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с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колониализмом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На сегодняшний день он больше связан с определёнными устремлениями, нежели с правовыми нормами. Его целью является борьба против сосредоточения власти, материальных ресурсов и технологий в группе развитых стран.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4639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Идеалом либерализма является общество со свободой действий для каждого, свободным обменом политически значимой информацией, ограничением власт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осударст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и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церкви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ерховенством права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, частной собственностью</a:t>
            </a:r>
            <a:r>
              <a:rPr b="0" lang="en-US" sz="3400" spc="-1" strike="noStrike">
                <a:solidFill>
                  <a:srgbClr val="eaeaea"/>
                </a:solidFill>
                <a:latin typeface="Monotype Corsiva"/>
              </a:rPr>
              <a:t> и свободой частного предпринимательства. Либерализм отверг многие положения, бывшие основой предшествующих теорий государства, такие как божественное право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монархов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 на власть и роль религии как единственного источника </a:t>
            </a:r>
            <a:r>
              <a:rPr b="0" lang="en-US" sz="34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познания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Monotype Corsiva"/>
              </a:rPr>
              <a:t>. 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Monotype Corsiva"/>
              </a:rPr>
              <a:t>Принципы либерализм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Фундаментальные принципы либерализма это признание: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данных от природы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естественны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(включая право на жизнь, личную свободу и собственность), а также других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гражданских прав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равноправия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 и равенства перед законом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рыночной экономики;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10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ответственности правительства и прозрачности государственной власти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Согласно взглядам либералов, государственная власть существует для блага людей ей подвластных, и политическое руководство страной должно осуществляться на основе согласия большинства руководимых. На сегодняшний день политической системой, которая наиболее созвучна убеждениям либералов, является либеральная демократия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38648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Слово «либеральный» происходит от лат. liber («свободный»). 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В русский язык слово «либерализм» пришло в конце XVIII века из французского (фр. libé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ralisme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) и означало «вольнодумство». Негативный оттенок до сих пор сохранился в значении «излишняя терпимость, вредная снисходительность, попустительство» («Новый словарь русского языка» под ред. Т. Ф. Ефремова). В английском языке слово liberalism также изначально имело негативный оттенок, но утратило его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Многие начальные попытки реализации либеральных идей имели лишь частичный успех и порой даже приводили к противоположным результатам (диктатурам). Лозунги свободы и равенства подхватывали авантюристы. Между сторонниками различных интерпретаций либеральных принципов возникали острые конфликты. Войны, революции, экономические кризисы и правительственные скандалы провоцировали массовое разочарование в идеалах. Только с течением времени пришло более системное понимание основ этой идеологии, которые стали фундаментом для одной из самых распространённых на данный момент политических систем в мире — либеральной демократии.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504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Стремление к личной свободе было свойственно представителям всех народов во все века. Яркими примерами являются города-полисы от Древней Греции до европейских с принципом — «воздух города делает свободным», политическая система которых включала многие элементы правового государства и демократии в сочетании со свободой частного предпринимательства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Monotype Corsiva"/>
              </a:rPr>
              <a:t>Либерализм упирается своими корням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гуманизм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. Полноценные либеральные движения возникли в </a:t>
            </a:r>
            <a:r>
              <a:rPr b="0" lang="en-US" sz="25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эпоху Просвещения</a:t>
            </a:r>
            <a:r>
              <a:rPr b="0" lang="en-US" sz="2500" spc="-1" strike="noStrike" u="sng">
                <a:solidFill>
                  <a:srgbClr val="eaeaea"/>
                </a:solidFill>
                <a:uFillTx/>
                <a:latin typeface="Monotype Corsiva"/>
              </a:rPr>
              <a:t> во Франции, Англии и колониальной Америке. Они первыми сформулировали концепцию прав личности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780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51944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Monotype Corsiva"/>
              </a:rPr>
              <a:t>Идею, что свободные личности могут стать основой стабильного общества, выдвинул 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жон Локк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. Его «Два трактата о правлении»(</a:t>
            </a:r>
            <a:r>
              <a:rPr b="0" lang="en-US" sz="30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1690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Monotype Corsiva"/>
              </a:rPr>
              <a:t> г.) сформулировали два фундаментальных либеральных принципа: экономической свободы как права на личное владение собственностью и интеллектуальной свободы. Основой его теории является представление о естественных правах: на жизнь, на личную свободу и на частную собственность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624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56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Из мыслителей эпохи Просвещения наибольшее влияние на либеральную мысль оказали две фигуры: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Вольтер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выступал за конституционную монархию, и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н Жак Руссо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, который развил учение о естественной свободе. Оба философа в разной форме отстаивали идею, что естественную свободу личности можно ограничивать, но нельзя уничтожать её суть. Вольтер подчёркивал важность религиозной терпимости и недопустимость пыток и унижения человеческого достоин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404640"/>
            <a:ext cx="305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5194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аряду с французскими просветителями, важный вклад в либерализм внесл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Дэвид Юм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Иммануил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 Кант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Адам Сми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Адам Смит развил теорию, что нравственная жизнь и экономическая деятельность возможны без директив со стороны государства и что наиболее сильны те нации, в которых граждане свободны проявлять свою собственную инициативу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956200" y="260280"/>
            <a:ext cx="2160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906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В колониальной Америке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Пей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Томас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Джефферсон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Джон Адамс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убедили своих соотечественников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восстать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во имя жизни, личной свободы и стремления к счастью — почти цитата Локка, но с одной важной поправкой: Джефферсон заменил слово «собственность» у Локка «стремлением к счастью». Тем самым главной целью революции стал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республика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, основанная на личной свободе и правлении с согласия управляемых.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892840" y="549360"/>
            <a:ext cx="27925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Либерализм в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1"/>
              </a:rPr>
              <a:t>истории России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было несколько либеральных подъёмов, которые оказали значительное влияние на страну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В 1785 г.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2"/>
              </a:rPr>
              <a:t>Жалованные грамоты дворянству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и на права городов Екатерины Великой явились истоком гражданских прав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3"/>
              </a:rPr>
              <a:t>Восстание декабристов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825 г. стало первой радикальной попыткой ввести конституционно-правовые ограничения на государственную власть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4"/>
              </a:rPr>
              <a:t>Реформы Александра II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освободили крестьян, дали независимый суд, ввели земское самоуправление и т. д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5"/>
              </a:rPr>
              <a:t>Революция 1905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самодержавию, появилась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6"/>
              </a:rPr>
              <a:t>дуалистическая монархия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7"/>
              </a:rPr>
              <a:t>Февральская революция 1917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г. положила конец монархии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67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·</a:t>
            </a:r>
            <a:r>
              <a:rPr b="0" lang="en-US" sz="2700" spc="-1" strike="noStrike">
                <a:solidFill>
                  <a:srgbClr val="eaeaea"/>
                </a:solidFill>
                <a:latin typeface="Monotype Corsiva"/>
              </a:rPr>
              <a:t>	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8"/>
              </a:rPr>
              <a:t>Перестройка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 1987—1991 гг. привела к экономической либерализации, свободе слова, отмене монополии КПСС в политической сфере; последующие экономические реформы запустили процесс перехода страны к </a:t>
            </a:r>
            <a:r>
              <a:rPr b="0" lang="en-US" sz="2700" spc="-1" strike="noStrike" u="sng">
                <a:solidFill>
                  <a:srgbClr val="eec85e"/>
                </a:solidFill>
                <a:uFillTx/>
                <a:latin typeface="Monotype Corsiva"/>
                <a:hlinkClick r:id="rId9"/>
              </a:rPr>
              <a:t>рыночной экономике</a:t>
            </a:r>
            <a:r>
              <a:rPr b="0" lang="en-US" sz="2700" spc="-1" strike="noStrike" u="sng">
                <a:solidFill>
                  <a:srgbClr val="eaeaea"/>
                </a:solidFill>
                <a:uFillTx/>
                <a:latin typeface="Monotype Corsiva"/>
              </a:rPr>
              <a:t>.</a:t>
            </a:r>
            <a:endParaRPr b="0" lang="en-US" sz="2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44:47Z</dcterms:created>
  <dc:creator>alex</dc:creator>
  <dc:description/>
  <dc:language>en-US</dc:language>
  <cp:lastModifiedBy>КарМаН</cp:lastModifiedBy>
  <dcterms:modified xsi:type="dcterms:W3CDTF">2012-03-26T07:12:23Z</dcterms:modified>
  <cp:revision>4</cp:revision>
  <dc:subject/>
  <dc:title>Либерализм</dc:title>
</cp:coreProperties>
</file>