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9A62-6DA4-4588-9FD6-E278B50A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5CE-A4E2-43C9-AA10-F76B0CB6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030-1EB6-4BA3-8BAB-ACCBFCB8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B03-0476-4B4A-8F3A-D3ECF2EE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D19-1AC7-4AF2-81E6-80BF45C2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8DC-E900-489D-AC01-A5872977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299-C233-405D-8382-A6F7A018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857-1D89-4CDC-8B90-827B162D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B70-7C41-428F-9195-32AEA38B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497-C90E-47D0-994C-D8DD06FD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782-D86E-4058-89A0-796BFA91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530-9910-4D73-A687-0BAFA31E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578D-AA3A-4C2A-AD08-5AE02C126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 Нидерландская революц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362320" y="152280"/>
            <a:ext cx="419076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ая история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657600" y="5334120"/>
            <a:ext cx="5486400" cy="1523880"/>
          </a:xfrm>
          <a:prstGeom prst="rect">
            <a:avLst/>
          </a:prstGeom>
          <a:solidFill>
            <a:srgbClr val="ff99c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нём стало назревать сильное недовольство зависимостью от Испании. Бесконечные войны разоряли стра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 за Реформацию церкви не могло обойти стороной и это государство. Им запрещалось читать и распространять идеи Лютера и Кальв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777\Мои документы\Мои рисунки\карл 5.jpg"/>
          <p:cNvPicPr/>
          <p:nvPr/>
        </p:nvPicPr>
        <p:blipFill>
          <a:blip r:embed="rId1"/>
          <a:stretch/>
        </p:blipFill>
        <p:spPr>
          <a:xfrm>
            <a:off x="228600" y="1371600"/>
            <a:ext cx="329724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28600" y="6095880"/>
            <a:ext cx="32767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л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1525 году Карл V учредил в Нидерландах суд инквизиции, по приговору которой было казнено 100 тыс. человек. Многие каливинисты и лютеране спасались бегством в протестантские страны – Англию и Герм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114800" y="1066320"/>
            <a:ext cx="5029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щё безжалостнее оказалось правление Филиппа II, который относился к этой стране так же, как и к колониям в Новом Свете Ему нужны были не только деньги, но и полное господство католической цер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Файл:Philip II.jpg"/>
          <p:cNvPicPr/>
          <p:nvPr/>
        </p:nvPicPr>
        <p:blipFill>
          <a:blip r:embed="rId1"/>
          <a:stretch/>
        </p:blipFill>
        <p:spPr>
          <a:xfrm>
            <a:off x="304920" y="762120"/>
            <a:ext cx="3344760" cy="5943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0" y="5943600"/>
            <a:ext cx="403848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ипп II запретил торговлю с Англией и испанскими коло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вывозимую из Испании шерсть ввёл большую пошлину, и поступление сырья в Нидерланды уменьшилось вдв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) В 1563 году испанская инквизиция приговорила к сожжению на костре всех жителей Нидерландов как неисправимых ере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) Разрешил ордену иезуитов обосноваться в Нидерландах, что ещё больше оскорбило протеста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довольство политикой Габсбургов выражалось как в восстаниях бедняков, так и в распространении протестантских вероучени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коноборческое дви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Documents and Settings\777\Мои документы\Мои рисунки\а 1566.jpg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5280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28600" y="6172200"/>
            <a:ext cx="8915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ения в Антверпене в 15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о время иконоборческого движ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конобор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сканирование0042.jpg"/>
          <p:cNvPicPr/>
          <p:nvPr/>
        </p:nvPicPr>
        <p:blipFill>
          <a:blip r:embed="rId1"/>
          <a:stretch/>
        </p:blipFill>
        <p:spPr>
          <a:xfrm>
            <a:off x="1257480" y="1523880"/>
            <a:ext cx="70866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 Я  арестовываю теперь богатейших и ужаснейших преступников и подвергаю их денежным взысканиям, потом я займусь преступными город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Файл:Detail of a portrait of Fernando Alvarez de Toledo by Antonio Moro.jpeg"/>
          <p:cNvPicPr/>
          <p:nvPr/>
        </p:nvPicPr>
        <p:blipFill>
          <a:blip r:embed="rId1"/>
          <a:stretch/>
        </p:blipFill>
        <p:spPr>
          <a:xfrm>
            <a:off x="228600" y="1600200"/>
            <a:ext cx="4191120" cy="4152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304920" y="5791320"/>
            <a:ext cx="4038480" cy="7617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цог Ал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ремя терр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Казнь графов Эгмонта и Горна спровоцировала восстание....jpg"/>
          <p:cNvPicPr/>
          <p:nvPr/>
        </p:nvPicPr>
        <p:blipFill>
          <a:blip r:embed="rId1"/>
          <a:stretch/>
        </p:blipFill>
        <p:spPr>
          <a:xfrm>
            <a:off x="228600" y="228600"/>
            <a:ext cx="5452920" cy="6629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4724280" y="3200400"/>
            <a:ext cx="441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знь графа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гмонт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дмир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 причины. Задачи и характер Нидерландской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, каковы итоги данной революции для развития Нидерла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азвивать умение работать с историческими источ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777\Мои документы\Мои рисунки\памятник горну и эгмонту.jpg"/>
          <p:cNvPicPr/>
          <p:nvPr/>
        </p:nvPicPr>
        <p:blipFill>
          <a:blip r:embed="rId1"/>
          <a:stretch/>
        </p:blipFill>
        <p:spPr>
          <a:xfrm>
            <a:off x="228600" y="114480"/>
            <a:ext cx="4978440" cy="6629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486400" y="2514600"/>
            <a:ext cx="3657600" cy="12952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Эгмо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ор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591400" cy="22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04920" y="228600"/>
            <a:ext cx="84294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ые и морские 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 со стрелкой вниз 5"/>
          <p:cNvSpPr/>
          <p:nvPr/>
        </p:nvSpPr>
        <p:spPr>
          <a:xfrm>
            <a:off x="142884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носка со стрелкой вниз 6"/>
          <p:cNvSpPr/>
          <p:nvPr/>
        </p:nvSpPr>
        <p:spPr>
          <a:xfrm>
            <a:off x="628668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7"/>
          <p:cNvSpPr/>
          <p:nvPr/>
        </p:nvSpPr>
        <p:spPr>
          <a:xfrm>
            <a:off x="304920" y="2143080"/>
            <a:ext cx="4071960" cy="128592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00"/>
                </a:solidFill>
                <a:latin typeface="Arial"/>
              </a:rPr>
              <a:t>Гёзы (нищий).</a:t>
            </a:r>
            <a:r>
              <a:rPr b="1" lang="ru-RU" sz="2000" spc="-1" strike="noStrike">
                <a:solidFill>
                  <a:srgbClr val="19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8"/>
          <p:cNvSpPr/>
          <p:nvPr/>
        </p:nvSpPr>
        <p:spPr>
          <a:xfrm>
            <a:off x="4800600" y="1981080"/>
            <a:ext cx="4071960" cy="121464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3300"/>
                </a:solidFill>
                <a:latin typeface="Arial"/>
              </a:rPr>
              <a:t>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9"/>
          <p:cNvSpPr/>
          <p:nvPr/>
        </p:nvSpPr>
        <p:spPr>
          <a:xfrm>
            <a:off x="114300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0"/>
          <p:cNvSpPr/>
          <p:nvPr/>
        </p:nvSpPr>
        <p:spPr>
          <a:xfrm>
            <a:off x="289548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304920" y="4419720"/>
            <a:ext cx="207144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есные гёзы- нападали на испанцев на  с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514600" y="4419720"/>
            <a:ext cx="207180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Морские – топили испанские суда, вели военные действия на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4"/>
          <p:cNvSpPr/>
          <p:nvPr/>
        </p:nvSpPr>
        <p:spPr>
          <a:xfrm>
            <a:off x="6553080" y="320040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5029200" y="3886200"/>
            <a:ext cx="3809880" cy="274320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дерландские дворяне, получившие прозвище из-за скромн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цы против гнёта испан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34304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1572 года между Нидерландами и Испанией началась настоящая война, руководителем освободительного движения стал принц Вильгельм Оранский ( 1533 – 1584 гг.) . Считал себя кальвинистом, был осторожным и хорошим полит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Файл:WilliamOfOrange1580.jpg"/>
          <p:cNvPicPr/>
          <p:nvPr/>
        </p:nvPicPr>
        <p:blipFill>
          <a:blip r:embed="rId1"/>
          <a:stretch/>
        </p:blipFill>
        <p:spPr>
          <a:xfrm>
            <a:off x="152280" y="152280"/>
            <a:ext cx="412452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52280" y="5867280"/>
            <a:ext cx="403884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льгельм I Ор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1359000"/>
                <a:gridCol w="778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обыт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ачало иконоборческого движ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ойска герцога Альбы вступили в Брюсс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чало войны между Нидерландами и Испани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рские гёзы захватили Бри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сада испанских войск Харле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3- 15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Героическая оборона Лейде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Утрехтская уния (договор о создании единого государ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изложение Филиппа </a:t>
                      </a: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  штатгальтер Вильгельм Оран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 провинций создали Республику Соединённых провин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еремирие Испании и Голландии, признание независимости Голланд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. 137-1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хема 6" descr=""/>
          <p:cNvPicPr/>
          <p:nvPr/>
        </p:nvPicPr>
        <p:blipFill>
          <a:blip r:embed="rId1"/>
          <a:stretch/>
        </p:blipFill>
        <p:spPr>
          <a:xfrm>
            <a:off x="450720" y="2328840"/>
            <a:ext cx="8096400" cy="451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и револю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rot="10800000">
            <a:off x="3585960" y="1447560"/>
            <a:ext cx="1747800" cy="852480"/>
          </a:xfrm>
          <a:custGeom>
            <a:avLst/>
            <a:gdLst>
              <a:gd name="textAreaLeft" fmla="*/ 174600 w 1747800"/>
              <a:gd name="textAreaRight" fmla="*/ 1573200 w 174780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ы на стр. 1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15, вопросы, запи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04920" y="228600"/>
            <a:ext cx="8686800" cy="99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1523880"/>
            <a:ext cx="8686800" cy="510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Жемчужина в короне Габсбург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обостр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ноборче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ремя терр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сные и морские гё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ано – нидерланд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вал 4" descr=""/>
          <p:cNvPicPr/>
          <p:nvPr/>
        </p:nvPicPr>
        <p:blipFill>
          <a:blip r:embed="rId1"/>
          <a:stretch/>
        </p:blipFill>
        <p:spPr>
          <a:xfrm>
            <a:off x="1066680" y="2828880"/>
            <a:ext cx="7309080" cy="3711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095560" y="228600"/>
            <a:ext cx="5410080" cy="1447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идерлан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314960" y="1676520"/>
            <a:ext cx="485640" cy="1143000"/>
          </a:xfrm>
          <a:prstGeom prst="downArrow">
            <a:avLst>
              <a:gd name="adj1" fmla="val 50000"/>
              <a:gd name="adj2" fmla="val 588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РЕВОЛЮЦИЯ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–  процесс, в ходе которого происходят коренные изменения, ломаются старые поря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380880" y="0"/>
            <a:ext cx="822960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положение Нидерлан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1509000">
            <a:off x="1523520" y="1295280"/>
            <a:ext cx="486000" cy="1204920"/>
          </a:xfrm>
          <a:prstGeom prst="downArrow">
            <a:avLst>
              <a:gd name="adj1" fmla="val 50000"/>
              <a:gd name="adj2" fmla="val 61981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329000" y="1295280"/>
            <a:ext cx="486000" cy="3429000"/>
          </a:xfrm>
          <a:prstGeom prst="downArrow">
            <a:avLst>
              <a:gd name="adj1" fmla="val 50000"/>
              <a:gd name="adj2" fmla="val 176389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19609800">
            <a:off x="7086240" y="1218960"/>
            <a:ext cx="485640" cy="1204920"/>
          </a:xfrm>
          <a:prstGeom prst="downArrow">
            <a:avLst>
              <a:gd name="adj1" fmla="val 50000"/>
              <a:gd name="adj2" fmla="val 62027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0" y="2400480"/>
            <a:ext cx="4038480" cy="30096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ла сов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ьгия, 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ксембург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ла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2362320" y="4572000"/>
            <a:ext cx="4800600" cy="22860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ёсток морских путей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лантического оке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алтийско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4800600" y="2286000"/>
            <a:ext cx="4495680" cy="27432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ложена на побереж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ного моря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ему т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льды, Ма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642960" y="50004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ые усло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4"/>
          <p:cNvSpPr/>
          <p:nvPr/>
        </p:nvSpPr>
        <p:spPr>
          <a:xfrm>
            <a:off x="2428920" y="1600200"/>
            <a:ext cx="484200" cy="900000"/>
          </a:xfrm>
          <a:prstGeom prst="downArrow">
            <a:avLst>
              <a:gd name="adj1" fmla="val 50000"/>
              <a:gd name="adj2" fmla="val 7880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143000" y="2514600"/>
            <a:ext cx="6429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1ab0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Низовые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6"/>
          <p:cNvSpPr/>
          <p:nvPr/>
        </p:nvSpPr>
        <p:spPr>
          <a:xfrm>
            <a:off x="2428920" y="3429000"/>
            <a:ext cx="484200" cy="714240"/>
          </a:xfrm>
          <a:prstGeom prst="downArrow">
            <a:avLst>
              <a:gd name="adj1" fmla="val 50000"/>
              <a:gd name="adj2" fmla="val 62541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28760" y="4143240"/>
            <a:ext cx="8143920" cy="257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в. Затоплены участки суши. Население стало строить дамбы, плотины, откачивать воду, таким образом, отвоёвывать сушу. Появились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льдеры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- земли, лежащие 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уровня мо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-12600" y="1657440"/>
            <a:ext cx="9169200" cy="5054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ка Нидерлан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хема 2" descr=""/>
          <p:cNvPicPr/>
          <p:nvPr/>
        </p:nvPicPr>
        <p:blipFill>
          <a:blip r:embed="rId1"/>
          <a:stretch/>
        </p:blipFill>
        <p:spPr>
          <a:xfrm>
            <a:off x="324000" y="1298520"/>
            <a:ext cx="8240400" cy="5711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ое управ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3-28T20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