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81B7-0055-4040-9EC6-05A5B991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991B-D2A3-4385-88E1-C36E8958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A867-94BA-4631-B63F-22E6AE0F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C2C0-90F6-475C-BA8C-98AD0F6B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D290-FAD4-492E-A11C-099EAC1D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1F29-DBE3-4CD2-9552-BAC6B6B0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9341-F1FC-4E45-AEB8-DC2EC862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2A07-7525-4663-8912-285C3BCE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553A-8E68-42B7-B28A-C51882C1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F236-B838-47A5-ACA9-35FD4692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ACA5-E2C1-4BE4-99BC-8994BA31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5FB5-884F-4BD3-91FC-2AED4400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F15B-65C0-479C-BB4E-0D2B0FB15C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Тема уро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2742840"/>
            <a:ext cx="86108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« Нидерландская революци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2362320" y="152280"/>
            <a:ext cx="419076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вая история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657600" y="5334120"/>
            <a:ext cx="5486400" cy="1523880"/>
          </a:xfrm>
          <a:prstGeom prst="rect">
            <a:avLst/>
          </a:prstGeom>
          <a:solidFill>
            <a:srgbClr val="ff99cc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38480" y="1371600"/>
            <a:ext cx="510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нём стало назревать сильное недовольство зависимостью от Испании. Бесконечные войны разоряли стран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ижение за Реформацию церкви не могло обойти стороной и это государство. Им запрещалось читать и распространять идеи Лютера и Кальв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Documents and Settings\777\Мои документы\Мои рисунки\карл 5.jpg"/>
          <p:cNvPicPr/>
          <p:nvPr/>
        </p:nvPicPr>
        <p:blipFill>
          <a:blip r:embed="rId1"/>
          <a:stretch/>
        </p:blipFill>
        <p:spPr>
          <a:xfrm>
            <a:off x="228600" y="1371600"/>
            <a:ext cx="3297240" cy="5257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228600" y="6095880"/>
            <a:ext cx="327672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л 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1525 году Карл V учредил в Нидерландах суд инквизиции, по приговору которой было казнено 100 тыс. человек. Многие каливинисты и лютеране спасались бегством в протестантские страны – Англию и Герма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114800" y="1066320"/>
            <a:ext cx="5029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щё безжалостнее оказалось правление Филиппа II, который относился к этой стране так же, как и к колониям в Новом Свете Ему нужны были не только деньги, но и полное господство католической церк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Файл:Philip II.jpg"/>
          <p:cNvPicPr/>
          <p:nvPr/>
        </p:nvPicPr>
        <p:blipFill>
          <a:blip r:embed="rId1"/>
          <a:stretch/>
        </p:blipFill>
        <p:spPr>
          <a:xfrm>
            <a:off x="304920" y="762120"/>
            <a:ext cx="3344760" cy="59436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9"/>
          <p:cNvSpPr/>
          <p:nvPr/>
        </p:nvSpPr>
        <p:spPr>
          <a:xfrm>
            <a:off x="0" y="5943600"/>
            <a:ext cx="403848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липп 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228240" y="152280"/>
            <a:ext cx="8381880" cy="914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ипп II запретил торговлю с Англией и испанскими коло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 вывозимую из Испании шерсть ввёл большую пошлину, и поступление сырья в Нидерланды уменьшилось вдво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) В 1563 году испанская инквизиция приговорила к сожжению на костре всех жителей Нидерландов как неисправимых ерет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) Разрешил ордену иезуитов обосноваться в Нидерландах, что ещё больше оскорбило протеста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едовольство политикой Габсбургов выражалось как в восстаниях бедняков, так и в распространении протестантских вероучения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тиворечия обостряютс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коноборческое движ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C:\Documents and Settings\777\Мои документы\Мои рисунки\а 1566.jpg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52801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28600" y="6172200"/>
            <a:ext cx="89154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нения в Антверпене в 156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во время иконоборческого движе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коноборческое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2" descr="сканирование0042.jpg"/>
          <p:cNvPicPr/>
          <p:nvPr/>
        </p:nvPicPr>
        <p:blipFill>
          <a:blip r:embed="rId1"/>
          <a:stretch/>
        </p:blipFill>
        <p:spPr>
          <a:xfrm>
            <a:off x="1257480" y="1523880"/>
            <a:ext cx="708660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 Я  арестовываю теперь богатейших и ужаснейших преступников и подвергаю их денежным взысканиям, потом я займусь преступными городам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Файл:Detail of a portrait of Fernando Alvarez de Toledo by Antonio Moro.jpeg"/>
          <p:cNvPicPr/>
          <p:nvPr/>
        </p:nvPicPr>
        <p:blipFill>
          <a:blip r:embed="rId1"/>
          <a:stretch/>
        </p:blipFill>
        <p:spPr>
          <a:xfrm>
            <a:off x="228600" y="1600200"/>
            <a:ext cx="4191120" cy="4152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304920" y="5791320"/>
            <a:ext cx="4038480" cy="7617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рцог Аль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ремя терро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2" descr="Казнь графов Эгмонта и Горна спровоцировала восстание....jpg"/>
          <p:cNvPicPr/>
          <p:nvPr/>
        </p:nvPicPr>
        <p:blipFill>
          <a:blip r:embed="rId1"/>
          <a:stretch/>
        </p:blipFill>
        <p:spPr>
          <a:xfrm>
            <a:off x="228600" y="228600"/>
            <a:ext cx="5452920" cy="66294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4724280" y="3200400"/>
            <a:ext cx="4419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знь графа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гмонта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дмира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ор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Сегодня на урок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ыяснить причины. Задачи и характер Нидерландской револю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Выяснить, каковы итоги данной революции для развития Нидерлан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Развивать умение работать с историческими источник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777\Мои документы\Мои рисунки\памятник горну и эгмонту.jpg"/>
          <p:cNvPicPr/>
          <p:nvPr/>
        </p:nvPicPr>
        <p:blipFill>
          <a:blip r:embed="rId1"/>
          <a:stretch/>
        </p:blipFill>
        <p:spPr>
          <a:xfrm>
            <a:off x="228600" y="114480"/>
            <a:ext cx="4978440" cy="66294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5486400" y="2514600"/>
            <a:ext cx="3657600" cy="129528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мятник Эгмон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Гор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591400" cy="22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304920" y="228600"/>
            <a:ext cx="8429400" cy="928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сные и морские гё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Выноска со стрелкой вниз 5"/>
          <p:cNvSpPr/>
          <p:nvPr/>
        </p:nvSpPr>
        <p:spPr>
          <a:xfrm>
            <a:off x="1428840" y="1214280"/>
            <a:ext cx="914400" cy="91440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Выноска со стрелкой вниз 6"/>
          <p:cNvSpPr/>
          <p:nvPr/>
        </p:nvSpPr>
        <p:spPr>
          <a:xfrm>
            <a:off x="6286680" y="1214280"/>
            <a:ext cx="914400" cy="91440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497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7"/>
          <p:cNvSpPr/>
          <p:nvPr/>
        </p:nvSpPr>
        <p:spPr>
          <a:xfrm>
            <a:off x="304920" y="2143080"/>
            <a:ext cx="4071960" cy="128592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3300"/>
                </a:solidFill>
                <a:latin typeface="Arial"/>
              </a:rPr>
              <a:t>Гёзы (нищий).</a:t>
            </a:r>
            <a:r>
              <a:rPr b="1" lang="ru-RU" sz="2000" spc="-1" strike="noStrike">
                <a:solidFill>
                  <a:srgbClr val="19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8"/>
          <p:cNvSpPr/>
          <p:nvPr/>
        </p:nvSpPr>
        <p:spPr>
          <a:xfrm>
            <a:off x="4800600" y="1981080"/>
            <a:ext cx="4071960" cy="1214640"/>
          </a:xfrm>
          <a:prstGeom prst="ellipse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3300"/>
                </a:solidFill>
                <a:latin typeface="Arial"/>
              </a:rPr>
              <a:t>Гё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низ 9"/>
          <p:cNvSpPr/>
          <p:nvPr/>
        </p:nvSpPr>
        <p:spPr>
          <a:xfrm>
            <a:off x="1143000" y="34290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10"/>
          <p:cNvSpPr/>
          <p:nvPr/>
        </p:nvSpPr>
        <p:spPr>
          <a:xfrm>
            <a:off x="2895480" y="342900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304920" y="4419720"/>
            <a:ext cx="2071440" cy="1928520"/>
          </a:xfrm>
          <a:prstGeom prst="rect">
            <a:avLst/>
          </a:prstGeom>
          <a:solidFill>
            <a:srgbClr val="d1d1f0"/>
          </a:solidFill>
          <a:ln w="255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Лесные гёзы- нападали на испанцев на  су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514600" y="4419720"/>
            <a:ext cx="2071800" cy="1928520"/>
          </a:xfrm>
          <a:prstGeom prst="rect">
            <a:avLst/>
          </a:prstGeom>
          <a:solidFill>
            <a:srgbClr val="d1d1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Морские – топили испанские суда, вели военные действия на побереж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14"/>
          <p:cNvSpPr/>
          <p:nvPr/>
        </p:nvSpPr>
        <p:spPr>
          <a:xfrm>
            <a:off x="6553080" y="3200400"/>
            <a:ext cx="457200" cy="7621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5"/>
          <p:cNvSpPr/>
          <p:nvPr/>
        </p:nvSpPr>
        <p:spPr>
          <a:xfrm>
            <a:off x="5029200" y="3886200"/>
            <a:ext cx="3809880" cy="2743200"/>
          </a:xfrm>
          <a:prstGeom prst="rect">
            <a:avLst/>
          </a:prstGeom>
          <a:solidFill>
            <a:srgbClr val="d1d1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дерландские дворяне, получившие прозвище из-за скромной оде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цы против гнёта испан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343040" y="228600"/>
            <a:ext cx="4800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 1572 года между Нидерландами и Испанией началась настоящая война, руководителем освободительного движения стал принц Вильгельм Оранский ( 1533 – 1584 гг.) . Считал себя кальвинистом, был осторожным и хорошим полити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Файл:WilliamOfOrange1580.jpg"/>
          <p:cNvPicPr/>
          <p:nvPr/>
        </p:nvPicPr>
        <p:blipFill>
          <a:blip r:embed="rId1"/>
          <a:stretch/>
        </p:blipFill>
        <p:spPr>
          <a:xfrm>
            <a:off x="152280" y="152280"/>
            <a:ext cx="412452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152280" y="5867280"/>
            <a:ext cx="403884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льгельм I Ора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0"/>
          <a:ext cx="9144000" cy="6918480"/>
        </p:xfrm>
        <a:graphic>
          <a:graphicData uri="http://schemas.openxmlformats.org/drawingml/2006/table">
            <a:tbl>
              <a:tblPr/>
              <a:tblGrid>
                <a:gridCol w="1359000"/>
                <a:gridCol w="7785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Г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обыт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5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Начало иконоборческого движе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Войска герцога Альбы вступили в Брюссе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ачало войны между Нидерландами и Испание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Морские гёзы захватили Брил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Осада испанских войск Харлем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3- 15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Героическая оборона Лейде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Утрехтская уния (договор о создании единого государств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Низложение Филиппа </a:t>
                      </a:r>
                      <a:r>
                        <a:rPr b="1" lang="en-US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             штатгальтер Вильгельм Оранск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5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7 провинций создали Республику Соединённых провинц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f9d5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6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Перемирие Испании и Голландии, признание независимости Голланди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c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тр. 137-1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ждение республ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Схема 6" descr=""/>
          <p:cNvPicPr/>
          <p:nvPr/>
        </p:nvPicPr>
        <p:blipFill>
          <a:blip r:embed="rId1"/>
          <a:stretch/>
        </p:blipFill>
        <p:spPr>
          <a:xfrm>
            <a:off x="450720" y="2328840"/>
            <a:ext cx="8096400" cy="4516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020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тоги революц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 rot="10800000">
            <a:off x="3585960" y="1447560"/>
            <a:ext cx="1747800" cy="852480"/>
          </a:xfrm>
          <a:custGeom>
            <a:avLst/>
            <a:gdLst>
              <a:gd name="textAreaLeft" fmla="*/ 174600 w 1747800"/>
              <a:gd name="textAreaRight" fmla="*/ 1573200 w 1747800"/>
              <a:gd name="textAreaTop" fmla="*/ 487080 h 852480"/>
              <a:gd name="textAreaBottom" fmla="*/ 730800 h 8524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просы на стр. 1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араграф 15, вопросы, запис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304920" y="228600"/>
            <a:ext cx="8686800" cy="99072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04920" y="1523880"/>
            <a:ext cx="8686800" cy="5105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Жемчужина в короне Габсбург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иворечия обостря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коноборческое дви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ремя терр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сные и морские гё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ано – нидерландская во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ждение республ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Овал 4" descr=""/>
          <p:cNvPicPr/>
          <p:nvPr/>
        </p:nvPicPr>
        <p:blipFill>
          <a:blip r:embed="rId1"/>
          <a:stretch/>
        </p:blipFill>
        <p:spPr>
          <a:xfrm>
            <a:off x="1066680" y="2828880"/>
            <a:ext cx="7309080" cy="37116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2095560" y="228600"/>
            <a:ext cx="5410080" cy="1447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2060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Нас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161616"/>
                </a:solidFill>
                <a:latin typeface="Arial"/>
              </a:rPr>
              <a:t>Нидерланд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4314960" y="1676520"/>
            <a:ext cx="485640" cy="1143000"/>
          </a:xfrm>
          <a:prstGeom prst="downArrow">
            <a:avLst>
              <a:gd name="adj1" fmla="val 50000"/>
              <a:gd name="adj2" fmla="val 588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РЕВОЛЮЦИЯ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–  процесс, в ходе которого происходят коренные изменения, ломаются старые поряд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380880" y="0"/>
            <a:ext cx="822960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2060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Географиче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16"/>
                </a:solidFill>
                <a:latin typeface="Arial"/>
              </a:rPr>
              <a:t>положение Нидерлан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 rot="1509000">
            <a:off x="1523520" y="1295280"/>
            <a:ext cx="486000" cy="1204920"/>
          </a:xfrm>
          <a:prstGeom prst="downArrow">
            <a:avLst>
              <a:gd name="adj1" fmla="val 50000"/>
              <a:gd name="adj2" fmla="val 61981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329000" y="1295280"/>
            <a:ext cx="486000" cy="3429000"/>
          </a:xfrm>
          <a:prstGeom prst="downArrow">
            <a:avLst>
              <a:gd name="adj1" fmla="val 50000"/>
              <a:gd name="adj2" fmla="val 176389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 rot="19609800">
            <a:off x="7086240" y="1218960"/>
            <a:ext cx="485640" cy="1204920"/>
          </a:xfrm>
          <a:prstGeom prst="downArrow">
            <a:avLst>
              <a:gd name="adj1" fmla="val 50000"/>
              <a:gd name="adj2" fmla="val 62027"/>
            </a:avLst>
          </a:prstGeom>
          <a:solidFill>
            <a:srgbClr val="ffff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0"/>
          <p:cNvSpPr/>
          <p:nvPr/>
        </p:nvSpPr>
        <p:spPr>
          <a:xfrm>
            <a:off x="0" y="2400480"/>
            <a:ext cx="4038480" cy="30096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ходила соврем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ьгия, ча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ран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ксембург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лан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1"/>
          <p:cNvSpPr/>
          <p:nvPr/>
        </p:nvSpPr>
        <p:spPr>
          <a:xfrm>
            <a:off x="2362320" y="4572000"/>
            <a:ext cx="4800600" cy="22860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крёсток морских путей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лантического оке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Балтийское м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2"/>
          <p:cNvSpPr/>
          <p:nvPr/>
        </p:nvSpPr>
        <p:spPr>
          <a:xfrm>
            <a:off x="4800600" y="2286000"/>
            <a:ext cx="4495680" cy="2743200"/>
          </a:xfrm>
          <a:prstGeom prst="ellipse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оложена на побереж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ного моря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жнему те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ельды, Ма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Р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642960" y="50004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родные услов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4"/>
          <p:cNvSpPr/>
          <p:nvPr/>
        </p:nvSpPr>
        <p:spPr>
          <a:xfrm>
            <a:off x="2428920" y="1600200"/>
            <a:ext cx="484200" cy="900000"/>
          </a:xfrm>
          <a:prstGeom prst="downArrow">
            <a:avLst>
              <a:gd name="adj1" fmla="val 50000"/>
              <a:gd name="adj2" fmla="val 78807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1143000" y="2514600"/>
            <a:ext cx="642924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1ab0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Низовые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6"/>
          <p:cNvSpPr/>
          <p:nvPr/>
        </p:nvSpPr>
        <p:spPr>
          <a:xfrm>
            <a:off x="2428920" y="3429000"/>
            <a:ext cx="484200" cy="714240"/>
          </a:xfrm>
          <a:prstGeom prst="downArrow">
            <a:avLst>
              <a:gd name="adj1" fmla="val 50000"/>
              <a:gd name="adj2" fmla="val 62541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428760" y="4143240"/>
            <a:ext cx="8143920" cy="2571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040"/>
                </a:solidFill>
                <a:latin typeface="Arial"/>
              </a:rPr>
              <a:t>XII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в. Затоплены участки суши. Население стало строить дамбы, плотины, откачивать воду, таким образом, отвоёвывать сушу. Появились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ольдеры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- земли, лежащие ни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уровня мо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3" descr=""/>
          <p:cNvPicPr/>
          <p:nvPr/>
        </p:nvPicPr>
        <p:blipFill>
          <a:blip r:embed="rId1"/>
          <a:stretch/>
        </p:blipFill>
        <p:spPr>
          <a:xfrm>
            <a:off x="-12600" y="1657440"/>
            <a:ext cx="9169200" cy="50544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3"/>
          <p:cNvSpPr/>
          <p:nvPr/>
        </p:nvSpPr>
        <p:spPr>
          <a:xfrm>
            <a:off x="609480" y="15228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кономика Нидерланд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Схема 2" descr=""/>
          <p:cNvPicPr/>
          <p:nvPr/>
        </p:nvPicPr>
        <p:blipFill>
          <a:blip r:embed="rId1"/>
          <a:stretch/>
        </p:blipFill>
        <p:spPr>
          <a:xfrm>
            <a:off x="324000" y="1298520"/>
            <a:ext cx="8240400" cy="57117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609480" y="152280"/>
            <a:ext cx="7205760" cy="1100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ческое управ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3-28T20:55:4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