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841-F382-4A72-96B0-C54F547C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42EC-5CD9-4FD2-BADF-6C0F8E46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8FD4-14CE-469D-8DC9-2478C76E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5CB-7082-4C14-BC9A-5FF46A0E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E74-41FD-41B6-856B-4FE80056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55B9-297C-4303-B675-94E1F1ED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C1C-9A2E-491C-B2C3-0496CE79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04F-207D-4732-8D9A-2CF724F8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7379-C5FD-4C5C-B645-125F63B6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8777-6881-4CE8-8F8F-55F7ECC2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B60-A6FB-44A2-A530-80866AF1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850C-D1CE-49F7-B922-ABAAD0CA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EACA-F7F9-4BF6-8E97-23D8B86472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Тема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« Нидерландская революц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362320" y="152280"/>
            <a:ext cx="419076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ая история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657600" y="5334120"/>
            <a:ext cx="5486400" cy="1523880"/>
          </a:xfrm>
          <a:prstGeom prst="rect">
            <a:avLst/>
          </a:prstGeom>
          <a:solidFill>
            <a:srgbClr val="ff99cc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38480" y="13716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нём стало назревать сильное недовольство зависимостью от Испании. Бесконечные войны разоряли стран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ижение за Реформацию церкви не могло обойти стороной и это государство. Им запрещалось читать и распространять идеи Лютера и Кальв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Documents and Settings\777\Мои документы\Мои рисунки\карл 5.jpg"/>
          <p:cNvPicPr/>
          <p:nvPr/>
        </p:nvPicPr>
        <p:blipFill>
          <a:blip r:embed="rId1"/>
          <a:stretch/>
        </p:blipFill>
        <p:spPr>
          <a:xfrm>
            <a:off x="228600" y="1371600"/>
            <a:ext cx="3297240" cy="5257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228600" y="6095880"/>
            <a:ext cx="32767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л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1525 году Карл V учредил в Нидерландах суд инквизиции, по приговору которой было казнено 100 тыс. человек. Многие каливинисты и лютеране спасались бегством в протестантские страны – Англию и Герма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114800" y="1066320"/>
            <a:ext cx="5029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щё безжалостнее оказалось правление Филиппа II, который относился к этой стране так же, как и к колониям в Новом Свете Ему нужны были не только деньги, но и полное господство католической церк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Файл:Philip II.jpg"/>
          <p:cNvPicPr/>
          <p:nvPr/>
        </p:nvPicPr>
        <p:blipFill>
          <a:blip r:embed="rId1"/>
          <a:stretch/>
        </p:blipFill>
        <p:spPr>
          <a:xfrm>
            <a:off x="304920" y="762120"/>
            <a:ext cx="3344760" cy="59436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9"/>
          <p:cNvSpPr/>
          <p:nvPr/>
        </p:nvSpPr>
        <p:spPr>
          <a:xfrm>
            <a:off x="0" y="5943600"/>
            <a:ext cx="403848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ипп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9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ипп II запретил торговлю с Англией и испанскими коло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 вывозимую из Испании шерсть ввёл большую пошлину, и поступление сырья в Нидерланды уменьшилось вдв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) В 1563 году испанская инквизиция приговорила к сожжению на костре всех жителей Нидерландов как неисправимых ере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) Разрешил ордену иезуитов обосноваться в Нидерландах, что ещё больше оскорбило протеста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едовольство политикой Габсбургов выражалось как в восстаниях бедняков, так и в распространении протестантских вероучения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коноборческое дви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:\Documents and Settings\777\Мои документы\Мои рисунки\а 1566.jpg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5280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28600" y="6172200"/>
            <a:ext cx="89154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нения в Антверпене в 156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о время иконоборческого движ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коноборческ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сканирование0042.jpg"/>
          <p:cNvPicPr/>
          <p:nvPr/>
        </p:nvPicPr>
        <p:blipFill>
          <a:blip r:embed="rId1"/>
          <a:stretch/>
        </p:blipFill>
        <p:spPr>
          <a:xfrm>
            <a:off x="1257480" y="1523880"/>
            <a:ext cx="70866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 Я  арестовываю теперь богатейших и ужаснейших преступников и подвергаю их денежным взысканиям, потом я займусь преступными город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Файл:Detail of a portrait of Fernando Alvarez de Toledo by Antonio Moro.jpeg"/>
          <p:cNvPicPr/>
          <p:nvPr/>
        </p:nvPicPr>
        <p:blipFill>
          <a:blip r:embed="rId1"/>
          <a:stretch/>
        </p:blipFill>
        <p:spPr>
          <a:xfrm>
            <a:off x="228600" y="1600200"/>
            <a:ext cx="4191120" cy="4152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304920" y="5791320"/>
            <a:ext cx="4038480" cy="7617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цог Ал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ремя терро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Казнь графов Эгмонта и Горна спровоцировала восстание....jpg"/>
          <p:cNvPicPr/>
          <p:nvPr/>
        </p:nvPicPr>
        <p:blipFill>
          <a:blip r:embed="rId1"/>
          <a:stretch/>
        </p:blipFill>
        <p:spPr>
          <a:xfrm>
            <a:off x="228600" y="228600"/>
            <a:ext cx="5452920" cy="6629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4724280" y="3200400"/>
            <a:ext cx="441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знь графа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гмонта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дмира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р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Сегодня на урок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 причины. Задачи и характер Нидерландской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, каковы итоги данной революции для развития Нидерлан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Развивать умение работать с историческими источни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777\Мои документы\Мои рисунки\памятник горну и эгмонту.jpg"/>
          <p:cNvPicPr/>
          <p:nvPr/>
        </p:nvPicPr>
        <p:blipFill>
          <a:blip r:embed="rId1"/>
          <a:stretch/>
        </p:blipFill>
        <p:spPr>
          <a:xfrm>
            <a:off x="228600" y="114480"/>
            <a:ext cx="4978440" cy="6629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5486400" y="2514600"/>
            <a:ext cx="3657600" cy="129528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ник Эгмон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Гор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591400" cy="22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304920" y="228600"/>
            <a:ext cx="84294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сные и морские 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ыноска со стрелкой вниз 5"/>
          <p:cNvSpPr/>
          <p:nvPr/>
        </p:nvSpPr>
        <p:spPr>
          <a:xfrm>
            <a:off x="142884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Выноска со стрелкой вниз 6"/>
          <p:cNvSpPr/>
          <p:nvPr/>
        </p:nvSpPr>
        <p:spPr>
          <a:xfrm>
            <a:off x="628668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7"/>
          <p:cNvSpPr/>
          <p:nvPr/>
        </p:nvSpPr>
        <p:spPr>
          <a:xfrm>
            <a:off x="304920" y="2143080"/>
            <a:ext cx="4071960" cy="128592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00"/>
                </a:solidFill>
                <a:latin typeface="Arial"/>
              </a:rPr>
              <a:t>Гёзы (нищий).</a:t>
            </a:r>
            <a:r>
              <a:rPr b="1" lang="ru-RU" sz="2000" spc="-1" strike="noStrike">
                <a:solidFill>
                  <a:srgbClr val="19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8"/>
          <p:cNvSpPr/>
          <p:nvPr/>
        </p:nvSpPr>
        <p:spPr>
          <a:xfrm>
            <a:off x="4800600" y="1981080"/>
            <a:ext cx="4071960" cy="121464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3300"/>
                </a:solidFill>
                <a:latin typeface="Arial"/>
              </a:rPr>
              <a:t>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9"/>
          <p:cNvSpPr/>
          <p:nvPr/>
        </p:nvSpPr>
        <p:spPr>
          <a:xfrm>
            <a:off x="114300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10"/>
          <p:cNvSpPr/>
          <p:nvPr/>
        </p:nvSpPr>
        <p:spPr>
          <a:xfrm>
            <a:off x="289548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304920" y="4419720"/>
            <a:ext cx="207144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Лесные гёзы- нападали на испанцев на  с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514600" y="4419720"/>
            <a:ext cx="207180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Морские – топили испанские суда, вели военные действия на побере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14"/>
          <p:cNvSpPr/>
          <p:nvPr/>
        </p:nvSpPr>
        <p:spPr>
          <a:xfrm>
            <a:off x="6553080" y="3200400"/>
            <a:ext cx="4572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5029200" y="3886200"/>
            <a:ext cx="3809880" cy="274320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дерландские дворяне, получившие прозвище из-за скромн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цы против гнёта испан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343040" y="22860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1572 года между Нидерландами и Испанией началась настоящая война, руководителем освободительного движения стал принц Вильгельм Оранский ( 1533 – 1584 гг.) . Считал себя кальвинистом, был осторожным и хорошим полит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Файл:WilliamOfOrange1580.jpg"/>
          <p:cNvPicPr/>
          <p:nvPr/>
        </p:nvPicPr>
        <p:blipFill>
          <a:blip r:embed="rId1"/>
          <a:stretch/>
        </p:blipFill>
        <p:spPr>
          <a:xfrm>
            <a:off x="152280" y="152280"/>
            <a:ext cx="412452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152280" y="5867280"/>
            <a:ext cx="403884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льгельм I Ора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9144000" cy="6918480"/>
        </p:xfrm>
        <a:graphic>
          <a:graphicData uri="http://schemas.openxmlformats.org/drawingml/2006/table">
            <a:tbl>
              <a:tblPr/>
              <a:tblGrid>
                <a:gridCol w="1359000"/>
                <a:gridCol w="7785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обыт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ачало иконоборческого движ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Войска герцога Альбы вступили в Брюссе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чало войны между Нидерландами и Испани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рские гёзы захватили Бри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сада испанских войск Харлем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3- 15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Героическая оборона Лейде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Утрехтская уния (договор о создании единого государст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изложение Филиппа </a:t>
                      </a: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        штатгальтер Вильгельм Оранск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 провинций создали Республику Соединённых провинц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6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еремирие Испании и Голландии, признание независимости Голланд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р. 137-1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хема 6" descr=""/>
          <p:cNvPicPr/>
          <p:nvPr/>
        </p:nvPicPr>
        <p:blipFill>
          <a:blip r:embed="rId1"/>
          <a:stretch/>
        </p:blipFill>
        <p:spPr>
          <a:xfrm>
            <a:off x="450720" y="2328840"/>
            <a:ext cx="8096400" cy="451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тоги револю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 rot="10800000">
            <a:off x="3585960" y="1447560"/>
            <a:ext cx="1747800" cy="852480"/>
          </a:xfrm>
          <a:custGeom>
            <a:avLst/>
            <a:gdLst>
              <a:gd name="textAreaLeft" fmla="*/ 174600 w 1747800"/>
              <a:gd name="textAreaRight" fmla="*/ 1573200 w 1747800"/>
              <a:gd name="textAreaTop" fmla="*/ 487080 h 852480"/>
              <a:gd name="textAreaBottom" fmla="*/ 73080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просы на стр. 1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15, вопросы, запис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04920" y="228600"/>
            <a:ext cx="8686800" cy="99072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1523880"/>
            <a:ext cx="8686800" cy="5105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Жемчужина в короне Габсбург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обостря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коноборческ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ремя терр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сные и морские гё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ано – нидерландская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вал 4" descr=""/>
          <p:cNvPicPr/>
          <p:nvPr/>
        </p:nvPicPr>
        <p:blipFill>
          <a:blip r:embed="rId1"/>
          <a:stretch/>
        </p:blipFill>
        <p:spPr>
          <a:xfrm>
            <a:off x="1066680" y="2828880"/>
            <a:ext cx="7309080" cy="3711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2095560" y="228600"/>
            <a:ext cx="5410080" cy="1447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идерлан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314960" y="1676520"/>
            <a:ext cx="485640" cy="1143000"/>
          </a:xfrm>
          <a:prstGeom prst="downArrow">
            <a:avLst>
              <a:gd name="adj1" fmla="val 50000"/>
              <a:gd name="adj2" fmla="val 588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РЕВОЛЮЦИЯ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–  процесс, в ходе которого происходят коренные изменения, ломаются старые поря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380880" y="0"/>
            <a:ext cx="822960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положение Нидерлан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1509000">
            <a:off x="1523520" y="1295280"/>
            <a:ext cx="486000" cy="1204920"/>
          </a:xfrm>
          <a:prstGeom prst="downArrow">
            <a:avLst>
              <a:gd name="adj1" fmla="val 50000"/>
              <a:gd name="adj2" fmla="val 61981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329000" y="1295280"/>
            <a:ext cx="486000" cy="3429000"/>
          </a:xfrm>
          <a:prstGeom prst="downArrow">
            <a:avLst>
              <a:gd name="adj1" fmla="val 50000"/>
              <a:gd name="adj2" fmla="val 176389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19609800">
            <a:off x="7086240" y="1218960"/>
            <a:ext cx="485640" cy="1204920"/>
          </a:xfrm>
          <a:prstGeom prst="downArrow">
            <a:avLst>
              <a:gd name="adj1" fmla="val 50000"/>
              <a:gd name="adj2" fmla="val 62027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0" y="2400480"/>
            <a:ext cx="4038480" cy="30096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ила соврем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ьгия, ча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ан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ксембург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ла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1"/>
          <p:cNvSpPr/>
          <p:nvPr/>
        </p:nvSpPr>
        <p:spPr>
          <a:xfrm>
            <a:off x="2362320" y="4572000"/>
            <a:ext cx="4800600" cy="22860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крёсток морских путей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лантического оке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алтийское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2"/>
          <p:cNvSpPr/>
          <p:nvPr/>
        </p:nvSpPr>
        <p:spPr>
          <a:xfrm>
            <a:off x="4800600" y="2286000"/>
            <a:ext cx="4495680" cy="27432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оложена на побереж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ного моря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жнему те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льды, Ма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Р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642960" y="50004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дные усло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4"/>
          <p:cNvSpPr/>
          <p:nvPr/>
        </p:nvSpPr>
        <p:spPr>
          <a:xfrm>
            <a:off x="2428920" y="1600200"/>
            <a:ext cx="484200" cy="900000"/>
          </a:xfrm>
          <a:prstGeom prst="downArrow">
            <a:avLst>
              <a:gd name="adj1" fmla="val 50000"/>
              <a:gd name="adj2" fmla="val 7880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143000" y="2514600"/>
            <a:ext cx="642924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1ab0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Низовые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6"/>
          <p:cNvSpPr/>
          <p:nvPr/>
        </p:nvSpPr>
        <p:spPr>
          <a:xfrm>
            <a:off x="2428920" y="3429000"/>
            <a:ext cx="484200" cy="714240"/>
          </a:xfrm>
          <a:prstGeom prst="downArrow">
            <a:avLst>
              <a:gd name="adj1" fmla="val 50000"/>
              <a:gd name="adj2" fmla="val 62541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428760" y="4143240"/>
            <a:ext cx="8143920" cy="257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XII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в. Затоплены участки суши. Население стало строить дамбы, плотины, откачивать воду, таким образом, отвоёвывать сушу. Появились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льдеры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- земли, лежащие ни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уровня мо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"/>
          <p:cNvPicPr/>
          <p:nvPr/>
        </p:nvPicPr>
        <p:blipFill>
          <a:blip r:embed="rId1"/>
          <a:stretch/>
        </p:blipFill>
        <p:spPr>
          <a:xfrm>
            <a:off x="-12600" y="1657440"/>
            <a:ext cx="9169200" cy="50544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ка Нидерлан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хема 2" descr=""/>
          <p:cNvPicPr/>
          <p:nvPr/>
        </p:nvPicPr>
        <p:blipFill>
          <a:blip r:embed="rId1"/>
          <a:stretch/>
        </p:blipFill>
        <p:spPr>
          <a:xfrm>
            <a:off x="324000" y="1298520"/>
            <a:ext cx="8240400" cy="57117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ое управ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3-28T20:55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