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7601-8C08-4BCB-8619-F0C096FC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F58-89BD-446B-9892-AF78F672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00AD-C283-452B-A596-27C372CA1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1FA0-D80C-40F3-9505-AB16A7D2E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7CFE-F3E0-4019-808B-F2DDEDAC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E99F-FDAE-4B0A-80AE-C634CD30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2765-9809-47A9-A191-C811181F6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0EB-AA63-429F-9BD0-8138EE18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5BCE-F941-4A5A-A2A9-D2C437CA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44CB-4F5E-48DF-83A6-A4B0792E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86A-10F6-4B40-BAA0-6CA561B1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5F8-E457-4685-AC02-A8501F8B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4560-2DF4-4EE7-AF7F-ABBEA053A1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8900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Английск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Arial Black"/>
              </a:rPr>
              <a:t>в Северной Америк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6000" y="2924280"/>
            <a:ext cx="3372120" cy="326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55D0-4998-430B-BA3D-5C02C5DE220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89360" y="368280"/>
            <a:ext cx="6984000" cy="916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Arial Black"/>
              </a:rPr>
              <a:t>ЮЖ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2120" y="1800360"/>
            <a:ext cx="6694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ЛАНТАЦИОННО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ХОЗЯЙСТВОВО -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ПРИМЕНЕНИЕ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ТРУД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НЕГРОВ-РАБО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1AC-DD73-4729-A429-EAD165D0A6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75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9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75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ahoma"/>
              </a:rPr>
              <a:t>Управление колониям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24000" y="1600200"/>
            <a:ext cx="8562240" cy="2520360"/>
            <a:chOff x="324000" y="1600200"/>
            <a:chExt cx="8562240" cy="2520360"/>
          </a:xfrm>
        </p:grpSpPr>
        <p:cxnSp>
          <p:nvCxnSpPr>
            <p:cNvPr id="73" name="_s25619"/>
            <p:cNvCxnSpPr>
              <a:stCxn id="74" idx="0"/>
              <a:endCxn id="75" idx="2"/>
            </p:cNvCxnSpPr>
            <p:nvPr/>
          </p:nvCxnSpPr>
          <p:spPr>
            <a:xfrm flipV="1" rot="16200000">
              <a:off x="5645520" y="1904400"/>
              <a:ext cx="171360" cy="224712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6" name="_s25617"/>
            <p:cNvCxnSpPr>
              <a:stCxn id="77" idx="0"/>
              <a:endCxn id="75" idx="2"/>
            </p:cNvCxnSpPr>
            <p:nvPr/>
          </p:nvCxnSpPr>
          <p:spPr>
            <a:xfrm flipH="1" flipV="1" rot="5400000">
              <a:off x="3397320" y="1903320"/>
              <a:ext cx="171360" cy="225000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8" name="_s25612"/>
            <p:cNvCxnSpPr>
              <a:stCxn id="75" idx="0"/>
              <a:endCxn id="79" idx="2"/>
            </p:cNvCxnSpPr>
            <p:nvPr/>
          </p:nvCxnSpPr>
          <p:spPr>
            <a:xfrm flipV="1" rot="16200000">
              <a:off x="4520520" y="2255040"/>
              <a:ext cx="171360" cy="3240"/>
            </a:xfrm>
            <a:prstGeom prst="bentConnector3">
              <a:avLst>
                <a:gd name="adj1" fmla="val 49894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9" name="_s25607"/>
            <p:cNvSpPr/>
            <p:nvPr/>
          </p:nvSpPr>
          <p:spPr>
            <a:xfrm>
              <a:off x="2988720" y="1600200"/>
              <a:ext cx="3232440" cy="54252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3333cc"/>
                  </a:solidFill>
                  <a:latin typeface="Times New Roman"/>
                </a:rPr>
                <a:t>Губернатор</a:t>
              </a: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25609"/>
            <p:cNvSpPr/>
            <p:nvPr/>
          </p:nvSpPr>
          <p:spPr>
            <a:xfrm>
              <a:off x="1748520" y="2371680"/>
              <a:ext cx="5715360" cy="5425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4160" rIns="74160" tIns="37080" bIns="37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993300"/>
                  </a:solidFill>
                  <a:latin typeface="Times New Roman"/>
                </a:rPr>
                <a:t>Колониальная ассамблея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_s25616"/>
            <p:cNvSpPr/>
            <p:nvPr/>
          </p:nvSpPr>
          <p:spPr>
            <a:xfrm>
              <a:off x="324000" y="3143160"/>
              <a:ext cx="406584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ерхняя палата – Совет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аристократи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_s25618"/>
            <p:cNvSpPr/>
            <p:nvPr/>
          </p:nvSpPr>
          <p:spPr>
            <a:xfrm>
              <a:off x="4820040" y="3143160"/>
              <a:ext cx="4066200" cy="977400"/>
            </a:xfrm>
            <a:prstGeom prst="rect">
              <a:avLst/>
            </a:prstGeom>
            <a:solidFill>
              <a:srgbClr val="ccccff">
                <a:alpha val="50000"/>
              </a:srgbClr>
            </a:solidFill>
            <a:ln w="57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Нижняя палата –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выборный орган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местной власт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8C60-DC36-4DA9-86DA-BB1CC34487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705800" cy="12956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Начало формирования североамериканской нации к середине 18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5435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террито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ая религ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Единый внутренни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Торговые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Общий язык – английский + слова из индейского, немецкого, французского язы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Times New Roman"/>
              </a:rPr>
              <a:t>Своеобразный быт насе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75D5-E5DF-4D17-ABA5-1207C8F05F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0920" y="609480"/>
            <a:ext cx="7846920" cy="1595520"/>
          </a:xfrm>
          <a:prstGeom prst="rect">
            <a:avLst/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Идеология американского общества</a:t>
            </a:r>
            <a:br>
              <a:rPr sz="4000"/>
            </a:b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стр.202-20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5C74-4909-425B-8671-A066A23E3E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нфликты с метрополией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, лишавший колонии прав свободной торговли, разрешалось торговать только с Англ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глийский парламент ввёл много запретов(на открытие мануфактур, на производство изделий из железа, ввоз машин и т.д.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держание английское войско в колони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FD4-22DE-4655-9E62-0DF994A0AA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3г. Королевский указ, запрещавший переселятся на Запад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765г. Английский парламент принял закон о гербовом сборе( при покупке товара платить налог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3A6-32FC-44C3-9590-7CC894267A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4920" y="907560"/>
            <a:ext cx="8062920" cy="4249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imes New Roman"/>
              </a:rPr>
              <a:t>Англичане не заметили, что на другом берегу Атлантического океана сформировался новый народ – АМЕРИКАНЦЫ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1339-7FC5-4EDA-B95C-9A183D67B9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/З: №22(п.1,2,4,6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1520-58F1-4733-8254-FCF63373F9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76320" y="5791320"/>
            <a:ext cx="457200" cy="5094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400"/>
              <a:gd name="textAreaBottom" fmla="*/ 479880 h 509400"/>
            </a:gdLst>
            <a:ahLst/>
            <a:rect l="textAreaLeft" t="textAreaTop" r="textAreaRight" b="textAreaBottom"/>
            <a:pathLst>
              <a:path w="21600" h="24064">
                <a:moveTo>
                  <a:pt x="0" y="0"/>
                </a:moveTo>
                <a:lnTo>
                  <a:pt x="21600" y="0"/>
                </a:lnTo>
                <a:lnTo>
                  <a:pt x="21600" y="24064"/>
                </a:lnTo>
                <a:lnTo>
                  <a:pt x="0" y="24064"/>
                </a:lnTo>
                <a:close/>
              </a:path>
              <a:path fill="lightenLess" w="21600" h="2406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4">
                <a:moveTo>
                  <a:pt x="21600" y="0"/>
                </a:moveTo>
                <a:lnTo>
                  <a:pt x="21600" y="24064"/>
                </a:lnTo>
                <a:lnTo>
                  <a:pt x="20200" y="22664"/>
                </a:lnTo>
                <a:lnTo>
                  <a:pt x="20200" y="1400"/>
                </a:lnTo>
                <a:close/>
              </a:path>
              <a:path fill="darkenLess" w="21600" h="24064">
                <a:moveTo>
                  <a:pt x="21600" y="24064"/>
                </a:moveTo>
                <a:lnTo>
                  <a:pt x="0" y="24064"/>
                </a:lnTo>
                <a:lnTo>
                  <a:pt x="1400" y="22664"/>
                </a:lnTo>
                <a:lnTo>
                  <a:pt x="20200" y="22664"/>
                </a:lnTo>
                <a:close/>
              </a:path>
              <a:path fill="lighten" w="21600" h="24064">
                <a:moveTo>
                  <a:pt x="0" y="2406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4"/>
                </a:lnTo>
                <a:close/>
              </a:path>
              <a:path fill="darken" w="21600" h="24064">
                <a:moveTo>
                  <a:pt x="3794" y="12032"/>
                </a:moveTo>
                <a:lnTo>
                  <a:pt x="17806" y="5026"/>
                </a:lnTo>
                <a:lnTo>
                  <a:pt x="17806" y="1903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4680" y="565200"/>
            <a:ext cx="64123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МЕТРОПОЛИЯ-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ОСУДАРСТВО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ЖИТЕЛИ КОТОРОГ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АЛИ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020000" y="4724280"/>
            <a:ext cx="1655640" cy="131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D93-E242-4FA5-A780-7668BB816D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332000" y="333360"/>
            <a:ext cx="6553080" cy="3809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95280" y="471492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В 1607г на территории будущей Виргинии было основано первое постоянное английское посе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D80D-1782-44A1-80CB-5850A79268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Times New Roman"/>
              </a:rPr>
              <a:t>НОВЫЕ ЗЕМЛИ ОСВАИВА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981000"/>
            <a:ext cx="77724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Крестья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потерявшие землю в следствии огораживания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дня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Безработная молодёжь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уритан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надеясь найти убежище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imes New Roman"/>
              </a:rPr>
              <a:t>Преступник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высланные за пределы своей стран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660E-C5F9-49A0-9FB3-4A964860D4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50920" y="3284640"/>
            <a:ext cx="4465440" cy="3344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50920" y="404640"/>
            <a:ext cx="446544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788000" y="393840"/>
            <a:ext cx="403200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В 1620г корабль «Мэйфлауэр» (Майский цветок») высадил группу из 102 пуритан (отцов –пилигримов-странствующий богомолец), бежавших от религиозных преследовани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1886-270D-4620-A69A-93CF54C008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671640" cy="2087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зовалось 13 коло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6657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5DC6-DD44-4F45-B4FC-52203746BC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5280" y="765000"/>
            <a:ext cx="3753000" cy="5124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427640" y="836640"/>
            <a:ext cx="424800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ндейские пле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ff66"/>
                </a:solidFill>
                <a:latin typeface="Times New Roman"/>
              </a:rPr>
              <a:t>ирокезы и алгонк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F1E-F93F-4DEE-8DF7-5AA2C52D81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6880" y="581040"/>
            <a:ext cx="77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Arial Black"/>
              </a:rPr>
              <a:t>СЕВЕРНЫЕ КОЛОН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98108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ЫБНЫЙ ПРОМЫСЕЛ МОРЕПЛАВАНИ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МАНУФАКТУР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 Black"/>
              </a:rPr>
              <a:t>ФЕРМ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previousslide"/>
          </p:cNvPr>
          <p:cNvSpPr/>
          <p:nvPr/>
        </p:nvSpPr>
        <p:spPr>
          <a:xfrm>
            <a:off x="76320" y="571500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A144-5F00-4DA7-88FE-EC005694A6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125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75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4200" y="411120"/>
            <a:ext cx="7617960" cy="7642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9900"/>
                </a:solidFill>
                <a:latin typeface="Arial Black"/>
              </a:rPr>
              <a:t>ЦЕНТРАЛЬНЫЕ КОЛОН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7360" y="2003400"/>
            <a:ext cx="7669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ФЕРМЕРСКОЕ ХОЗЯЙСТВ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РЕМЁ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Black"/>
              </a:rPr>
              <a:t>КОРАБЛЕСТРО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nextslide"/>
          </p:cNvPr>
          <p:cNvSpPr/>
          <p:nvPr/>
        </p:nvSpPr>
        <p:spPr>
          <a:xfrm>
            <a:off x="8534520" y="6272280"/>
            <a:ext cx="509400" cy="509400"/>
          </a:xfrm>
          <a:custGeom>
            <a:avLst/>
            <a:gdLst>
              <a:gd name="textAreaLeft" fmla="*/ 32760 w 509400"/>
              <a:gd name="textAreaRight" fmla="*/ 476640 w 509400"/>
              <a:gd name="textAreaTop" fmla="*/ 32760 h 509400"/>
              <a:gd name="textAreaBottom" fmla="*/ 476640 h 50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76320" y="5638680"/>
            <a:ext cx="457200" cy="5097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09760"/>
              <a:gd name="textAreaBottom" fmla="*/ 480240 h 509760"/>
            </a:gdLst>
            <a:ahLst/>
            <a:rect l="textAreaLeft" t="textAreaTop" r="textAreaRight" b="textAreaBottom"/>
            <a:pathLst>
              <a:path w="21600" h="24081">
                <a:moveTo>
                  <a:pt x="0" y="0"/>
                </a:moveTo>
                <a:lnTo>
                  <a:pt x="21600" y="0"/>
                </a:lnTo>
                <a:lnTo>
                  <a:pt x="21600" y="24081"/>
                </a:lnTo>
                <a:lnTo>
                  <a:pt x="0" y="24081"/>
                </a:lnTo>
                <a:close/>
              </a:path>
              <a:path fill="lightenLess" w="21600" h="2408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81">
                <a:moveTo>
                  <a:pt x="21600" y="0"/>
                </a:moveTo>
                <a:lnTo>
                  <a:pt x="21600" y="24081"/>
                </a:lnTo>
                <a:lnTo>
                  <a:pt x="20200" y="22681"/>
                </a:lnTo>
                <a:lnTo>
                  <a:pt x="20200" y="1400"/>
                </a:lnTo>
                <a:close/>
              </a:path>
              <a:path fill="darkenLess" w="21600" h="24081">
                <a:moveTo>
                  <a:pt x="21600" y="24081"/>
                </a:moveTo>
                <a:lnTo>
                  <a:pt x="0" y="24081"/>
                </a:lnTo>
                <a:lnTo>
                  <a:pt x="1400" y="22681"/>
                </a:lnTo>
                <a:lnTo>
                  <a:pt x="20200" y="22681"/>
                </a:lnTo>
                <a:close/>
              </a:path>
              <a:path fill="lighten" w="21600" h="24081">
                <a:moveTo>
                  <a:pt x="0" y="2408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81"/>
                </a:lnTo>
                <a:close/>
              </a:path>
              <a:path fill="darken" w="21600" h="24081">
                <a:moveTo>
                  <a:pt x="3794" y="12041"/>
                </a:moveTo>
                <a:lnTo>
                  <a:pt x="17806" y="5034"/>
                </a:lnTo>
                <a:lnTo>
                  <a:pt x="17806" y="19047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916C-BB44-492A-AA33-93672956C9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75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35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75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4:26:04Z</dcterms:created>
  <dc:creator>Галкина</dc:creator>
  <dc:description/>
  <dc:language>en-US</dc:language>
  <cp:lastModifiedBy>Sanek</cp:lastModifiedBy>
  <dcterms:modified xsi:type="dcterms:W3CDTF">2010-11-24T14:30:45Z</dcterms:modified>
  <cp:revision>21</cp:revision>
  <dc:subject/>
  <dc:title>Заголовок слайда отсутствуе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c050000000000010250300207f7000400038000</vt:lpwstr>
  </property>
</Properties>
</file>