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23F5-2234-4802-9330-E57D85DD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4FD7-B6A7-45E5-8333-6EFC9487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C0C2-6121-4A11-864F-8A09903D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773E-CCEB-49F5-A731-576995EC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AA8B-8E28-4C36-921A-35F8480A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D8D7-CD7B-43F8-A0F6-63E41C13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DD1B-D151-46A7-B5F7-38016DBE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4FDA-B31B-492C-AC7D-9A9AB516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3813-5D18-47E1-83D0-5EF967DA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C001-DAED-45C9-9BFD-8CE11310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39FB-1CE9-4454-A87C-BC18AFFF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D23B-E939-4BF2-9830-C9D5F790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29D2-2F67-4F27-852E-0CDC026D33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90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Английск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в Северной Америк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56000" y="2924280"/>
            <a:ext cx="3372120" cy="326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43C0-DCEB-44A6-9D1A-423416B407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89360" y="368280"/>
            <a:ext cx="6984000" cy="916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Arial Black"/>
              </a:rPr>
              <a:t>ЮЖНЫЕ 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2120" y="1800360"/>
            <a:ext cx="6694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ЛАНТАЦИОННО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ХОЗЯЙСТВОВО -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РИМЕНЕНИЕ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ТРУД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НЕГРОВ-РАБ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76320" y="571500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9619-5DF9-4ED5-9748-8212E33CC8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7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9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7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Управление колония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24000" y="1600200"/>
            <a:ext cx="8562240" cy="2520360"/>
            <a:chOff x="324000" y="1600200"/>
            <a:chExt cx="8562240" cy="2520360"/>
          </a:xfrm>
        </p:grpSpPr>
        <p:cxnSp>
          <p:nvCxnSpPr>
            <p:cNvPr id="73" name="_s25619"/>
            <p:cNvCxnSpPr>
              <a:stCxn id="74" idx="0"/>
              <a:endCxn id="75" idx="2"/>
            </p:cNvCxnSpPr>
            <p:nvPr/>
          </p:nvCxnSpPr>
          <p:spPr>
            <a:xfrm flipV="1" rot="16200000">
              <a:off x="5645520" y="1904400"/>
              <a:ext cx="171360" cy="224712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25617"/>
            <p:cNvCxnSpPr>
              <a:stCxn id="77" idx="0"/>
              <a:endCxn id="75" idx="2"/>
            </p:cNvCxnSpPr>
            <p:nvPr/>
          </p:nvCxnSpPr>
          <p:spPr>
            <a:xfrm flipH="1" flipV="1" rot="5400000">
              <a:off x="3397320" y="1903320"/>
              <a:ext cx="171360" cy="225000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25612"/>
            <p:cNvCxnSpPr>
              <a:stCxn id="75" idx="0"/>
              <a:endCxn id="79" idx="2"/>
            </p:cNvCxnSpPr>
            <p:nvPr/>
          </p:nvCxnSpPr>
          <p:spPr>
            <a:xfrm flipV="1" rot="16200000">
              <a:off x="4520520" y="2255040"/>
              <a:ext cx="171360" cy="324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" name="_s25607"/>
            <p:cNvSpPr/>
            <p:nvPr/>
          </p:nvSpPr>
          <p:spPr>
            <a:xfrm>
              <a:off x="2988720" y="1600200"/>
              <a:ext cx="3232440" cy="5425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cc"/>
                  </a:solidFill>
                  <a:latin typeface="Times New Roman"/>
                </a:rPr>
                <a:t>Губернатор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25609"/>
            <p:cNvSpPr/>
            <p:nvPr/>
          </p:nvSpPr>
          <p:spPr>
            <a:xfrm>
              <a:off x="1748520" y="2371680"/>
              <a:ext cx="5715360" cy="54252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993300"/>
                  </a:solidFill>
                  <a:latin typeface="Times New Roman"/>
                </a:rPr>
                <a:t>Колониальная ассамблея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25616"/>
            <p:cNvSpPr/>
            <p:nvPr/>
          </p:nvSpPr>
          <p:spPr>
            <a:xfrm>
              <a:off x="324000" y="3143160"/>
              <a:ext cx="4065840" cy="9774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Верхняя палата – Совет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аристократи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25618"/>
            <p:cNvSpPr/>
            <p:nvPr/>
          </p:nvSpPr>
          <p:spPr>
            <a:xfrm>
              <a:off x="4820040" y="3143160"/>
              <a:ext cx="4066200" cy="9774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Нижняя палата –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выборный орган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местной власт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7CBC-8E0C-467C-BC14-3C5BF292E4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705800" cy="1295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Начало формирования североамериканской нации к середине 18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ая террито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ая рели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Единый внутренний ры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Торговые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ий язык – английский + слова из индейского, немецкого, французского язы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Своеобразный быт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9E54-6B4C-41FE-A5BB-F5647FF8DA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609480"/>
            <a:ext cx="7846920" cy="15955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Идеология американского общества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(стр.202-20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5665-A987-4738-A898-7C7EAE82C6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нфликты с метрополие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, лишавший колонии прав свободной торговли, разрешалось торговать только с Англи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глийский парламент ввёл много запретов(на открытие мануфактур, на производство изделий из железа, ввоз машин и т.д.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ание английское войско в колон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FC4C-9281-4183-8E93-566C309614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763г. Королевский указ, запрещавший переселятся на Запад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765г. Английский парламент принял закон о гербовом сборе( при покупке товара платить налог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F92B-BB27-48C2-B7B0-3B189CF228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8062920" cy="4249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Англичане не заметили, что на другом берегу Атлантического океана сформировался новый народ – АМЕРИКАНЦ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AB42-F777-4487-99E1-71DAC0839C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/З: №22(п.1,2,4,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A68C-BFEA-48B5-A79F-4933E603BF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76320" y="5791320"/>
            <a:ext cx="457200" cy="5094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400"/>
              <a:gd name="textAreaBottom" fmla="*/ 479880 h 509400"/>
            </a:gdLst>
            <a:ahLst/>
            <a:rect l="textAreaLeft" t="textAreaTop" r="textAreaRight" b="textAreaBottom"/>
            <a:pathLst>
              <a:path w="21600" h="24064">
                <a:moveTo>
                  <a:pt x="0" y="0"/>
                </a:moveTo>
                <a:lnTo>
                  <a:pt x="21600" y="0"/>
                </a:lnTo>
                <a:lnTo>
                  <a:pt x="21600" y="24064"/>
                </a:lnTo>
                <a:lnTo>
                  <a:pt x="0" y="24064"/>
                </a:lnTo>
                <a:close/>
              </a:path>
              <a:path fill="lightenLess" w="21600" h="240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64">
                <a:moveTo>
                  <a:pt x="21600" y="0"/>
                </a:moveTo>
                <a:lnTo>
                  <a:pt x="21600" y="24064"/>
                </a:lnTo>
                <a:lnTo>
                  <a:pt x="20200" y="22664"/>
                </a:lnTo>
                <a:lnTo>
                  <a:pt x="20200" y="1400"/>
                </a:lnTo>
                <a:close/>
              </a:path>
              <a:path fill="darkenLess" w="21600" h="24064">
                <a:moveTo>
                  <a:pt x="21600" y="24064"/>
                </a:moveTo>
                <a:lnTo>
                  <a:pt x="0" y="24064"/>
                </a:lnTo>
                <a:lnTo>
                  <a:pt x="1400" y="22664"/>
                </a:lnTo>
                <a:lnTo>
                  <a:pt x="20200" y="22664"/>
                </a:lnTo>
                <a:close/>
              </a:path>
              <a:path fill="lighten" w="21600" h="24064">
                <a:moveTo>
                  <a:pt x="0" y="240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64"/>
                </a:lnTo>
                <a:close/>
              </a:path>
              <a:path fill="darken" w="21600" h="24064">
                <a:moveTo>
                  <a:pt x="3794" y="12032"/>
                </a:moveTo>
                <a:lnTo>
                  <a:pt x="17806" y="5026"/>
                </a:lnTo>
                <a:lnTo>
                  <a:pt x="17806" y="1903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680" y="565200"/>
            <a:ext cx="64123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МЕТРОПОЛИЯ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ОСУДАРСТВО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ЖИТЕЛИ КОТОРОГ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СНОВАЛИ 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4724280"/>
            <a:ext cx="1655640" cy="13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42C0-E72A-4074-84C1-FC18E3C442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32000" y="333360"/>
            <a:ext cx="655308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395280" y="47149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В 1607г на территории будущей Виргинии было основано первое постоянное английское посе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244E-1BBA-436D-BDD1-D6081C0F10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НОВЫЕ ЗЕМЛИ ОСВАИВА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Крестьян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потерявшие землю в следствии огораживан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Бедняк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Безработная молодёж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уритан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надеясь найти убежищ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реступник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высланные за пределы своей стран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6E31-A6AA-4D68-BABB-B42F0AF788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4465440" cy="3344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50920" y="404640"/>
            <a:ext cx="4465440" cy="2376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88000" y="393840"/>
            <a:ext cx="40320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 1620г корабль «Мэйфлауэр» (Майский цветок») высадил группу из 102 пуритан (отцов –пилигримов-странствующий богомолец), бежавших от религиозных преследов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604-00D0-4788-96AF-8C5A515D35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8000" y="1773360"/>
            <a:ext cx="3671640" cy="2087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овалось 13 коло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665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3CAB-BCB2-4911-BAE6-B7B852472E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3753000" cy="5124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27640" y="836640"/>
            <a:ext cx="4248000" cy="10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Индейские пле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ирокезы и алгонк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29DE-3A27-4078-8AF2-CF7CA56E6A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6880" y="581040"/>
            <a:ext cx="77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СЕВЕРНЫЕ 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9810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РЫБНЫЙ ПРОМЫСЕЛ МОРЕПЛАВ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РЕМЁСЛ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МАНУФАКТУ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ФЕРМ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76320" y="571500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4179-392E-41C1-BE10-C612067F00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125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4200" y="411120"/>
            <a:ext cx="761796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 Black"/>
              </a:rPr>
              <a:t>ЦЕНТРАЛЬНЫЕ 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7360" y="2003400"/>
            <a:ext cx="766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ФЕРМЕРСКОЕ ХОЗЯЙ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РЕМЁ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АБЛЕСТРО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76320" y="563868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2CC1-834F-4D05-BD72-92E368D2BD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35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14:26:04Z</dcterms:created>
  <dc:creator>Галкина</dc:creator>
  <dc:description/>
  <dc:language>en-US</dc:language>
  <cp:lastModifiedBy>Sanek</cp:lastModifiedBy>
  <dcterms:modified xsi:type="dcterms:W3CDTF">2010-11-24T14:30:45Z</dcterms:modified>
  <cp:revision>21</cp:revision>
  <dc:subject/>
  <dc:title>Заголовок слайда отсутству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50000000000010250300207f7000400038000</vt:lpwstr>
  </property>
</Properties>
</file>