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4AA-EF35-4BC8-B76E-4F81588F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DD4-0352-4985-B433-09FCC1A0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CE4-4C54-4DEA-9A09-62064148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738-1E53-4973-8A90-5928A839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503-9D9E-43C9-83C5-AB15CB0A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5EB-0D2D-4893-962B-BE181798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08B-A9DE-418A-B4AD-A9E5C274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54F-5426-4A27-B2DB-7562C9BC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B42-3655-456B-865E-CD7FF023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8C3-ECA3-483D-A353-1B67AEBA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EDB-F5E0-4AAF-905B-F41D938C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767-D2C8-4B59-AF18-87C15D21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F37C-F100-4909-972B-BB416FFA27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Английск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 Северной Амери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337212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CC0-7481-472B-876B-3268ADE954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044-D4A2-4ACE-90C5-2648D6E19F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Управление коло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600200"/>
            <a:ext cx="8562240" cy="2520360"/>
            <a:chOff x="324000" y="1600200"/>
            <a:chExt cx="8562240" cy="2520360"/>
          </a:xfrm>
        </p:grpSpPr>
        <p:cxnSp>
          <p:nvCxnSpPr>
            <p:cNvPr id="73" name="_s25619"/>
            <p:cNvCxnSpPr>
              <a:stCxn id="74" idx="0"/>
              <a:endCxn id="75" idx="2"/>
            </p:cNvCxnSpPr>
            <p:nvPr/>
          </p:nvCxnSpPr>
          <p:spPr>
            <a:xfrm flipV="1" rot="16200000">
              <a:off x="5645520" y="1904400"/>
              <a:ext cx="171360" cy="22471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5617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3397320" y="1903320"/>
              <a:ext cx="171360" cy="22500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5612"/>
            <p:cNvCxnSpPr>
              <a:stCxn id="75" idx="0"/>
              <a:endCxn id="79" idx="2"/>
            </p:cNvCxnSpPr>
            <p:nvPr/>
          </p:nvCxnSpPr>
          <p:spPr>
            <a:xfrm flipV="1" rot="16200000">
              <a:off x="4520520" y="2255040"/>
              <a:ext cx="171360" cy="324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5607"/>
            <p:cNvSpPr/>
            <p:nvPr/>
          </p:nvSpPr>
          <p:spPr>
            <a:xfrm>
              <a:off x="2988720" y="1600200"/>
              <a:ext cx="3232440" cy="54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Times New Roman"/>
                </a:rPr>
                <a:t>Губернатор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5609"/>
            <p:cNvSpPr/>
            <p:nvPr/>
          </p:nvSpPr>
          <p:spPr>
            <a:xfrm>
              <a:off x="1748520" y="2371680"/>
              <a:ext cx="5715360" cy="5425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93300"/>
                  </a:solidFill>
                  <a:latin typeface="Times New Roman"/>
                </a:rPr>
                <a:t>Колониальная ассамбле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5616"/>
            <p:cNvSpPr/>
            <p:nvPr/>
          </p:nvSpPr>
          <p:spPr>
            <a:xfrm>
              <a:off x="324000" y="3143160"/>
              <a:ext cx="406584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рхняя палата – Сове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ристократ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5618"/>
            <p:cNvSpPr/>
            <p:nvPr/>
          </p:nvSpPr>
          <p:spPr>
            <a:xfrm>
              <a:off x="4820040" y="3143160"/>
              <a:ext cx="406620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ижняя палата –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ыборный орган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естной вла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34C-0594-48B2-8CCF-34EE339559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0580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ачало формирования североамериканской нации к середине 18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274-D570-439E-9567-5636EF64B4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1595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Идеология американского общества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стр.202-2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AEF-3BC8-4A07-BDF2-9F5C9104A5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фликты с метрополи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D13-AC2A-477F-95CE-8FFBE83F9D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2F4-FE33-4978-BD75-D1DDA9EDB6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62920" cy="424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нгличане не заметили, что на другом берегу Атлантического океана сформировался новый народ – АМЕРИКАН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95A-5EC3-4167-A535-F49C07974E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/З: №22(п.1,2,4,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69E-A653-44E3-BAF2-1EFC656FFF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5791320"/>
            <a:ext cx="457200" cy="5094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400"/>
              <a:gd name="textAreaBottom" fmla="*/ 479880 h 509400"/>
            </a:gdLst>
            <a:ahLst/>
            <a:rect l="textAreaLeft" t="textAreaTop" r="textAreaRight" b="textAreaBottom"/>
            <a:pathLst>
              <a:path w="21600" h="24064">
                <a:moveTo>
                  <a:pt x="0" y="0"/>
                </a:moveTo>
                <a:lnTo>
                  <a:pt x="21600" y="0"/>
                </a:lnTo>
                <a:lnTo>
                  <a:pt x="21600" y="24064"/>
                </a:lnTo>
                <a:lnTo>
                  <a:pt x="0" y="24064"/>
                </a:lnTo>
                <a:close/>
              </a:path>
              <a:path fill="lightenLess" w="21600" h="24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4">
                <a:moveTo>
                  <a:pt x="21600" y="0"/>
                </a:moveTo>
                <a:lnTo>
                  <a:pt x="21600" y="24064"/>
                </a:lnTo>
                <a:lnTo>
                  <a:pt x="20200" y="22664"/>
                </a:lnTo>
                <a:lnTo>
                  <a:pt x="20200" y="1400"/>
                </a:lnTo>
                <a:close/>
              </a:path>
              <a:path fill="darkenLess" w="21600" h="24064">
                <a:moveTo>
                  <a:pt x="21600" y="24064"/>
                </a:moveTo>
                <a:lnTo>
                  <a:pt x="0" y="24064"/>
                </a:lnTo>
                <a:lnTo>
                  <a:pt x="1400" y="22664"/>
                </a:lnTo>
                <a:lnTo>
                  <a:pt x="20200" y="22664"/>
                </a:lnTo>
                <a:close/>
              </a:path>
              <a:path fill="lighten" w="21600" h="24064">
                <a:moveTo>
                  <a:pt x="0" y="24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4"/>
                </a:lnTo>
                <a:close/>
              </a:path>
              <a:path fill="darken" w="21600" h="24064">
                <a:moveTo>
                  <a:pt x="3794" y="12032"/>
                </a:moveTo>
                <a:lnTo>
                  <a:pt x="17806" y="5026"/>
                </a:lnTo>
                <a:lnTo>
                  <a:pt x="17806" y="190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5BA-0EE2-46CC-B278-3298035318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5530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95280" y="4714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1607г на территории будущей Виргинии было основано первое постоянное англий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655-C947-4351-8942-6147CEE378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ОВЫЕ ЗЕМЛИ ОСВАИВА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Крестья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отерявшие землю в следствии огоражива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дня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зработная молодёж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урита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надеясь найти убежищ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ступни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высланные за пределы своей стра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42E-D962-431C-BED5-9CFE251E1A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46544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46544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393840"/>
            <a:ext cx="4032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1620г корабль «Мэйфлауэр» (Майский цветок») высадил группу из 102 пуритан (отцов –пилигримов-странствующий богомолец), бежавших от религиозных преследов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489-888E-4B83-B7C3-ACFF97413D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671640" cy="20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лось 13 коло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6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5C7-7A47-4910-9B23-43E5AD8324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75300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836640"/>
            <a:ext cx="424800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ндейские пл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рокезы и алгон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14B-BFD3-45D0-9E27-0EAF4A487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6E4-4F92-4BB3-82B7-AF3F4BF92E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2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E41-49A2-42E5-A8A5-CEBE0787A3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Галкина</dc:creator>
  <dc:description/>
  <dc:language>en-US</dc:language>
  <cp:lastModifiedBy>Sanek</cp:lastModifiedBy>
  <dcterms:modified xsi:type="dcterms:W3CDTF">2010-11-24T14:30:45Z</dcterms:modified>
  <cp:revision>21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50300207f7000400038000</vt:lpwstr>
  </property>
</Properties>
</file>