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8489-6A08-48F2-979E-21D40BD5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C91A-9CAF-4AAB-A1D6-A8AF8A63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54C2-5234-4F38-8749-C0661770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7BCA-EB8F-4A9B-A1A1-8789D1B80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3051-2FAE-406C-9988-EE3BB681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DD6E-7C67-401D-829B-A9E7ABD7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E333-0F75-462B-A327-14142699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4178-12B9-4E60-A448-9545CFE0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7C25-A2AB-4BB8-8AA9-C96CA528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AB2D-8B01-44E0-8E1F-81235DCC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B1FF-3CA6-4874-BA01-0046E109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537B-DE70-47D8-A07B-9F4292FF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CF29-77B0-48D6-8987-DB72A89684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90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Английск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в Северной Америк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56000" y="2924280"/>
            <a:ext cx="3372120" cy="326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EE98-3534-427D-8C08-9F4991F906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89360" y="368280"/>
            <a:ext cx="6984000" cy="916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Arial Black"/>
              </a:rPr>
              <a:t>ЮЖНЫЕ 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2120" y="1800360"/>
            <a:ext cx="6694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ПЛАНТАЦИОННО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ХОЗЯЙСТВОВО -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ПРИМЕНЕНИЕ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ТРУД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НЕГРОВ-РАБ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76320" y="5715000"/>
            <a:ext cx="457200" cy="509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760"/>
              <a:gd name="textAreaBottom" fmla="*/ 480240 h 509760"/>
            </a:gdLst>
            <a:ahLst/>
            <a:rect l="textAreaLeft" t="textAreaTop" r="textAreaRight" b="textAreaBottom"/>
            <a:pathLst>
              <a:path w="21600" h="24081">
                <a:moveTo>
                  <a:pt x="0" y="0"/>
                </a:moveTo>
                <a:lnTo>
                  <a:pt x="21600" y="0"/>
                </a:lnTo>
                <a:lnTo>
                  <a:pt x="21600" y="24081"/>
                </a:lnTo>
                <a:lnTo>
                  <a:pt x="0" y="24081"/>
                </a:lnTo>
                <a:close/>
              </a:path>
              <a:path fill="lightenLess" w="21600" h="24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1">
                <a:moveTo>
                  <a:pt x="21600" y="0"/>
                </a:moveTo>
                <a:lnTo>
                  <a:pt x="21600" y="24081"/>
                </a:lnTo>
                <a:lnTo>
                  <a:pt x="20200" y="22681"/>
                </a:lnTo>
                <a:lnTo>
                  <a:pt x="20200" y="1400"/>
                </a:lnTo>
                <a:close/>
              </a:path>
              <a:path fill="darkenLess" w="21600" h="24081">
                <a:moveTo>
                  <a:pt x="21600" y="24081"/>
                </a:moveTo>
                <a:lnTo>
                  <a:pt x="0" y="24081"/>
                </a:lnTo>
                <a:lnTo>
                  <a:pt x="1400" y="22681"/>
                </a:lnTo>
                <a:lnTo>
                  <a:pt x="20200" y="22681"/>
                </a:lnTo>
                <a:close/>
              </a:path>
              <a:path fill="lighten" w="21600" h="24081">
                <a:moveTo>
                  <a:pt x="0" y="24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1"/>
                </a:lnTo>
                <a:close/>
              </a:path>
              <a:path fill="darken" w="21600" h="24081">
                <a:moveTo>
                  <a:pt x="3794" y="12041"/>
                </a:moveTo>
                <a:lnTo>
                  <a:pt x="17806" y="5034"/>
                </a:lnTo>
                <a:lnTo>
                  <a:pt x="17806" y="19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B792-11B6-4823-B044-EDFCDFA681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7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9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7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Управление колония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24000" y="1600200"/>
            <a:ext cx="8562240" cy="2520360"/>
            <a:chOff x="324000" y="1600200"/>
            <a:chExt cx="8562240" cy="2520360"/>
          </a:xfrm>
        </p:grpSpPr>
        <p:cxnSp>
          <p:nvCxnSpPr>
            <p:cNvPr id="73" name="_s25619"/>
            <p:cNvCxnSpPr>
              <a:stCxn id="74" idx="0"/>
              <a:endCxn id="75" idx="2"/>
            </p:cNvCxnSpPr>
            <p:nvPr/>
          </p:nvCxnSpPr>
          <p:spPr>
            <a:xfrm flipV="1" rot="16200000">
              <a:off x="5645520" y="1904400"/>
              <a:ext cx="171360" cy="224712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25617"/>
            <p:cNvCxnSpPr>
              <a:stCxn id="77" idx="0"/>
              <a:endCxn id="75" idx="2"/>
            </p:cNvCxnSpPr>
            <p:nvPr/>
          </p:nvCxnSpPr>
          <p:spPr>
            <a:xfrm flipH="1" flipV="1" rot="5400000">
              <a:off x="3397320" y="1903320"/>
              <a:ext cx="171360" cy="225000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25612"/>
            <p:cNvCxnSpPr>
              <a:stCxn id="75" idx="0"/>
              <a:endCxn id="79" idx="2"/>
            </p:cNvCxnSpPr>
            <p:nvPr/>
          </p:nvCxnSpPr>
          <p:spPr>
            <a:xfrm flipV="1" rot="16200000">
              <a:off x="4520520" y="2255040"/>
              <a:ext cx="171360" cy="324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" name="_s25607"/>
            <p:cNvSpPr/>
            <p:nvPr/>
          </p:nvSpPr>
          <p:spPr>
            <a:xfrm>
              <a:off x="2988720" y="1600200"/>
              <a:ext cx="3232440" cy="5425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33cc"/>
                  </a:solidFill>
                  <a:latin typeface="Times New Roman"/>
                </a:rPr>
                <a:t>Губернатор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25609"/>
            <p:cNvSpPr/>
            <p:nvPr/>
          </p:nvSpPr>
          <p:spPr>
            <a:xfrm>
              <a:off x="1748520" y="2371680"/>
              <a:ext cx="5715360" cy="54252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993300"/>
                  </a:solidFill>
                  <a:latin typeface="Times New Roman"/>
                </a:rPr>
                <a:t>Колониальная ассамблея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25616"/>
            <p:cNvSpPr/>
            <p:nvPr/>
          </p:nvSpPr>
          <p:spPr>
            <a:xfrm>
              <a:off x="324000" y="3143160"/>
              <a:ext cx="4065840" cy="9774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Верхняя палата – Совет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аристократи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25618"/>
            <p:cNvSpPr/>
            <p:nvPr/>
          </p:nvSpPr>
          <p:spPr>
            <a:xfrm>
              <a:off x="4820040" y="3143160"/>
              <a:ext cx="4066200" cy="9774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Нижняя палата –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выборный орган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местной власт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8298-907E-4B84-86F6-01990BA8A2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705800" cy="1295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Начало формирования североамериканской нации к середине 18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3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Общая террито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Общая рели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Единый внутренний ры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Торговые свя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Общий язык – английский + слова из индейского, немецкого, французского язы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Своеобразный быт насе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61A6-613A-494B-9B23-4106AD318A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0920" y="609480"/>
            <a:ext cx="7846920" cy="15955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Идеология американского общества</a:t>
            </a:r>
            <a:br>
              <a:rPr sz="4000"/>
            </a:b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(стр.202-20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6096-4183-47BF-86AC-FB2A78F1BE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нфликты с метрополией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он, лишавший колонии прав свободной торговли, разрешалось торговать только с Англи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глийский парламент ввёл много запретов(на открытие мануфактур, на производство изделий из железа, ввоз машин и т.д.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ание английское войско в колон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F820-DC0E-4A4F-A863-F0F7D24728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763г. Королевский указ, запрещавший переселятся на Запад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765г. Английский парламент принял закон о гербовом сборе( при покупке товара платить налог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B789-C171-458C-9FCE-2A9BAAD330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8062920" cy="4249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Англичане не заметили, что на другом берегу Атлантического океана сформировался новый народ – АМЕРИКАНЦ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F9D2-9544-4680-8892-E9329C8D1B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/З: №22(п.1,2,4,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35A5-D21C-40D4-BC70-797A3D9D4B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previousslide"/>
          </p:cNvPr>
          <p:cNvSpPr/>
          <p:nvPr/>
        </p:nvSpPr>
        <p:spPr>
          <a:xfrm>
            <a:off x="76320" y="5791320"/>
            <a:ext cx="457200" cy="5094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400"/>
              <a:gd name="textAreaBottom" fmla="*/ 479880 h 509400"/>
            </a:gdLst>
            <a:ahLst/>
            <a:rect l="textAreaLeft" t="textAreaTop" r="textAreaRight" b="textAreaBottom"/>
            <a:pathLst>
              <a:path w="21600" h="24064">
                <a:moveTo>
                  <a:pt x="0" y="0"/>
                </a:moveTo>
                <a:lnTo>
                  <a:pt x="21600" y="0"/>
                </a:lnTo>
                <a:lnTo>
                  <a:pt x="21600" y="24064"/>
                </a:lnTo>
                <a:lnTo>
                  <a:pt x="0" y="24064"/>
                </a:lnTo>
                <a:close/>
              </a:path>
              <a:path fill="lightenLess" w="21600" h="240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64">
                <a:moveTo>
                  <a:pt x="21600" y="0"/>
                </a:moveTo>
                <a:lnTo>
                  <a:pt x="21600" y="24064"/>
                </a:lnTo>
                <a:lnTo>
                  <a:pt x="20200" y="22664"/>
                </a:lnTo>
                <a:lnTo>
                  <a:pt x="20200" y="1400"/>
                </a:lnTo>
                <a:close/>
              </a:path>
              <a:path fill="darkenLess" w="21600" h="24064">
                <a:moveTo>
                  <a:pt x="21600" y="24064"/>
                </a:moveTo>
                <a:lnTo>
                  <a:pt x="0" y="24064"/>
                </a:lnTo>
                <a:lnTo>
                  <a:pt x="1400" y="22664"/>
                </a:lnTo>
                <a:lnTo>
                  <a:pt x="20200" y="22664"/>
                </a:lnTo>
                <a:close/>
              </a:path>
              <a:path fill="lighten" w="21600" h="24064">
                <a:moveTo>
                  <a:pt x="0" y="240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64"/>
                </a:lnTo>
                <a:close/>
              </a:path>
              <a:path fill="darken" w="21600" h="24064">
                <a:moveTo>
                  <a:pt x="3794" y="12032"/>
                </a:moveTo>
                <a:lnTo>
                  <a:pt x="17806" y="5026"/>
                </a:lnTo>
                <a:lnTo>
                  <a:pt x="17806" y="1903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680" y="565200"/>
            <a:ext cx="64123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МЕТРОПОЛИЯ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ГОСУДАРСТВО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ЖИТЕЛИ КОТОРОГ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СНОВАЛИ КОЛОН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4724280"/>
            <a:ext cx="1655640" cy="131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D29F-B5E2-4483-B6BB-67668D7E6C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332000" y="333360"/>
            <a:ext cx="6553080" cy="38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395280" y="47149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В 1607г на территории будущей Виргинии было основано первое постоянное английское посе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4F01-B585-4129-9E55-7D6D0B3007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НОВЫЕ ЗЕМЛИ ОСВАИВА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Крестьян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потерявшие землю в следствии огораживания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Бедняк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Безработная молодёж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Пуритан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надеясь найти убежищ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Преступник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высланные за пределы своей стран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FF7E-600E-4996-8D33-4BBBE3FBD8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0920" y="3284640"/>
            <a:ext cx="4465440" cy="3344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50920" y="404640"/>
            <a:ext cx="4465440" cy="2376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88000" y="393840"/>
            <a:ext cx="403200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В 1620г корабль «Мэйфлауэр» (Майский цветок») высадил группу из 102 пуритан (отцов –пилигримов-странствующий богомолец), бежавших от религиозных преследова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3BE5-0D8D-491C-8C29-43CC1F74AC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8000" y="1773360"/>
            <a:ext cx="3671640" cy="2087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зовалось 13 коло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76720" cy="665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BD11-CFB4-4CDB-91FE-45F34B0FEB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3753000" cy="5124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427640" y="836640"/>
            <a:ext cx="4248000" cy="101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66"/>
                </a:solidFill>
                <a:latin typeface="Times New Roman"/>
              </a:rPr>
              <a:t>Индейские плем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66"/>
                </a:solidFill>
                <a:latin typeface="Times New Roman"/>
              </a:rPr>
              <a:t>ирокезы и алгонки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9F60-DD0F-49BB-A19A-FE52CA6562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6880" y="581040"/>
            <a:ext cx="77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Arial Black"/>
              </a:rPr>
              <a:t>СЕВЕРНЫЕ 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9810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РЫБНЫЙ ПРОМЫСЕЛ МОРЕПЛАВ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РЕМЁСЛ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МАНУФАКТУ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ФЕРМ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previousslide"/>
          </p:cNvPr>
          <p:cNvSpPr/>
          <p:nvPr/>
        </p:nvSpPr>
        <p:spPr>
          <a:xfrm>
            <a:off x="76320" y="5715000"/>
            <a:ext cx="457200" cy="509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760"/>
              <a:gd name="textAreaBottom" fmla="*/ 480240 h 509760"/>
            </a:gdLst>
            <a:ahLst/>
            <a:rect l="textAreaLeft" t="textAreaTop" r="textAreaRight" b="textAreaBottom"/>
            <a:pathLst>
              <a:path w="21600" h="24081">
                <a:moveTo>
                  <a:pt x="0" y="0"/>
                </a:moveTo>
                <a:lnTo>
                  <a:pt x="21600" y="0"/>
                </a:lnTo>
                <a:lnTo>
                  <a:pt x="21600" y="24081"/>
                </a:lnTo>
                <a:lnTo>
                  <a:pt x="0" y="24081"/>
                </a:lnTo>
                <a:close/>
              </a:path>
              <a:path fill="lightenLess" w="21600" h="24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1">
                <a:moveTo>
                  <a:pt x="21600" y="0"/>
                </a:moveTo>
                <a:lnTo>
                  <a:pt x="21600" y="24081"/>
                </a:lnTo>
                <a:lnTo>
                  <a:pt x="20200" y="22681"/>
                </a:lnTo>
                <a:lnTo>
                  <a:pt x="20200" y="1400"/>
                </a:lnTo>
                <a:close/>
              </a:path>
              <a:path fill="darkenLess" w="21600" h="24081">
                <a:moveTo>
                  <a:pt x="21600" y="24081"/>
                </a:moveTo>
                <a:lnTo>
                  <a:pt x="0" y="24081"/>
                </a:lnTo>
                <a:lnTo>
                  <a:pt x="1400" y="22681"/>
                </a:lnTo>
                <a:lnTo>
                  <a:pt x="20200" y="22681"/>
                </a:lnTo>
                <a:close/>
              </a:path>
              <a:path fill="lighten" w="21600" h="24081">
                <a:moveTo>
                  <a:pt x="0" y="24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1"/>
                </a:lnTo>
                <a:close/>
              </a:path>
              <a:path fill="darken" w="21600" h="24081">
                <a:moveTo>
                  <a:pt x="3794" y="12041"/>
                </a:moveTo>
                <a:lnTo>
                  <a:pt x="17806" y="5034"/>
                </a:lnTo>
                <a:lnTo>
                  <a:pt x="17806" y="19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EC1E-5BD6-4F8B-838F-715589FCE8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7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125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54200" y="411120"/>
            <a:ext cx="761796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Arial Black"/>
              </a:rPr>
              <a:t>ЦЕНТРАЛЬНЫЕ КОЛОН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7360" y="2003400"/>
            <a:ext cx="766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ФЕРМЕРСКОЕ ХОЗЯЙ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РЕМЁС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АБЛЕСТРО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76320" y="5638680"/>
            <a:ext cx="457200" cy="509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760"/>
              <a:gd name="textAreaBottom" fmla="*/ 480240 h 509760"/>
            </a:gdLst>
            <a:ahLst/>
            <a:rect l="textAreaLeft" t="textAreaTop" r="textAreaRight" b="textAreaBottom"/>
            <a:pathLst>
              <a:path w="21600" h="24081">
                <a:moveTo>
                  <a:pt x="0" y="0"/>
                </a:moveTo>
                <a:lnTo>
                  <a:pt x="21600" y="0"/>
                </a:lnTo>
                <a:lnTo>
                  <a:pt x="21600" y="24081"/>
                </a:lnTo>
                <a:lnTo>
                  <a:pt x="0" y="24081"/>
                </a:lnTo>
                <a:close/>
              </a:path>
              <a:path fill="lightenLess" w="21600" h="24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1">
                <a:moveTo>
                  <a:pt x="21600" y="0"/>
                </a:moveTo>
                <a:lnTo>
                  <a:pt x="21600" y="24081"/>
                </a:lnTo>
                <a:lnTo>
                  <a:pt x="20200" y="22681"/>
                </a:lnTo>
                <a:lnTo>
                  <a:pt x="20200" y="1400"/>
                </a:lnTo>
                <a:close/>
              </a:path>
              <a:path fill="darkenLess" w="21600" h="24081">
                <a:moveTo>
                  <a:pt x="21600" y="24081"/>
                </a:moveTo>
                <a:lnTo>
                  <a:pt x="0" y="24081"/>
                </a:lnTo>
                <a:lnTo>
                  <a:pt x="1400" y="22681"/>
                </a:lnTo>
                <a:lnTo>
                  <a:pt x="20200" y="22681"/>
                </a:lnTo>
                <a:close/>
              </a:path>
              <a:path fill="lighten" w="21600" h="24081">
                <a:moveTo>
                  <a:pt x="0" y="24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1"/>
                </a:lnTo>
                <a:close/>
              </a:path>
              <a:path fill="darken" w="21600" h="24081">
                <a:moveTo>
                  <a:pt x="3794" y="12041"/>
                </a:moveTo>
                <a:lnTo>
                  <a:pt x="17806" y="5034"/>
                </a:lnTo>
                <a:lnTo>
                  <a:pt x="17806" y="19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38F6-44E1-41E1-A1A2-42BEBBBC5C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35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75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8T14:26:04Z</dcterms:created>
  <dc:creator>Галкина</dc:creator>
  <dc:description/>
  <dc:language>en-US</dc:language>
  <cp:lastModifiedBy>Sanek</cp:lastModifiedBy>
  <dcterms:modified xsi:type="dcterms:W3CDTF">2010-11-24T14:30:45Z</dcterms:modified>
  <cp:revision>21</cp:revision>
  <dc:subject/>
  <dc:title>Заголовок слайда отсутству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50000000000010250300207f7000400038000</vt:lpwstr>
  </property>
</Properties>
</file>