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529-0B40-45CC-8518-F172ECF1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7F09-FE78-4BEC-AD31-EEFB943D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702-FE6B-47AE-9DB3-EC5A89AB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9EE-0C99-4E42-9412-EAC0A727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3541-BB4A-47F7-80D2-C6F5B018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17D-4E89-4902-9B22-2BDC60C6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F80-0800-43CA-B049-C70146A1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DBA-7905-4232-8FE1-CEDF263F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6BA-5C0F-4CAF-A85D-1A7B3DAB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74F-93AE-4AC1-9639-A81BB79B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79EA-CF98-4A8A-9C6A-66493BDD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0083-C39E-46F7-ACEE-8388D044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A96B-1794-44EC-8320-6571012BFB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Английск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в Северной Амери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56000" y="2924280"/>
            <a:ext cx="3372120" cy="32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CA1-FBAE-4DCC-B068-EAA28A97AA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9360" y="368280"/>
            <a:ext cx="6984000" cy="91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 Black"/>
              </a:rPr>
              <a:t>ЮЖ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2120" y="1800360"/>
            <a:ext cx="6694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ЛАНТАЦИОННО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ХОЗЯЙСТВОВО 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РИМЕНЕНИ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ТРУ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НЕГРОВ-РАБ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27F-C13C-44C2-93B3-D9CB08D6F2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Управление колония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4000" y="1600200"/>
            <a:ext cx="8562240" cy="2520360"/>
            <a:chOff x="324000" y="1600200"/>
            <a:chExt cx="8562240" cy="2520360"/>
          </a:xfrm>
        </p:grpSpPr>
        <p:cxnSp>
          <p:nvCxnSpPr>
            <p:cNvPr id="73" name="_s25619"/>
            <p:cNvCxnSpPr>
              <a:stCxn id="74" idx="0"/>
              <a:endCxn id="75" idx="2"/>
            </p:cNvCxnSpPr>
            <p:nvPr/>
          </p:nvCxnSpPr>
          <p:spPr>
            <a:xfrm flipV="1" rot="16200000">
              <a:off x="5645520" y="1904400"/>
              <a:ext cx="171360" cy="224712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5617"/>
            <p:cNvCxnSpPr>
              <a:stCxn id="77" idx="0"/>
              <a:endCxn id="75" idx="2"/>
            </p:cNvCxnSpPr>
            <p:nvPr/>
          </p:nvCxnSpPr>
          <p:spPr>
            <a:xfrm flipH="1" flipV="1" rot="5400000">
              <a:off x="3397320" y="1903320"/>
              <a:ext cx="171360" cy="225000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5612"/>
            <p:cNvCxnSpPr>
              <a:stCxn id="75" idx="0"/>
              <a:endCxn id="79" idx="2"/>
            </p:cNvCxnSpPr>
            <p:nvPr/>
          </p:nvCxnSpPr>
          <p:spPr>
            <a:xfrm flipV="1" rot="16200000">
              <a:off x="4520520" y="2255040"/>
              <a:ext cx="171360" cy="324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25607"/>
            <p:cNvSpPr/>
            <p:nvPr/>
          </p:nvSpPr>
          <p:spPr>
            <a:xfrm>
              <a:off x="2988720" y="1600200"/>
              <a:ext cx="3232440" cy="542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cc"/>
                  </a:solidFill>
                  <a:latin typeface="Times New Roman"/>
                </a:rPr>
                <a:t>Губернатор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25609"/>
            <p:cNvSpPr/>
            <p:nvPr/>
          </p:nvSpPr>
          <p:spPr>
            <a:xfrm>
              <a:off x="1748520" y="2371680"/>
              <a:ext cx="5715360" cy="54252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993300"/>
                  </a:solidFill>
                  <a:latin typeface="Times New Roman"/>
                </a:rPr>
                <a:t>Колониальная ассамбле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25616"/>
            <p:cNvSpPr/>
            <p:nvPr/>
          </p:nvSpPr>
          <p:spPr>
            <a:xfrm>
              <a:off x="324000" y="3143160"/>
              <a:ext cx="406584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ерхняя палата – Совет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ристократ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25618"/>
            <p:cNvSpPr/>
            <p:nvPr/>
          </p:nvSpPr>
          <p:spPr>
            <a:xfrm>
              <a:off x="4820040" y="3143160"/>
              <a:ext cx="406620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ижняя палата –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ыборный орган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естной вла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C23-65B2-4CB6-877E-B38CBFD707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705800" cy="1295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Начало формирования североамериканской нации к середине 18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B14-217C-4F72-9781-5052E1B4EA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15955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Идеология американского общества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стр.202-2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3CA8-8874-4F7A-A393-51FE4A49B3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нфликты с метрополие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D06-137C-4CC9-BE25-0322097EEE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CE3-F86B-4DF8-978F-7D864ED0AE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062920" cy="4249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Англичане не заметили, что на другом берегу Атлантического океана сформировался новый народ – АМЕРИКАНЦ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424-46A8-467E-AF71-FF07B6C6E5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/З: №22(п.1,2,4,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E12-70BE-4F84-81A7-E3F84FA73E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76320" y="5791320"/>
            <a:ext cx="457200" cy="5094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400"/>
              <a:gd name="textAreaBottom" fmla="*/ 479880 h 509400"/>
            </a:gdLst>
            <a:ahLst/>
            <a:rect l="textAreaLeft" t="textAreaTop" r="textAreaRight" b="textAreaBottom"/>
            <a:pathLst>
              <a:path w="21600" h="24064">
                <a:moveTo>
                  <a:pt x="0" y="0"/>
                </a:moveTo>
                <a:lnTo>
                  <a:pt x="21600" y="0"/>
                </a:lnTo>
                <a:lnTo>
                  <a:pt x="21600" y="24064"/>
                </a:lnTo>
                <a:lnTo>
                  <a:pt x="0" y="24064"/>
                </a:lnTo>
                <a:close/>
              </a:path>
              <a:path fill="lightenLess" w="21600" h="240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64">
                <a:moveTo>
                  <a:pt x="21600" y="0"/>
                </a:moveTo>
                <a:lnTo>
                  <a:pt x="21600" y="24064"/>
                </a:lnTo>
                <a:lnTo>
                  <a:pt x="20200" y="22664"/>
                </a:lnTo>
                <a:lnTo>
                  <a:pt x="20200" y="1400"/>
                </a:lnTo>
                <a:close/>
              </a:path>
              <a:path fill="darkenLess" w="21600" h="24064">
                <a:moveTo>
                  <a:pt x="21600" y="24064"/>
                </a:moveTo>
                <a:lnTo>
                  <a:pt x="0" y="24064"/>
                </a:lnTo>
                <a:lnTo>
                  <a:pt x="1400" y="22664"/>
                </a:lnTo>
                <a:lnTo>
                  <a:pt x="20200" y="22664"/>
                </a:lnTo>
                <a:close/>
              </a:path>
              <a:path fill="lighten" w="21600" h="24064">
                <a:moveTo>
                  <a:pt x="0" y="240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64"/>
                </a:lnTo>
                <a:close/>
              </a:path>
              <a:path fill="darken" w="21600" h="24064">
                <a:moveTo>
                  <a:pt x="3794" y="12032"/>
                </a:moveTo>
                <a:lnTo>
                  <a:pt x="17806" y="5026"/>
                </a:lnTo>
                <a:lnTo>
                  <a:pt x="17806" y="1903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680" y="565200"/>
            <a:ext cx="6412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МЕТРОПОЛИЯ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СУДАРСТВ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ЖИТЕЛИ КОТОР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НОВАЛИ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724280"/>
            <a:ext cx="1655640" cy="13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876-AF6E-45D0-BDD6-D266DE3A80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55308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95280" y="47149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В 1607г на территории будущей Виргинии было основано первое постоянное английское по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4A8-56CE-4DB8-882D-B2377EB810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ОВЫЕ ЗЕМЛИ ОСВАИВА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Крестья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потерявшие землю в следствии огоражива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дня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зработная молодёж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урита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надеясь найти убежищ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реступни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высланные за пределы своей стра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104-F89E-4A16-9E32-7C46AF0A2F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4465440" cy="33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4465440" cy="23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393840"/>
            <a:ext cx="40320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1620г корабль «Мэйфлауэр» (Майский цветок») высадил группу из 102 пуритан (отцов –пилигримов-странствующий богомолец), бежавших от религиозных преследов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C80-6001-4A1A-B8F0-4853C45415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671640" cy="208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овалось 13 коло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66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DC9-7912-4708-817A-571F2E486A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3753000" cy="512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27640" y="836640"/>
            <a:ext cx="424800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ндейские пле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рокезы и алгонк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7C5F-285A-40C7-A38F-6AA0C82112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6880" y="58104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ЕВЕР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810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ЫБНЫЙ ПРОМЫСЕЛ МОРЕПЛА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МАНУФАК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ФЕРМ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BD8-9BF9-4E66-BE05-079CDEED5D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25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4200" y="411120"/>
            <a:ext cx="76179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ЦЕНТРАЛЬНЫЕ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360" y="2003400"/>
            <a:ext cx="766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ФЕРМЕРСКОЕ ХОЗЯЙ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АБЛЕСТРО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67BA-ECBC-4994-ABF1-7A70D5F164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5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4:26:04Z</dcterms:created>
  <dc:creator>Галкина</dc:creator>
  <dc:description/>
  <dc:language>en-US</dc:language>
  <cp:lastModifiedBy>Sanek</cp:lastModifiedBy>
  <dcterms:modified xsi:type="dcterms:W3CDTF">2010-11-24T14:30:45Z</dcterms:modified>
  <cp:revision>21</cp:revision>
  <dc:subject/>
  <dc:title>Заголовок слайда отсутству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50000000000010250300207f7000400038000</vt:lpwstr>
  </property>
</Properties>
</file>