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47E-8865-4E72-A310-39979BCE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093-87CC-4FC7-8829-1BE4BAB3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39A-C423-426A-86C2-A2C7FB98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6DF-6345-4380-9A6B-773F15A6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845C-F598-4918-8B20-938BE440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24F9-4430-460C-80C9-2188A72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7B61-59F1-4876-908B-C7D9BF4D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EB87-34D6-4F2C-8FF3-1496272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9181-1B0D-4786-AB66-DB7E00A5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FA8C-E827-4ACF-9EF8-A20F7573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8023-E339-48BA-92D0-BBF69D2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63A-6D37-4A03-A075-7A0F27CA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A816-3BF6-426B-A4DB-8B73A28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FF9-B9B3-4576-9AE7-7DE3047F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49E2-538C-49FB-829D-40A99774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7CB8-2E0D-4329-B6A0-AC6EEA7A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CB93-DD13-42B2-942B-04AE4AEA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A3C-7721-414F-AF32-C7F27520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4D9-7938-426B-8254-36C0D0E3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E16-3958-4653-89B7-6E7DAFBB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6DB-4C7A-47BF-A061-066B5D01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20B-83B3-4662-BB52-499876A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8E0-7EC4-421A-AE40-A5CB5736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33F-FC43-4176-809E-B32C72FD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A37D-F12F-441F-B24F-72E6517475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68D8-85F3-4650-BFC0-9A4EC95AF5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Сказки Пушкина"/>
          <p:cNvPicPr/>
          <p:nvPr/>
        </p:nvPicPr>
        <p:blipFill>
          <a:blip r:embed="rId1"/>
          <a:stretch/>
        </p:blipFill>
        <p:spPr>
          <a:xfrm>
            <a:off x="6172200" y="762120"/>
            <a:ext cx="13809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Знатоки сказок Александра Сергеевича Пушк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0" y="3657600"/>
            <a:ext cx="5181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ПОРТ"/>
          <p:cNvPicPr/>
          <p:nvPr/>
        </p:nvPicPr>
        <p:blipFill>
          <a:blip r:embed="rId2"/>
          <a:stretch/>
        </p:blipFill>
        <p:spPr>
          <a:xfrm>
            <a:off x="2590920" y="0"/>
            <a:ext cx="3066840" cy="3505320"/>
          </a:xfrm>
          <a:prstGeom prst="rect">
            <a:avLst/>
          </a:prstGeom>
          <a:ln w="38160">
            <a:solidFill>
              <a:srgbClr val="7000e0"/>
            </a:solidFill>
            <a:miter/>
          </a:ln>
        </p:spPr>
      </p:pic>
      <p:pic>
        <p:nvPicPr>
          <p:cNvPr id="124" name="Picture 6" descr="Сказка о Царе Салтане"/>
          <p:cNvPicPr/>
          <p:nvPr/>
        </p:nvPicPr>
        <p:blipFill>
          <a:blip r:embed="rId3"/>
          <a:stretch/>
        </p:blipFill>
        <p:spPr>
          <a:xfrm>
            <a:off x="533520" y="609480"/>
            <a:ext cx="1736640" cy="227664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125" name="Прямоугольник 8"/>
          <p:cNvSpPr/>
          <p:nvPr/>
        </p:nvSpPr>
        <p:spPr>
          <a:xfrm>
            <a:off x="5334120" y="3886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на Васильевна Лоретц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У «СОШ №17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Краснотурьинс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вердлов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. Кем приходится сватья баба Бобориха царю Гвидону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одной бабушк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"А царевич хоть и зл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ой бабушки своей"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О ЦАРЕ"/>
          <p:cNvPicPr/>
          <p:nvPr/>
        </p:nvPicPr>
        <p:blipFill>
          <a:blip r:embed="rId1"/>
          <a:stretch/>
        </p:blipFill>
        <p:spPr>
          <a:xfrm>
            <a:off x="457200" y="3886200"/>
            <a:ext cx="3429000" cy="2557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5" name="Picture 5" descr="сказка о царе"/>
          <p:cNvPicPr/>
          <p:nvPr/>
        </p:nvPicPr>
        <p:blipFill>
          <a:blip r:embed="rId2"/>
          <a:stretch/>
        </p:blipFill>
        <p:spPr>
          <a:xfrm>
            <a:off x="5257800" y="1752480"/>
            <a:ext cx="3600360" cy="48006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0.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   Добрым молодцам урок.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О ЗОЛОТОМ"/>
          <p:cNvPicPr/>
          <p:nvPr/>
        </p:nvPicPr>
        <p:blipFill>
          <a:blip r:embed="rId1"/>
          <a:stretch/>
        </p:blipFill>
        <p:spPr>
          <a:xfrm>
            <a:off x="4800600" y="3200400"/>
            <a:ext cx="3581280" cy="29685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9" name="Picture 6" descr="ЦАРЬ В ПЕТУШКЕ"/>
          <p:cNvPicPr/>
          <p:nvPr/>
        </p:nvPicPr>
        <p:blipFill>
          <a:blip r:embed="rId2"/>
          <a:stretch/>
        </p:blipFill>
        <p:spPr>
          <a:xfrm>
            <a:off x="990720" y="3124080"/>
            <a:ext cx="3112920" cy="3124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Назовите сказки А.С.Пушк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52568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золотом петуш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мертвой царевне и о сем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гатырях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попе и о работнике его Балд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рыбаке и рыб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царе Салта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 сыне его славном и могучем богатыре князе Гвидоне Салтановиче и о прекрасной царевне Лебеди»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Что спрашивала у старика рыбка, являясь на зов, и как он ей отвечал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Что тебе надобно старче?"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Смилуйся государыня рыбка!..,"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О РЫБАКЕ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3146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2" name="Picture 5" descr="СТАРУХЕ В РЫБКЕ"/>
          <p:cNvPicPr/>
          <p:nvPr/>
        </p:nvPicPr>
        <p:blipFill>
          <a:blip r:embed="rId2"/>
          <a:stretch/>
        </p:blipFill>
        <p:spPr>
          <a:xfrm>
            <a:off x="4952880" y="3276720"/>
            <a:ext cx="3886200" cy="33289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"...в год затри щелчка полбу..."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.Какую плату назначил Балда за свою работу у попа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СКАЗКА О ПОПЕ"/>
          <p:cNvPicPr/>
          <p:nvPr/>
        </p:nvPicPr>
        <p:blipFill>
          <a:blip r:embed="rId1"/>
          <a:stretch/>
        </p:blipFill>
        <p:spPr>
          <a:xfrm>
            <a:off x="380880" y="1905120"/>
            <a:ext cx="2598840" cy="47242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В кого превращался князь Гвидон, когда летал в царство Салта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 комара, муху, шмел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Ц-САЛТ"/>
          <p:cNvPicPr/>
          <p:nvPr/>
        </p:nvPicPr>
        <p:blipFill>
          <a:blip r:embed="rId1"/>
          <a:stretch/>
        </p:blipFill>
        <p:spPr>
          <a:xfrm>
            <a:off x="380880" y="3429000"/>
            <a:ext cx="3657600" cy="28843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9" name="Picture 7" descr="комар"/>
          <p:cNvPicPr/>
          <p:nvPr/>
        </p:nvPicPr>
        <p:blipFill>
          <a:blip r:embed="rId2"/>
          <a:stretch/>
        </p:blipFill>
        <p:spPr>
          <a:xfrm>
            <a:off x="4419720" y="3429000"/>
            <a:ext cx="4343400" cy="2898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. От кого князь Гвидон спас царевну Лебедь?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т чароде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коршун"/>
          <p:cNvPicPr/>
          <p:nvPr/>
        </p:nvPicPr>
        <p:blipFill>
          <a:blip r:embed="rId1"/>
          <a:stretch/>
        </p:blipFill>
        <p:spPr>
          <a:xfrm>
            <a:off x="4648320" y="1676520"/>
            <a:ext cx="3714480" cy="49528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6. Как звали пса, который сторожил терем семи богатырей?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окол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соколко"/>
          <p:cNvPicPr/>
          <p:nvPr/>
        </p:nvPicPr>
        <p:blipFill>
          <a:blip r:embed="rId1"/>
          <a:stretch/>
        </p:blipFill>
        <p:spPr>
          <a:xfrm>
            <a:off x="4038480" y="1752480"/>
            <a:ext cx="3179880" cy="47246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. Кто был верным сторожем царя Дадо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47" name="Picture 3" descr="ЗОЛОТОЙ ПЕТУХ"/>
          <p:cNvPicPr/>
          <p:nvPr/>
        </p:nvPicPr>
        <p:blipFill>
          <a:blip r:embed="rId1"/>
          <a:stretch/>
        </p:blipFill>
        <p:spPr>
          <a:xfrm>
            <a:off x="4114800" y="2438280"/>
            <a:ext cx="4105440" cy="3303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837720" y="2742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тушо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. Какие слова обычно кричал золотой петушок, предупреждая об опасности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ири-ку-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арствуй, лежа на боку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ЦАРЬ В ПЕТУШКЕ"/>
          <p:cNvPicPr/>
          <p:nvPr/>
        </p:nvPicPr>
        <p:blipFill>
          <a:blip r:embed="rId1"/>
          <a:stretch/>
        </p:blipFill>
        <p:spPr>
          <a:xfrm>
            <a:off x="4267080" y="3733920"/>
            <a:ext cx="2886120" cy="28954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9-11T10:02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d0000000000010243100207f6000400038000</vt:lpwstr>
  </property>
  <property fmtid="{D5CDD505-2E9C-101B-9397-08002B2CF9AE}" pid="3" name="Version">
    <vt:r8>1</vt:r8>
  </property>
</Properties>
</file>