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68F-AC88-40E8-A78C-5F658421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2FE-1730-4538-9FFF-C2151EDF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0C9-34FC-4908-BD62-91531EE4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B11-1006-4119-99BF-F7911428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051E-ADE7-4EBB-9FB4-D80F0637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F1AC-7118-46E7-AB59-4D8E9484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559E-5EC8-4292-B4E4-4A53FBA7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D928-88CF-4561-8AE8-EC6D9F19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F3B5-BA8A-4557-949C-D7D4D5D0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C420-A1EF-4938-AAF3-869C97C0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BE48-CB90-4ED3-881A-FDFC5CA9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95ED-B099-48B3-8C9A-84D9D329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8023-FC4E-4753-B919-95444A69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B7CF-A48C-468D-9AD3-04C3C3D3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FC59-23FF-4CC9-9A19-58678C59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68F2-B760-4692-A84E-D563DE02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9EB2-FDB1-4130-BD5D-B951D4E1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F52-D44A-43EB-B040-DC122D0A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6B1E-63C8-44A5-8FE7-A96E726D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276-2BD9-413C-B6FB-BF34120A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70A-598D-4CA4-B12E-F6A5EC9A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CD2-FCDF-4C7F-B432-A126AA91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5E7-C3F4-4C49-B79B-0BEF3E16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455-8782-482C-9BE8-60D4ACF7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8C50-659B-4CF4-B87C-128FFF427D2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1862-1AAA-4ED9-B2B4-308E19F59B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Сказки Пушкина"/>
          <p:cNvPicPr/>
          <p:nvPr/>
        </p:nvPicPr>
        <p:blipFill>
          <a:blip r:embed="rId1"/>
          <a:stretch/>
        </p:blipFill>
        <p:spPr>
          <a:xfrm>
            <a:off x="6172200" y="762120"/>
            <a:ext cx="1380960" cy="1904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52280" y="3657600"/>
            <a:ext cx="5181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Знатоки сказок Александра Сергеевича Пушкин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0" y="3657600"/>
            <a:ext cx="5181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5" descr="ПОРТ"/>
          <p:cNvPicPr/>
          <p:nvPr/>
        </p:nvPicPr>
        <p:blipFill>
          <a:blip r:embed="rId2"/>
          <a:stretch/>
        </p:blipFill>
        <p:spPr>
          <a:xfrm>
            <a:off x="2590920" y="0"/>
            <a:ext cx="3066840" cy="3505320"/>
          </a:xfrm>
          <a:prstGeom prst="rect">
            <a:avLst/>
          </a:prstGeom>
          <a:ln w="38160">
            <a:solidFill>
              <a:srgbClr val="7000e0"/>
            </a:solidFill>
            <a:miter/>
          </a:ln>
        </p:spPr>
      </p:pic>
      <p:pic>
        <p:nvPicPr>
          <p:cNvPr id="124" name="Picture 6" descr="Сказка о Царе Салтане"/>
          <p:cNvPicPr/>
          <p:nvPr/>
        </p:nvPicPr>
        <p:blipFill>
          <a:blip r:embed="rId3"/>
          <a:stretch/>
        </p:blipFill>
        <p:spPr>
          <a:xfrm>
            <a:off x="533520" y="609480"/>
            <a:ext cx="1736640" cy="227664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sp>
        <p:nvSpPr>
          <p:cNvPr id="125" name="Прямоугольник 8"/>
          <p:cNvSpPr/>
          <p:nvPr/>
        </p:nvSpPr>
        <p:spPr>
          <a:xfrm>
            <a:off x="5334120" y="388620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нна Васильевна Лоретц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учитель начальных классов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ОУ «СОШ №17»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Г. Краснотурьинск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вердловская обла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9. Кем приходится сватья баба Бобориха царю Гвидону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одной бабушко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"А царевич хоть и злитс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рой бабушки своей"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О ЦАРЕ"/>
          <p:cNvPicPr/>
          <p:nvPr/>
        </p:nvPicPr>
        <p:blipFill>
          <a:blip r:embed="rId1"/>
          <a:stretch/>
        </p:blipFill>
        <p:spPr>
          <a:xfrm>
            <a:off x="457200" y="3886200"/>
            <a:ext cx="3429000" cy="25574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55" name="Picture 5" descr="сказка о царе"/>
          <p:cNvPicPr/>
          <p:nvPr/>
        </p:nvPicPr>
        <p:blipFill>
          <a:blip r:embed="rId2"/>
          <a:stretch/>
        </p:blipFill>
        <p:spPr>
          <a:xfrm>
            <a:off x="5257800" y="1752480"/>
            <a:ext cx="3600360" cy="48006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0.Сказка ложь, да в ней намёк!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   Добрым молодцам урок.</a:t>
            </a: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О ЗОЛОТОМ"/>
          <p:cNvPicPr/>
          <p:nvPr/>
        </p:nvPicPr>
        <p:blipFill>
          <a:blip r:embed="rId1"/>
          <a:stretch/>
        </p:blipFill>
        <p:spPr>
          <a:xfrm>
            <a:off x="4800600" y="3200400"/>
            <a:ext cx="3581280" cy="296856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59" name="Picture 6" descr="ЦАРЬ В ПЕТУШКЕ"/>
          <p:cNvPicPr/>
          <p:nvPr/>
        </p:nvPicPr>
        <p:blipFill>
          <a:blip r:embed="rId2"/>
          <a:stretch/>
        </p:blipFill>
        <p:spPr>
          <a:xfrm>
            <a:off x="990720" y="3124080"/>
            <a:ext cx="3112920" cy="31244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. Назовите сказки А.С.Пушки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28600" y="152568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золотом петуш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мертвой царевне и о семи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огатырях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попе и о работнике его Балд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рыбаке и рыб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царе Салтан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 сыне его славном и могучем богатыре князе Гвидоне Салтановиче и о прекрасной царевне Лебеди»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2. Что спрашивала у старика рыбка, являясь на зов, и как он ей отвечал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Что тебе надобно старче?" 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Смилуйся государыня рыбка!..,"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О РЫБАКЕ"/>
          <p:cNvPicPr/>
          <p:nvPr/>
        </p:nvPicPr>
        <p:blipFill>
          <a:blip r:embed="rId1"/>
          <a:stretch/>
        </p:blipFill>
        <p:spPr>
          <a:xfrm>
            <a:off x="609480" y="3429000"/>
            <a:ext cx="3886200" cy="31464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32" name="Picture 5" descr="СТАРУХЕ В РЫБКЕ"/>
          <p:cNvPicPr/>
          <p:nvPr/>
        </p:nvPicPr>
        <p:blipFill>
          <a:blip r:embed="rId2"/>
          <a:stretch/>
        </p:blipFill>
        <p:spPr>
          <a:xfrm>
            <a:off x="4952880" y="3276720"/>
            <a:ext cx="3886200" cy="33289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8640" y="1218960"/>
            <a:ext cx="525780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"...в год затри щелчка полбу..."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.Какую плату назначил Балда за свою работу у попа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СКАЗКА О ПОПЕ"/>
          <p:cNvPicPr/>
          <p:nvPr/>
        </p:nvPicPr>
        <p:blipFill>
          <a:blip r:embed="rId1"/>
          <a:stretch/>
        </p:blipFill>
        <p:spPr>
          <a:xfrm>
            <a:off x="380880" y="1905120"/>
            <a:ext cx="2598840" cy="47242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.В кого превращался князь Гвидон, когда летал в царство Салтана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В комара, муху, шмел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Ц-САЛТ"/>
          <p:cNvPicPr/>
          <p:nvPr/>
        </p:nvPicPr>
        <p:blipFill>
          <a:blip r:embed="rId1"/>
          <a:stretch/>
        </p:blipFill>
        <p:spPr>
          <a:xfrm>
            <a:off x="380880" y="3429000"/>
            <a:ext cx="3657600" cy="28843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39" name="Picture 7" descr="комар"/>
          <p:cNvPicPr/>
          <p:nvPr/>
        </p:nvPicPr>
        <p:blipFill>
          <a:blip r:embed="rId2"/>
          <a:stretch/>
        </p:blipFill>
        <p:spPr>
          <a:xfrm>
            <a:off x="4419720" y="3429000"/>
            <a:ext cx="4343400" cy="2898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5. От кого князь Гвидон спас царевну Лебедь?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т чароде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6" descr="коршун"/>
          <p:cNvPicPr/>
          <p:nvPr/>
        </p:nvPicPr>
        <p:blipFill>
          <a:blip r:embed="rId1"/>
          <a:stretch/>
        </p:blipFill>
        <p:spPr>
          <a:xfrm>
            <a:off x="4648320" y="1676520"/>
            <a:ext cx="3714480" cy="49528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6. Как звали пса, который сторожил терем семи богатырей?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окол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6" descr="соколко"/>
          <p:cNvPicPr/>
          <p:nvPr/>
        </p:nvPicPr>
        <p:blipFill>
          <a:blip r:embed="rId1"/>
          <a:stretch/>
        </p:blipFill>
        <p:spPr>
          <a:xfrm>
            <a:off x="4038480" y="1752480"/>
            <a:ext cx="3179880" cy="47246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7. Кто был верным сторожем царя Дадона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47" name="Picture 3" descr="ЗОЛОТОЙ ПЕТУХ"/>
          <p:cNvPicPr/>
          <p:nvPr/>
        </p:nvPicPr>
        <p:blipFill>
          <a:blip r:embed="rId1"/>
          <a:stretch/>
        </p:blipFill>
        <p:spPr>
          <a:xfrm>
            <a:off x="4114800" y="2438280"/>
            <a:ext cx="4105440" cy="3303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837720" y="2742120"/>
            <a:ext cx="285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тушо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8. Какие слова обычно кричал золотой петушок, предупреждая об опасности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ири-ку-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Царствуй, лежа на боку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ЦАРЬ В ПЕТУШКЕ"/>
          <p:cNvPicPr/>
          <p:nvPr/>
        </p:nvPicPr>
        <p:blipFill>
          <a:blip r:embed="rId1"/>
          <a:stretch/>
        </p:blipFill>
        <p:spPr>
          <a:xfrm>
            <a:off x="4267080" y="3733920"/>
            <a:ext cx="2886120" cy="28954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09-11T10:02:1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d0000000000010243100207f6000400038000</vt:lpwstr>
  </property>
  <property fmtid="{D5CDD505-2E9C-101B-9397-08002B2CF9AE}" pid="3" name="Version">
    <vt:r8>1</vt:r8>
  </property>
</Properties>
</file>