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F6C-2634-4C8B-854B-214154C8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655-A76A-4830-A86C-F3CF92B1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6C5-3239-476E-B741-6EC609E9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B42-E76D-4682-A106-1DB1BFC0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8DF2-08EE-4D24-B2AC-17A0EEC8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2A58-74EF-4076-B7DA-8CC8D1C7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5506-B28C-4279-B138-1AD445A7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37AA-12D7-49C0-B9B1-55E15320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1F37-474B-4310-90DD-DDD7A501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F973-71EA-4F4D-A852-043518DF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4D80-7CEE-471B-BE88-8FA52CFF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D85-BD39-474B-A840-5E65C685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85A5-4090-4F53-973C-F226EFEC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298E-B45D-4E8A-99F6-33E3E0F3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63B8-1A4E-4297-8D84-35A61A01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D4DD-B06A-4C3B-8200-D8EA3BE4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23E6-DF0F-4EEA-9CD8-46C969AA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3064-24B2-433A-8154-4218D366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30B-73D7-4A68-9DB0-1D792158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3F4-9C0A-44E8-990B-B2E78A16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420-4A82-4762-BDAF-18445A01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AE8-9101-48AA-98CA-644C6B7B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23E-1F7F-4C94-AE8E-0B3324CE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BB04-899E-41F3-B736-7E72AE0A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0B9C-B55F-4ED6-9917-21F833B6C5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3426-AB30-420B-AD88-FD0C08218E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Сказки Пушкина"/>
          <p:cNvPicPr/>
          <p:nvPr/>
        </p:nvPicPr>
        <p:blipFill>
          <a:blip r:embed="rId1"/>
          <a:stretch/>
        </p:blipFill>
        <p:spPr>
          <a:xfrm>
            <a:off x="6172200" y="762120"/>
            <a:ext cx="1380960" cy="1904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52280" y="3657600"/>
            <a:ext cx="5181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Знатоки сказок Александра Сергеевича Пушкин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0" y="3657600"/>
            <a:ext cx="51814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5" descr="ПОРТ"/>
          <p:cNvPicPr/>
          <p:nvPr/>
        </p:nvPicPr>
        <p:blipFill>
          <a:blip r:embed="rId2"/>
          <a:stretch/>
        </p:blipFill>
        <p:spPr>
          <a:xfrm>
            <a:off x="2590920" y="0"/>
            <a:ext cx="3066840" cy="3505320"/>
          </a:xfrm>
          <a:prstGeom prst="rect">
            <a:avLst/>
          </a:prstGeom>
          <a:ln w="38160">
            <a:solidFill>
              <a:srgbClr val="7000e0"/>
            </a:solidFill>
            <a:miter/>
          </a:ln>
        </p:spPr>
      </p:pic>
      <p:pic>
        <p:nvPicPr>
          <p:cNvPr id="124" name="Picture 6" descr="Сказка о Царе Салтане"/>
          <p:cNvPicPr/>
          <p:nvPr/>
        </p:nvPicPr>
        <p:blipFill>
          <a:blip r:embed="rId3"/>
          <a:stretch/>
        </p:blipFill>
        <p:spPr>
          <a:xfrm>
            <a:off x="533520" y="609480"/>
            <a:ext cx="1736640" cy="227664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sp>
        <p:nvSpPr>
          <p:cNvPr id="125" name="Прямоугольник 8"/>
          <p:cNvSpPr/>
          <p:nvPr/>
        </p:nvSpPr>
        <p:spPr>
          <a:xfrm>
            <a:off x="5334120" y="388620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нна Васильевна Лоретц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учитель начальных классов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ОУ «СОШ №17»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Г. Краснотурьинск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вердловская обла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9. Кем приходится сватья баба Бобориха царю Гвидону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одной бабушко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"А царевич хоть и злитс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рой бабушки своей"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О ЦАРЕ"/>
          <p:cNvPicPr/>
          <p:nvPr/>
        </p:nvPicPr>
        <p:blipFill>
          <a:blip r:embed="rId1"/>
          <a:stretch/>
        </p:blipFill>
        <p:spPr>
          <a:xfrm>
            <a:off x="457200" y="3886200"/>
            <a:ext cx="3429000" cy="25574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55" name="Picture 5" descr="сказка о царе"/>
          <p:cNvPicPr/>
          <p:nvPr/>
        </p:nvPicPr>
        <p:blipFill>
          <a:blip r:embed="rId2"/>
          <a:stretch/>
        </p:blipFill>
        <p:spPr>
          <a:xfrm>
            <a:off x="5257800" y="1752480"/>
            <a:ext cx="3600360" cy="48006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0.Сказка ложь, да в ней намёк!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    Добрым молодцам урок.</a:t>
            </a:r>
            <a:br>
              <a:rPr sz="4000"/>
            </a:b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«Сказка о золотом петушк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О ЗОЛОТОМ"/>
          <p:cNvPicPr/>
          <p:nvPr/>
        </p:nvPicPr>
        <p:blipFill>
          <a:blip r:embed="rId1"/>
          <a:stretch/>
        </p:blipFill>
        <p:spPr>
          <a:xfrm>
            <a:off x="4800600" y="3200400"/>
            <a:ext cx="3581280" cy="296856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59" name="Picture 6" descr="ЦАРЬ В ПЕТУШКЕ"/>
          <p:cNvPicPr/>
          <p:nvPr/>
        </p:nvPicPr>
        <p:blipFill>
          <a:blip r:embed="rId2"/>
          <a:stretch/>
        </p:blipFill>
        <p:spPr>
          <a:xfrm>
            <a:off x="990720" y="3124080"/>
            <a:ext cx="3112920" cy="31244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. Назовите сказки А.С.Пушки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28600" y="1525680"/>
            <a:ext cx="876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золотом петушк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мертвой царевне и о семи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огатырях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попе и о работнике его Балд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рыбаке и рыбк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царе Салтан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 сыне его славном и могучем богатыре князе Гвидоне Салтановиче и о прекрасной царевне Лебеди»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2. Что спрашивала у старика рыбка, являясь на зов, и как он ей отвечал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"Что тебе надобно старче?" 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"Смилуйся государыня рыбка!..,"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О РЫБАКЕ"/>
          <p:cNvPicPr/>
          <p:nvPr/>
        </p:nvPicPr>
        <p:blipFill>
          <a:blip r:embed="rId1"/>
          <a:stretch/>
        </p:blipFill>
        <p:spPr>
          <a:xfrm>
            <a:off x="609480" y="3429000"/>
            <a:ext cx="3886200" cy="31464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32" name="Picture 5" descr="СТАРУХЕ В РЫБКЕ"/>
          <p:cNvPicPr/>
          <p:nvPr/>
        </p:nvPicPr>
        <p:blipFill>
          <a:blip r:embed="rId2"/>
          <a:stretch/>
        </p:blipFill>
        <p:spPr>
          <a:xfrm>
            <a:off x="4952880" y="3276720"/>
            <a:ext cx="3886200" cy="33289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8640" y="1218960"/>
            <a:ext cx="525780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"...в год затри щелчка полбу..." 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.Какую плату назначил Балда за свою работу у попа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СКАЗКА О ПОПЕ"/>
          <p:cNvPicPr/>
          <p:nvPr/>
        </p:nvPicPr>
        <p:blipFill>
          <a:blip r:embed="rId1"/>
          <a:stretch/>
        </p:blipFill>
        <p:spPr>
          <a:xfrm>
            <a:off x="380880" y="1905120"/>
            <a:ext cx="2598840" cy="47242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.В кого превращался князь Гвидон, когда летал в царство Салтана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В комара, муху, шмел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Ц-САЛТ"/>
          <p:cNvPicPr/>
          <p:nvPr/>
        </p:nvPicPr>
        <p:blipFill>
          <a:blip r:embed="rId1"/>
          <a:stretch/>
        </p:blipFill>
        <p:spPr>
          <a:xfrm>
            <a:off x="380880" y="3429000"/>
            <a:ext cx="3657600" cy="28843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39" name="Picture 7" descr="комар"/>
          <p:cNvPicPr/>
          <p:nvPr/>
        </p:nvPicPr>
        <p:blipFill>
          <a:blip r:embed="rId2"/>
          <a:stretch/>
        </p:blipFill>
        <p:spPr>
          <a:xfrm>
            <a:off x="4419720" y="3429000"/>
            <a:ext cx="4343400" cy="28987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5. От кого князь Гвидон спас царевну Лебедь?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т чароде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6" descr="коршун"/>
          <p:cNvPicPr/>
          <p:nvPr/>
        </p:nvPicPr>
        <p:blipFill>
          <a:blip r:embed="rId1"/>
          <a:stretch/>
        </p:blipFill>
        <p:spPr>
          <a:xfrm>
            <a:off x="4648320" y="1676520"/>
            <a:ext cx="3714480" cy="49528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6. Как звали пса, который сторожил терем семи богатырей? 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окол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6" descr="соколко"/>
          <p:cNvPicPr/>
          <p:nvPr/>
        </p:nvPicPr>
        <p:blipFill>
          <a:blip r:embed="rId1"/>
          <a:stretch/>
        </p:blipFill>
        <p:spPr>
          <a:xfrm>
            <a:off x="4038480" y="1752480"/>
            <a:ext cx="3179880" cy="47246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7. Кто был верным сторожем царя Дадона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47" name="Picture 3" descr="ЗОЛОТОЙ ПЕТУХ"/>
          <p:cNvPicPr/>
          <p:nvPr/>
        </p:nvPicPr>
        <p:blipFill>
          <a:blip r:embed="rId1"/>
          <a:stretch/>
        </p:blipFill>
        <p:spPr>
          <a:xfrm>
            <a:off x="4114800" y="2438280"/>
            <a:ext cx="4105440" cy="33037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sp>
        <p:nvSpPr>
          <p:cNvPr id="148" name="Rectangle 4"/>
          <p:cNvSpPr/>
          <p:nvPr/>
        </p:nvSpPr>
        <p:spPr>
          <a:xfrm>
            <a:off x="837720" y="2742120"/>
            <a:ext cx="285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етушо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8. Какие слова обычно кричал золотой петушок, предупреждая об опасности?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ири-ку-к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Царствуй, лежа на боку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ЦАРЬ В ПЕТУШКЕ"/>
          <p:cNvPicPr/>
          <p:nvPr/>
        </p:nvPicPr>
        <p:blipFill>
          <a:blip r:embed="rId1"/>
          <a:stretch/>
        </p:blipFill>
        <p:spPr>
          <a:xfrm>
            <a:off x="4267080" y="3733920"/>
            <a:ext cx="2886120" cy="28954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1-09-11T10:02:1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d0000000000010243100207f6000400038000</vt:lpwstr>
  </property>
  <property fmtid="{D5CDD505-2E9C-101B-9397-08002B2CF9AE}" pid="3" name="Version">
    <vt:r8>1</vt:r8>
  </property>
</Properties>
</file>