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42D-8641-4785-A138-E385F439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AFB-0B63-47B4-B574-572F66D8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DA3D-9A04-4212-9799-29CB6321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059-7DE9-4473-ADAE-1C7A48F8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8321-C7F7-4736-B398-A9BC8643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B55B-513B-497D-8BD6-95A2A69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C02E-995F-466E-A0E7-5F330ED6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96C0-0146-4DEB-BF37-50A19B9E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793D-C0C7-4A55-BFFD-9A49E3CF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388A-F3C0-4B10-BD06-62BF62A1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7F16-301D-4CB2-855D-6F35EF8B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B25-3CF2-4BD5-9250-356E0AD1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4F45-CE2D-40EA-94CB-40BC143B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DCC9-EFB7-4071-9EDA-16BD2A2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8B6A-C8C3-4342-828C-BFFD34B5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4D53-63B1-4911-BDFD-988835F3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7C36-B789-4553-9A81-C505E993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496-3AAF-42F5-9D87-5A7554A4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AC49-1201-4FF0-B8E5-5E01CFE9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483-C264-4FF8-8607-E188AE43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DF0-66B5-4B7F-84E7-F059D350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FD21-1D0B-45FA-9478-6BB794B4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314-DF70-4B31-A158-210409CC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98A-ADA9-4649-AAE3-7B806D2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A6B-9024-45D9-900A-C66614BFC1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00ae"/>
            </a:gs>
            <a:gs pos="100000">
              <a:srgbClr val="7301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7301cb"/>
                </a:gs>
                <a:gs pos="100000">
                  <a:srgbClr val="3500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10062"/>
                </a:gs>
                <a:gs pos="100000">
                  <a:srgbClr val="5700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100000">
                  <a:srgbClr val="730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700ae"/>
                </a:gs>
                <a:gs pos="50000">
                  <a:srgbClr val="7301cb"/>
                </a:gs>
                <a:gs pos="100000">
                  <a:srgbClr val="5700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7000e0"/>
                </a:gs>
                <a:gs pos="100000">
                  <a:srgbClr val="730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5c5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610D-719B-430B-96D2-8BA4389543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Сказки Пушкина"/>
          <p:cNvPicPr/>
          <p:nvPr/>
        </p:nvPicPr>
        <p:blipFill>
          <a:blip r:embed="rId1"/>
          <a:stretch/>
        </p:blipFill>
        <p:spPr>
          <a:xfrm>
            <a:off x="6172200" y="762120"/>
            <a:ext cx="1380960" cy="1904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52280" y="3657600"/>
            <a:ext cx="5181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Знатоки сказок Александра Сергеевича Пушкин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0" y="3657600"/>
            <a:ext cx="51814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5" descr="ПОРТ"/>
          <p:cNvPicPr/>
          <p:nvPr/>
        </p:nvPicPr>
        <p:blipFill>
          <a:blip r:embed="rId2"/>
          <a:stretch/>
        </p:blipFill>
        <p:spPr>
          <a:xfrm>
            <a:off x="2590920" y="0"/>
            <a:ext cx="3066840" cy="3505320"/>
          </a:xfrm>
          <a:prstGeom prst="rect">
            <a:avLst/>
          </a:prstGeom>
          <a:ln w="38160">
            <a:solidFill>
              <a:srgbClr val="7000e0"/>
            </a:solidFill>
            <a:miter/>
          </a:ln>
        </p:spPr>
      </p:pic>
      <p:pic>
        <p:nvPicPr>
          <p:cNvPr id="124" name="Picture 6" descr="Сказка о Царе Салтане"/>
          <p:cNvPicPr/>
          <p:nvPr/>
        </p:nvPicPr>
        <p:blipFill>
          <a:blip r:embed="rId3"/>
          <a:stretch/>
        </p:blipFill>
        <p:spPr>
          <a:xfrm>
            <a:off x="533520" y="609480"/>
            <a:ext cx="1736640" cy="2276640"/>
          </a:xfrm>
          <a:prstGeom prst="rect">
            <a:avLst/>
          </a:prstGeom>
          <a:ln w="57240">
            <a:solidFill>
              <a:srgbClr val="ff9966"/>
            </a:solidFill>
            <a:miter/>
          </a:ln>
        </p:spPr>
      </p:pic>
      <p:sp>
        <p:nvSpPr>
          <p:cNvPr id="125" name="Прямоугольник 8"/>
          <p:cNvSpPr/>
          <p:nvPr/>
        </p:nvSpPr>
        <p:spPr>
          <a:xfrm>
            <a:off x="5334120" y="388620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нна Васильевна Лоретц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У «СОШ №17»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Г. Краснотурьинс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вердловская обл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9. Кем приходится сватья баба Бобориха царю Гвидону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одной бабушко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"А царевич хоть и зли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й бабушки своей"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4" descr="О ЦАРЕ"/>
          <p:cNvPicPr/>
          <p:nvPr/>
        </p:nvPicPr>
        <p:blipFill>
          <a:blip r:embed="rId1"/>
          <a:stretch/>
        </p:blipFill>
        <p:spPr>
          <a:xfrm>
            <a:off x="457200" y="3886200"/>
            <a:ext cx="3429000" cy="2557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5" name="Picture 5" descr="сказка о царе"/>
          <p:cNvPicPr/>
          <p:nvPr/>
        </p:nvPicPr>
        <p:blipFill>
          <a:blip r:embed="rId2"/>
          <a:stretch/>
        </p:blipFill>
        <p:spPr>
          <a:xfrm>
            <a:off x="5257800" y="1752480"/>
            <a:ext cx="3600360" cy="48006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0.Сказка ложь, да в ней намёк!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   Добрым молодцам урок.</a:t>
            </a: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Сказка о золотом петушк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О ЗОЛОТОМ"/>
          <p:cNvPicPr/>
          <p:nvPr/>
        </p:nvPicPr>
        <p:blipFill>
          <a:blip r:embed="rId1"/>
          <a:stretch/>
        </p:blipFill>
        <p:spPr>
          <a:xfrm>
            <a:off x="4800600" y="3200400"/>
            <a:ext cx="3581280" cy="296856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59" name="Picture 6" descr="ЦАРЬ В ПЕТУШКЕ"/>
          <p:cNvPicPr/>
          <p:nvPr/>
        </p:nvPicPr>
        <p:blipFill>
          <a:blip r:embed="rId2"/>
          <a:stretch/>
        </p:blipFill>
        <p:spPr>
          <a:xfrm>
            <a:off x="990720" y="3124080"/>
            <a:ext cx="3112920" cy="31244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Назовите сказки А.С.Пушки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8600" y="152568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золотом петуш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мертвой царевне и о семи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огатырях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попе и о работнике его Балд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рыбаке и рыбк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казка о царе Салтан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 сыне его славном и могучем богатыре князе Гвидоне Салтановиче и о прекрасной царевне Лебеди»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Что спрашивала у старика рыбка, являясь на зов, и как он ей отвечал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Что тебе надобно старче?" –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"Смилуйся государыня рыбка!..,"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О РЫБАКЕ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314640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2" name="Picture 5" descr="СТАРУХЕ В РЫБКЕ"/>
          <p:cNvPicPr/>
          <p:nvPr/>
        </p:nvPicPr>
        <p:blipFill>
          <a:blip r:embed="rId2"/>
          <a:stretch/>
        </p:blipFill>
        <p:spPr>
          <a:xfrm>
            <a:off x="4952880" y="3276720"/>
            <a:ext cx="3886200" cy="33289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5257800" cy="37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5c5ff"/>
                </a:solidFill>
                <a:latin typeface="Times New Roman"/>
              </a:rPr>
              <a:t>"...в год затри щелчка полбу..."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3.Какую плату назначил Балда за свою работу у попа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СКАЗКА О ПОПЕ"/>
          <p:cNvPicPr/>
          <p:nvPr/>
        </p:nvPicPr>
        <p:blipFill>
          <a:blip r:embed="rId1"/>
          <a:stretch/>
        </p:blipFill>
        <p:spPr>
          <a:xfrm>
            <a:off x="380880" y="1905120"/>
            <a:ext cx="2598840" cy="47242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В кого превращался князь Гвидон, когда летал в царство Салта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 комара, муху, шмел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6" descr="Ц-САЛТ"/>
          <p:cNvPicPr/>
          <p:nvPr/>
        </p:nvPicPr>
        <p:blipFill>
          <a:blip r:embed="rId1"/>
          <a:stretch/>
        </p:blipFill>
        <p:spPr>
          <a:xfrm>
            <a:off x="380880" y="3429000"/>
            <a:ext cx="3657600" cy="28843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pic>
        <p:nvPicPr>
          <p:cNvPr id="139" name="Picture 7" descr="комар"/>
          <p:cNvPicPr/>
          <p:nvPr/>
        </p:nvPicPr>
        <p:blipFill>
          <a:blip r:embed="rId2"/>
          <a:stretch/>
        </p:blipFill>
        <p:spPr>
          <a:xfrm>
            <a:off x="4419720" y="3429000"/>
            <a:ext cx="4343400" cy="2898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5. От кого князь Гвидон спас царевну Лебедь?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От чароде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коршун"/>
          <p:cNvPicPr/>
          <p:nvPr/>
        </p:nvPicPr>
        <p:blipFill>
          <a:blip r:embed="rId1"/>
          <a:stretch/>
        </p:blipFill>
        <p:spPr>
          <a:xfrm>
            <a:off x="4648320" y="1676520"/>
            <a:ext cx="3714480" cy="49528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 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6. Как звали пса, который сторожил терем семи богатырей? </a:t>
            </a:r>
            <a:endParaRPr b="1" lang="en-US" sz="44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окол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6" descr="соколко"/>
          <p:cNvPicPr/>
          <p:nvPr/>
        </p:nvPicPr>
        <p:blipFill>
          <a:blip r:embed="rId1"/>
          <a:stretch/>
        </p:blipFill>
        <p:spPr>
          <a:xfrm>
            <a:off x="4038480" y="1752480"/>
            <a:ext cx="3179880" cy="472464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7. Кто был верным сторожем царя Дадона? </a:t>
            </a: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pic>
        <p:nvPicPr>
          <p:cNvPr id="147" name="Picture 3" descr="ЗОЛОТОЙ ПЕТУХ"/>
          <p:cNvPicPr/>
          <p:nvPr/>
        </p:nvPicPr>
        <p:blipFill>
          <a:blip r:embed="rId1"/>
          <a:stretch/>
        </p:blipFill>
        <p:spPr>
          <a:xfrm>
            <a:off x="4114800" y="2438280"/>
            <a:ext cx="4105440" cy="330372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837720" y="274212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тушок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8. Какие слова обычно кричал золотой петушок, предупреждая об опасности?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c5c5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Кири-ку-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арствуй, лежа на боку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ЦАРЬ В ПЕТУШКЕ"/>
          <p:cNvPicPr/>
          <p:nvPr/>
        </p:nvPicPr>
        <p:blipFill>
          <a:blip r:embed="rId1"/>
          <a:stretch/>
        </p:blipFill>
        <p:spPr>
          <a:xfrm>
            <a:off x="4267080" y="3733920"/>
            <a:ext cx="2886120" cy="2895480"/>
          </a:xfrm>
          <a:prstGeom prst="rect">
            <a:avLst/>
          </a:prstGeom>
          <a:ln w="38160">
            <a:solidFill>
              <a:srgbClr val="cc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1-09-11T10:02:1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d0000000000010243100207f6000400038000</vt:lpwstr>
  </property>
  <property fmtid="{D5CDD505-2E9C-101B-9397-08002B2CF9AE}" pid="3" name="Version">
    <vt:r8>1</vt:r8>
  </property>
</Properties>
</file>