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370-40F6-41D4-830C-834B8056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DEB-D4EE-4DC4-9266-EB78DF01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041-B045-4463-AD57-F9AB5CA2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70C-C604-4A18-873E-5D46ADC5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F48F-E0AB-4867-B314-5A062A89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0311-E72A-4ADB-85EA-41A54A68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9E8F-A4D8-474F-9454-BF4F81D4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C8F7-A65E-483E-A0C2-06E17C49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4370-78F8-467C-9ECA-C140400A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C64A-4301-4226-9D45-599C7EC0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1504-682C-45C3-90A6-2FC7EC11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689-61A7-4B23-84DB-FB1640BC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2026-F029-46A6-ABFF-8205E7A9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82E1-C986-41F8-A453-8D7CE16E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166A-7390-402D-BA9F-B4358CDD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8129-A8F7-4665-8F44-EB200787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3B38-8119-49AD-B47A-0F6BE696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424-C607-462D-93E0-8DD4E59B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E9E-39DC-45EA-8EE4-16078C3E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A00-8F10-4241-874A-C451B997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113-B278-46D1-A9A2-C97D49A6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2A2-D4BB-4F15-84B9-92404338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FB3-8053-4E6E-A8B0-D2941B43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22F-76A4-478F-90EA-F9C2785A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A95E-54BD-4A91-9602-3576798F5B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D81B-5682-4DE9-95C0-6329244047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Сказки Пушкина"/>
          <p:cNvPicPr/>
          <p:nvPr/>
        </p:nvPicPr>
        <p:blipFill>
          <a:blip r:embed="rId1"/>
          <a:stretch/>
        </p:blipFill>
        <p:spPr>
          <a:xfrm>
            <a:off x="6172200" y="762120"/>
            <a:ext cx="1380960" cy="1904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52280" y="3657600"/>
            <a:ext cx="5181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Знатоки сказок Александра Сергеевича Пушкин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0" y="3657600"/>
            <a:ext cx="5181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5" descr="ПОРТ"/>
          <p:cNvPicPr/>
          <p:nvPr/>
        </p:nvPicPr>
        <p:blipFill>
          <a:blip r:embed="rId2"/>
          <a:stretch/>
        </p:blipFill>
        <p:spPr>
          <a:xfrm>
            <a:off x="2590920" y="0"/>
            <a:ext cx="3066840" cy="3505320"/>
          </a:xfrm>
          <a:prstGeom prst="rect">
            <a:avLst/>
          </a:prstGeom>
          <a:ln w="38160">
            <a:solidFill>
              <a:srgbClr val="7000e0"/>
            </a:solidFill>
            <a:miter/>
          </a:ln>
        </p:spPr>
      </p:pic>
      <p:pic>
        <p:nvPicPr>
          <p:cNvPr id="124" name="Picture 6" descr="Сказка о Царе Салтане"/>
          <p:cNvPicPr/>
          <p:nvPr/>
        </p:nvPicPr>
        <p:blipFill>
          <a:blip r:embed="rId3"/>
          <a:stretch/>
        </p:blipFill>
        <p:spPr>
          <a:xfrm>
            <a:off x="533520" y="609480"/>
            <a:ext cx="1736640" cy="227664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sp>
        <p:nvSpPr>
          <p:cNvPr id="125" name="Прямоугольник 8"/>
          <p:cNvSpPr/>
          <p:nvPr/>
        </p:nvSpPr>
        <p:spPr>
          <a:xfrm>
            <a:off x="5334120" y="388620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нна Васильевна Лоретц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учитель начальных классов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ОУ «СОШ №17»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Г. Краснотурьинск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вердловская обла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9. Кем приходится сватья баба Бобориха царю Гвидону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одной бабушко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"А царевич хоть и злитс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рой бабушки своей"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О ЦАРЕ"/>
          <p:cNvPicPr/>
          <p:nvPr/>
        </p:nvPicPr>
        <p:blipFill>
          <a:blip r:embed="rId1"/>
          <a:stretch/>
        </p:blipFill>
        <p:spPr>
          <a:xfrm>
            <a:off x="457200" y="3886200"/>
            <a:ext cx="3429000" cy="25574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55" name="Picture 5" descr="сказка о царе"/>
          <p:cNvPicPr/>
          <p:nvPr/>
        </p:nvPicPr>
        <p:blipFill>
          <a:blip r:embed="rId2"/>
          <a:stretch/>
        </p:blipFill>
        <p:spPr>
          <a:xfrm>
            <a:off x="5257800" y="1752480"/>
            <a:ext cx="3600360" cy="48006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0.Сказка ложь, да в ней намёк!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   Добрым молодцам урок.</a:t>
            </a: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О ЗОЛОТОМ"/>
          <p:cNvPicPr/>
          <p:nvPr/>
        </p:nvPicPr>
        <p:blipFill>
          <a:blip r:embed="rId1"/>
          <a:stretch/>
        </p:blipFill>
        <p:spPr>
          <a:xfrm>
            <a:off x="4800600" y="3200400"/>
            <a:ext cx="3581280" cy="296856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59" name="Picture 6" descr="ЦАРЬ В ПЕТУШКЕ"/>
          <p:cNvPicPr/>
          <p:nvPr/>
        </p:nvPicPr>
        <p:blipFill>
          <a:blip r:embed="rId2"/>
          <a:stretch/>
        </p:blipFill>
        <p:spPr>
          <a:xfrm>
            <a:off x="990720" y="3124080"/>
            <a:ext cx="3112920" cy="31244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. Назовите сказки А.С.Пушки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28600" y="152568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золотом петуш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мертвой царевне и о семи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огатырях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попе и о работнике его Балд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рыбаке и рыб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царе Салтан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 сыне его славном и могучем богатыре князе Гвидоне Салтановиче и о прекрасной царевне Лебеди»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2. Что спрашивала у старика рыбка, являясь на зов, и как он ей отвечал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Что тебе надобно старче?" 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Смилуйся государыня рыбка!..,"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О РЫБАКЕ"/>
          <p:cNvPicPr/>
          <p:nvPr/>
        </p:nvPicPr>
        <p:blipFill>
          <a:blip r:embed="rId1"/>
          <a:stretch/>
        </p:blipFill>
        <p:spPr>
          <a:xfrm>
            <a:off x="609480" y="3429000"/>
            <a:ext cx="3886200" cy="31464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32" name="Picture 5" descr="СТАРУХЕ В РЫБКЕ"/>
          <p:cNvPicPr/>
          <p:nvPr/>
        </p:nvPicPr>
        <p:blipFill>
          <a:blip r:embed="rId2"/>
          <a:stretch/>
        </p:blipFill>
        <p:spPr>
          <a:xfrm>
            <a:off x="4952880" y="3276720"/>
            <a:ext cx="3886200" cy="33289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8640" y="1218960"/>
            <a:ext cx="525780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"...в год затри щелчка полбу..."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.Какую плату назначил Балда за свою работу у попа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СКАЗКА О ПОПЕ"/>
          <p:cNvPicPr/>
          <p:nvPr/>
        </p:nvPicPr>
        <p:blipFill>
          <a:blip r:embed="rId1"/>
          <a:stretch/>
        </p:blipFill>
        <p:spPr>
          <a:xfrm>
            <a:off x="380880" y="1905120"/>
            <a:ext cx="2598840" cy="47242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.В кого превращался князь Гвидон, когда летал в царство Салтана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В комара, муху, шмел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Ц-САЛТ"/>
          <p:cNvPicPr/>
          <p:nvPr/>
        </p:nvPicPr>
        <p:blipFill>
          <a:blip r:embed="rId1"/>
          <a:stretch/>
        </p:blipFill>
        <p:spPr>
          <a:xfrm>
            <a:off x="380880" y="3429000"/>
            <a:ext cx="3657600" cy="28843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39" name="Picture 7" descr="комар"/>
          <p:cNvPicPr/>
          <p:nvPr/>
        </p:nvPicPr>
        <p:blipFill>
          <a:blip r:embed="rId2"/>
          <a:stretch/>
        </p:blipFill>
        <p:spPr>
          <a:xfrm>
            <a:off x="4419720" y="3429000"/>
            <a:ext cx="4343400" cy="2898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5. От кого князь Гвидон спас царевну Лебедь?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т чароде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6" descr="коршун"/>
          <p:cNvPicPr/>
          <p:nvPr/>
        </p:nvPicPr>
        <p:blipFill>
          <a:blip r:embed="rId1"/>
          <a:stretch/>
        </p:blipFill>
        <p:spPr>
          <a:xfrm>
            <a:off x="4648320" y="1676520"/>
            <a:ext cx="3714480" cy="49528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6. Как звали пса, который сторожил терем семи богатырей?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окол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6" descr="соколко"/>
          <p:cNvPicPr/>
          <p:nvPr/>
        </p:nvPicPr>
        <p:blipFill>
          <a:blip r:embed="rId1"/>
          <a:stretch/>
        </p:blipFill>
        <p:spPr>
          <a:xfrm>
            <a:off x="4038480" y="1752480"/>
            <a:ext cx="3179880" cy="47246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7. Кто был верным сторожем царя Дадона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47" name="Picture 3" descr="ЗОЛОТОЙ ПЕТУХ"/>
          <p:cNvPicPr/>
          <p:nvPr/>
        </p:nvPicPr>
        <p:blipFill>
          <a:blip r:embed="rId1"/>
          <a:stretch/>
        </p:blipFill>
        <p:spPr>
          <a:xfrm>
            <a:off x="4114800" y="2438280"/>
            <a:ext cx="4105440" cy="3303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837720" y="2742120"/>
            <a:ext cx="285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тушо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8. Какие слова обычно кричал золотой петушок, предупреждая об опасности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ири-ку-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Царствуй, лежа на боку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ЦАРЬ В ПЕТУШКЕ"/>
          <p:cNvPicPr/>
          <p:nvPr/>
        </p:nvPicPr>
        <p:blipFill>
          <a:blip r:embed="rId1"/>
          <a:stretch/>
        </p:blipFill>
        <p:spPr>
          <a:xfrm>
            <a:off x="4267080" y="3733920"/>
            <a:ext cx="2886120" cy="28954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09-11T10:02:1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d0000000000010243100207f6000400038000</vt:lpwstr>
  </property>
  <property fmtid="{D5CDD505-2E9C-101B-9397-08002B2CF9AE}" pid="3" name="Version">
    <vt:r8>1</vt:r8>
  </property>
</Properties>
</file>