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78D-3BE8-4D58-B89D-26A63190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E61-3052-4EFA-ABDC-9C9F00B6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FDA-8E7B-4EEC-9314-5BE93E2C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2CA-E81C-4172-8EC5-4820AA78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E67C-751B-45D5-886B-EDD4441D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39DE-1A8D-4FB5-ADDF-4BED5030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4847-C080-4ED0-B6DC-5A72BEB6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A8AC-2575-4932-87F6-ECFCB85E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6A0C-6A23-47EE-AB43-31794C47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41B0-8E6E-4576-813E-D356CDBE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49C6-9DD7-4B1E-B678-0753F558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F63-5F02-4885-B48A-11113D07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E2C3-0F0E-4234-85B3-2A36E823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B732-CF2F-4E08-8202-21CA628F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3E05-F962-465A-8F3C-6ABDFC2B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7CFD-E086-446E-8A77-A6397C56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4FF9-4CED-4944-9EE7-102BA732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D196B-1B49-447D-A371-367B326A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4CF9C-CA7A-4BCC-9FD7-D0F3B40A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76B35-477E-42F2-ABFA-BEA551F4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44890-4816-4CEA-A441-6EDEE5A0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09A89-DBA7-49E2-9C79-BCE4F5CD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B3B-6E85-4D6D-8EEE-BFC3BF49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3E612-32E3-4913-8094-EE067D31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FDE20-BF0D-43C7-830A-0A20BBD0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579B0-EC73-46B7-BB5A-429BB958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0E55A-CFFC-459F-A134-77A873EC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7F9FB-3B00-419B-8343-941A6D95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3C809-8C25-45A8-B5DD-B2F5B919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D6C44-5E14-43C8-9843-741D1CBD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653-243A-464A-A0B4-DA4AF254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C40-A1C1-46F9-B68F-2E804B6C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B4C-9AFF-43A2-A409-E0151CC8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3CF-32E6-49C0-B249-5750268A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7CE-38E9-4060-9414-8076DB86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D52-6C7E-4DF6-80EA-C178C203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8734-0507-43BC-A890-D0AEBF4E2C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BC78-F03F-46BC-8F20-6F84E6CF2B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DA91-4CA3-4EA7-92F5-F9DE279AA8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619280" y="1628640"/>
            <a:ext cx="6481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Урок  литературного 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по программе «Гармо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нтера Ирина Иванов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1262643677_lyagushka-puteshestvennic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lyagush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p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тог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 каким произведением познакомилис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ее автор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 какому жанру относится произведени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является главным героем сказ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уда собралась лягуш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акие чувства у вас вызывает образ лягуш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На последующих уроках мы продолжим знакомство со сказ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 первым буквам угаданных анаграмм сложить фамилию известного детского писател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КА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РГ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1232"/>
          <p:cNvPicPr/>
          <p:nvPr/>
        </p:nvPicPr>
        <p:blipFill>
          <a:blip r:embed="rId1"/>
          <a:stretch/>
        </p:blipFill>
        <p:spPr>
          <a:xfrm>
            <a:off x="2509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рш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вол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аждалась – испытывать наслаждения от чего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сил дождь – накрапывать мелкими кап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кированная спинка – покрыта лаком, блес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итительный – замечательный, очарова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поглазая голова – с выпуклыми гла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ный прутик – креп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инство – положительное качество, высокая мо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вни – это затопленные или заболоченные, густо заросшие тростником, рогозой участки рек. Растут и кувшинки. Туда прилетают и утки. В наших плавнях живут: кряква, чирок-свистунок, чирок - тряскунок, а из лягушек, - озерная лягушка, серая жа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ягушки и жабы живут по всей земле. Нет их только в соленых морях и озерах. Зимой они спят подо льдом и снегом. А дышать и даже пить могут кожей. Взрослые лягушки скачут по земле. Ловко лазают по деревьям. А маленькие живут в воде, их зовут головаст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frog-51-film"/>
          <p:cNvPicPr/>
          <p:nvPr/>
        </p:nvPicPr>
        <p:blipFill>
          <a:blip r:embed="rId1"/>
          <a:stretch/>
        </p:blipFill>
        <p:spPr>
          <a:xfrm>
            <a:off x="4500720" y="1125360"/>
            <a:ext cx="4105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lyagushka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lyag3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7:58:04Z</dcterms:created>
  <dc:creator>SamLab.ws</dc:creator>
  <dc:description/>
  <dc:language>en-US</dc:language>
  <cp:lastModifiedBy>Серый</cp:lastModifiedBy>
  <dcterms:modified xsi:type="dcterms:W3CDTF">2011-09-19T17:52:41Z</dcterms:modified>
  <cp:revision>5</cp:revision>
  <dc:subject/>
  <dc:title>Открытый урок  Кунда Н. Н.  с использованием регионального компанен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80000000000010250300207f7000400038000</vt:lpwstr>
  </property>
</Properties>
</file>