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861-4C11-44E1-8B69-21BB15C2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6A2-E9E2-4B56-8D24-1BBF24E2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67C1-4B8F-47D1-BB92-5D2CCBE2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1FBB-B6A3-4BCB-83F3-E1D21C80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5170-4290-4684-992D-9E3E8FAA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0D37-934E-4967-83CF-A917F9DA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73B2-0179-4C17-8E29-C3AF2BB0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02D0-54DD-4984-8F1E-6BE56482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9263-7D8E-46AB-8D07-7779DE99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83BE-544D-49A9-ADE3-4825E062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8F26-88DE-45A0-A599-865B7FE2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AC0-9779-456F-82E0-646C9BFA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AF5F-4349-4309-AC3A-5EE024EA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AEFB-A7E2-477D-8389-F7837A57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729C-E9D7-457C-95EB-B9D9C398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6151-359F-4082-B87C-9C3096E6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4F77-310D-4B7B-97CF-A5B4DB6F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C6D1C-DCC8-4DEF-BA72-48C3AF16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E197E-4316-4BFB-A330-CF1770A5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08E01-2C66-4F10-AEB9-C8D9B818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75A1-D2CE-4DD7-8F4A-8D660C11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41F48-6465-4F7F-AA9D-D6E9262C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26C-EABC-4CC7-96EA-9EA1281D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B32BB-0B0E-429A-B90A-2B4EA4FA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B71E7-8E67-4DBA-AF4B-4DC07AE5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98B0E-4C2C-41E0-99D5-660DF494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6C861-44B2-483F-B3B5-DF3964E8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DBACA-D79C-40A4-B724-3B2C8C59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DD8A5-847E-44C6-BD73-B75C7E62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7ABB0-C29F-4418-8132-486DC506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F772-749F-4C46-9794-94AE4897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08E8-2E0F-4F5A-993F-512B9B81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DA8-5D90-4906-B2DC-F9F3053C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99C-812E-47FE-80CC-CCE92A62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467-C93A-4FBA-A076-2B167BC3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21D-1BB2-47F7-A713-B48D8DF5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F5C4-CCD2-4BBC-BB38-BA857BD5AE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47B8-44C6-4B5E-B596-9BB9A1866E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0B22-E7D5-4B4C-A93E-9C5D5A5677D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619280" y="1628640"/>
            <a:ext cx="6481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Урок  литературного 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по программе «Гармо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нтера Ирина Иванов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1262643677_lyagushka-puteshestvennic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lyagush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p_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тог уро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 каким произведением познакомилис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ее автор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 какому жанру относится произведени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является главным героем сказ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уда собралась лягушк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Какие чувства у вас вызывает образ лягуш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На последующих уроках мы продолжим знакомство со сказ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 первым буквам угаданных анаграмм сложить фамилию известного детского писател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КА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РГ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1232"/>
          <p:cNvPicPr/>
          <p:nvPr/>
        </p:nvPicPr>
        <p:blipFill>
          <a:blip r:embed="rId1"/>
          <a:stretch/>
        </p:blipFill>
        <p:spPr>
          <a:xfrm>
            <a:off x="2509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рш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вол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аждалась – испытывать наслаждения от чего-нибуд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сил дождь – накрапывать мелкими кап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кированная спинка – покрыта лаком, блес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хитительный – замечательный, очарова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поглазая голова – с выпуклыми гла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ный прутик – креп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инство – положительное качество, высокая мо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вни – это затопленные или заболоченные, густо заросшие тростником, рогозой участки рек. Растут и кувшинки. Туда прилетают и утки. В наших плавнях живут: кряква, чирок-свистунок, чирок - тряскунок, а из лягушек, - озерная лягушка, серая жа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ягушки и жабы живут по всей земле. Нет их только в соленых морях и озерах. Зимой они спят подо льдом и снегом. А дышать и даже пить могут кожей. Взрослые лягушки скачут по земле. Ловко лазают по деревьям. А маленькие живут в воде, их зовут головаст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frog-51-film"/>
          <p:cNvPicPr/>
          <p:nvPr/>
        </p:nvPicPr>
        <p:blipFill>
          <a:blip r:embed="rId1"/>
          <a:stretch/>
        </p:blipFill>
        <p:spPr>
          <a:xfrm>
            <a:off x="4500720" y="1125360"/>
            <a:ext cx="4105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lyagushka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lyag3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7:58:04Z</dcterms:created>
  <dc:creator>SamLab.ws</dc:creator>
  <dc:description/>
  <dc:language>en-US</dc:language>
  <cp:lastModifiedBy>Серый</cp:lastModifiedBy>
  <dcterms:modified xsi:type="dcterms:W3CDTF">2011-09-19T17:52:41Z</dcterms:modified>
  <cp:revision>5</cp:revision>
  <dc:subject/>
  <dc:title>Открытый урок  Кунда Н. Н.  с использованием регионального компанен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80000000000010250300207f7000400038000</vt:lpwstr>
  </property>
</Properties>
</file>