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6666-D35A-4B24-B065-9553545BB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8F69-64F7-48C7-9250-2AAC71F7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87E9-639B-415C-BB08-33F8A5DB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0D6-5F9C-4906-880F-EDCBB6F96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8471B-F07D-4F75-8230-9A771A706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0D1BA-DDA9-40F1-86A3-C8B99890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9D24-2EB9-47B5-B1B5-5BB16C7A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DB79-AA52-4DC3-BF16-755DAB4D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04AC-9436-457D-8524-5F318E35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29DD-F153-4382-9A86-AAE3D1A6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5A50-08B5-4820-BA8D-8293650E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70BF-A291-48A6-87EA-F2F940BEE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1E9B-A58D-406E-9F0D-CEDC7920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6497-16B3-48DE-9B79-0CA36B4C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F56A5-ED35-431F-9910-936CC6CA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BE104-8D9F-4901-A816-042623C72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CED88-14EF-4B54-A1BC-8301A7108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284443-4429-4934-A6B9-502662E28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EA827-6895-48AA-B7FE-B9DD8B393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3A5D6-D4C1-4A70-9940-1AB3448BB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925B8-62DC-4D93-847B-6499F8F6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99030-FD06-4382-8566-0ED50837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C404-C557-4450-BD0D-B59550413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F5655-1B51-40DD-810C-6BEBAFF7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149B7-F74F-446E-92DE-6E14B8C6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61865-2F17-4561-AC58-9B7AF224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DC878-D7E5-4FC5-96B7-0E417F8AF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285CA-7DB9-4BAD-9CCE-69EA4BC7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6ECB4-FF6D-4678-A98F-68BFEDBF3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7C22F-EA62-4838-ABA3-18AA92CA0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949-93F0-43AB-B8E8-B0B4459B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5691-60A5-433F-877E-B784ED96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2995-623C-43D4-847C-0E6182F6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65E-DE27-4579-B767-C6ED13EF4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A78C-2D95-4FAC-B704-C04E3428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1390-168B-4D0E-8475-BFDF7F67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EE56-5A8B-4737-86D8-F9578659AC8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4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4815-CF96-43B8-BEDF-81FC901431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2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501D-4714-4D2E-8B4C-3E563AEF140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1619280" y="1628640"/>
            <a:ext cx="64818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Урок  литературного  чт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по программе «Гармони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нтера Ирина Ивановн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1262643677_lyagushka-puteshestvennica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lyagush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p_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Итог урока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С каким произведением познакомились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ее автор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 какому жанру относится произведению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то является главным героем сказ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 Куда собралась лягушка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Какие чувства у вас вызывает образ лягушки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-На последующих уроках мы продолжим знакомство со сказко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1026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о первым буквам угаданных анаграмм сложить фамилию известного детского писател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Г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АР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МКА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Ш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РГА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РКА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1232"/>
          <p:cNvPicPr/>
          <p:nvPr/>
        </p:nvPicPr>
        <p:blipFill>
          <a:blip r:embed="rId1"/>
          <a:stretch/>
        </p:blipFill>
        <p:spPr>
          <a:xfrm>
            <a:off x="2509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5508720" y="1600200"/>
            <a:ext cx="317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арш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вол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ихай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рная рабо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лаждалась – испытывать наслаждения от чего-нибуд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росил дождь – накрапывать мелкими капл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акированная спинка – покрыта лаком, блести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хитительный – замечательный, очаровате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поглазая голова – с выпуклыми глаз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чный прутик – креп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стоинство – положительное качество, высокая мо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вни – это затопленные или заболоченные, густо заросшие тростником, рогозой участки рек. Растут и кувшинки. Туда прилетают и утки. В наших плавнях живут: кряква, чирок-свистунок, чирок - тряскунок, а из лягушек, - озерная лягушка, серая жа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82296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ягушки и жабы живут по всей земле. Нет их только в соленых морях и озерах. Зимой они спят подо льдом и снегом. А дышать и даже пить могут кожей. Взрослые лягушки скачут по земле. Ловко лазают по деревьям. А маленькие живут в воде, их зовут головасти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frog-51-film"/>
          <p:cNvPicPr/>
          <p:nvPr/>
        </p:nvPicPr>
        <p:blipFill>
          <a:blip r:embed="rId1"/>
          <a:stretch/>
        </p:blipFill>
        <p:spPr>
          <a:xfrm>
            <a:off x="4500720" y="1125360"/>
            <a:ext cx="41050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lyagushka"/>
          <p:cNvPicPr/>
          <p:nvPr/>
        </p:nvPicPr>
        <p:blipFill>
          <a:blip r:embed="rId1"/>
          <a:stretch/>
        </p:blipFill>
        <p:spPr>
          <a:xfrm>
            <a:off x="669960" y="274680"/>
            <a:ext cx="780264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lyag38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7:58:04Z</dcterms:created>
  <dc:creator>SamLab.ws</dc:creator>
  <dc:description/>
  <dc:language>en-US</dc:language>
  <cp:lastModifiedBy>Серый</cp:lastModifiedBy>
  <dcterms:modified xsi:type="dcterms:W3CDTF">2011-09-19T17:52:41Z</dcterms:modified>
  <cp:revision>5</cp:revision>
  <dc:subject/>
  <dc:title>Открытый урок  Кунда Н. Н.  с использованием регионального компанент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80000000000010250300207f7000400038000</vt:lpwstr>
  </property>
</Properties>
</file>