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FD08-D6C8-4ED8-A2B8-66ECB07DA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2584-7EE4-47F8-9E32-D9DCC2C5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A049-5724-40A5-A47A-3F7D0D5FB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F282-7675-4A82-AEF6-59FBA3F4F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AB3E-F0A8-48AB-BD05-B48E8D3B9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B597-AF51-4A37-BBB8-4E5BE84F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4D7F-E901-4952-9647-D6161586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1DCF-2532-4C43-9444-1D652818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6DA87-9FEF-4AD9-A997-9EB44AF6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3AE1-56B2-45FD-9088-C88EA5A9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1A97-2908-4B0E-9F37-B261F9AB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1F1D-B022-469A-A042-A2B1EF06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EBAC-10C0-4A7A-9BF6-73F70BED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84719-D663-4F9D-9F49-D5F1FC2F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C4CD7-D24A-473E-BD63-62211DA6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64EBA-0B54-4590-84F9-06D87EDBF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42069-D6C9-49E3-A087-C025306EF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F333D-F649-4815-8AA0-A2F46B615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48A83-2290-4BD5-AC85-F5D82EB1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52577-4B3D-4A9C-8827-FDB6B51D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ED33D-A409-4F8D-B36E-715E8CD6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E8737-35E9-4BB6-AF3B-8123E93F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358E-C1D3-4976-8336-4097EEB7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BC96B-D8FA-4547-BFA6-4E4F8190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F334F-B208-4222-B59A-31B3B239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1B52E-7DF6-42E1-8530-C5ED452D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942AC-0154-42F2-A9A3-FB98869C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2605F-1BD5-42FE-A7A5-B1944641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13F32-E150-4537-B3D6-A6FECA2C3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6D626-0A32-4DD6-ABC6-898FFEBBB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7894-6D9C-43CC-8925-67625445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DEE5-883A-40DC-BCC4-05C3CB5E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9486-5A48-40F9-9E38-DD406A6C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0A99-7302-4DAB-A2E0-B6098CC0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485D-7B5C-4C85-95B0-F7B5D29C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0E03-E80A-4B8A-A9DB-36E4BC3E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0AEC-06F2-4574-BC09-C9C804FA5B9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E363-ADA0-4FE0-A482-51551E2272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9A95-B6D2-49A5-BDFF-BE13F9C2813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"/>
          <p:cNvSpPr/>
          <p:nvPr/>
        </p:nvSpPr>
        <p:spPr>
          <a:xfrm>
            <a:off x="1619280" y="1628640"/>
            <a:ext cx="6481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Урок  литературного  чт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по программе «Гармо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нтера Ирина Ивановн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1262643677_lyagushka-puteshestvennica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lyagushk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p_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тог урок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 каким произведением познакомились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то ее автор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 какому жанру относится произведению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то является главным героем сказк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уда собралась лягушка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Какие чувства у вас вызывает образ лягушк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На последующих уроках мы продолжим знакомство со сказко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1026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о первым буквам угаданных анаграмм сложить фамилию известного детского писател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А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АР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ДАР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КАШ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Ш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РГ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РК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1232"/>
          <p:cNvPicPr/>
          <p:nvPr/>
        </p:nvPicPr>
        <p:blipFill>
          <a:blip r:embed="rId1"/>
          <a:stretch/>
        </p:blipFill>
        <p:spPr>
          <a:xfrm>
            <a:off x="25092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508720" y="160020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рш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вол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хайл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оварная рабо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лаждалась – испытывать наслаждения от чего-нибуд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осил дождь – накрапывать мелкими кап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кированная спинка – покрыта лаком, блест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хитительный – замечательный, очаровате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поглазая голова – с выпуклыми глаз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чный прутик – креп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оинство – положительное качество, высокая мора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авни – это затопленные или заболоченные, густо заросшие тростником, рогозой участки рек. Растут и кувшинки. Туда прилетают и утки. В наших плавнях живут: кряква, чирок-свистунок, чирок - тряскунок, а из лягушек, - озерная лягушка, серая жаб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457200" y="1268280"/>
            <a:ext cx="82296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ягушки и жабы живут по всей земле. Нет их только в соленых морях и озерах. Зимой они спят подо льдом и снегом. А дышать и даже пить могут кожей. Взрослые лягушки скачут по земле. Ловко лазают по деревьям. А маленькие живут в воде, их зовут головасти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1" descr="frog-51-film"/>
          <p:cNvPicPr/>
          <p:nvPr/>
        </p:nvPicPr>
        <p:blipFill>
          <a:blip r:embed="rId1"/>
          <a:stretch/>
        </p:blipFill>
        <p:spPr>
          <a:xfrm>
            <a:off x="4500720" y="1125360"/>
            <a:ext cx="41050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lyagushka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lyag38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07:58:04Z</dcterms:created>
  <dc:creator>SamLab.ws</dc:creator>
  <dc:description/>
  <dc:language>en-US</dc:language>
  <cp:lastModifiedBy>Серый</cp:lastModifiedBy>
  <dcterms:modified xsi:type="dcterms:W3CDTF">2011-09-19T17:52:41Z</dcterms:modified>
  <cp:revision>5</cp:revision>
  <dc:subject/>
  <dc:title>Открытый урок  Кунда Н. Н.  с использованием регионального компанен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0080000000000010250300207f7000400038000</vt:lpwstr>
  </property>
</Properties>
</file>