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B3A9-C331-462F-A4B5-36BD0068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DF18-DBFE-44B6-9074-E9D10704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C5E0-4AEC-4A57-875D-8D719609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B92C-C748-43D9-8619-B75C8B04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3B23-BB17-4159-BB3F-CEEEBF7F2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D604-9B6E-4698-8FFA-A8278BDC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2311-53B0-4A99-9CE1-0ADCD5D3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7D63-437D-49BD-9786-5D74C86B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E301-C779-4900-B0BC-A58A75AB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A9F2-BB76-49E0-8C32-250E00E9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3FAD-98D0-41E6-AE18-133D3F11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FB23-4881-44DD-9191-1D3798F4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096F-C93B-455D-BD2F-3F46F0D3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AE80-9E5C-434D-8BC9-246F03AB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3518-4846-44D0-8957-BAB2021F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0697-A4EA-483E-97F6-4263F2223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DEAA-EC95-4DFA-B837-4C066D290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A97B7-343B-43BB-B0EB-2B354F994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6A5B4-228D-45CE-8261-D79B4B7C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C1A05-1AE3-43EA-8E6A-7B5E3A78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79C50-0690-4409-928B-FD9E880F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96806-3B01-424B-BFEA-5D3DDA1B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C911-A2F4-48B2-AC95-95E12D47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3A76B-FB02-4AE5-936A-03C2D4E4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4BDEC-D852-4C1F-B313-0E75AA16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4BE76-51DB-41B9-98D5-9C423E0E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88897-0D08-4539-901A-4765DC59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4086D-2760-4689-AAA4-564C42DD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0CD93-876E-47D1-8C9D-2C44D7E6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9AEC1-9719-4F07-8F59-385D42B4C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1028-BA93-4450-B405-FA03CAC5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21A6-50E2-44AA-8A79-938CFAD6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F129-7DAD-4294-B44A-A5F2B3B5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91A1-554C-4AA1-AC2E-C6360999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DB8F-4C4D-4201-B62C-F3E77B3F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8DA7-C679-4AF2-88D6-153BFCEC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F259-7528-494A-9415-BF1F30EF9F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9815-2897-486A-AC54-F7D70428F9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D41E-D4D0-4347-BD4C-57E44CA8AAF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1619280" y="1628640"/>
            <a:ext cx="6481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Урок  литературного  ч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по программе «Гармо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нтера Ирина Ивановн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1262643677_lyagushka-puteshestvennica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lyagushk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p_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тог урок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 каким произведением познакомились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то ее автор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 какому жанру относится произведению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то является главным героем сказк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уда собралась лягушк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Какие чувства у вас вызывает образ лягушк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На последующих уроках мы продолжим знакомство со сказк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1026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о первым буквам угаданных анаграмм сложить фамилию известного детского писател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А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Р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ДА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КА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РГ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РК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1232"/>
          <p:cNvPicPr/>
          <p:nvPr/>
        </p:nvPicPr>
        <p:blipFill>
          <a:blip r:embed="rId1"/>
          <a:stretch/>
        </p:blipFill>
        <p:spPr>
          <a:xfrm>
            <a:off x="2509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50872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рш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вол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хайл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вар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лаждалась – испытывать наслаждения от чего-нибуд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осил дождь – накрапывать мелкими кап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кированная спинка – покрыта лаком, блес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хитительный – замечательный, очаровате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поглазая голова – с выпуклыми глаз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ный прутик – креп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оинство – положительное качество, высокая мор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вни – это затопленные или заболоченные, густо заросшие тростником, рогозой участки рек. Растут и кувшинки. Туда прилетают и утки. В наших плавнях живут: кряква, чирок-свистунок, чирок - тряскунок, а из лягушек, - озерная лягушка, серая жаб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457200" y="1268280"/>
            <a:ext cx="82296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ягушки и жабы живут по всей земле. Нет их только в соленых морях и озерах. Зимой они спят подо льдом и снегом. А дышать и даже пить могут кожей. Взрослые лягушки скачут по земле. Ловко лазают по деревьям. А маленькие живут в воде, их зовут головаст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1" descr="frog-51-film"/>
          <p:cNvPicPr/>
          <p:nvPr/>
        </p:nvPicPr>
        <p:blipFill>
          <a:blip r:embed="rId1"/>
          <a:stretch/>
        </p:blipFill>
        <p:spPr>
          <a:xfrm>
            <a:off x="4500720" y="1125360"/>
            <a:ext cx="4105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lyagushka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lyag3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7:58:04Z</dcterms:created>
  <dc:creator>SamLab.ws</dc:creator>
  <dc:description/>
  <dc:language>en-US</dc:language>
  <cp:lastModifiedBy>Серый</cp:lastModifiedBy>
  <dcterms:modified xsi:type="dcterms:W3CDTF">2011-09-19T17:52:41Z</dcterms:modified>
  <cp:revision>5</cp:revision>
  <dc:subject/>
  <dc:title>Открытый урок  Кунда Н. Н.  с использованием регионального компанен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80000000000010250300207f7000400038000</vt:lpwstr>
  </property>
</Properties>
</file>