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8CD3-5040-4CA3-B407-D7E00DFD7B3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ECD-2CEA-47C0-AB34-07619BE6A4C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FCE1-BAC4-4863-80EA-06F15563109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B158-ACC1-40A1-A52A-13599DB4AA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1B8D-2582-4003-BCF3-F762ABD9590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CEFE-57D8-414C-A39C-6F97AECAEE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DBBE-06B5-4A94-9490-9B0D3953E5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3647-5548-498D-A7E9-BEF4CF8571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95EE-6A1D-4CBE-A391-B04FE9E121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0C75-6B5A-48AE-8C5F-A3D27F95BB3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82E3-FFA9-48CF-A157-D32A3CCBBB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E3B-FB97-4D16-AD52-B25524E7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EBE-BA55-407A-A6D3-EC9EF4C9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B19-F05A-41E8-97BD-90E711A9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2DB-E16A-4DAC-9E36-0778DD0D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2FA-A2DF-450F-9BC1-C66C2905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FDF-E977-4BCA-9D56-21C56FCE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0CE-9572-433E-BCBF-0BA5B532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144-7C16-44E3-9394-02BC8D1E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1A5-39AE-4913-A3CB-67068FB6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BB5-9433-47A9-BB8D-5BC3AD4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F02-52B2-4B57-99C4-5D8E053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B02-39CB-4C22-9EF6-55C3F815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A2A6-C989-4F2B-ACEF-A240D4DE7F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Коста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Леванович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Хетагуров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Гончарова 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Щербак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амятник К. Хетагурову. Ставроп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Отсканировано 19"/>
          <p:cNvPicPr/>
          <p:nvPr/>
        </p:nvPicPr>
        <p:blipFill>
          <a:blip r:embed="rId1"/>
          <a:stretch/>
        </p:blipFill>
        <p:spPr>
          <a:xfrm>
            <a:off x="971640" y="-47520"/>
            <a:ext cx="73454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лся в 1859 году. Отец- Леван Елизбарович Хетагуров. Мать- Мария Гавриловна ( в девичестве Губаева) умерла после родов (1837-1859г.г) в ауле Нар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Е. Хетагу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Отсканировано 17"/>
          <p:cNvPicPr/>
          <p:nvPr/>
        </p:nvPicPr>
        <p:blipFill>
          <a:blip r:embed="rId1"/>
          <a:stretch/>
        </p:blipFill>
        <p:spPr>
          <a:xfrm>
            <a:off x="4643280" y="1709640"/>
            <a:ext cx="3621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етагуров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1898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3132000" y="0"/>
            <a:ext cx="50421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ез два года из Кубанской области пришло известие, после которого Коста долго не мог прийти в себя . Ему перестали платить 25- рублёвую стипендию. Вскоре Коста покинул гимназ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Коста –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живописе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Коста Хетагуров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Скорбящий ангел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Масл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5219640" y="-44280"/>
            <a:ext cx="36608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 Хетагуров. Автопортрет.Масл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2124000" y="-171360"/>
            <a:ext cx="56325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Последние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г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(1898-1906 гг.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доме Смирновых уже на закате своей жизни Коста пленился красотой Гали Смирновой. 19- летняя Гали вместе с подругой училась у хозяйки Коста вязать, рисовать; там иногда встречала поэта. Родители Гали не принимали увлечение Коста всерьёз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днако Гали Смирнова в 1908 году вышла замуж за студента медицинского отделения Киевского университета Сергея Иванченко. В 1912 семья обосновалась в Георгиевске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али Смирнова скончалась в Георгиевске в феврале 1974 году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Прекрасная любовь, полная глубокой страсти к Гали Смирновой, была последним аккордом в жизни великого поэта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Летом 1903 года тяжёлое нервное заболевание дало о себе знать, поэт оказался прикованным к постели. В воскресный день 19 марта 1906 года Коста умер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7:31:52Z</dcterms:created>
  <dc:creator>User</dc:creator>
  <dc:description/>
  <dc:language>en-US</dc:language>
  <cp:lastModifiedBy>Щербак</cp:lastModifiedBy>
  <dcterms:modified xsi:type="dcterms:W3CDTF">2002-01-03T02:02:4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90000000000010250300207f7000400038000</vt:lpwstr>
  </property>
</Properties>
</file>