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824C-889A-4F22-9411-B8D7303D85B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9375-46EE-4FD6-BACF-9CB52D6AE5A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572C-43B9-4130-85E0-679F545FDE0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9170-FB72-4B03-A367-D33682D77CF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10CE-50A0-4ABC-9FCC-A57D3D8EEDD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C8CE-8CF8-4907-AE0F-F354DF0E1F4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C70B-2942-4D61-9312-AEE23B47BCD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6466-B2A0-4A66-A544-19525C8CA6B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413E-7BF1-4501-99F6-AF9997D9A47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DFDC-EFE3-4619-9E12-02E75856B14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CC95-214A-4C71-8938-61EF37299D2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AEDC-B226-4DA5-922C-3F8AC7AF2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BB1C-860C-4136-8D23-5C579D8F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2BEA-09A1-47B8-935F-79679423E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D902-4589-441C-8186-2B0CE27C5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7A33-D863-4533-9B2C-8D00F928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B649-BA08-418D-9F90-70EB29E6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FBE9-25A9-40A0-8E56-C4AF9FEA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20CF-C60C-417B-B45F-E96A0ADC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D0BD-4E06-4FEC-9B18-5C4C3240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01E7-6475-429B-9854-EC8CADDE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1784-AEA4-4972-8736-5E3355DB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66EF-D2F0-48DB-9FA6-EC8F686B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811E-6D85-4FB3-8448-DC014106257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9919a7"/>
                </a:solidFill>
                <a:latin typeface="Tahoma"/>
              </a:rPr>
              <a:t>Коста</a:t>
            </a:r>
            <a:br>
              <a:rPr sz="8000"/>
            </a:br>
            <a:r>
              <a:rPr b="1" lang="ru-RU" sz="8000" spc="-1" strike="noStrike">
                <a:solidFill>
                  <a:srgbClr val="9919a7"/>
                </a:solidFill>
                <a:latin typeface="Tahoma"/>
              </a:rPr>
              <a:t>Леванович</a:t>
            </a:r>
            <a:br>
              <a:rPr sz="8000"/>
            </a:br>
            <a:r>
              <a:rPr b="1" lang="ru-RU" sz="8000" spc="-1" strike="noStrike">
                <a:solidFill>
                  <a:srgbClr val="9919a7"/>
                </a:solidFill>
                <a:latin typeface="Tahoma"/>
              </a:rPr>
              <a:t>Хетагуров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тор: Гончарова 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: Щербак Е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Tahoma"/>
              </a:rPr>
              <a:t>Памятник К. Хетагурову. Ставропол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4" descr="Отсканировано 19"/>
          <p:cNvPicPr/>
          <p:nvPr/>
        </p:nvPicPr>
        <p:blipFill>
          <a:blip r:embed="rId1"/>
          <a:stretch/>
        </p:blipFill>
        <p:spPr>
          <a:xfrm>
            <a:off x="971640" y="-47520"/>
            <a:ext cx="7345440" cy="50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Родился в 1859 году. Отец- Леван Елизбарович Хетагуров. Мать- Мария Гавриловна ( в девичестве Губаева) умерла после родов (1837-1859г.г) в ауле Нар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.Е. Хетагур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7" descr="Отсканировано 17"/>
          <p:cNvPicPr/>
          <p:nvPr/>
        </p:nvPicPr>
        <p:blipFill>
          <a:blip r:embed="rId1"/>
          <a:stretch/>
        </p:blipFill>
        <p:spPr>
          <a:xfrm>
            <a:off x="4643280" y="1709640"/>
            <a:ext cx="3621240" cy="51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5ffff"/>
                </a:solidFill>
                <a:latin typeface="Tahoma"/>
              </a:rPr>
              <a:t>Коста</a:t>
            </a:r>
            <a:br>
              <a:rPr sz="3200"/>
            </a:br>
            <a:r>
              <a:rPr b="0" i="1" lang="ru-RU" sz="3200" spc="-1" strike="noStrike">
                <a:solidFill>
                  <a:srgbClr val="e5ffff"/>
                </a:solidFill>
                <a:latin typeface="Tahoma"/>
              </a:rPr>
              <a:t>Хетагуров</a:t>
            </a:r>
            <a:br>
              <a:rPr sz="3200"/>
            </a:br>
            <a:r>
              <a:rPr b="0" i="1" lang="ru-RU" sz="3200" spc="-1" strike="noStrike">
                <a:solidFill>
                  <a:srgbClr val="e5ffff"/>
                </a:solidFill>
                <a:latin typeface="Tahoma"/>
              </a:rPr>
              <a:t>1898год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4" descr="Отсканировано 17"/>
          <p:cNvPicPr/>
          <p:nvPr/>
        </p:nvPicPr>
        <p:blipFill>
          <a:blip r:embed="rId1"/>
          <a:stretch/>
        </p:blipFill>
        <p:spPr>
          <a:xfrm>
            <a:off x="3132000" y="0"/>
            <a:ext cx="504216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Через два года из Кубанской области пришло известие, после которого Коста долго не мог прийти в себя . Ему перестали платить 25- рублёвую стипендию. Вскоре Коста покинул гимназию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99"/>
                </a:solidFill>
                <a:latin typeface="Tahoma"/>
              </a:rPr>
              <a:t>Коста –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99"/>
                </a:solidFill>
                <a:latin typeface="Tahoma"/>
              </a:rPr>
              <a:t>живописец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Коста Хетагуров.</a:t>
            </a:r>
            <a:br>
              <a:rPr sz="4400"/>
            </a:b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Скорбящий ангел.</a:t>
            </a:r>
            <a:br>
              <a:rPr sz="4400"/>
            </a:b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Масло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4" descr="Отсканировано 17"/>
          <p:cNvPicPr/>
          <p:nvPr/>
        </p:nvPicPr>
        <p:blipFill>
          <a:blip r:embed="rId1"/>
          <a:stretch/>
        </p:blipFill>
        <p:spPr>
          <a:xfrm>
            <a:off x="5219640" y="-44280"/>
            <a:ext cx="3660840" cy="69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ru-RU" sz="3200" spc="-1" strike="noStrike">
                <a:solidFill>
                  <a:srgbClr val="e5ffff"/>
                </a:solidFill>
                <a:latin typeface="Tahoma"/>
              </a:rPr>
              <a:t>Коста Хетагуров. Автопортрет.Масло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4" descr="Отсканировано 17"/>
          <p:cNvPicPr/>
          <p:nvPr/>
        </p:nvPicPr>
        <p:blipFill>
          <a:blip r:embed="rId1"/>
          <a:stretch/>
        </p:blipFill>
        <p:spPr>
          <a:xfrm>
            <a:off x="2124000" y="-171360"/>
            <a:ext cx="563256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0066"/>
                </a:solidFill>
                <a:latin typeface="Tahoma"/>
              </a:rPr>
              <a:t>Последние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8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0066"/>
                </a:solidFill>
                <a:latin typeface="Tahoma"/>
              </a:rPr>
              <a:t>годы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8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0066"/>
                </a:solidFill>
                <a:latin typeface="Tahoma"/>
              </a:rPr>
              <a:t>(1898-1906 гг.)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 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В доме Смирновых уже на закате своей жизни Коста пленился красотой Гали Смирновой. 19- летняя Гали вместе с подругой училась у хозяйки Коста вязать, рисовать; там иногда встречала поэта. Родители Гали не принимали увлечение Коста всерьёз.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Однако Гали Смирнова в 1908 году вышла замуж за студента медицинского отделения Киевского университета Сергея Иванченко. В 1912 семья обосновалась в Георгиевске.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Гали Смирнова скончалась в Георгиевске в феврале 1974 году.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Прекрасная любовь, полная глубокой страсти к Гали Смирновой, была последним аккордом в жизни великого поэта.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 Летом 1903 года тяжёлое нервное заболевание дало о себе знать, поэт оказался прикованным к постели. В воскресный день 19 марта 1906 года Коста умер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17:31:52Z</dcterms:created>
  <dc:creator>User</dc:creator>
  <dc:description/>
  <dc:language>en-US</dc:language>
  <cp:lastModifiedBy>Щербак</cp:lastModifiedBy>
  <dcterms:modified xsi:type="dcterms:W3CDTF">2002-01-03T02:02:46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090000000000010250300207f7000400038000</vt:lpwstr>
  </property>
</Properties>
</file>