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DDEC-BEF8-4618-A4FF-E96C2DA3FDB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9924-0396-4E8E-8215-E9CD6FD4D89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CF0A-184D-4B1D-8E0F-7BF616B22E0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7BBA-4BEA-4973-8E05-374C8BE8530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80C1-5E09-40C5-8BD6-11FAA9E1A6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238F-DF45-40DE-A41F-B678D475A6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6C7E-F8D2-4473-97B0-00207F5F16B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FD24-BFDC-4228-89A3-30A57146AF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2D9-02C6-49D1-873E-1C6459C332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92D8-114A-4858-8F4E-A40675CBDA4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B652-7EAD-4B6E-9060-8FC2B08B32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F02-0A3B-437B-AF75-721AE479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F1F-445C-4EF4-B06E-8D77C95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E3F-14F1-4825-AEB6-AE225414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684-9217-4F3A-9C98-1C902CAE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0CD-0EE1-45EF-BBCB-0CD1CA88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92C-BB8B-46CA-9537-40A003A1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EC9-419C-489F-AC15-AD4CF93E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0C1-56BD-491A-924A-3DDA14D3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E56-6A60-44F7-82D2-E3271416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1EF-9BDE-4027-ADDD-F05E2F20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193-EB85-4129-9B1D-4C9F887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296-AD17-437E-92A0-7B93CCBC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659A-DC68-40C4-879F-38C98A9D6F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Коста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Леванович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Хетагуров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Гончарова 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Щербак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Памятник К. Хетагурову. Ставроп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Отсканировано 19"/>
          <p:cNvPicPr/>
          <p:nvPr/>
        </p:nvPicPr>
        <p:blipFill>
          <a:blip r:embed="rId1"/>
          <a:stretch/>
        </p:blipFill>
        <p:spPr>
          <a:xfrm>
            <a:off x="971640" y="-47520"/>
            <a:ext cx="73454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лся в 1859 году. Отец- Леван Елизбарович Хетагуров. Мать- Мария Гавриловна ( в девичестве Губаева) умерла после родов (1837-1859г.г) в ауле Нар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Е. Хетагу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Отсканировано 17"/>
          <p:cNvPicPr/>
          <p:nvPr/>
        </p:nvPicPr>
        <p:blipFill>
          <a:blip r:embed="rId1"/>
          <a:stretch/>
        </p:blipFill>
        <p:spPr>
          <a:xfrm>
            <a:off x="4643280" y="1709640"/>
            <a:ext cx="3621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Хетагуров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1898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3132000" y="0"/>
            <a:ext cx="50421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ез два года из Кубанской области пришло известие, после которого Коста долго не мог прийти в себя . Ему перестали платить 25- рублёвую стипендию. Вскоре Коста покинул гимназию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Коста –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живописе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Коста Хетагуров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Скорбящий ангел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Масл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5219640" y="-44280"/>
            <a:ext cx="36608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 Хетагуров. Автопортрет.Масл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2124000" y="-171360"/>
            <a:ext cx="56325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Последние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г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(1898-1906 гг.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доме Смирновых уже на закате своей жизни Коста пленился красотой Гали Смирновой. 19- летняя Гали вместе с подругой училась у хозяйки Коста вязать, рисовать; там иногда встречала поэта. Родители Гали не принимали увлечение Коста всерьёз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днако Гали Смирнова в 1908 году вышла замуж за студента медицинского отделения Киевского университета Сергея Иванченко. В 1912 семья обосновалась в Георгиевске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Гали Смирнова скончалась в Георгиевске в феврале 1974 году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Прекрасная любовь, полная глубокой страсти к Гали Смирновой, была последним аккордом в жизни великого поэта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Летом 1903 года тяжёлое нервное заболевание дало о себе знать, поэт оказался прикованным к постели. В воскресный день 19 марта 1906 года Коста умер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7:31:52Z</dcterms:created>
  <dc:creator>User</dc:creator>
  <dc:description/>
  <dc:language>en-US</dc:language>
  <cp:lastModifiedBy>Щербак</cp:lastModifiedBy>
  <dcterms:modified xsi:type="dcterms:W3CDTF">2002-01-03T02:02:4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90000000000010250300207f7000400038000</vt:lpwstr>
  </property>
</Properties>
</file>