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2050-87C9-4378-9790-93516BCE7AE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C067-7A23-42DF-BC91-AE098626B91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502F-7F61-44C6-B7C9-276D560EBC2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EFE4-09BF-4EB9-9DB3-25E0CBC0FBD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2AFB-429A-43E3-9A01-B320805C5D1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AC19-6304-4047-9C42-0855058E893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7CCD-13B2-43B3-9079-8067745149D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4C86-340D-4886-8105-4727CB61696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490B-64D6-4CE0-B72F-59B4A06804B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3F61-F490-4E96-9227-123341EC346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5C5B-2E56-45E7-8BBF-D36B0350830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74E-7352-4DAA-AF86-2519AA5B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746-7D76-4BBB-8373-BEDEF392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116-890B-44A4-A2DD-91AEA2ED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FC8-9819-46A3-8332-19B1A98C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D9C-91EC-47FF-9054-323D5CA5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D8E-1C0C-4B76-9FD2-BD32B3A9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C76-5616-420E-B439-D81250DF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996-41DC-4E6E-93F7-26E32D71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A9D-5845-4577-B5D3-216E4009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B73-A74C-4F82-9CD7-B3BF1D32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D88-9F0E-4604-9EB5-799D3A29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021-9ED6-488E-8413-8794CDA7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BEEE-8672-4B9F-BBC5-98C86B1CE6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Коста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Леванович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Хетагуров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Гончарова 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: Щербак Е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ahoma"/>
              </a:rPr>
              <a:t>Памятник К. Хетагурову. Ставроп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Отсканировано 19"/>
          <p:cNvPicPr/>
          <p:nvPr/>
        </p:nvPicPr>
        <p:blipFill>
          <a:blip r:embed="rId1"/>
          <a:stretch/>
        </p:blipFill>
        <p:spPr>
          <a:xfrm>
            <a:off x="971640" y="-47520"/>
            <a:ext cx="73454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одился в 1859 году. Отец- Леван Елизбарович Хетагуров. Мать- Мария Гавриловна ( в девичестве Губаева) умерла после родов (1837-1859г.г) в ауле Нар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.Е. Хетагу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Отсканировано 17"/>
          <p:cNvPicPr/>
          <p:nvPr/>
        </p:nvPicPr>
        <p:blipFill>
          <a:blip r:embed="rId1"/>
          <a:stretch/>
        </p:blipFill>
        <p:spPr>
          <a:xfrm>
            <a:off x="4643280" y="1709640"/>
            <a:ext cx="36212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Хетагуров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1898год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3132000" y="0"/>
            <a:ext cx="50421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ез два года из Кубанской области пришло известие, после которого Коста долго не мог прийти в себя . Ему перестали платить 25- рублёвую стипендию. Вскоре Коста покинул гимназию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Коста –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живописец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Коста Хетагуров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Скорбящий ангел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Масл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5219640" y="-44280"/>
            <a:ext cx="366084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 Хетагуров. Автопортрет.Масл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2124000" y="-171360"/>
            <a:ext cx="563256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Последние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годы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(1898-1906 гг.)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В доме Смирновых уже на закате своей жизни Коста пленился красотой Гали Смирновой. 19- летняя Гали вместе с подругой училась у хозяйки Коста вязать, рисовать; там иногда встречала поэта. Родители Гали не принимали увлечение Коста всерьёз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днако Гали Смирнова в 1908 году вышла замуж за студента медицинского отделения Киевского университета Сергея Иванченко. В 1912 семья обосновалась в Георгиевске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Гали Смирнова скончалась в Георгиевске в феврале 1974 году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Прекрасная любовь, полная глубокой страсти к Гали Смирновой, была последним аккордом в жизни великого поэта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Летом 1903 года тяжёлое нервное заболевание дало о себе знать, поэт оказался прикованным к постели. В воскресный день 19 марта 1906 года Коста умер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7:31:52Z</dcterms:created>
  <dc:creator>User</dc:creator>
  <dc:description/>
  <dc:language>en-US</dc:language>
  <cp:lastModifiedBy>Щербак</cp:lastModifiedBy>
  <dcterms:modified xsi:type="dcterms:W3CDTF">2002-01-03T02:02:4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90000000000010250300207f7000400038000</vt:lpwstr>
  </property>
</Properties>
</file>