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6.gif" ContentType="image/gif"/>
  <Override PartName="/ppt/media/image16.jpeg" ContentType="image/jpeg"/>
  <Override PartName="/ppt/media/image13.gif" ContentType="image/gif"/>
  <Override PartName="/ppt/media/image26.jpeg" ContentType="image/jpeg"/>
  <Override PartName="/ppt/media/image5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7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media/image14.jpeg" ContentType="image/jpeg"/>
  <Override PartName="/ppt/media/image28.gif" ContentType="image/gif"/>
  <Override PartName="/ppt/media/image15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move the slide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2EF4-F766-4AB0-8CA2-DDEA298B8D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чане чтят память своего великого земля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денсе есть Дом-музей Андерсена,в Саду скказки установлен памятник писателю, а вход в Копенгагенский порт охраняет статуя Русалочки, героиня одной из самых его чудесных сказ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удесные истории о добрых волшебниках и злых ведьмах, стойких оловянных солдатиках и белоснежных лебедях Андерсен придумывал с детства. Ему не нужна была волшебная палочка – всё, на что ни падал его взгляд, он умел превратить в сказ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номик в красном колпачке – старый бог снов, который зовётся в Дании Оле-Лукойе, что в переводе на русский язык значит «Оле Закрой Глазки!» Если как следует задуматься, то Оле-Лукойе не кто иной, как сам Андерс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льгельм Педерсен, Лоренц Фрюлих, Михаил Клодт, Ника Гольц в разные годы  иллюстрировали сказки Андерс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др из фильма Эльдара Рязанова «Андерсен. Жизнь без любв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55069-DF53-49D7-841D-2EDCD51C2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95CC5-A1A1-4D8C-94B5-60C112BF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5A9ED-C9B8-4045-8316-7DD22FBC6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69E3F-5AA4-4F2C-BB03-89FAED8AD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0F73-1B06-46A4-93E6-17F49B124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A5F9-1B91-4EA1-A18D-225ABF5F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0E76-BACD-4D02-BD67-8FA3290D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CA0A-413B-4CD2-B16D-F17EA201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870B-5D51-4EE7-815C-748E7FFF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E55F-04E5-4138-9F39-C4536570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4EA2-351F-49A6-9D9E-24571293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E3C22-6CDC-4BE7-811C-023412D4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C995-5FF3-44C8-A7DE-35850420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244C-5345-4E79-BE96-B64DDAE3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3E31-B2A4-4FCE-A183-E2E5592D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3BCC-93B6-4C23-BB17-777093B4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976F-3043-46E1-A58A-DED8C28E5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0CBCD-9FD7-46D3-BF0F-0141B016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8C583-7683-468D-B027-D6F88B52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D794B-B7EF-4FA2-9C1D-A40C3333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FD83B-E6E9-44BC-8671-F35C9200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4F551-1015-401F-A521-A00DF88A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ED64A-D44E-4438-A13A-65236727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59EC4-90C7-4BBA-8785-0B339058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3670-C7FC-4982-A8E4-CF297A20B4B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452B-7F31-4848-B526-AD7461A134D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4.jpeg"/><Relationship Id="rId8" Type="http://schemas.openxmlformats.org/officeDocument/2006/relationships/image" Target="../media/image27.gif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476360" y="3716280"/>
            <a:ext cx="6076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ролю сказок посвящается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2225520" cy="2664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03640" y="13413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анс Кристиан Андерс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1805-187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ownRibbonSharp"/>
          <p:cNvSpPr/>
          <p:nvPr/>
        </p:nvSpPr>
        <p:spPr>
          <a:xfrm>
            <a:off x="2050920" y="333360"/>
            <a:ext cx="4969080" cy="1800360"/>
          </a:xfrm>
          <a:custGeom>
            <a:avLst/>
            <a:gdLst>
              <a:gd name="textAreaLeft" fmla="*/ 1242360 w 4969080"/>
              <a:gd name="textAreaRight" fmla="*/ 3727080 w 4969080"/>
              <a:gd name="textAreaTop" fmla="*/ 46188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00" y="0"/>
                </a:lnTo>
                <a:lnTo>
                  <a:pt x="8100" y="5541"/>
                </a:lnTo>
                <a:lnTo>
                  <a:pt x="13500" y="5541"/>
                </a:lnTo>
                <a:lnTo>
                  <a:pt x="13500" y="0"/>
                </a:lnTo>
                <a:lnTo>
                  <a:pt x="21600" y="0"/>
                </a:lnTo>
                <a:lnTo>
                  <a:pt x="18900" y="8030"/>
                </a:lnTo>
                <a:lnTo>
                  <a:pt x="21600" y="16059"/>
                </a:lnTo>
                <a:lnTo>
                  <a:pt x="16200" y="16059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6059"/>
                </a:lnTo>
                <a:lnTo>
                  <a:pt x="0" y="16059"/>
                </a:lnTo>
                <a:lnTo>
                  <a:pt x="2700" y="8030"/>
                </a:lnTo>
                <a:close/>
              </a:path>
              <a:path fill="none" w="21600" h="21600">
                <a:moveTo>
                  <a:pt x="8100" y="5541"/>
                </a:moveTo>
                <a:lnTo>
                  <a:pt x="5400" y="5541"/>
                </a:lnTo>
                <a:lnTo>
                  <a:pt x="5400" y="16059"/>
                </a:lnTo>
              </a:path>
              <a:path fill="none" w="21600" h="21600">
                <a:moveTo>
                  <a:pt x="5400" y="5541"/>
                </a:moveTo>
                <a:lnTo>
                  <a:pt x="8100" y="0"/>
                </a:lnTo>
              </a:path>
              <a:path fill="none" w="21600" h="21600">
                <a:moveTo>
                  <a:pt x="13500" y="5541"/>
                </a:moveTo>
                <a:lnTo>
                  <a:pt x="16200" y="5541"/>
                </a:lnTo>
                <a:lnTo>
                  <a:pt x="16200" y="16059"/>
                </a:lnTo>
              </a:path>
              <a:path fill="none" w="21600" h="21600">
                <a:moveTo>
                  <a:pt x="16200" y="5541"/>
                </a:moveTo>
                <a:lnTo>
                  <a:pt x="13500" y="0"/>
                </a:lnTo>
              </a:path>
            </a:pathLst>
          </a:custGeom>
          <a:solidFill>
            <a:srgbClr val="d4d42a"/>
          </a:solidFill>
          <a:ln w="9360">
            <a:solidFill>
              <a:srgbClr val="e4f321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708360" y="692280"/>
            <a:ext cx="1655640" cy="1657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124000" y="5418000"/>
            <a:ext cx="4897440" cy="1440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574560" y="2421000"/>
            <a:ext cx="856944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частлив был Андерсен,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дь жизнь его не прошла даром: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н подарил миру свои прекрасные сказки.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ушая их, люди становятся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мнее и добрее.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 rot="21234600">
            <a:off x="687240" y="1455840"/>
            <a:ext cx="7632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частливой дорог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в мир сказок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4508640"/>
            <a:ext cx="496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упанова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.Н.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итель МОУ СОШ№5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. Брянс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 rot="20847600">
            <a:off x="468000" y="3933720"/>
            <a:ext cx="3456000" cy="2335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 rot="547800">
            <a:off x="5292360" y="692280"/>
            <a:ext cx="3333600" cy="2181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 rot="21090000">
            <a:off x="755640" y="764640"/>
            <a:ext cx="3333600" cy="2105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92040" y="3403800"/>
            <a:ext cx="5443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денсе - небольшой (по нашим меркам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уденческий городок на острове Фю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Дан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 предполагается, в одном из домов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хранившихся в старой части город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805 году родился знаменитый датск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азочник Х.К. Андерсен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5232240" cy="3475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5480" y="617760"/>
            <a:ext cx="8259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го родителями были сапожник и прач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 все детство Андерсена прошло в нищет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о потом, когда о нем заговоря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к об известном и талантливом сказочник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йдут слухи, что он был внебрачным сыном короля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588000" y="4508640"/>
            <a:ext cx="1656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732720" y="3573360"/>
            <a:ext cx="197640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1330200" cy="2016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835280" y="620640"/>
            <a:ext cx="6337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атчане чтят память своего великого земля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Оденсе есть Дом-музей Андерсена, в Саду сказки установлен памятник писателю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 вх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Копенгагенский п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храняет стату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усалочки, героин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ной из самых е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удесных сказ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5280" y="333360"/>
            <a:ext cx="833436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казки,которые создавала жизнь...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1920600" cy="2533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867280" y="4005360"/>
            <a:ext cx="2664000" cy="2465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411280" y="1268280"/>
            <a:ext cx="7104240" cy="54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удесные истории о добрых волшебник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злых ведьмах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ойких оловянных солдатик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белоснежных лебедя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ндерсен придумывал с дет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му не нужна бы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лшебная палочк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ё, на что ни пада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го взгляд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н умел преврат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каз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11280" y="4292640"/>
            <a:ext cx="2089080" cy="2031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164360" y="5265720"/>
            <a:ext cx="1655640" cy="1066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843280" y="476280"/>
            <a:ext cx="1515744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номик в красном колпачке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рый бог снов, который зовё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Дании Оле-Лукой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в переводе на русский язы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чит «Оле Закрой Глазки!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как следует задуматьс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 Оле-Лукойе не кто ин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сам Андерсе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 rot="345600">
            <a:off x="7667280" y="4437000"/>
            <a:ext cx="1246320" cy="1812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 rot="21371400">
            <a:off x="5796000" y="3499920"/>
            <a:ext cx="1562040" cy="2016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 rot="20425800">
            <a:off x="468000" y="4365360"/>
            <a:ext cx="1512720" cy="2016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 rot="20802600">
            <a:off x="1332000" y="3860640"/>
            <a:ext cx="1508040" cy="2109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4788000" y="2852640"/>
            <a:ext cx="1382760" cy="1727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6732720" y="2276640"/>
            <a:ext cx="1098360" cy="1744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 rot="20917800">
            <a:off x="2124000" y="3212640"/>
            <a:ext cx="1603440" cy="2059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3492360" y="3429000"/>
            <a:ext cx="1614600" cy="1955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611280" y="404640"/>
            <a:ext cx="1904760" cy="2476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tretch/>
        </p:blipFill>
        <p:spPr>
          <a:xfrm>
            <a:off x="6948360" y="3573360"/>
            <a:ext cx="1438560" cy="1944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2627280" y="404640"/>
            <a:ext cx="6048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ртинки из нашего детст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30080" y="1125360"/>
            <a:ext cx="598248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льгельм Педерсен, Лоренц Фрюлих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хаил Клодт, Ника Гольц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разные годы  иллюстрировали сказки Андерсе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250920" y="189000"/>
            <a:ext cx="2303280" cy="3384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3132000" y="3573360"/>
            <a:ext cx="5426280" cy="2232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8"/>
          <a:stretch/>
        </p:blipFill>
        <p:spPr>
          <a:xfrm>
            <a:off x="395280" y="4076640"/>
            <a:ext cx="2101680" cy="2178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346200" y="1051200"/>
            <a:ext cx="481068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сказ 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леньком мальчик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торого поцеловал бог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вращается в кинобиографи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анса Кристиана Андерсен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реальные персонажи и событ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чудливейшим образ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плетаются с вымышленными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01800" y="8172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51480" y="5877000"/>
            <a:ext cx="460188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др из фильма Эльдара Рязано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Андерсен. Жизнь без любв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916360" y="260280"/>
            <a:ext cx="5429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КАЗКА О СКАЗОЧНИК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Не приспособлены ещё наши глаза,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чтобы разглядеть 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всю красоту природы,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 но когда-нибудь мы этого достигнем.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Это будет сказкой из сказок.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       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       Х.К.Андерсен</a:t>
            </a:r>
            <a:endParaRPr b="0" lang="en-US" sz="3800" spc="-1" strike="noStrike">
              <a:solidFill>
                <a:srgbClr val="b8dec6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9640" y="4221000"/>
            <a:ext cx="1704960" cy="223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5:57:04Z</dcterms:created>
  <dc:creator>User</dc:creator>
  <dc:description/>
  <dc:language>en-US</dc:language>
  <cp:lastModifiedBy>User</cp:lastModifiedBy>
  <dcterms:modified xsi:type="dcterms:W3CDTF">2009-09-25T17:58:42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60000000000010250300207f7000400038000</vt:lpwstr>
  </property>
</Properties>
</file>