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6.gif" ContentType="image/gif"/>
  <Override PartName="/ppt/media/image16.jpeg" ContentType="image/jpeg"/>
  <Override PartName="/ppt/media/image13.gif" ContentType="image/gif"/>
  <Override PartName="/ppt/media/image26.jpeg" ContentType="image/jpeg"/>
  <Override PartName="/ppt/media/image5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7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media/image14.jpeg" ContentType="image/jpeg"/>
  <Override PartName="/ppt/media/image28.gif" ContentType="image/gif"/>
  <Override PartName="/ppt/media/image15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move the slide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A937-8F80-4D8F-99BD-DC0942A3FB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чане чтят память своего великого земля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денсе есть Дом-музей Андерсена,в Саду скказки установлен памятник писателю, а вход в Копенгагенский порт охраняет статуя Русалочки, героиня одной из самых его чудесных ска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удесные истории о добрых волшебниках и злых ведьмах, стойких оловянных солдатиках и белоснежных лебедях Андерсен придумывал с детства. Ему не нужна была волшебная палочка – всё, на что ни падал его взгляд, он умел превратить в сказ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номик в красном колпачке – старый бог снов, который зовётся в Дании Оле-Лукойе, что в переводе на русский язык значит «Оле Закрой Глазки!» Если как следует задуматься, то Оле-Лукойе не кто иной, как сам Андерс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льгельм Педерсен, Лоренц Фрюлих, Михаил Клодт, Ника Гольц в разные годы  иллюстрировали сказки Андерс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адр из фильма Эльдара Рязанова «Андерсен. Жизнь без любв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9893C-36C5-48CD-9273-31BBADCB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80D2B-CD80-4188-83B2-EDD46C66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586EE-E1F4-4839-A4A4-53EF8F3E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6C6E8-A159-4BFB-973C-239E8987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AD3A-EA09-41CE-9A09-C14CE9DD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4CDF-52A5-471E-9602-D6D0E06D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1459-DE46-4F99-85C2-190C3C3C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8E92-B885-4210-9291-6A41B6D6E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0D46-9D94-4C71-9864-F0142102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EE23-2987-4D1E-B051-9398DBF0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6FFC-58AA-420F-9B87-E514DFB9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5C3E-C29D-4C4C-87E0-90BBB0F8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61FC-2C4E-4132-B7B1-E47522FA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4915-8D6A-43BE-B9F1-70C27271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4D66-FC74-4760-BE59-00C0561B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CC22-93B8-42CF-82AC-F1E185F4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FD976-7FB5-44F7-AF07-DD5462F6A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CA1DC-D931-472F-97E1-49022895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62054-65C3-4897-8B77-5CE42960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0A9FE-27FA-49FE-950C-7143A0D4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0A9D-D03A-4EA3-ABEB-46DA92133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D362-F1A8-49AF-B215-4BC913B1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CED7-E9A3-49BA-BE12-358DE71E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BE0D9-2714-4932-A16E-B58AD0F1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CBDB-C84C-4AFB-B0CB-2920F0AF8D2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41A2-964F-4B8B-AFA5-E97845EBCA8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1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4.jpeg"/><Relationship Id="rId8" Type="http://schemas.openxmlformats.org/officeDocument/2006/relationships/image" Target="../media/image27.gif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476360" y="3716280"/>
            <a:ext cx="6076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ролю сказок посвящается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2225520" cy="2664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03640" y="1341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Ханс Кристиан Андерс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1805-187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ownRibbonSharp"/>
          <p:cNvSpPr/>
          <p:nvPr/>
        </p:nvSpPr>
        <p:spPr>
          <a:xfrm>
            <a:off x="2050920" y="333360"/>
            <a:ext cx="4969080" cy="1800360"/>
          </a:xfrm>
          <a:custGeom>
            <a:avLst/>
            <a:gdLst>
              <a:gd name="textAreaLeft" fmla="*/ 1242360 w 4969080"/>
              <a:gd name="textAreaRight" fmla="*/ 3727080 w 4969080"/>
              <a:gd name="textAreaTop" fmla="*/ 46188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100" y="0"/>
                </a:lnTo>
                <a:lnTo>
                  <a:pt x="8100" y="5541"/>
                </a:lnTo>
                <a:lnTo>
                  <a:pt x="13500" y="5541"/>
                </a:lnTo>
                <a:lnTo>
                  <a:pt x="13500" y="0"/>
                </a:lnTo>
                <a:lnTo>
                  <a:pt x="21600" y="0"/>
                </a:lnTo>
                <a:lnTo>
                  <a:pt x="18900" y="8030"/>
                </a:lnTo>
                <a:lnTo>
                  <a:pt x="21600" y="16059"/>
                </a:lnTo>
                <a:lnTo>
                  <a:pt x="16200" y="16059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6059"/>
                </a:lnTo>
                <a:lnTo>
                  <a:pt x="0" y="16059"/>
                </a:lnTo>
                <a:lnTo>
                  <a:pt x="2700" y="8030"/>
                </a:lnTo>
                <a:close/>
              </a:path>
              <a:path fill="none" w="21600" h="21600">
                <a:moveTo>
                  <a:pt x="8100" y="5541"/>
                </a:moveTo>
                <a:lnTo>
                  <a:pt x="5400" y="5541"/>
                </a:lnTo>
                <a:lnTo>
                  <a:pt x="5400" y="16059"/>
                </a:lnTo>
              </a:path>
              <a:path fill="none" w="21600" h="21600">
                <a:moveTo>
                  <a:pt x="5400" y="5541"/>
                </a:moveTo>
                <a:lnTo>
                  <a:pt x="8100" y="0"/>
                </a:lnTo>
              </a:path>
              <a:path fill="none" w="21600" h="21600">
                <a:moveTo>
                  <a:pt x="13500" y="5541"/>
                </a:moveTo>
                <a:lnTo>
                  <a:pt x="16200" y="5541"/>
                </a:lnTo>
                <a:lnTo>
                  <a:pt x="16200" y="16059"/>
                </a:lnTo>
              </a:path>
              <a:path fill="none" w="21600" h="21600">
                <a:moveTo>
                  <a:pt x="16200" y="5541"/>
                </a:moveTo>
                <a:lnTo>
                  <a:pt x="13500" y="0"/>
                </a:lnTo>
              </a:path>
            </a:pathLst>
          </a:custGeom>
          <a:solidFill>
            <a:srgbClr val="d4d42a"/>
          </a:solidFill>
          <a:ln w="9360">
            <a:solidFill>
              <a:srgbClr val="e4f321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708360" y="692280"/>
            <a:ext cx="1655640" cy="1657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2124000" y="5418000"/>
            <a:ext cx="4897440" cy="1440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574560" y="2421000"/>
            <a:ext cx="85694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частлив был Андерсен,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дь жизнь его не прошла даром: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н подарил миру свои прекрасные сказки.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шая их, люди становятся 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d0280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нее и добрее.</a:t>
            </a:r>
            <a:endParaRPr b="0" lang="en-US" sz="3200" spc="1" strike="noStrike">
              <a:ln w="0">
                <a:noFill/>
              </a:ln>
              <a:solidFill>
                <a:srgbClr val="d0280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 rot="21234600">
            <a:off x="687240" y="1455840"/>
            <a:ext cx="7632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Счастливой дорог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 мир сказок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4508640"/>
            <a:ext cx="49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упанов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.Н.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читель МОУ СОШ№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. Брянс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 rot="20847600">
            <a:off x="468000" y="3933720"/>
            <a:ext cx="3456000" cy="233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 rot="547800">
            <a:off x="5292360" y="692280"/>
            <a:ext cx="3333600" cy="2181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 rot="21090000">
            <a:off x="755640" y="764640"/>
            <a:ext cx="3333600" cy="2105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92040" y="3403800"/>
            <a:ext cx="54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денсе - небольшой (по нашим меркам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уденческий городок на острове Фю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Дан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предполагается, в одном из домов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охранившихся в старой части горо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805 году родился знаменитый дат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зочник Х.К. Андерсен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2924280"/>
            <a:ext cx="5232240" cy="3475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45480" y="617760"/>
            <a:ext cx="8259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родителями были сапожник и прачк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все детство Андерсена прошло в нище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Это потом, когда о нем заговоря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ак об известном и талантливом сказочник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йдут слухи, что он был внебрачным сыном короля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588000" y="4508640"/>
            <a:ext cx="1656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32720" y="3573360"/>
            <a:ext cx="197640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1330200" cy="2016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35280" y="620640"/>
            <a:ext cx="63370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тчане чтят память своего великого земля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Оденсе есть Дом-музей Андерсена, в Саду сказки установлен памятник писателю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 вх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Копенгагенский пор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храняет стату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усалочки, героин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дной из самых е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чудесных сказ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95280" y="333360"/>
            <a:ext cx="833436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казки,которые создавала жизнь...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1920600" cy="2533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867280" y="4005360"/>
            <a:ext cx="2664000" cy="2465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411280" y="1268280"/>
            <a:ext cx="7104240" cy="54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удесные истории о добрых волшебн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злых ведьмах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ойких оловянных солдатика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 белоснежных лебедя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ндерсен придумывал с дет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му не нужна бы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лшебная палочк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ё, на что ни пада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о взгля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 умел превратит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ка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2089080" cy="2031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164360" y="5265720"/>
            <a:ext cx="1655640" cy="1066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43280" y="476280"/>
            <a:ext cx="15157440" cy="50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номик в красном колпачке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рый бог снов, который зовё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ании Оле-Лукой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 переводе на русский язы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ит «Оле Закрой Глазки!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как следует задуматьс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о Оле-Лукойе не кто ин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сам Андерсе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rot="345600">
            <a:off x="7667280" y="4437000"/>
            <a:ext cx="1246320" cy="1812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 rot="21371400">
            <a:off x="5796000" y="3499920"/>
            <a:ext cx="1562040" cy="2016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 rot="20425800">
            <a:off x="468000" y="4365360"/>
            <a:ext cx="1512720" cy="2016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 rot="20802600">
            <a:off x="1332000" y="3860640"/>
            <a:ext cx="1508040" cy="2109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138276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6732720" y="2276640"/>
            <a:ext cx="1098360" cy="1744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7"/>
          <a:stretch/>
        </p:blipFill>
        <p:spPr>
          <a:xfrm rot="20917800">
            <a:off x="2124000" y="3212640"/>
            <a:ext cx="1603440" cy="2059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8"/>
          <a:stretch/>
        </p:blipFill>
        <p:spPr>
          <a:xfrm>
            <a:off x="3492360" y="3429000"/>
            <a:ext cx="1614600" cy="1955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9"/>
          <a:stretch/>
        </p:blipFill>
        <p:spPr>
          <a:xfrm>
            <a:off x="611280" y="404640"/>
            <a:ext cx="1904760" cy="2476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0"/>
          <a:stretch/>
        </p:blipFill>
        <p:spPr>
          <a:xfrm>
            <a:off x="6948360" y="3573360"/>
            <a:ext cx="1438560" cy="1944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627280" y="40464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ртинки из нашего детст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30080" y="1125360"/>
            <a:ext cx="5982480" cy="10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льгельм Педерсен, Лоренц Фрюлих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хаил Клодт, Ника Гольц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разные годы  иллюстрировали сказки Андерс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2303280" cy="338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132000" y="3573360"/>
            <a:ext cx="5426280" cy="2232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8"/>
          <a:stretch/>
        </p:blipFill>
        <p:spPr>
          <a:xfrm>
            <a:off x="395280" y="4076640"/>
            <a:ext cx="2101680" cy="217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346200" y="1051200"/>
            <a:ext cx="48106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ссказ 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аленьком мальчик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торого поцеловал бо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ается в кинобиограф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Ханса Кристиана Андерсе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реальные персонажи и событ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чудливейшим образ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ереплетаются с вымышленными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01800" y="8172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51480" y="5877000"/>
            <a:ext cx="460188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адр из фильма Эльдара Рязанов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«Андерсен. Жизнь без любви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916360" y="260280"/>
            <a:ext cx="5429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АЗКА О СКАЗОЧНИК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Не приспособлены ещё наши глаза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чтобы разглядеть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всю красоту природы,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но когда-нибудь мы этого достигнем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Это будет сказкой из сказок.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</a:t>
            </a:r>
            <a:br>
              <a:rPr sz="3800"/>
            </a:br>
            <a:r>
              <a:rPr b="0" lang="en-US" sz="3800" spc="-1" strike="noStrike">
                <a:solidFill>
                  <a:srgbClr val="b8dec6"/>
                </a:solidFill>
                <a:latin typeface="Tahoma"/>
              </a:rPr>
              <a:t>       Х.К.Андерсен</a:t>
            </a:r>
            <a:endParaRPr b="0" lang="en-US" sz="3800" spc="-1" strike="noStrike">
              <a:solidFill>
                <a:srgbClr val="b8dec6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221000"/>
            <a:ext cx="1704960" cy="223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5:57:04Z</dcterms:created>
  <dc:creator>User</dc:creator>
  <dc:description/>
  <dc:language>en-US</dc:language>
  <cp:lastModifiedBy>User</cp:lastModifiedBy>
  <dcterms:modified xsi:type="dcterms:W3CDTF">2009-09-25T17:58:42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60000000000010250300207f7000400038000</vt:lpwstr>
  </property>
</Properties>
</file>