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6.gif" ContentType="image/gif"/>
  <Override PartName="/ppt/media/image16.jpeg" ContentType="image/jpeg"/>
  <Override PartName="/ppt/media/image13.gif" ContentType="image/gif"/>
  <Override PartName="/ppt/media/image26.jpeg" ContentType="image/jpeg"/>
  <Override PartName="/ppt/media/image5.jpeg" ContentType="image/jpeg"/>
  <Override PartName="/ppt/media/image19.jpeg" ContentType="image/jpeg"/>
  <Override PartName="/ppt/media/image11.png" ContentType="image/png"/>
  <Override PartName="/ppt/media/image9.jpeg" ContentType="image/jpeg"/>
  <Override PartName="/ppt/media/image7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27.gif" ContentType="image/gif"/>
  <Override PartName="/ppt/media/image14.jpeg" ContentType="image/jpeg"/>
  <Override PartName="/ppt/media/image28.gif" ContentType="image/gif"/>
  <Override PartName="/ppt/media/image15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8dec6"/>
                </a:solidFill>
                <a:latin typeface="Tahoma"/>
              </a:rPr>
              <a:t>Click to move the slide</a:t>
            </a: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14547-0F32-4EC1-86C6-7D514986BE1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тчане чтят память своего великого земля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денсе есть Дом-музей Андерсена,в Саду скказки установлен памятник писателю, а вход в Копенгагенский порт охраняет статуя Русалочки, героиня одной из самых его чудесных сказ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удесные истории о добрых волшебниках и злых ведьмах, стойких оловянных солдатиках и белоснежных лебедях Андерсен придумывал с детства. Ему не нужна была волшебная палочка – всё, на что ни падал его взгляд, он умел превратить в сказ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номик в красном колпачке – старый бог снов, который зовётся в Дании Оле-Лукойе, что в переводе на русский язык значит «Оле Закрой Глазки!» Если как следует задуматься, то Оле-Лукойе не кто иной, как сам Андерсе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льгельм Педерсен, Лоренц Фрюлих, Михаил Клодт, Ника Гольц в разные годы  иллюстрировали сказки Андерсе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адр из фильма Эльдара Рязанова «Андерсен. Жизнь без любви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61657-AA49-4D2E-8E8A-57D9201D7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79111-FA61-406F-9692-73694F0AE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F4BCF-D048-4A5A-B505-EFA33415D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9ECF7-2D31-4A96-AE49-47FA2D9C6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3A982-4E88-4146-871D-7BCAAB621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EBE17-818C-47D0-9F56-723DD5D54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788E0-A39D-4021-B858-9F2AC813A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1DD54-CA48-401A-8E6C-24491A6CD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918F6-C713-46FD-BEE5-0C25E210F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3FD57-1E21-452C-BEE6-024DFDCF4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F5569-5A1A-4279-9ACA-F3F6A035E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8440A-24F9-4DE1-A78D-3DB60D6E5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69630-F921-467F-BF1F-BA3A7CF49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A1B29-D4AF-4921-9AF5-D456E9C11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4E5AC-A4BD-4E19-8B0F-E340D1BEF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7E8D7-61F4-4366-BC17-68AD32B74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5BFD4-4603-4F5B-BD31-3C1E1BC81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385E4-826A-4DF1-854A-73E638BE6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A26DB-5A64-4D1E-AF91-E2E083221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A7D79-64C6-4F62-9D4D-6DF5E95B8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F2C00-D56B-49D1-8AA5-988A5672E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4FFAB-FF08-436E-B9F5-160361371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BC5A1-C42B-41E2-A16E-966178407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4F7F4-0A91-4E3E-B94C-D6112DD52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5b59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d8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85756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751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5250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525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75755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8dec6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b8dec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AB89C-7300-4C49-A982-D69D75D977E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5b59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d8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85756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751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5250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525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75755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8dec6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2CF4E-0073-4AC4-BB75-0BD8C96DB6B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b8dec6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1.jpeg"/><Relationship Id="rId3" Type="http://schemas.openxmlformats.org/officeDocument/2006/relationships/image" Target="../media/image31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22.jpeg"/><Relationship Id="rId10" Type="http://schemas.openxmlformats.org/officeDocument/2006/relationships/image" Target="../media/image23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image" Target="../media/image24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4.jpeg"/><Relationship Id="rId8" Type="http://schemas.openxmlformats.org/officeDocument/2006/relationships/image" Target="../media/image27.gif"/><Relationship Id="rId9" Type="http://schemas.openxmlformats.org/officeDocument/2006/relationships/image" Target="../media/image24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476360" y="3716280"/>
            <a:ext cx="60768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оролю сказок посвящается..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2225520" cy="2664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203640" y="134136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Ханс Кристиан Андерс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1805-187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DownRibbonSharp"/>
          <p:cNvSpPr/>
          <p:nvPr/>
        </p:nvSpPr>
        <p:spPr>
          <a:xfrm>
            <a:off x="2050920" y="333360"/>
            <a:ext cx="4969080" cy="1800360"/>
          </a:xfrm>
          <a:custGeom>
            <a:avLst/>
            <a:gdLst>
              <a:gd name="textAreaLeft" fmla="*/ 1242360 w 4969080"/>
              <a:gd name="textAreaRight" fmla="*/ 3727080 w 4969080"/>
              <a:gd name="textAreaTop" fmla="*/ 461880 h 1800360"/>
              <a:gd name="textAreaBottom" fmla="*/ 180072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100" y="0"/>
                </a:lnTo>
                <a:lnTo>
                  <a:pt x="8100" y="5541"/>
                </a:lnTo>
                <a:lnTo>
                  <a:pt x="13500" y="5541"/>
                </a:lnTo>
                <a:lnTo>
                  <a:pt x="13500" y="0"/>
                </a:lnTo>
                <a:lnTo>
                  <a:pt x="21600" y="0"/>
                </a:lnTo>
                <a:lnTo>
                  <a:pt x="18900" y="8030"/>
                </a:lnTo>
                <a:lnTo>
                  <a:pt x="21600" y="16059"/>
                </a:lnTo>
                <a:lnTo>
                  <a:pt x="16200" y="16059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6059"/>
                </a:lnTo>
                <a:lnTo>
                  <a:pt x="0" y="16059"/>
                </a:lnTo>
                <a:lnTo>
                  <a:pt x="2700" y="8030"/>
                </a:lnTo>
                <a:close/>
              </a:path>
              <a:path fill="none" w="21600" h="21600">
                <a:moveTo>
                  <a:pt x="8100" y="5541"/>
                </a:moveTo>
                <a:lnTo>
                  <a:pt x="5400" y="5541"/>
                </a:lnTo>
                <a:lnTo>
                  <a:pt x="5400" y="16059"/>
                </a:lnTo>
              </a:path>
              <a:path fill="none" w="21600" h="21600">
                <a:moveTo>
                  <a:pt x="5400" y="5541"/>
                </a:moveTo>
                <a:lnTo>
                  <a:pt x="8100" y="0"/>
                </a:lnTo>
              </a:path>
              <a:path fill="none" w="21600" h="21600">
                <a:moveTo>
                  <a:pt x="13500" y="5541"/>
                </a:moveTo>
                <a:lnTo>
                  <a:pt x="16200" y="5541"/>
                </a:lnTo>
                <a:lnTo>
                  <a:pt x="16200" y="16059"/>
                </a:lnTo>
              </a:path>
              <a:path fill="none" w="21600" h="21600">
                <a:moveTo>
                  <a:pt x="16200" y="5541"/>
                </a:moveTo>
                <a:lnTo>
                  <a:pt x="13500" y="0"/>
                </a:lnTo>
              </a:path>
            </a:pathLst>
          </a:custGeom>
          <a:solidFill>
            <a:srgbClr val="d4d42a"/>
          </a:solidFill>
          <a:ln w="9360">
            <a:solidFill>
              <a:srgbClr val="e4f321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708360" y="692280"/>
            <a:ext cx="1655640" cy="16570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2124000" y="5418000"/>
            <a:ext cx="4897440" cy="1440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574560" y="2421000"/>
            <a:ext cx="856944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d0280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частлив был Андерсен, </a:t>
            </a:r>
            <a:endParaRPr b="0" lang="en-US" sz="3200" spc="1" strike="noStrike">
              <a:ln w="0">
                <a:noFill/>
              </a:ln>
              <a:solidFill>
                <a:srgbClr val="d0280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d0280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едь жизнь его не прошла даром: </a:t>
            </a:r>
            <a:endParaRPr b="0" lang="en-US" sz="3200" spc="1" strike="noStrike">
              <a:ln w="0">
                <a:noFill/>
              </a:ln>
              <a:solidFill>
                <a:srgbClr val="d0280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d0280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н подарил миру свои прекрасные сказки. </a:t>
            </a:r>
            <a:endParaRPr b="0" lang="en-US" sz="3200" spc="1" strike="noStrike">
              <a:ln w="0">
                <a:noFill/>
              </a:ln>
              <a:solidFill>
                <a:srgbClr val="d0280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d0280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лушая их, люди становятся </a:t>
            </a:r>
            <a:endParaRPr b="0" lang="en-US" sz="3200" spc="1" strike="noStrike">
              <a:ln w="0">
                <a:noFill/>
              </a:ln>
              <a:solidFill>
                <a:srgbClr val="d0280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d0280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мнее и добрее.</a:t>
            </a:r>
            <a:endParaRPr b="0" lang="en-US" sz="3200" spc="1" strike="noStrike">
              <a:ln w="0">
                <a:noFill/>
              </a:ln>
              <a:solidFill>
                <a:srgbClr val="d0280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 rot="21234600">
            <a:off x="687240" y="1455840"/>
            <a:ext cx="763272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Счастливой дорог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в мир сказок..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564000" y="4508640"/>
            <a:ext cx="496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упанова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.Н.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читель МОУ СОШ№5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г. Брянс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 rot="20847600">
            <a:off x="468000" y="3933720"/>
            <a:ext cx="3456000" cy="23353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 rot="547800">
            <a:off x="5292360" y="692280"/>
            <a:ext cx="3333600" cy="21812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 rot="21090000">
            <a:off x="755640" y="764640"/>
            <a:ext cx="3333600" cy="21052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992040" y="3403800"/>
            <a:ext cx="5443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денсе - небольшой (по нашим меркам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туденческий городок на острове Фю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Дан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к предполагается, в одном из домов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хранившихся в старой части город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1805 году родился знаменитый датски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казочник Х.К. Андерсен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95280" y="2924280"/>
            <a:ext cx="5232240" cy="34750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45480" y="617760"/>
            <a:ext cx="8259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Его родителями были сапожник и прачк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 все детство Андерсена прошло в нищет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Это потом, когда о нем заговоря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ак об известном и талантливом сказочник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йдут слухи, что он был внебрачным сыном короля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6588000" y="4508640"/>
            <a:ext cx="165600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732720" y="3573360"/>
            <a:ext cx="1976400" cy="2664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324000" y="620640"/>
            <a:ext cx="1330200" cy="2016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835280" y="620640"/>
            <a:ext cx="63370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атчане чтят память своего великого земля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Оденсе есть Дом-музей Андерсена, в Саду сказки установлен памятник писателю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 вх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Копенгагенский пор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храняет стату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усалочки, героин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дной из самых ег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удесных сказо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95280" y="333360"/>
            <a:ext cx="8334360" cy="8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Сказки,которые создавала жизнь...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1920600" cy="25336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867280" y="4005360"/>
            <a:ext cx="2664000" cy="24652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411280" y="1268280"/>
            <a:ext cx="7104240" cy="54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Чудесные истории о добрых волшебника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 злых ведьмах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тойких оловянных солдатика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 белоснежных лебедя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ндерсен придумывал с дет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Ему не нужна бы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олшебная палочка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сё, на что ни пада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его взгляд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н умел преврати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казк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11280" y="4292640"/>
            <a:ext cx="2089080" cy="20318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7164360" y="5265720"/>
            <a:ext cx="1655640" cy="10666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843280" y="476280"/>
            <a:ext cx="15157440" cy="50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номик в красном колпачке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арый бог снов, который зовёт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Дании Оле-Лукой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то в переводе на русский язы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начит «Оле Закрой Глазки!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сли как следует задуматься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о Оле-Лукойе не кто иной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 сам Андерсен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 rot="345600">
            <a:off x="7667280" y="4437000"/>
            <a:ext cx="1246320" cy="18129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 rot="21371400">
            <a:off x="5796000" y="3499920"/>
            <a:ext cx="1562040" cy="20163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 rot="20425800">
            <a:off x="468000" y="4365360"/>
            <a:ext cx="1512720" cy="20160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 rot="20802600">
            <a:off x="1332000" y="3860640"/>
            <a:ext cx="1508040" cy="21099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4788000" y="2852640"/>
            <a:ext cx="1382760" cy="17272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6"/>
          <a:stretch/>
        </p:blipFill>
        <p:spPr>
          <a:xfrm>
            <a:off x="6732720" y="2276640"/>
            <a:ext cx="1098360" cy="17445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7"/>
          <a:stretch/>
        </p:blipFill>
        <p:spPr>
          <a:xfrm rot="20917800">
            <a:off x="2124000" y="3212640"/>
            <a:ext cx="1603440" cy="20592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8"/>
          <a:stretch/>
        </p:blipFill>
        <p:spPr>
          <a:xfrm>
            <a:off x="3492360" y="3429000"/>
            <a:ext cx="1614600" cy="19558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9"/>
          <a:stretch/>
        </p:blipFill>
        <p:spPr>
          <a:xfrm>
            <a:off x="611280" y="404640"/>
            <a:ext cx="1904760" cy="24768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0"/>
          <a:stretch/>
        </p:blipFill>
        <p:spPr>
          <a:xfrm>
            <a:off x="6948360" y="3573360"/>
            <a:ext cx="1438560" cy="19447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>
            <a:off x="2627280" y="404640"/>
            <a:ext cx="6048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артинки из нашего детств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30080" y="1125360"/>
            <a:ext cx="5982480" cy="10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ильгельм Педерсен, Лоренц Фрюлих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ихаил Клодт, Ника Гольц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разные годы  иллюстрировали сказки Андерсе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543560" y="3409920"/>
            <a:ext cx="56880" cy="381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543560" y="3409920"/>
            <a:ext cx="56880" cy="381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4543560" y="3409920"/>
            <a:ext cx="56880" cy="381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4543560" y="3409920"/>
            <a:ext cx="56880" cy="381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250920" y="189000"/>
            <a:ext cx="2303280" cy="3384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6"/>
          <a:stretch/>
        </p:blipFill>
        <p:spPr>
          <a:xfrm>
            <a:off x="3132000" y="3573360"/>
            <a:ext cx="5426280" cy="22320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7"/>
          <a:stretch/>
        </p:blipFill>
        <p:spPr>
          <a:xfrm>
            <a:off x="4543560" y="3409920"/>
            <a:ext cx="56880" cy="381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8"/>
          <a:stretch/>
        </p:blipFill>
        <p:spPr>
          <a:xfrm>
            <a:off x="395280" y="4076640"/>
            <a:ext cx="2101680" cy="21780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9"/>
          <a:stretch/>
        </p:blipFill>
        <p:spPr>
          <a:xfrm>
            <a:off x="4543560" y="3409920"/>
            <a:ext cx="56880" cy="381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346200" y="1051200"/>
            <a:ext cx="481068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ссказ о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аленьком мальчике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торого поцеловал бог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евращается в кинобиографию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Ханса Кристиана Андерсен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де реальные персонажи и событ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чудливейшим образ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реплетаются с вымышленными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701800" y="81720"/>
            <a:ext cx="18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51480" y="5877000"/>
            <a:ext cx="4601880" cy="7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адр из фильма Эльдара Рязанов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«Андерсен. Жизнь без любви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916360" y="260280"/>
            <a:ext cx="542916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КАЗКА О СКАЗОЧНИК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r>
              <a:rPr b="0" lang="en-US" sz="3800" spc="-1" strike="noStrike">
                <a:solidFill>
                  <a:srgbClr val="b8dec6"/>
                </a:solidFill>
                <a:latin typeface="Tahoma"/>
              </a:rPr>
              <a:t>Не приспособлены ещё наши глаза,</a:t>
            </a:r>
            <a:br>
              <a:rPr sz="3800"/>
            </a:br>
            <a:r>
              <a:rPr b="0" lang="en-US" sz="3800" spc="-1" strike="noStrike">
                <a:solidFill>
                  <a:srgbClr val="b8dec6"/>
                </a:solidFill>
                <a:latin typeface="Tahoma"/>
              </a:rPr>
              <a:t>чтобы разглядеть </a:t>
            </a:r>
            <a:br>
              <a:rPr sz="3800"/>
            </a:br>
            <a:r>
              <a:rPr b="0" lang="en-US" sz="3800" spc="-1" strike="noStrike">
                <a:solidFill>
                  <a:srgbClr val="b8dec6"/>
                </a:solidFill>
                <a:latin typeface="Tahoma"/>
              </a:rPr>
              <a:t>всю красоту природы,</a:t>
            </a:r>
            <a:br>
              <a:rPr sz="3800"/>
            </a:br>
            <a:r>
              <a:rPr b="0" lang="en-US" sz="3800" spc="-1" strike="noStrike">
                <a:solidFill>
                  <a:srgbClr val="b8dec6"/>
                </a:solidFill>
                <a:latin typeface="Tahoma"/>
              </a:rPr>
              <a:t> но когда-нибудь мы этого достигнем.</a:t>
            </a:r>
            <a:br>
              <a:rPr sz="3800"/>
            </a:br>
            <a:r>
              <a:rPr b="0" lang="en-US" sz="3800" spc="-1" strike="noStrike">
                <a:solidFill>
                  <a:srgbClr val="b8dec6"/>
                </a:solidFill>
                <a:latin typeface="Tahoma"/>
              </a:rPr>
              <a:t>Это будет сказкой из сказок.</a:t>
            </a:r>
            <a:br>
              <a:rPr sz="3800"/>
            </a:br>
            <a:r>
              <a:rPr b="0" lang="en-US" sz="3800" spc="-1" strike="noStrike">
                <a:solidFill>
                  <a:srgbClr val="b8dec6"/>
                </a:solidFill>
                <a:latin typeface="Tahoma"/>
              </a:rPr>
              <a:t>       </a:t>
            </a:r>
            <a:br>
              <a:rPr sz="3800"/>
            </a:br>
            <a:r>
              <a:rPr b="0" lang="en-US" sz="3800" spc="-1" strike="noStrike">
                <a:solidFill>
                  <a:srgbClr val="b8dec6"/>
                </a:solidFill>
                <a:latin typeface="Tahoma"/>
              </a:rPr>
              <a:t>       Х.К.Андерсен</a:t>
            </a:r>
            <a:endParaRPr b="0" lang="en-US" sz="3800" spc="-1" strike="noStrike">
              <a:solidFill>
                <a:srgbClr val="b8dec6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39640" y="4221000"/>
            <a:ext cx="1704960" cy="223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1T15:57:04Z</dcterms:created>
  <dc:creator>User</dc:creator>
  <dc:description/>
  <dc:language>en-US</dc:language>
  <cp:lastModifiedBy>User</cp:lastModifiedBy>
  <dcterms:modified xsi:type="dcterms:W3CDTF">2009-09-25T17:58:42Z</dcterms:modified>
  <cp:revision>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c060000000000010250300207f7000400038000</vt:lpwstr>
  </property>
</Properties>
</file>