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6.gif" ContentType="image/gif"/>
  <Override PartName="/ppt/media/image16.jpeg" ContentType="image/jpeg"/>
  <Override PartName="/ppt/media/image13.gif" ContentType="image/gif"/>
  <Override PartName="/ppt/media/image26.jpeg" ContentType="image/jpeg"/>
  <Override PartName="/ppt/media/image5.jpeg" ContentType="image/jpeg"/>
  <Override PartName="/ppt/media/image19.jpeg" ContentType="image/jpeg"/>
  <Override PartName="/ppt/media/image11.png" ContentType="image/png"/>
  <Override PartName="/ppt/media/image9.jpeg" ContentType="image/jpeg"/>
  <Override PartName="/ppt/media/image7.jpeg" ContentType="image/jpeg"/>
  <Override PartName="/ppt/media/image12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0.png" ContentType="image/png"/>
  <Override PartName="/ppt/media/image3.jpeg" ContentType="image/jpeg"/>
  <Override PartName="/ppt/media/image24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27.gif" ContentType="image/gif"/>
  <Override PartName="/ppt/media/image14.jpeg" ContentType="image/jpeg"/>
  <Override PartName="/ppt/media/image28.gif" ContentType="image/gif"/>
  <Override PartName="/ppt/media/image15.jpeg" ContentType="image/jpeg"/>
  <Override PartName="/ppt/media/image17.jpeg" ContentType="image/jpeg"/>
  <Override PartName="/ppt/media/image18.jpeg" ContentType="image/jpeg"/>
  <Override PartName="/ppt/media/image2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8dec6"/>
                </a:solidFill>
                <a:latin typeface="Tahoma"/>
              </a:rPr>
              <a:t>Click to move the slide</a:t>
            </a:r>
            <a:endParaRPr b="0" lang="en-US" sz="48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D69BB-DA5D-4887-B1EC-64A7CC3B7F3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тчане чтят память своего великого земля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Оденсе есть Дом-музей Андерсена,в Саду скказки установлен памятник писателю, а вход в Копенгагенский порт охраняет статуя Русалочки, героиня одной из самых его чудесных сказо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Чудесные истории о добрых волшебниках и злых ведьмах, стойких оловянных солдатиках и белоснежных лебедях Андерсен придумывал с детства. Ему не нужна была волшебная палочка – всё, на что ни падал его взгляд, он умел превратить в сказк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номик в красном колпачке – старый бог снов, который зовётся в Дании Оле-Лукойе, что в переводе на русский язык значит «Оле Закрой Глазки!» Если как следует задуматься, то Оле-Лукойе не кто иной, как сам Андерсен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льгельм Педерсен, Лоренц Фрюлих, Михаил Клодт, Ника Гольц в разные годы  иллюстрировали сказки Андерсен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Кадр из фильма Эльдара Рязанова «Андерсен. Жизнь без любви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91B098-8ECE-4F14-AF1D-3BE2CDA2E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79ABA1-0742-4E68-B472-05EDD6773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02792E-40D8-4FB5-82D0-3090FE0EE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31EF0F-E338-4069-9253-4BC4B4051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B6C5F-CF88-4F37-A6A6-B4A490762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6474A-3900-4E54-BE65-82E87E63F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DBF93-4719-423A-8838-10DA795D0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37914-CB16-4E22-B4B2-59E2BC5EC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12D2A-4BE5-45EE-B7CD-F99FC733E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4FD21-DE49-43DC-9C8C-D60174117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FA7D6-2DAB-4CAC-B1CE-40546AAB5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A58970-B202-42B1-8F23-120D086A0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85222-1484-46C3-9CEB-770C11EFE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3660D-191B-4F9D-973D-0FA6F596A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69027-460C-4FA5-BDC7-FC14623DF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FCB12-4E5A-44A8-9E29-972659190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995D0-719B-448D-BE1F-0172683B6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851C36-C9F2-4C9B-8FB8-01CD35849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1BF449-7765-47AF-B814-CD92C93E6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0F8777-82D2-4E3F-B111-75FEC618E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258FA2-6A3E-4DA1-A5BC-628349899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307F50-7F7F-4FAA-9679-0B7FECB42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5D29EB-A732-4697-8D2A-615784DE6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EC0279-98FA-4E2D-B5A2-8544F0F50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87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5b59"/>
                </a:gs>
                <a:gs pos="100000">
                  <a:srgbClr val="0052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d878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d878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0d87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0d8784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0d8784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50000">
                  <a:srgbClr val="085756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751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0d8784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d878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0a6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0a6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50000">
                  <a:srgbClr val="096462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5250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50000">
                  <a:srgbClr val="0d8784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d878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50000">
                  <a:srgbClr val="096462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0d8784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d878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525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5250"/>
                </a:gs>
                <a:gs pos="50000">
                  <a:srgbClr val="075755"/>
                </a:gs>
                <a:gs pos="100000">
                  <a:srgbClr val="0052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8dec6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e0a5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b8dec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e0a5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1995D-4927-451E-9B66-3DCE32DEC4C5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87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5b59"/>
                </a:gs>
                <a:gs pos="100000">
                  <a:srgbClr val="0052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d878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d878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0d87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0d8784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0d8784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50000">
                  <a:srgbClr val="085756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751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0d8784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d878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0a6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0a6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50000">
                  <a:srgbClr val="096462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5250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50000">
                  <a:srgbClr val="0d8784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d878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50000">
                  <a:srgbClr val="096462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0d8784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d878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525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5250"/>
                </a:gs>
                <a:gs pos="50000">
                  <a:srgbClr val="075755"/>
                </a:gs>
                <a:gs pos="100000">
                  <a:srgbClr val="0052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8dec6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B1BF7-509F-4E33-A1E6-CF3D878459C9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b8dec6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e0a5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1.jpeg"/><Relationship Id="rId3" Type="http://schemas.openxmlformats.org/officeDocument/2006/relationships/image" Target="../media/image31.jpeg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image" Target="../media/image20.jpeg"/><Relationship Id="rId8" Type="http://schemas.openxmlformats.org/officeDocument/2006/relationships/image" Target="../media/image21.jpeg"/><Relationship Id="rId9" Type="http://schemas.openxmlformats.org/officeDocument/2006/relationships/image" Target="../media/image22.jpeg"/><Relationship Id="rId10" Type="http://schemas.openxmlformats.org/officeDocument/2006/relationships/image" Target="../media/image23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4.jpeg"/><Relationship Id="rId3" Type="http://schemas.openxmlformats.org/officeDocument/2006/relationships/image" Target="../media/image24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image" Target="../media/image26.jpeg"/><Relationship Id="rId7" Type="http://schemas.openxmlformats.org/officeDocument/2006/relationships/image" Target="../media/image24.jpeg"/><Relationship Id="rId8" Type="http://schemas.openxmlformats.org/officeDocument/2006/relationships/image" Target="../media/image27.gif"/><Relationship Id="rId9" Type="http://schemas.openxmlformats.org/officeDocument/2006/relationships/image" Target="../media/image24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87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476360" y="3716280"/>
            <a:ext cx="607680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Королю сказок посвящается...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324000" y="404640"/>
            <a:ext cx="2225520" cy="26640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3203640" y="1341360"/>
            <a:ext cx="457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Ханс Кристиан Андерсе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(1805-1875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87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DownRibbonSharp"/>
          <p:cNvSpPr/>
          <p:nvPr/>
        </p:nvSpPr>
        <p:spPr>
          <a:xfrm>
            <a:off x="2050920" y="333360"/>
            <a:ext cx="4969080" cy="1800360"/>
          </a:xfrm>
          <a:custGeom>
            <a:avLst/>
            <a:gdLst>
              <a:gd name="textAreaLeft" fmla="*/ 1242360 w 4969080"/>
              <a:gd name="textAreaRight" fmla="*/ 3727080 w 4969080"/>
              <a:gd name="textAreaTop" fmla="*/ 461880 h 1800360"/>
              <a:gd name="textAreaBottom" fmla="*/ 1800720 h 180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8100" y="0"/>
                </a:lnTo>
                <a:lnTo>
                  <a:pt x="8100" y="5541"/>
                </a:lnTo>
                <a:lnTo>
                  <a:pt x="13500" y="5541"/>
                </a:lnTo>
                <a:lnTo>
                  <a:pt x="13500" y="0"/>
                </a:lnTo>
                <a:lnTo>
                  <a:pt x="21600" y="0"/>
                </a:lnTo>
                <a:lnTo>
                  <a:pt x="18900" y="8030"/>
                </a:lnTo>
                <a:lnTo>
                  <a:pt x="21600" y="16059"/>
                </a:lnTo>
                <a:lnTo>
                  <a:pt x="16200" y="16059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6059"/>
                </a:lnTo>
                <a:lnTo>
                  <a:pt x="0" y="16059"/>
                </a:lnTo>
                <a:lnTo>
                  <a:pt x="2700" y="8030"/>
                </a:lnTo>
                <a:close/>
              </a:path>
              <a:path fill="none" w="21600" h="21600">
                <a:moveTo>
                  <a:pt x="8100" y="5541"/>
                </a:moveTo>
                <a:lnTo>
                  <a:pt x="5400" y="5541"/>
                </a:lnTo>
                <a:lnTo>
                  <a:pt x="5400" y="16059"/>
                </a:lnTo>
              </a:path>
              <a:path fill="none" w="21600" h="21600">
                <a:moveTo>
                  <a:pt x="5400" y="5541"/>
                </a:moveTo>
                <a:lnTo>
                  <a:pt x="8100" y="0"/>
                </a:lnTo>
              </a:path>
              <a:path fill="none" w="21600" h="21600">
                <a:moveTo>
                  <a:pt x="13500" y="5541"/>
                </a:moveTo>
                <a:lnTo>
                  <a:pt x="16200" y="5541"/>
                </a:lnTo>
                <a:lnTo>
                  <a:pt x="16200" y="16059"/>
                </a:lnTo>
              </a:path>
              <a:path fill="none" w="21600" h="21600">
                <a:moveTo>
                  <a:pt x="16200" y="5541"/>
                </a:moveTo>
                <a:lnTo>
                  <a:pt x="13500" y="0"/>
                </a:lnTo>
              </a:path>
            </a:pathLst>
          </a:custGeom>
          <a:solidFill>
            <a:srgbClr val="d4d42a"/>
          </a:solidFill>
          <a:ln w="9360">
            <a:solidFill>
              <a:srgbClr val="e4f321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708360" y="692280"/>
            <a:ext cx="1655640" cy="165708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2124000" y="5418000"/>
            <a:ext cx="4897440" cy="144000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574560" y="2421000"/>
            <a:ext cx="8569440" cy="27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solidFill>
                  <a:srgbClr val="d0280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частлив был Андерсен, </a:t>
            </a:r>
            <a:endParaRPr b="0" lang="en-US" sz="3200" spc="1" strike="noStrike">
              <a:ln w="0">
                <a:noFill/>
              </a:ln>
              <a:solidFill>
                <a:srgbClr val="d0280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solidFill>
                  <a:srgbClr val="d0280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едь жизнь его не прошла даром: </a:t>
            </a:r>
            <a:endParaRPr b="0" lang="en-US" sz="3200" spc="1" strike="noStrike">
              <a:ln w="0">
                <a:noFill/>
              </a:ln>
              <a:solidFill>
                <a:srgbClr val="d0280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solidFill>
                  <a:srgbClr val="d0280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н подарил миру свои прекрасные сказки. </a:t>
            </a:r>
            <a:endParaRPr b="0" lang="en-US" sz="3200" spc="1" strike="noStrike">
              <a:ln w="0">
                <a:noFill/>
              </a:ln>
              <a:solidFill>
                <a:srgbClr val="d0280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solidFill>
                  <a:srgbClr val="d0280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лушая их, люди становятся </a:t>
            </a:r>
            <a:endParaRPr b="0" lang="en-US" sz="3200" spc="1" strike="noStrike">
              <a:ln w="0">
                <a:noFill/>
              </a:ln>
              <a:solidFill>
                <a:srgbClr val="d0280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solidFill>
                  <a:srgbClr val="d0280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умнее и добрее.</a:t>
            </a:r>
            <a:endParaRPr b="0" lang="en-US" sz="3200" spc="1" strike="noStrike">
              <a:ln w="0">
                <a:noFill/>
              </a:ln>
              <a:solidFill>
                <a:srgbClr val="d0280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87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 rot="21234600">
            <a:off x="687240" y="1455840"/>
            <a:ext cx="7632720" cy="25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Счастливой дорог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в мир сказок..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564000" y="4508640"/>
            <a:ext cx="4968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упанова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.Н.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учитель МОУ СОШ№5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г. Брянс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87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 rot="20847600">
            <a:off x="468000" y="3933720"/>
            <a:ext cx="3456000" cy="23353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 rot="547800">
            <a:off x="5292360" y="692280"/>
            <a:ext cx="3333600" cy="218124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 rot="21090000">
            <a:off x="755640" y="764640"/>
            <a:ext cx="3333600" cy="210528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3992040" y="3403800"/>
            <a:ext cx="54432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денсе - небольшой (по нашим меркам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туденческий городок на острове Фюн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 Дании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ак предполагается, в одном из домов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охранившихся в старой части города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 1805 году родился знаменитый датский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казочник Х.К. Андерсен. 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87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395280" y="2924280"/>
            <a:ext cx="5232240" cy="347508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645480" y="617760"/>
            <a:ext cx="82594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Его родителями были сапожник и прачка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а все детство Андерсена прошло в нищете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Это потом, когда о нем заговорят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как об известном и талантливом сказочнике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ойдут слухи, что он был внебрачным сыном короля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6588000" y="4508640"/>
            <a:ext cx="165600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87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6732720" y="3573360"/>
            <a:ext cx="1976400" cy="266400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324000" y="620640"/>
            <a:ext cx="1330200" cy="201636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1835280" y="620640"/>
            <a:ext cx="633708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Датчане чтят память своего великого земляк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 Оденсе есть Дом-музей Андерсена, в Саду сказки установлен памятник писателю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а вход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 Копенгагенский пор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храняет статуя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Русалочки, героини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дной из самых его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чудесных сказок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87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395280" y="333360"/>
            <a:ext cx="8334360" cy="851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Сказки,которые создавала жизнь...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324000" y="1989000"/>
            <a:ext cx="1920600" cy="253368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5867280" y="4005360"/>
            <a:ext cx="2664000" cy="246528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2411280" y="1268280"/>
            <a:ext cx="7104240" cy="542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Чудесные истории о добрых волшебниках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и злых ведьмах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стойких оловянных солдатиках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и белоснежных лебедях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Андерсен придумывал с детств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Ему не нужна был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олшебная палочка –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сё, на что ни падал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его взгляд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он умел превратить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казку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87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11280" y="4292640"/>
            <a:ext cx="2089080" cy="203184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468360" y="476280"/>
            <a:ext cx="2087640" cy="208764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3"/>
          <a:stretch/>
        </p:blipFill>
        <p:spPr>
          <a:xfrm>
            <a:off x="7164360" y="5265720"/>
            <a:ext cx="1655640" cy="106668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2843280" y="476280"/>
            <a:ext cx="15157440" cy="50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Гномик в красном колпачке –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тарый бог снов, который зовётс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Дании Оле-Лукойе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что в переводе на русский язы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значит «Оле Закрой Глазки!»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Если как следует задуматься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то Оле-Лукойе не кто иной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ак сам Андерсен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87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 rot="345600">
            <a:off x="7667280" y="4437000"/>
            <a:ext cx="1246320" cy="181296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 rot="21371400">
            <a:off x="5796000" y="3499920"/>
            <a:ext cx="1562040" cy="201636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 rot="20425800">
            <a:off x="468000" y="4365360"/>
            <a:ext cx="1512720" cy="201600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 rot="20802600">
            <a:off x="1332000" y="3860640"/>
            <a:ext cx="1508040" cy="210996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5"/>
          <a:stretch/>
        </p:blipFill>
        <p:spPr>
          <a:xfrm>
            <a:off x="4788000" y="2852640"/>
            <a:ext cx="1382760" cy="172728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6"/>
          <a:stretch/>
        </p:blipFill>
        <p:spPr>
          <a:xfrm>
            <a:off x="6732720" y="2276640"/>
            <a:ext cx="1098360" cy="174456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7"/>
          <a:stretch/>
        </p:blipFill>
        <p:spPr>
          <a:xfrm rot="20917800">
            <a:off x="2124000" y="3212640"/>
            <a:ext cx="1603440" cy="205920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8"/>
          <a:stretch/>
        </p:blipFill>
        <p:spPr>
          <a:xfrm>
            <a:off x="3492360" y="3429000"/>
            <a:ext cx="1614600" cy="195588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9"/>
          <a:stretch/>
        </p:blipFill>
        <p:spPr>
          <a:xfrm>
            <a:off x="611280" y="404640"/>
            <a:ext cx="1904760" cy="247680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10"/>
          <a:stretch/>
        </p:blipFill>
        <p:spPr>
          <a:xfrm>
            <a:off x="6948360" y="3573360"/>
            <a:ext cx="1438560" cy="194472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 txBox="1"/>
          <p:nvPr/>
        </p:nvSpPr>
        <p:spPr>
          <a:xfrm>
            <a:off x="2627280" y="404640"/>
            <a:ext cx="604836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Картинки из нашего детства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530080" y="1125360"/>
            <a:ext cx="5982480" cy="10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ильгельм Педерсен, Лоренц Фрюлих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ихаил Клодт, Ника Гольц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 разные годы  иллюстрировали сказки Андерсен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87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4543560" y="3409920"/>
            <a:ext cx="56880" cy="3816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4543560" y="3409920"/>
            <a:ext cx="56880" cy="3816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3"/>
          <a:stretch/>
        </p:blipFill>
        <p:spPr>
          <a:xfrm>
            <a:off x="4543560" y="3409920"/>
            <a:ext cx="56880" cy="3816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4"/>
          <a:stretch/>
        </p:blipFill>
        <p:spPr>
          <a:xfrm>
            <a:off x="4543560" y="3409920"/>
            <a:ext cx="56880" cy="3816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5"/>
          <a:stretch/>
        </p:blipFill>
        <p:spPr>
          <a:xfrm>
            <a:off x="250920" y="189000"/>
            <a:ext cx="2303280" cy="338436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6"/>
          <a:stretch/>
        </p:blipFill>
        <p:spPr>
          <a:xfrm>
            <a:off x="3132000" y="3573360"/>
            <a:ext cx="5426280" cy="223200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7"/>
          <a:stretch/>
        </p:blipFill>
        <p:spPr>
          <a:xfrm>
            <a:off x="4543560" y="3409920"/>
            <a:ext cx="56880" cy="3816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8"/>
          <a:stretch/>
        </p:blipFill>
        <p:spPr>
          <a:xfrm>
            <a:off x="395280" y="4076640"/>
            <a:ext cx="2101680" cy="217800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9"/>
          <a:stretch/>
        </p:blipFill>
        <p:spPr>
          <a:xfrm>
            <a:off x="4543560" y="3409920"/>
            <a:ext cx="56880" cy="3816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3346200" y="1051200"/>
            <a:ext cx="481068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Рассказ о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маленьком мальчике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оторого поцеловал бог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евращается в кинобиографию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Ханса Кристиана Андерсена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где реальные персонажи и события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ичудливейшим образо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ереплетаются с вымышленными..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701800" y="81720"/>
            <a:ext cx="18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651480" y="5877000"/>
            <a:ext cx="4601880" cy="79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Кадр из фильма Эльдара Рязанов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«Андерсен. Жизнь без любви»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2916360" y="260280"/>
            <a:ext cx="542916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КАЗКА О СКАЗОЧНИКЕ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87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br>
              <a:rPr sz="3800"/>
            </a:br>
            <a:br>
              <a:rPr sz="3800"/>
            </a:br>
            <a:br>
              <a:rPr sz="3800"/>
            </a:br>
            <a:br>
              <a:rPr sz="3800"/>
            </a:br>
            <a:br>
              <a:rPr sz="3800"/>
            </a:br>
            <a:br>
              <a:rPr sz="3800"/>
            </a:br>
            <a:r>
              <a:rPr b="0" lang="en-US" sz="3800" spc="-1" strike="noStrike">
                <a:solidFill>
                  <a:srgbClr val="b8dec6"/>
                </a:solidFill>
                <a:latin typeface="Tahoma"/>
              </a:rPr>
              <a:t>Не приспособлены ещё наши глаза,</a:t>
            </a:r>
            <a:br>
              <a:rPr sz="3800"/>
            </a:br>
            <a:r>
              <a:rPr b="0" lang="en-US" sz="3800" spc="-1" strike="noStrike">
                <a:solidFill>
                  <a:srgbClr val="b8dec6"/>
                </a:solidFill>
                <a:latin typeface="Tahoma"/>
              </a:rPr>
              <a:t>чтобы разглядеть </a:t>
            </a:r>
            <a:br>
              <a:rPr sz="3800"/>
            </a:br>
            <a:r>
              <a:rPr b="0" lang="en-US" sz="3800" spc="-1" strike="noStrike">
                <a:solidFill>
                  <a:srgbClr val="b8dec6"/>
                </a:solidFill>
                <a:latin typeface="Tahoma"/>
              </a:rPr>
              <a:t>всю красоту природы,</a:t>
            </a:r>
            <a:br>
              <a:rPr sz="3800"/>
            </a:br>
            <a:r>
              <a:rPr b="0" lang="en-US" sz="3800" spc="-1" strike="noStrike">
                <a:solidFill>
                  <a:srgbClr val="b8dec6"/>
                </a:solidFill>
                <a:latin typeface="Tahoma"/>
              </a:rPr>
              <a:t> но когда-нибудь мы этого достигнем.</a:t>
            </a:r>
            <a:br>
              <a:rPr sz="3800"/>
            </a:br>
            <a:r>
              <a:rPr b="0" lang="en-US" sz="3800" spc="-1" strike="noStrike">
                <a:solidFill>
                  <a:srgbClr val="b8dec6"/>
                </a:solidFill>
                <a:latin typeface="Tahoma"/>
              </a:rPr>
              <a:t>Это будет сказкой из сказок.</a:t>
            </a:r>
            <a:br>
              <a:rPr sz="3800"/>
            </a:br>
            <a:r>
              <a:rPr b="0" lang="en-US" sz="3800" spc="-1" strike="noStrike">
                <a:solidFill>
                  <a:srgbClr val="b8dec6"/>
                </a:solidFill>
                <a:latin typeface="Tahoma"/>
              </a:rPr>
              <a:t>       </a:t>
            </a:r>
            <a:br>
              <a:rPr sz="3800"/>
            </a:br>
            <a:r>
              <a:rPr b="0" lang="en-US" sz="3800" spc="-1" strike="noStrike">
                <a:solidFill>
                  <a:srgbClr val="b8dec6"/>
                </a:solidFill>
                <a:latin typeface="Tahoma"/>
              </a:rPr>
              <a:t>       Х.К.Андерсен</a:t>
            </a:r>
            <a:endParaRPr b="0" lang="en-US" sz="3800" spc="-1" strike="noStrike">
              <a:solidFill>
                <a:srgbClr val="b8dec6"/>
              </a:solidFill>
              <a:latin typeface="Tahoma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539640" y="4221000"/>
            <a:ext cx="1704960" cy="223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1T15:57:04Z</dcterms:created>
  <dc:creator>User</dc:creator>
  <dc:description/>
  <dc:language>en-US</dc:language>
  <cp:lastModifiedBy>User</cp:lastModifiedBy>
  <dcterms:modified xsi:type="dcterms:W3CDTF">2009-09-25T17:58:42Z</dcterms:modified>
  <cp:revision>5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8c060000000000010250300207f7000400038000</vt:lpwstr>
  </property>
</Properties>
</file>