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6.gif" ContentType="image/gif"/>
  <Override PartName="/ppt/media/image16.jpeg" ContentType="image/jpeg"/>
  <Override PartName="/ppt/media/image13.gif" ContentType="image/gif"/>
  <Override PartName="/ppt/media/image26.jpeg" ContentType="image/jpeg"/>
  <Override PartName="/ppt/media/image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4.jpeg" ContentType="image/jpeg"/>
  <Override PartName="/ppt/media/image28.gif" ContentType="image/gif"/>
  <Override PartName="/ppt/media/image15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D019-0393-420D-B84F-0E054288A2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чане чтят память своего великого земл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енсе есть Дом-музей Андерсена,в Саду скказки установлен памятник писателю, а вход в Копенгагенский порт охраняет статуя Русалочки, героиня одной из самых его чудесных ска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удесные истории о добрых волшебниках и злых ведьмах, стойких оловянных солдатиках и белоснежных лебедях Андерсен придумывал с детства. Ему не нужна была волшебная палочка – всё, на что ни падал его взгляд, он умел превратить в сказ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номик в красном колпачке – старый бог снов, который зовётся в Дании Оле-Лукойе, что в переводе на русский язык значит «Оле Закрой Глазки!» Если как следует задуматься, то Оле-Лукойе не кто иной, как сам Андерс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льгельм Педерсен, Лоренц Фрюлих, Михаил Клодт, Ника Гольц в разные годы  иллюстрировали сказки Андерс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др из фильма Эльдара Рязанова «Андерсен. Жизнь без любв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03A9-856C-4D72-9581-0DABA9FF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6A7B-AB2D-41BB-8596-E76D6F10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B07A1-A243-47F9-A293-E6F642D5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3AB66-925C-46CD-8599-B5362183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5D4C-67E0-4137-9381-DBFD7850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50D1-7377-4B68-943F-72957D6A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31BE-BD13-48B3-8424-2DF45F18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B791-A7B4-4B37-A4FD-67F26AD1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6D0A-7107-45B9-B2AE-AA09AB96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45AD-A6B0-4661-B8EA-E6659DC9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64FA-31EF-4122-9C5B-F09EDBAA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0251-E811-4FC8-A810-50CCFBB2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F490-E859-4461-B920-B2752344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5615-2394-4B4C-9EE3-90FDEC56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30E8-9827-4618-9A07-0ACEF190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3BE8-17B2-4788-9917-B845EE2B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7E07-3041-4FE3-BFD5-8BC27284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3345-FA8D-4903-987F-941F6DF5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4CAD-7D7B-45FC-9FAD-962D50D7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EC1C-25B9-45FF-9658-CB003540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3E56-884C-4240-B362-2CE59780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F0FC-5462-47A2-8EF3-0FA02A8F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ED6CB-DB01-43CD-829B-572A56FC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D561D-D80B-4B13-9AF4-784E61E6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0B64-7DDE-4DCA-82A0-91C4AA01FA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A849-D754-4B11-BC1C-8ABA78D728C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4.jpeg"/><Relationship Id="rId8" Type="http://schemas.openxmlformats.org/officeDocument/2006/relationships/image" Target="../media/image27.gif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360" y="3716280"/>
            <a:ext cx="607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олю сказок посвящается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25520" cy="266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341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нс Кристиан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1805-187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ownRibbonSharp"/>
          <p:cNvSpPr/>
          <p:nvPr/>
        </p:nvSpPr>
        <p:spPr>
          <a:xfrm>
            <a:off x="2050920" y="333360"/>
            <a:ext cx="4969080" cy="1800360"/>
          </a:xfrm>
          <a:custGeom>
            <a:avLst/>
            <a:gdLst>
              <a:gd name="textAreaLeft" fmla="*/ 1242360 w 4969080"/>
              <a:gd name="textAreaRight" fmla="*/ 3727080 w 4969080"/>
              <a:gd name="textAreaTop" fmla="*/ 46188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5541"/>
                </a:lnTo>
                <a:lnTo>
                  <a:pt x="13500" y="5541"/>
                </a:lnTo>
                <a:lnTo>
                  <a:pt x="13500" y="0"/>
                </a:lnTo>
                <a:lnTo>
                  <a:pt x="21600" y="0"/>
                </a:lnTo>
                <a:lnTo>
                  <a:pt x="18900" y="8030"/>
                </a:lnTo>
                <a:lnTo>
                  <a:pt x="21600" y="16059"/>
                </a:lnTo>
                <a:lnTo>
                  <a:pt x="16200" y="16059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6059"/>
                </a:lnTo>
                <a:lnTo>
                  <a:pt x="0" y="16059"/>
                </a:lnTo>
                <a:lnTo>
                  <a:pt x="2700" y="8030"/>
                </a:lnTo>
                <a:close/>
              </a:path>
              <a:path fill="none" w="21600" h="21600">
                <a:moveTo>
                  <a:pt x="8100" y="5541"/>
                </a:moveTo>
                <a:lnTo>
                  <a:pt x="5400" y="5541"/>
                </a:lnTo>
                <a:lnTo>
                  <a:pt x="5400" y="16059"/>
                </a:lnTo>
              </a:path>
              <a:path fill="none" w="21600" h="21600">
                <a:moveTo>
                  <a:pt x="5400" y="5541"/>
                </a:moveTo>
                <a:lnTo>
                  <a:pt x="8100" y="0"/>
                </a:lnTo>
              </a:path>
              <a:path fill="none" w="21600" h="21600">
                <a:moveTo>
                  <a:pt x="13500" y="5541"/>
                </a:moveTo>
                <a:lnTo>
                  <a:pt x="16200" y="5541"/>
                </a:lnTo>
                <a:lnTo>
                  <a:pt x="16200" y="16059"/>
                </a:lnTo>
              </a:path>
              <a:path fill="none" w="21600" h="21600">
                <a:moveTo>
                  <a:pt x="16200" y="5541"/>
                </a:moveTo>
                <a:lnTo>
                  <a:pt x="13500" y="0"/>
                </a:lnTo>
              </a:path>
            </a:pathLst>
          </a:custGeom>
          <a:solidFill>
            <a:srgbClr val="d4d42a"/>
          </a:solidFill>
          <a:ln w="9360">
            <a:solidFill>
              <a:srgbClr val="e4f32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08360" y="692280"/>
            <a:ext cx="1655640" cy="1657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124000" y="5418000"/>
            <a:ext cx="4897440" cy="1440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74560" y="2421000"/>
            <a:ext cx="85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частлив был Андерсен,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дь жизнь его не прошла даром: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 подарил миру свои прекрасные сказки.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шая их, люди становятся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нее и добрее.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 rot="21234600">
            <a:off x="687240" y="145584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частливой дор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 мир сказок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50864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панов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.Н.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МОУ СОШ№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. Брян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847600">
            <a:off x="468000" y="3933720"/>
            <a:ext cx="3456000" cy="233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547800">
            <a:off x="5292360" y="69228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21090000">
            <a:off x="755640" y="764640"/>
            <a:ext cx="3333600" cy="210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92040" y="3403800"/>
            <a:ext cx="54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енсе - небольшой (по нашим мерк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уденческий городок на острове Фю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предполагается, в одном из дом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хранившихся в старой части горо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05 году родился знаменитый дат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очник Х.К. Андерсен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5232240" cy="3475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5480" y="617760"/>
            <a:ext cx="825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родителями были сапожник и пра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все детство Андерсена прошло в нищ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потом, когда о нем заговоря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об известном и талантливом сказочн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йдут слухи, что он был внебрачным сыном корол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32720" y="3573360"/>
            <a:ext cx="197640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1330200" cy="2016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35280" y="620640"/>
            <a:ext cx="6337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чане чтят память своего великого земля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денсе есть Дом-музей Андерсена, в Саду сказки установлен памятник писател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в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пенгагенский 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храняет стату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салочки, герои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й из самых 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есных сказ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333360"/>
            <a:ext cx="833436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и,которые создавала жизнь..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920600" cy="2533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46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11280" y="1268280"/>
            <a:ext cx="710424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удесные истории о добрых волшебн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лых ведьм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йких оловянных солдат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белоснежных лебед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дерсен придумывал с дет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му не нуж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шебная палочк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ё, на что ни пад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взгля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умел преврат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089080" cy="203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164360" y="5265720"/>
            <a:ext cx="1655640" cy="1066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43280" y="476280"/>
            <a:ext cx="1515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номик в красном колпачк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бог снов, который зовё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ании Оле-Лукой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 переводе на русский яз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ит «Оле Закрой Глазки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как следует задумать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Оле-Лукойе не кто и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Андерс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345600">
            <a:off x="7667280" y="4437000"/>
            <a:ext cx="1246320" cy="1812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71400">
            <a:off x="5796000" y="3499920"/>
            <a:ext cx="1562040" cy="201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20425800">
            <a:off x="468000" y="436536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rot="20802600">
            <a:off x="1332000" y="3860640"/>
            <a:ext cx="1508040" cy="2109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138276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732720" y="2276640"/>
            <a:ext cx="1098360" cy="174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rot="20917800">
            <a:off x="2124000" y="3212640"/>
            <a:ext cx="1603440" cy="205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492360" y="3429000"/>
            <a:ext cx="1614600" cy="1955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1280" y="404640"/>
            <a:ext cx="1904760" cy="247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948360" y="3573360"/>
            <a:ext cx="1438560" cy="194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627280" y="40464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инки из нашего дет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30080" y="1125360"/>
            <a:ext cx="59824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льгельм Педерсен, Лоренц Фрюли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хаил Клодт, Ника Голь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зные годы  иллюстрировали сказки Андерс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2303280" cy="338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132000" y="3573360"/>
            <a:ext cx="542628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395280" y="4076640"/>
            <a:ext cx="2101680" cy="21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46200" y="1051200"/>
            <a:ext cx="48106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каз 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еньком мальчи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ого поцеловал бо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ается в кинобиограф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нса Кристиана Андерсе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реальные персонажи и собы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чудливейшим образ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плетаются с вымышленным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1800" y="817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1480" y="5877000"/>
            <a:ext cx="46018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др из фильма Эльдара Рязан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Андерсен. Жизнь без любв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16360" y="260280"/>
            <a:ext cx="5429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АЗКА О СКАЗОЧНИК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Не приспособлены ещё наши глаза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чтобы разглядеть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всю красоту природы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но когда-нибудь мы этого достигнем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Это будет сказкой из сказок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Х.К.Андерсен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7049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57:04Z</dcterms:created>
  <dc:creator>User</dc:creator>
  <dc:description/>
  <dc:language>en-US</dc:language>
  <cp:lastModifiedBy>User</cp:lastModifiedBy>
  <dcterms:modified xsi:type="dcterms:W3CDTF">2009-09-25T17:58:42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60000000000010250300207f7000400038000</vt:lpwstr>
  </property>
</Properties>
</file>