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52AA-1C57-45F2-AFC3-035087C5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FA1A-1353-4AFB-B193-4E025343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2438-E9C8-432E-9F74-CE86BD6C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3CA8-F2A1-4162-BED5-B0049FF0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7F7B-C059-4055-8694-8E9BAAF8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D3A2-D893-46DC-9AB9-D021549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1DAA-E9CA-4A59-8A75-623C0639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7956-CC42-4B46-BA18-4664572B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6745-44FB-46DB-8F61-AEFAF851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C25C-C92B-477F-A744-F368C373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5323-D22E-4457-B74F-7E02FAE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8C64-A64C-4871-864E-9405D637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43BF-73E3-461D-AD45-78A9C2F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7E4E-1ACA-4AF6-86C2-B2F0DEC1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A682-9CD8-487D-A70E-45117A02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31E6-F645-4101-8AAC-8D0F7FC0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368-66CA-4A22-97C6-60E2B2A5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CADA-B8ED-4715-99CC-4AC5F9DB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FAFB8-6BA8-4CB6-A883-A23FBBE1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C57F-A32C-4979-8D6E-748E781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1315-3073-4B6E-BFDB-4262DAB8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9744-C9A6-4DAE-A6AA-34F2191B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CFEE-513D-4D73-94CA-5A2D515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6850-51D7-4ED6-8F28-D67D4E74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C2E-49DC-44DA-89D3-459138FC2D2B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579B-4D43-47B2-BA80-C9EEFD15DF9D}" type="slidenum">
              <a:rPr b="0" lang="en-U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b-guide.ru/page_451_7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-dizain.sysert.ru/literatura/index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8772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124080" y="1752480"/>
            <a:ext cx="5486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.П.Бажов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Уральские сказы"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0400" y="5943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e00"/>
                </a:solidFill>
                <a:latin typeface="Arial"/>
              </a:rPr>
              <a:t>Эрмитаж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Государственный Эрмитаж. Зал итальянского искусства XVII-XVIII веков. Фотограф Интерпресс.ру / Николаев Александр"/>
          <p:cNvPicPr/>
          <p:nvPr/>
        </p:nvPicPr>
        <p:blipFill>
          <a:blip r:embed="rId2"/>
          <a:stretch/>
        </p:blipFill>
        <p:spPr>
          <a:xfrm>
            <a:off x="0" y="0"/>
            <a:ext cx="9144000" cy="6300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62485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Зал итальянского искусства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892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62164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алахитовая гостиная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e00"/>
                </a:solidFill>
                <a:latin typeface="Arial"/>
              </a:rPr>
              <a:t>Исаакиевский собор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Иконостас Исаакиевского собор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319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1523880"/>
            <a:ext cx="3200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Медной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ор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Хозяйка"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одберите текст к иллюстраци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>
            <a:hlinkClick r:id="rId2"/>
          </p:cNvPr>
          <p:cNvPicPr/>
          <p:nvPr/>
        </p:nvPicPr>
        <p:blipFill>
          <a:blip r:embed="rId3"/>
          <a:srcRect l="0" t="0" r="0" b="10000"/>
          <a:stretch/>
        </p:blipFill>
        <p:spPr>
          <a:xfrm>
            <a:off x="0" y="0"/>
            <a:ext cx="5038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105520" y="914400"/>
            <a:ext cx="3581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e00"/>
                </a:solidFill>
                <a:latin typeface="Arial"/>
              </a:rPr>
              <a:t>Пошёл к ней, а она рукой маячит, обойди-де руду-то с другой стороны. Он обошёл и видит - ящерок тут несчисленно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76560" y="685440"/>
            <a:ext cx="4267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Глядит, а перед ним на грудке руды у большого камня женщина какая-то сидит. Спиной к парню, а по косе видать - девка. Коса ссиза-чёрная и не как у наших девок болтается, а ровно прилипла к спине. На конце ленты не то красные, не то зелёные. Сквозь светеют и тонко этак позванивают, будто листовая медь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5" name="" descr="">
            <a:hlinkClick r:id="rId2"/>
          </p:cNvPr>
          <p:cNvPicPr/>
          <p:nvPr/>
        </p:nvPicPr>
        <p:blipFill>
          <a:blip r:embed="rId3"/>
          <a:srcRect l="0" t="0" r="0" b="-59"/>
          <a:stretch/>
        </p:blipFill>
        <p:spPr>
          <a:xfrm>
            <a:off x="304920" y="457200"/>
            <a:ext cx="46400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181480" y="6091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Как комнаты большие под землёй стали, а стены у них разные. То всё зелёные, то жёлтые с золотыми крапинками. На которых опять цветы медные. Синие тоже есть, лазоревые. Однем словом, изукрашено, что и сказать нельзя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228600" y="380880"/>
            <a:ext cx="48862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495680" y="6094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- Вот, - говорит, - тебе подарочек для твоей невесты, - и подаёт большую малахитову шкатулку. А там, слышь-ко, всякий женский прибор. Серьги, кольца и протча, что даже не у всякой богатой невесты бывает.</a:t>
            </a:r>
            <a:br>
              <a:rPr sz="2800"/>
            </a:br>
            <a:r>
              <a:rPr b="0" lang="ru-RU" sz="2800" spc="-1" strike="noStrike">
                <a:solidFill>
                  <a:srgbClr val="003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-18"/>
          <a:stretch/>
        </p:blipFill>
        <p:spPr>
          <a:xfrm>
            <a:off x="155520" y="46080"/>
            <a:ext cx="42512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28840" y="114264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00"/>
                </a:solidFill>
                <a:latin typeface="Arial"/>
              </a:rPr>
              <a:t>Вскорости нашёл им Степан глыбу такую. Выволокли её наверх. Гордятся, - вот-де мы какие, а Степану воли не дал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8121"/>
          <a:stretch/>
        </p:blipFill>
        <p:spPr>
          <a:xfrm>
            <a:off x="0" y="731880"/>
            <a:ext cx="483876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8377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e00"/>
                </a:solidFill>
                <a:latin typeface="Arial"/>
              </a:rPr>
              <a:t>А он, слышь-ко, на руднике у высокого камня мёртвый лежит, ровно улыбается, … Которые люди первые набежали, сказывали, что около покойника ящерку зелёную видели, … Сидит будто над покойником, голову подняла, а слёзы у ей так и каплют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4736" t="2160" r="3657" b="11547"/>
          <a:stretch/>
        </p:blipFill>
        <p:spPr>
          <a:xfrm>
            <a:off x="228600" y="685800"/>
            <a:ext cx="4475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ня</cp:lastModifiedBy>
  <dcterms:modified xsi:type="dcterms:W3CDTF">2009-04-04T06:03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c000000000001024140</vt:lpwstr>
  </property>
  <property fmtid="{D5CDD505-2E9C-101B-9397-08002B2CF9AE}" pid="3" name="Version">
    <vt:r8>1</vt:r8>
  </property>
</Properties>
</file>