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EF618-C1A1-4595-AC43-A8555D51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52D19-7F43-4392-958F-7230393D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0C837-2FDD-42F8-AA53-C3D8EA56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099E7-FD4E-472E-859E-3B2EEC37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D21F-FF9D-419B-8755-9893832D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61FD-59EC-41F8-BD60-DD287790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E7E7-A259-4F83-B154-915F31E3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3CBC-1642-40E5-BDE6-E917F76B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358F-D2ED-458F-8CD9-2B8D8ED0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79C4-03C2-4968-8050-842C4862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E0D3-5955-4C90-B52B-646A7EE6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F626F-1ADF-4268-9093-FE0F8F1B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32D0-6A92-47FB-B1EB-827FB6BE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7164-06FA-4966-899D-E02F90E0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6068-2472-46D9-9609-12F38E7F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4878-88F0-422D-A9A8-5B453793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424E-C747-45CD-9B94-0D7F7CC3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969E-CBDC-43C1-B4C2-80EC8703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A5D93-998E-485A-A2AD-B9B6D9C3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8B5C1-EA99-4658-B6FE-DF05A5A1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A5D1-29DB-4F7E-BCE7-5FC543D1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4D883-6CA5-4AD9-8A7D-B7F57378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7A1C3-82E6-4D18-A366-834C3F8D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D643F-B1B5-471B-B497-C2F89B94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BAA7-B426-4436-8FD3-B53CD8BB494E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5FC6-74DA-4D7E-807E-0C4251A709F3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b-guide.ru/page_451_7.htm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987720"/>
            <a:ext cx="9144000" cy="2870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124080" y="1752480"/>
            <a:ext cx="54864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.П.Бажов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Уральские сказы"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00400" y="5943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Arial"/>
              </a:rPr>
              <a:t>Эрмитаж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30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81080" y="6248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Зал итальянского искусств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763120" cy="6892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6216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алахитовая гостиная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e00"/>
                </a:solidFill>
                <a:latin typeface="Arial"/>
              </a:rPr>
              <a:t>Исаакиевский собор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Иконостас Исаакиевского собор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0512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197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1523880"/>
            <a:ext cx="3200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Медной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ор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Хозяйка"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одберите текст к иллюстраци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>
            <a:hlinkClick r:id="rId2"/>
          </p:cNvPr>
          <p:cNvPicPr/>
          <p:nvPr/>
        </p:nvPicPr>
        <p:blipFill>
          <a:blip r:embed="rId3"/>
          <a:srcRect l="0" t="0" r="0" b="10000"/>
          <a:stretch/>
        </p:blipFill>
        <p:spPr>
          <a:xfrm>
            <a:off x="0" y="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105520" y="914400"/>
            <a:ext cx="3581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e00"/>
                </a:solidFill>
                <a:latin typeface="Arial"/>
              </a:rPr>
              <a:t>Пошёл к ней, а она рукой маячит, обойди-де руду-то с другой стороны. Он обошёл и видит - ящерок тут несчисленно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876560" y="685440"/>
            <a:ext cx="4267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Глядит, а перед ним на грудке руды у большого камня женщина какая-то сидит. Спиной к парню, а по косе видать - девка. Коса ссиза-чёрная и не как у наших девок болтается, а ровно прилипла к спине. На конце ленты не то красные, не то зелёные. Сквозь светеют и тонко этак позванивают, будто листовая медь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rcRect l="0" t="0" r="0" b="-59"/>
          <a:stretch/>
        </p:blipFill>
        <p:spPr>
          <a:xfrm>
            <a:off x="304920" y="457200"/>
            <a:ext cx="464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181480" y="6091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Как комнаты большие под землёй стали, а стены у них разные. То всё зелёные, то жёлтые с золотыми крапинками. На которых опять цветы медные. Синие тоже есть, лазоревые. Однем словом, изукрашено, что и сказать нельзя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228600" y="380880"/>
            <a:ext cx="48862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495680" y="609480"/>
            <a:ext cx="4191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- Вот, - говорит, - тебе подарочек для твоей невесты, - и подаёт большую малахитову шкатулку. А там, слышь-ко, всякий женский прибор. Серьги, кольца и протча, что даже не у всякой богатой невесты бывает.</a:t>
            </a:r>
            <a:br>
              <a:rPr sz="2800"/>
            </a:b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0" t="0" r="0" b="-18"/>
          <a:stretch/>
        </p:blipFill>
        <p:spPr>
          <a:xfrm>
            <a:off x="155520" y="46080"/>
            <a:ext cx="42512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2884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Вскорости нашёл им Степан глыбу такую. Выволокли её наверх. Гордятся, - вот-де мы какие, а Степану воли не дали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0" y="731880"/>
            <a:ext cx="48387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837720"/>
            <a:ext cx="4495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e00"/>
                </a:solidFill>
                <a:latin typeface="Arial"/>
              </a:rPr>
              <a:t>А он, слышь-ко, на руднике у высокого камня мёртвый лежит, ровно улыбается, … Которые люди первые набежали, сказывали, что около покойника ящерку зелёную видели, … Сидит будто над покойником, голову подняла, а слёзы у ей так и каплют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4736" t="2160" r="3657" b="11547"/>
          <a:stretch/>
        </p:blipFill>
        <p:spPr>
          <a:xfrm>
            <a:off x="228600" y="685800"/>
            <a:ext cx="4475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09-04-04T06:03:2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c000000000001024140</vt:lpwstr>
  </property>
  <property fmtid="{D5CDD505-2E9C-101B-9397-08002B2CF9AE}" pid="3" name="Version">
    <vt:r8>1</vt:r8>
  </property>
</Properties>
</file>