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67B3-6BB9-4478-BCF9-E1E3F86F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1398-2217-4A6B-9A15-E9971DCA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EEAB9-4491-43C3-98B8-6BAF32AE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90EF-2112-4704-A10B-0EF4DCCA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7168-34AF-4B13-852F-3D62B178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7007-D636-4777-9E55-D4CA0C41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C6A8-AE0E-4B85-B4D0-DAECEF8E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8B5F-CC9B-42B2-84BA-82215E5F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967D-73DC-41E2-9C04-CC052DDE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3533-5367-447C-8B87-CC40EB59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DF98-B6CF-4602-8670-76D094BF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4526-EA32-47FC-AFBE-EE23E5BE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C10F-8D05-46E9-AD1A-525DDE22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6F95-CE11-4735-9B86-2F35F108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667E-F1DA-42E3-A85A-287A0E06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C000-A368-46E5-BD08-01376F63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AA39-B130-468B-87DB-0F217C69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CE8F-69CB-4A63-8CBB-5DE50D0C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2F64-A302-4A99-94A6-9EDED6A4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7047-EBA3-4F8E-8573-E0737AB0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D0547-7474-4F2C-9566-DC12D51A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76BBD-4778-41BD-82A9-C9F4B83F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DB50-293E-4DE6-9A23-55E2AA98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D2C68-A1B5-4C21-B7D9-73CA9DEB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06BC-9884-4C26-9967-EC2B041FAA30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B6C4-A931-4E40-8027-AC3AA338E97C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b-guide.ru/page_451_7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98772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124080" y="1752480"/>
            <a:ext cx="54864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.П.Бажов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ральские сказы"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0400" y="5943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Arial"/>
              </a:rPr>
              <a:t>Эрмитаж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30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080" y="6248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Зал итальянского искусств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763120" cy="6892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6216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лахитовая гостина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e00"/>
                </a:solidFill>
                <a:latin typeface="Arial"/>
              </a:rPr>
              <a:t>Исаакиевский собор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Иконостас Исаакиевского собор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0512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19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1523880"/>
            <a:ext cx="3200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Медной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ор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Хозяйка"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одберите текст к иллюстраци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rId2"/>
          </p:cNvPr>
          <p:cNvPicPr/>
          <p:nvPr/>
        </p:nvPicPr>
        <p:blipFill>
          <a:blip r:embed="rId3"/>
          <a:srcRect l="0" t="0" r="0" b="10000"/>
          <a:stretch/>
        </p:blipFill>
        <p:spPr>
          <a:xfrm>
            <a:off x="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05520" y="914400"/>
            <a:ext cx="3581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e00"/>
                </a:solidFill>
                <a:latin typeface="Arial"/>
              </a:rPr>
              <a:t>Пошёл к ней, а она рукой маячит, обойди-де руду-то с другой стороны. Он обошёл и видит - ящерок тут несчисленно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76560" y="685440"/>
            <a:ext cx="4267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Глядит, а перед ним на грудке руды у большого камня женщина какая-то сидит. Спиной к парню, а по косе видать - девка. Коса ссиза-чёрная и не как у наших девок болтается, а ровно прилипла к спине. На конце ленты не то красные, не то зелёные. Сквозь светеют и тонко этак позванивают, будто листовая медь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rcRect l="0" t="0" r="0" b="-59"/>
          <a:stretch/>
        </p:blipFill>
        <p:spPr>
          <a:xfrm>
            <a:off x="304920" y="457200"/>
            <a:ext cx="464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181480" y="6091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Как комнаты большие под землёй стали, а стены у них разные. То всё зелёные, то жёлтые с золотыми крапинками. На которых опять цветы медные. Синие тоже есть, лазоревые. Однем словом, изукрашено, что и сказать нельзя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228600" y="380880"/>
            <a:ext cx="48862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495680" y="609480"/>
            <a:ext cx="4191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- Вот, - говорит, - тебе подарочек для твоей невесты, - и подаёт большую малахитову шкатулку. А там, слышь-ко, всякий женский прибор. Серьги, кольца и протча, что даже не у всякой богатой невесты бывает.</a:t>
            </a:r>
            <a:br>
              <a:rPr sz="2800"/>
            </a:b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0" r="0" b="-18"/>
          <a:stretch/>
        </p:blipFill>
        <p:spPr>
          <a:xfrm>
            <a:off x="155520" y="46080"/>
            <a:ext cx="42512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2884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Вскорости нашёл им Степан глыбу такую. Выволокли её наверх. Гордятся, - вот-де мы какие, а Степану воли не дали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0" y="731880"/>
            <a:ext cx="48387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8377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e00"/>
                </a:solidFill>
                <a:latin typeface="Arial"/>
              </a:rPr>
              <a:t>А он, слышь-ко, на руднике у высокого камня мёртвый лежит, ровно улыбается, … Которые люди первые набежали, сказывали, что около покойника ящерку зелёную видели, … Сидит будто над покойником, голову подняла, а слёзы у ей так и каплют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4736" t="2160" r="3657" b="11547"/>
          <a:stretch/>
        </p:blipFill>
        <p:spPr>
          <a:xfrm>
            <a:off x="228600" y="685800"/>
            <a:ext cx="4475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09-04-04T06:03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c000000000001024140</vt:lpwstr>
  </property>
  <property fmtid="{D5CDD505-2E9C-101B-9397-08002B2CF9AE}" pid="3" name="Version">
    <vt:r8>1</vt:r8>
  </property>
</Properties>
</file>