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FDD61-7F63-411F-A464-807DD8905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C2506-31CB-459D-B12D-835662F6F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7E984-3D33-4CA3-B09F-7378DF8F6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0AF64-EF1C-4484-84CD-E4DAA6BF8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F946B-236C-4647-A5F6-F30A83629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BFD23-E82F-4558-ADBF-902C12F7D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980E7-5676-4507-A455-17D67A500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7A451-29AA-4DF1-B823-63CE9D63E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660A1-E088-4EA1-9FA3-054274CA7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B9EAA-E539-486E-8178-7A2D456BD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DB4C9-8E5A-4050-96B1-38D32CD3B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DB382-7EA0-4838-89AF-CDB99F1CC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B2383-32D1-429D-A20C-6B924860E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BBBB7-33E1-40A5-85D4-02CE8C980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12FFF-B246-49B2-8F39-AB84F5B6E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ACCC6-81C2-4E24-9BA1-90D8115FA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BA691-C43B-474F-B132-585A65457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12D9D-E770-423A-9FF7-A42A72DFB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87218-6F63-4A3F-87A7-9AD3DFAB2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2F0BB-CC22-45B6-9ECD-700E2CA8D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E32DD-5D9D-4CC1-9968-8B88FD72B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EBCD4-957A-46CD-BCC6-959AE813D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3B19A-A482-4A6D-A44F-3BDE942E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D9A0A-2FA5-4D6B-8354-F4E6DD3D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1AA2F-1BBD-486B-BE58-EC04CC259F14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AC908-9D54-405F-BBE8-374BB2CB8441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pb-guide.ru/page_451_7.htm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eb-dizain.sysert.ru/literatura/index.html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eb-dizain.sysert.ru/literatura/index.html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eb-dizain.sysert.ru/literatura/index.html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3987720"/>
            <a:ext cx="9144000" cy="28702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3124080" y="1752480"/>
            <a:ext cx="54864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.П.Бажов</a:t>
            </a:r>
            <a:endParaRPr b="1" i="1" lang="en-US" sz="18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Уральские сказы"</a:t>
            </a:r>
            <a:endParaRPr b="1" i="1" lang="en-US" sz="18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Государственный Эрмитаж. Зал итальянского искусства XVII-XVIII веков. Фотограф Интерпресс.ру / Николаев Александр"/>
          <p:cNvPicPr/>
          <p:nvPr/>
        </p:nvPicPr>
        <p:blipFill>
          <a:blip r:embed="rId2"/>
          <a:stretch/>
        </p:blipFill>
        <p:spPr>
          <a:xfrm>
            <a:off x="0" y="0"/>
            <a:ext cx="9144000" cy="60181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200400" y="594360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e00"/>
                </a:solidFill>
                <a:latin typeface="Arial"/>
              </a:rPr>
              <a:t>Эрмитаж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Государственный Эрмитаж. Зал итальянского искусства XVII-XVIII веков. Фотограф Интерпресс.ру / Николаев Александр"/>
          <p:cNvPicPr/>
          <p:nvPr/>
        </p:nvPicPr>
        <p:blipFill>
          <a:blip r:embed="rId2"/>
          <a:stretch/>
        </p:blipFill>
        <p:spPr>
          <a:xfrm>
            <a:off x="0" y="0"/>
            <a:ext cx="9144000" cy="63007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981080" y="624852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e00"/>
                </a:solidFill>
                <a:latin typeface="Arial"/>
              </a:rPr>
              <a:t>Зал итальянского искусства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52280" y="0"/>
            <a:ext cx="8763120" cy="68929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057400" y="62164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Малахитовая гостиная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e00"/>
                </a:solidFill>
                <a:latin typeface="Arial"/>
              </a:rPr>
              <a:t>Исаакиевский собор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31" name="" descr="Иконостас Исаакиевского собора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1905120"/>
            <a:ext cx="9144000" cy="47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531972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5638680" y="1523880"/>
            <a:ext cx="32004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"Медной 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горы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Хозяйка"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Подберите текст к иллюстрации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>
            <a:hlinkClick r:id="rId2"/>
          </p:cNvPr>
          <p:cNvPicPr/>
          <p:nvPr/>
        </p:nvPicPr>
        <p:blipFill>
          <a:blip r:embed="rId3"/>
          <a:srcRect l="0" t="0" r="0" b="10000"/>
          <a:stretch/>
        </p:blipFill>
        <p:spPr>
          <a:xfrm>
            <a:off x="0" y="0"/>
            <a:ext cx="503856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5105520" y="914400"/>
            <a:ext cx="3581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e00"/>
                </a:solidFill>
                <a:latin typeface="Arial"/>
              </a:rPr>
              <a:t>Пошёл к ней, а она рукой маячит, обойди-де руду-то с другой стороны. Он обошёл и видит - ящерок тут несчисленно.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876560" y="685440"/>
            <a:ext cx="42670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e00"/>
                </a:solidFill>
                <a:latin typeface="Arial"/>
              </a:rPr>
              <a:t>Глядит, а перед ним на грудке руды у большого камня женщина какая-то сидит. Спиной к парню, а по косе видать - девка. Коса ссиза-чёрная и не как у наших девок болтается, а ровно прилипла к спине. На конце ленты не то красные, не то зелёные. Сквозь светеют и тонко этак позванивают, будто листовая медь.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15" name="" descr="">
            <a:hlinkClick r:id="rId2"/>
          </p:cNvPr>
          <p:cNvPicPr/>
          <p:nvPr/>
        </p:nvPicPr>
        <p:blipFill>
          <a:blip r:embed="rId3"/>
          <a:srcRect l="0" t="0" r="0" b="-59"/>
          <a:stretch/>
        </p:blipFill>
        <p:spPr>
          <a:xfrm>
            <a:off x="304920" y="457200"/>
            <a:ext cx="46400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5181480" y="609120"/>
            <a:ext cx="373392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e00"/>
                </a:solidFill>
                <a:latin typeface="Arial"/>
              </a:rPr>
              <a:t>Как комнаты большие под землёй стали, а стены у них разные. То всё зелёные, то жёлтые с золотыми крапинками. На которых опять цветы медные. Синие тоже есть, лазоревые. Однем словом, изукрашено, что и сказать нельзя.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rcRect l="0" t="0" r="0" b="8121"/>
          <a:stretch/>
        </p:blipFill>
        <p:spPr>
          <a:xfrm>
            <a:off x="228600" y="380880"/>
            <a:ext cx="488628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495680" y="609480"/>
            <a:ext cx="4191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e00"/>
                </a:solidFill>
                <a:latin typeface="Arial"/>
              </a:rPr>
              <a:t>- Вот, - говорит, - тебе подарочек для твоей невесты, - и подаёт большую малахитову шкатулку. А там, слышь-ко, всякий женский прибор. Серьги, кольца и протча, что даже не у всякой богатой невесты бывает.</a:t>
            </a:r>
            <a:br>
              <a:rPr sz="2800"/>
            </a:br>
            <a:r>
              <a:rPr b="0" lang="ru-RU" sz="2800" spc="-1" strike="noStrike">
                <a:solidFill>
                  <a:srgbClr val="003e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rcRect l="0" t="0" r="0" b="-18"/>
          <a:stretch/>
        </p:blipFill>
        <p:spPr>
          <a:xfrm>
            <a:off x="155520" y="46080"/>
            <a:ext cx="4251240" cy="65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5028840" y="1142640"/>
            <a:ext cx="3886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e00"/>
                </a:solidFill>
                <a:latin typeface="Arial"/>
              </a:rPr>
              <a:t>Вскорости нашёл им Степан глыбу такую. Выволокли её наверх. Гордятся, - вот-де мы какие, а Степану воли не дали.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rcRect l="0" t="0" r="0" b="8121"/>
          <a:stretch/>
        </p:blipFill>
        <p:spPr>
          <a:xfrm>
            <a:off x="0" y="731880"/>
            <a:ext cx="483876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648320" y="837720"/>
            <a:ext cx="44956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e00"/>
                </a:solidFill>
                <a:latin typeface="Arial"/>
              </a:rPr>
              <a:t>А он, слышь-ко, на руднике у высокого камня мёртвый лежит, ровно улыбается, … Которые люди первые набежали, сказывали, что около покойника ящерку зелёную видели, … Сидит будто над покойником, голову подняла, а слёзы у ей так и каплют.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rcRect l="4736" t="2160" r="3657" b="11547"/>
          <a:stretch/>
        </p:blipFill>
        <p:spPr>
          <a:xfrm>
            <a:off x="228600" y="685800"/>
            <a:ext cx="44751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аня</cp:lastModifiedBy>
  <dcterms:modified xsi:type="dcterms:W3CDTF">2009-04-04T06:03:20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60c000000000001024140</vt:lpwstr>
  </property>
  <property fmtid="{D5CDD505-2E9C-101B-9397-08002B2CF9AE}" pid="3" name="Version">
    <vt:r8>1</vt:r8>
  </property>
</Properties>
</file>