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comments/comment3.xml" ContentType="application/vnd.openxmlformats-officedocument.presentationml.comments+xml"/>
  <Override PartName="/ppt/comments/comment4.xml" ContentType="application/vnd.openxmlformats-officedocument.presentationml.comments+xml"/>
  <Override PartName="/ppt/comments/comment5.xml" ContentType="application/vnd.openxmlformats-officedocument.presentationml.comments+xml"/>
  <Override PartName="/ppt/comments/comment6.xml" ContentType="application/vnd.openxmlformats-officedocument.presentationml.comments+xml"/>
  <Override PartName="/ppt/comments/comment7.xml" ContentType="application/vnd.openxmlformats-officedocument.presentationml.comments+xml"/>
  <Override PartName="/ppt/comments/comment8.xml" ContentType="application/vnd.openxmlformats-officedocument.presentationml.comments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учитель" initials="у" lastIdx="7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<Relationship Id="rId25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11-06-22T23:29:44.625000000" idx="1">
    <p:pos x="5760" y="0"/>
    <p:text/>
  </p:cm>
</p:cmLst>
</file>

<file path=ppt/comments/comment4.xml><?xml version="1.0" encoding="utf-8"?>
<p:cmLst xmlns:p="http://schemas.openxmlformats.org/presentationml/2006/main">
  <p:cm authorId="0" dt="2011-06-22T23:29:44.625000000" idx="2">
    <p:pos x="5760" y="0"/>
    <p:text/>
  </p:cm>
</p:cmLst>
</file>

<file path=ppt/comments/comment5.xml><?xml version="1.0" encoding="utf-8"?>
<p:cmLst xmlns:p="http://schemas.openxmlformats.org/presentationml/2006/main">
  <p:cm authorId="0" dt="2011-06-22T23:29:44.625000000" idx="3">
    <p:pos x="5760" y="0"/>
    <p:text/>
  </p:cm>
</p:cmLst>
</file>

<file path=ppt/comments/comment6.xml><?xml version="1.0" encoding="utf-8"?>
<p:cmLst xmlns:p="http://schemas.openxmlformats.org/presentationml/2006/main">
  <p:cm authorId="0" dt="2011-06-22T23:29:44.625000000" idx="4">
    <p:pos x="5760" y="0"/>
    <p:text/>
  </p:cm>
</p:cmLst>
</file>

<file path=ppt/comments/comment7.xml><?xml version="1.0" encoding="utf-8"?>
<p:cmLst xmlns:p="http://schemas.openxmlformats.org/presentationml/2006/main">
  <p:cm authorId="0" dt="2011-06-22T23:29:44.625000000" idx="5">
    <p:pos x="5760" y="0"/>
    <p:text/>
  </p:cm>
</p:cmLst>
</file>

<file path=ppt/comments/comment8.xml><?xml version="1.0" encoding="utf-8"?>
<p:cmLst xmlns:p="http://schemas.openxmlformats.org/presentationml/2006/main">
  <p:cm authorId="0" dt="2011-06-22T23:29:44.625000000" idx="6">
    <p:pos x="5760" y="0"/>
    <p:text/>
  </p:cm>
</p:cmLst>
</file>

<file path=ppt/comments/comment9.xml><?xml version="1.0" encoding="utf-8"?>
<p:cmLst xmlns:p="http://schemas.openxmlformats.org/presentationml/2006/main">
  <p:cm authorId="0" dt="2011-06-22T23:29:44.625000000" idx="7">
    <p:pos x="5760" y="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B907-D048-4181-A4B7-B7984B575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E3B7-C3A5-4464-B258-743FBE5E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F443C6-2CEB-4431-9308-46503CAB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15F39D-F62C-4A64-8F50-23D3717C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554DF2-CFE2-4269-AA42-E971B3D6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8A7D02-E6BD-4A30-AAD6-EBA6615D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8A2A6A-5603-4973-8B00-169CCD6F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78F595-ADAB-4A97-8228-4DBEC03B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73ABA0-066F-4BA8-937C-80A85DF9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4A9B77-A299-47E3-9BD3-BB98AED1B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347768-CDA7-4231-841B-933D423F1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152B1C-DC60-4070-B28A-EC0280482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1C43-2985-4398-B4B8-2B3A31F98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BC0AF6-3172-48A4-8561-D7EF3043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3DAA66-C935-4642-AB77-82A25A4E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9C8DFD-8A1C-4B09-A08B-FB62685E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D99A17-9578-47A1-B2F5-675557B6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B5B1B3-AA3B-4711-A6CB-65863476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58DEB8-CDC7-4D76-85AB-94FC9740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938141-59E7-4280-A213-718CF49D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5CCA2F-E1F0-4834-A321-9A077413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625592-3467-4A55-9C1E-09089007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3BBCE4-77FC-4753-83F9-02D5C0C6F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2344-03A2-4D7F-8376-9FDA396C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89AE86-39C6-4D61-95C7-25A7435A3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D6DDF-8CCB-4243-8C8F-0A0547B56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DCA38-3E4C-4C6C-AF59-E033F542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FF3251-B399-4BA0-96FB-7B6EFBAC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23375-3874-4DF3-9DB8-64E8F2EA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AF742-6F5F-420A-A2B8-0974DD68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664F2-5F43-4042-AD63-C1C710C5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5C7A7-ED56-4064-AD71-9FF46293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69659-2AA9-4294-866E-F88A0C7A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E800A-1E9C-43E4-9B08-B6E959D6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6838-0E7B-40E4-9032-29405C3B6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29065-207F-4388-BC5A-B42AE506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A1FDA-23C8-497A-B7FA-8E04D2BDC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14D02-1600-4CF7-969F-693319542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733154-2172-4BB5-8D38-10F885B9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70370B-CAA7-411E-8D59-F366ACB4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07E621-C516-48A3-A0AE-4EF72D4E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3C60E6-2B87-4417-AB1A-04285E47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4D6D28-475D-4FDC-A1E2-7CDED496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01B5AF-438C-4858-BB5D-857B66B1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D5B9E9-EC92-4E52-A8C8-28FFEF48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30FB-6D25-4E26-8432-3F806042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F6A8C5-C3D8-4931-970C-D16BB438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7DEA3D-B092-40F6-9CFD-DB4162E3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FA9BE0-F589-4568-AF50-82AF3370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065ACF-F30D-4F56-B668-D63504805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8327D1-D6E5-48CD-95F6-3B04A7956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803E-5499-47CA-BB25-0856ABED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594F-1A05-4C19-A18F-2D7A664A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8AC3-C373-4795-B223-80B536A7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9D5B-C67E-4F26-9DDB-E0271868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C4817-DC7A-4021-99CB-FE3ABDFC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4A91-ECAE-46BA-8D5F-51AACB4A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4BEC-E639-4BC2-B93E-C82E3634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CE70-27F8-4196-9505-0890EE4C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4EC6-24B9-489A-84B7-1A6E833E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5BAD-79C2-436E-BAF8-9939BD74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82DC-84A8-44AC-80E1-721B368CF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F079A-FA05-4B83-9D29-1F3DF8F7D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8CDB9-ACA5-4D42-B3FC-C10BB890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326FB-8A2A-4B6B-8FBE-37A179E8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F392C-AB98-4AE9-907D-B2B34A93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A73C5-219A-4BF1-8EFF-76BCF201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BC84-7146-485C-AADD-D88BD252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D91CF-CACF-4788-929E-3B64B508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4ABF9-5C1B-41B9-B82C-645467ED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10238-191B-4496-B7B9-E4CA8EF3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3AE50-139C-480B-B2F9-AC6776D3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D3ED4-012A-4CF1-BB31-EF4605E7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D4299-C222-4EDF-AEE7-936C5781C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1D7CE-B34A-4B5E-9D85-1691026C5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D029B-24E7-4062-A1ED-EF00ABD5B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9E689-5AE5-48FF-8EEB-6464850E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258D8-B251-46F3-B70A-00389F86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CA27-FD9D-435B-9C4A-0B54FA23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2EF8D-D75C-468D-B944-2F5185AF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331A1-2543-4848-891F-E21BD772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70632-7A58-44BD-BD89-4E0022DB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60921-1E74-4D1F-B790-8444E639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22DC3-E5EF-42CF-8721-BA00CA32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F6C6C-5787-4C70-8298-C0ADD6C3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C1D7A-DC5B-44E7-B840-8DEEDD2A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476C8-7E3E-4443-9E6F-CAF09FF3C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3083C-E7A3-4165-941B-3130F6A13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4DD11-187F-44C3-97A7-14CF18F96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8AAD-C995-4941-8734-5ACDE50E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847AA-FD23-44F8-AF67-7E6EA7B7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84D89-AA7C-4FE6-8DCA-E8CA6984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D2B5A-2893-4A72-AC2C-17D633BC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4CCC9-240A-4E86-AC63-D0473D3D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52DA5-C264-4728-8846-F2B420E1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A82EC-7675-428C-A3D9-D51248E5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BE0D2-AB85-4E95-ABC7-5203DFC8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C3219-2CA4-4F9B-9740-FC9A5958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A7F99-E20F-40A4-A38E-585929BC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771FE-0EE3-4427-A0E1-C3AFF1335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1224-51D4-49B4-87E4-A30658CD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1EA52-1526-489E-BA4B-2DF526D5B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55EED-3D7C-4993-9FA4-B29593C2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A6EDF-2CBB-4CBF-B0D8-E808F8CA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2313F-D2F6-435A-BA26-F4772ECC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91A41-7522-4582-AFFB-FAA3AF2B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D7784-404B-4548-87AF-83650F5A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155AE-D1AF-4B87-879A-DB7EE426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0D2EB-A1A1-4DFC-AA73-ABE50811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FB1AB-DEBB-42ED-A2B7-69885BEE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0CB45-555C-4451-B0D1-BD852F79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C81B-8DA9-4DA7-9D09-959F94BA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CE6E2-E663-409D-A782-093AC8B9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79E06-82BC-4048-A95B-F2B63D3EA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86EC1-8651-4C1F-81A2-3C06DC6E4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2ADFD-B10F-4DF8-A0BF-2806234B0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5CBA8-1D5E-4FE0-8271-A94C8944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EA1AB-5EAC-4B00-BFA8-0622813F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8CCED-A00F-4DD9-BC40-5268F15A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07CDF-A411-4B84-B37B-897D86E6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534B4-B7DA-45EC-BC47-37A7A400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63228-C685-4128-9711-5C76E072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50DB-B97D-4040-8314-E9A7AE1A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3E03E-E189-46F8-B9C6-366E6A27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179F2-11D6-4F04-BBEF-9E9A45E4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72D45-18DD-4FA8-A974-29F13AA9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9F242-5135-4F3A-9B0B-0DCAD0DC7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7AEE4-C892-4046-B310-ED165D762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103DA-5097-4697-9B04-6BE81CEE1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E1EC0-A405-42DC-B187-E27BE632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B8436-8D7C-4CEE-9F36-F8EE266E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D7DEF-9E26-4F93-9FB0-11B6B54D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B4139-C7F1-444B-83A2-D2F8FF55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DFDE-AAD2-461D-9B93-FE40851F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3080C-682E-49EA-B205-DA55243B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44B2C-60CB-4996-9B3C-45B9CF05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0B5B5-BE47-4BE6-8796-8E94B026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5F83A-6A69-4153-BE38-69E00122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C1B4F-8AB2-45EC-9B75-7FAA1235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DAC37-23B0-4B5E-B0D5-EED3FBE76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DED0E-CBE4-45B9-A574-DB298180D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9B63E8-3F71-4C17-B0B5-2ED907DA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6CB653-F2B8-49A9-8D1E-536CB8D2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4B696B-2967-40B0-81E4-12F70B74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EC6E-CEF0-4D95-8228-935E53B4755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11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12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0DC8-D34A-40BE-8619-4F20FB17BC9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11F0-0801-4B03-AB88-BB3816CD09E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1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1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3D1A-35F6-437B-A837-E8E05BC1315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8A01-7E29-42B2-B856-DDD88D87109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ECE6-7F2F-4B2D-B43D-D5BA69456E8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0ABE-1FFB-4659-B02F-27BF6D9F8A0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1475-E3A0-46E4-BCA2-8A53CB0343A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4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EC0C-0432-4407-9771-3EC432A615B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5DEF-2F0E-4252-8B63-F8D4C10DBFD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53E6-6963-42AF-8487-C18DA9CD3A31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1883-AB08-4116-9DA4-FF15EFCF2B4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Picture 4" descr="thumb20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463e38"/>
            </a:solidFill>
            <a:miter/>
          </a:ln>
        </p:spPr>
      </p:pic>
      <p:sp>
        <p:nvSpPr>
          <p:cNvPr id="608" name="Прямоугольник 10"/>
          <p:cNvSpPr/>
          <p:nvPr/>
        </p:nvSpPr>
        <p:spPr>
          <a:xfrm>
            <a:off x="642960" y="2714760"/>
            <a:ext cx="757224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65a00"/>
                </a:solidFill>
                <a:latin typeface="Georgia"/>
              </a:rPr>
              <a:t>   </a:t>
            </a:r>
            <a:r>
              <a:rPr b="1" lang="en-US" sz="3300" spc="-1" strike="noStrike">
                <a:solidFill>
                  <a:srgbClr val="000000"/>
                </a:solidFill>
                <a:latin typeface="Georgia"/>
              </a:rPr>
              <a:t>Литератур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Georgia"/>
              </a:rPr>
              <a:t>на географической карте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вестные детские поэты, писате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4"/>
          <p:cNvSpPr/>
          <p:nvPr/>
        </p:nvSpPr>
        <p:spPr>
          <a:xfrm>
            <a:off x="3143160" y="8571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. Краснотурьин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вердлов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: Лоретц Анна Васи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16349"/>
              </a:solidFill>
              <a:latin typeface="Georgia"/>
            </a:endParaRPr>
          </a:p>
        </p:txBody>
      </p:sp>
      <p:pic>
        <p:nvPicPr>
          <p:cNvPr id="679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0" name="TextBox 4"/>
          <p:cNvSpPr/>
          <p:nvPr/>
        </p:nvSpPr>
        <p:spPr>
          <a:xfrm>
            <a:off x="3183480" y="785880"/>
            <a:ext cx="18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2"/>
          <p:cNvSpPr/>
          <p:nvPr/>
        </p:nvSpPr>
        <p:spPr>
          <a:xfrm>
            <a:off x="571680" y="1646280"/>
            <a:ext cx="778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velib.com/biograph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биографии русских поэтов и писа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2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" descr=""/>
          <p:cNvPicPr/>
          <p:nvPr/>
        </p:nvPicPr>
        <p:blipFill>
          <a:blip r:embed="rId2"/>
          <a:stretch/>
        </p:blipFill>
        <p:spPr>
          <a:xfrm>
            <a:off x="0" y="428760"/>
            <a:ext cx="8923320" cy="4784760"/>
          </a:xfrm>
          <a:prstGeom prst="rect">
            <a:avLst/>
          </a:prstGeom>
          <a:ln w="0">
            <a:noFill/>
          </a:ln>
        </p:spPr>
      </p:pic>
      <p:sp>
        <p:nvSpPr>
          <p:cNvPr id="614" name="Прямоугольник 5"/>
          <p:cNvSpPr/>
          <p:nvPr/>
        </p:nvSpPr>
        <p:spPr>
          <a:xfrm>
            <a:off x="861120" y="278604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ербу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оугольник 6"/>
          <p:cNvSpPr/>
          <p:nvPr/>
        </p:nvSpPr>
        <p:spPr>
          <a:xfrm>
            <a:off x="1218240" y="314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ск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Прямоугольник 7"/>
          <p:cNvSpPr/>
          <p:nvPr/>
        </p:nvSpPr>
        <p:spPr>
          <a:xfrm>
            <a:off x="1500120" y="3857760"/>
            <a:ext cx="132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катеринбур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рямоугольник 8"/>
          <p:cNvSpPr/>
          <p:nvPr/>
        </p:nvSpPr>
        <p:spPr>
          <a:xfrm>
            <a:off x="2001960" y="3143160"/>
            <a:ext cx="167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жний Нов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Прямоугольник 9"/>
          <p:cNvSpPr/>
          <p:nvPr/>
        </p:nvSpPr>
        <p:spPr>
          <a:xfrm>
            <a:off x="4648320" y="4500720"/>
            <a:ext cx="87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ркут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оугольник 10"/>
          <p:cNvSpPr/>
          <p:nvPr/>
        </p:nvSpPr>
        <p:spPr>
          <a:xfrm>
            <a:off x="2507760" y="407196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лябин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Прямоугольник 11"/>
          <p:cNvSpPr/>
          <p:nvPr/>
        </p:nvSpPr>
        <p:spPr>
          <a:xfrm>
            <a:off x="3575160" y="435780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осибир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3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4" name="Прямоугольник 4"/>
          <p:cNvSpPr/>
          <p:nvPr/>
        </p:nvSpPr>
        <p:spPr>
          <a:xfrm>
            <a:off x="3643200" y="6429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ковский Корней Иванович (Корнейчуков Николай Васильеви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6" descr="Чуковский Корней Иванович (Корнейчуков Николай Васильевич) - фотография автора"/>
          <p:cNvPicPr/>
          <p:nvPr/>
        </p:nvPicPr>
        <p:blipFill>
          <a:blip r:embed="rId2"/>
          <a:stretch/>
        </p:blipFill>
        <p:spPr>
          <a:xfrm>
            <a:off x="928800" y="64296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626" name="Прямоугольник 6"/>
          <p:cNvSpPr/>
          <p:nvPr/>
        </p:nvSpPr>
        <p:spPr>
          <a:xfrm>
            <a:off x="571680" y="2967120"/>
            <a:ext cx="800100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ковский Корней Иванович (настоящее имя Корнейчуков Николай Васильевич) родился 19 марта (31 н.с.)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Петербург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16 по приглашению Горького Чуковский руководит детским отделом издательства "Парус" и начинает писать для детей: стихотворные сказки "Крокодил" (1916), "Мойдодыр" (1923), "Муха-цокотуха" (1924), "Бармалей" (1925), "Айболит" (1929)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Прямоугольник 7"/>
          <p:cNvSpPr/>
          <p:nvPr/>
        </p:nvSpPr>
        <p:spPr>
          <a:xfrm>
            <a:off x="428760" y="5214960"/>
            <a:ext cx="678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следние годы жизни выступал со статьями-эссе о Зощенко, Б.Житкове, А. Ахматовой, Б.Пастернаке и многих друг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0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1" name="Прямоугольник 4"/>
          <p:cNvSpPr/>
          <p:nvPr/>
        </p:nvSpPr>
        <p:spPr>
          <a:xfrm>
            <a:off x="3643200" y="6429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арто Агния Льв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Прямоугольник 6"/>
          <p:cNvSpPr/>
          <p:nvPr/>
        </p:nvSpPr>
        <p:spPr>
          <a:xfrm>
            <a:off x="357120" y="2143080"/>
            <a:ext cx="8143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то Агния Львовна (1906-1981) родилась 17 февраля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Москв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мье ветеринарного врача. Получила хорошее домашнее воспитание, которым руководил отец. Училась в гимназии, где и начала писать стих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Прямоугольник 7"/>
          <p:cNvSpPr/>
          <p:nvPr/>
        </p:nvSpPr>
        <p:spPr>
          <a:xfrm>
            <a:off x="357120" y="4214880"/>
            <a:ext cx="678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регулярно выпускала сборники стихов: "Братишки" (1928), "Мальчик наоборот"(1934), "Игрушки", (1936), "Снегирь" (193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2" descr="Барто Агния Львовна - фотография автора"/>
          <p:cNvPicPr/>
          <p:nvPr/>
        </p:nvPicPr>
        <p:blipFill>
          <a:blip r:embed="rId2"/>
          <a:stretch/>
        </p:blipFill>
        <p:spPr>
          <a:xfrm>
            <a:off x="1143000" y="64296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635" name="Прямоугольник 9"/>
          <p:cNvSpPr/>
          <p:nvPr/>
        </p:nvSpPr>
        <p:spPr>
          <a:xfrm>
            <a:off x="428760" y="3500280"/>
            <a:ext cx="792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25 были опубликованы книжки стихов для детей - "Китайчонок Ван Ли", Мишка-воришка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Прямоугольник 11"/>
          <p:cNvSpPr/>
          <p:nvPr/>
        </p:nvSpPr>
        <p:spPr>
          <a:xfrm>
            <a:off x="214200" y="5226120"/>
            <a:ext cx="742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40-50 выходят новые сборники: "Первоклассница", "Звенигород", "Веселые стихи", "Стихи детям". В эти же годы работает над сценариями детских кинофильмов "Подкидыш", "Слон и веревочка", "Алеша Птицын вырабатывает характер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9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0" name="Прямоугольник 4"/>
          <p:cNvSpPr/>
          <p:nvPr/>
        </p:nvSpPr>
        <p:spPr>
          <a:xfrm>
            <a:off x="3643200" y="6429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Бажов Павел Пет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Прямоугольник 6"/>
          <p:cNvSpPr/>
          <p:nvPr/>
        </p:nvSpPr>
        <p:spPr>
          <a:xfrm>
            <a:off x="357120" y="2143080"/>
            <a:ext cx="8143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жов Павел Петрович (27 января 1879 - 31 августа 1967). Знаменитый уральский сказоч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в семье рабочих. Окончил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катеринбург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е духовное училище (1893) и Пермскую духовную семинарию (189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Прямоугольник 7"/>
          <p:cNvSpPr/>
          <p:nvPr/>
        </p:nvSpPr>
        <p:spPr>
          <a:xfrm>
            <a:off x="285840" y="335772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40-е гг. Бажов дополняет и развивает проблематику довоенного "гумешевского" цикла на материале истории Южного Урала ("Иванко Крылатко", "Чугунная бабушка", "Коренная тайность" и др.). Отдельную группу составляют сатирические "Сказы о немцах" (1943-45)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6" descr="Бажов Павел Петрович - фотография автора"/>
          <p:cNvPicPr/>
          <p:nvPr/>
        </p:nvPicPr>
        <p:blipFill>
          <a:blip r:embed="rId2"/>
          <a:stretch/>
        </p:blipFill>
        <p:spPr>
          <a:xfrm>
            <a:off x="1214280" y="428760"/>
            <a:ext cx="1285920" cy="1428480"/>
          </a:xfrm>
          <a:prstGeom prst="rect">
            <a:avLst/>
          </a:prstGeom>
          <a:ln w="0">
            <a:noFill/>
          </a:ln>
        </p:spPr>
      </p:pic>
      <p:sp>
        <p:nvSpPr>
          <p:cNvPr id="644" name="Прямоугольник 14"/>
          <p:cNvSpPr/>
          <p:nvPr/>
        </p:nvSpPr>
        <p:spPr>
          <a:xfrm>
            <a:off x="428760" y="4826160"/>
            <a:ext cx="8215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й путь Бажова завершается социально-бытовыми сказами ("Васина гора", "Широкое плечо", "Не та цапля" и др.), которые тематически примыкают к его "Уральским былям". Последнее крупное произведение - автобиографическая повесть "Далекое - близкое" (1949) содержит многообразные сведения из жизни и быта Екатеринбурга начала XX в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7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Прямоугольник 4"/>
          <p:cNvSpPr/>
          <p:nvPr/>
        </p:nvSpPr>
        <p:spPr>
          <a:xfrm>
            <a:off x="3643200" y="6429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льдар Абузя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Прямоугольник 6"/>
          <p:cNvSpPr/>
          <p:nvPr/>
        </p:nvSpPr>
        <p:spPr>
          <a:xfrm>
            <a:off x="357120" y="2143080"/>
            <a:ext cx="814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5 июня 1976 года в Горь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Прямоугольник 7"/>
          <p:cNvSpPr/>
          <p:nvPr/>
        </p:nvSpPr>
        <p:spPr>
          <a:xfrm>
            <a:off x="285840" y="2571840"/>
            <a:ext cx="8143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ил исторический факультет  университета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жнего Новго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бютировал как прозаик в 2000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ликовался в литературных журналах и альманахах «Вавилон», «Дружба Народов», «Октябрь», «Знамя», «Новый мир», «День и ночь»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едения переведены на немецкий, чешский, шведский, армянский, арабский язы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2" descr="http://glfr.ru/img/cache/86f6c841077e2b10cb50ed0e6ce1704f"/>
          <p:cNvPicPr/>
          <p:nvPr/>
        </p:nvPicPr>
        <p:blipFill>
          <a:blip r:embed="rId2"/>
          <a:stretch/>
        </p:blipFill>
        <p:spPr>
          <a:xfrm>
            <a:off x="1071720" y="285840"/>
            <a:ext cx="135720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4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5" name="Прямоугольник 4"/>
          <p:cNvSpPr/>
          <p:nvPr/>
        </p:nvSpPr>
        <p:spPr>
          <a:xfrm>
            <a:off x="3643200" y="6429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айбородин Анатолий Григорь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Прямоугольник 6"/>
          <p:cNvSpPr/>
          <p:nvPr/>
        </p:nvSpPr>
        <p:spPr>
          <a:xfrm>
            <a:off x="357120" y="2143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Прямоугольник 7"/>
          <p:cNvSpPr/>
          <p:nvPr/>
        </p:nvSpPr>
        <p:spPr>
          <a:xfrm>
            <a:off x="285840" y="242892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толий Григорьевич Байбородин родился 24 марта 1950 года в селе Сосново-Озерск Республики Бурятия. После окончания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ркутск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о государственного университета (отделение журналистики) работал в сельских и областных газетах Восточной Сиби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2" descr="http://glfr.ru/img/cache/917ca793ed8ea3fbd85969f6181722a4"/>
          <p:cNvPicPr/>
          <p:nvPr/>
        </p:nvPicPr>
        <p:blipFill>
          <a:blip r:embed="rId2"/>
          <a:stretch/>
        </p:blipFill>
        <p:spPr>
          <a:xfrm>
            <a:off x="1214280" y="285840"/>
            <a:ext cx="1643400" cy="2095560"/>
          </a:xfrm>
          <a:prstGeom prst="rect">
            <a:avLst/>
          </a:prstGeom>
          <a:ln w="0">
            <a:noFill/>
          </a:ln>
        </p:spPr>
      </p:pic>
      <p:sp>
        <p:nvSpPr>
          <p:cNvPr id="659" name="Прямоугольник 9"/>
          <p:cNvSpPr/>
          <p:nvPr/>
        </p:nvSpPr>
        <p:spPr>
          <a:xfrm>
            <a:off x="357120" y="407196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пьес «Косопят – борода до пят» (Постановка: Иркутский городской театр 2003.), «Птицы черные, птицы белые» (Постановка: Иркутский областной кукольный театр, 200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2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3" name="Прямоугольник 4"/>
          <p:cNvSpPr/>
          <p:nvPr/>
        </p:nvSpPr>
        <p:spPr>
          <a:xfrm>
            <a:off x="3643200" y="6429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окопьева Зоя Григор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Прямоугольник 6"/>
          <p:cNvSpPr/>
          <p:nvPr/>
        </p:nvSpPr>
        <p:spPr>
          <a:xfrm>
            <a:off x="357120" y="2143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Прямоугольник 7"/>
          <p:cNvSpPr/>
          <p:nvPr/>
        </p:nvSpPr>
        <p:spPr>
          <a:xfrm>
            <a:off x="285840" y="242892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заик Зоя Егоровна Прокопьева родилась в селе Белозерское Белозерского района Курганской области 15.11.193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2" descr="http://glfr.ru/img/cache/1bbc1f52681bd9c272206412d6c69a29"/>
          <p:cNvPicPr/>
          <p:nvPr/>
        </p:nvPicPr>
        <p:blipFill>
          <a:blip r:embed="rId2"/>
          <a:stretch/>
        </p:blipFill>
        <p:spPr>
          <a:xfrm>
            <a:off x="1214280" y="428760"/>
            <a:ext cx="1202040" cy="1585800"/>
          </a:xfrm>
          <a:prstGeom prst="rect">
            <a:avLst/>
          </a:prstGeom>
          <a:ln w="0">
            <a:noFill/>
          </a:ln>
        </p:spPr>
      </p:pic>
      <p:sp>
        <p:nvSpPr>
          <p:cNvPr id="667" name="Прямоугольник 10"/>
          <p:cNvSpPr/>
          <p:nvPr/>
        </p:nvSpPr>
        <p:spPr>
          <a:xfrm>
            <a:off x="357120" y="3105000"/>
            <a:ext cx="80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49 году Прокопьева переезжает в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лябин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Прямоугольник 11"/>
          <p:cNvSpPr/>
          <p:nvPr/>
        </p:nvSpPr>
        <p:spPr>
          <a:xfrm>
            <a:off x="571680" y="3500280"/>
            <a:ext cx="7929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копьева возглавляет Бюро пропаганды художественной литературы Челябинской областной писательской организации, деятельность которого распространялась на три области Южного Урала: Челябинскую, Курганскую и Оренбургскую. У нее выходят сборники прозы - в Челябинске и в Москве, которые, в основном, развивают «биографическую» и «рабочую» темы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1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2" name="Прямоугольник 4"/>
          <p:cNvSpPr/>
          <p:nvPr/>
        </p:nvSpPr>
        <p:spPr>
          <a:xfrm>
            <a:off x="3643200" y="6429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Яранцев Владимир Никола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Прямоугольник 6"/>
          <p:cNvSpPr/>
          <p:nvPr/>
        </p:nvSpPr>
        <p:spPr>
          <a:xfrm>
            <a:off x="357120" y="2143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Прямоугольник 7"/>
          <p:cNvSpPr/>
          <p:nvPr/>
        </p:nvSpPr>
        <p:spPr>
          <a:xfrm>
            <a:off x="285840" y="2428920"/>
            <a:ext cx="814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 Николаевич Яранцев родился в г. Калинин (Тверь) в 1958 году. Закончил гуманитарный факультет Новосибирского государственного университета (Академгородок) по специальности «филолог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Прямоугольник 11"/>
          <p:cNvSpPr/>
          <p:nvPr/>
        </p:nvSpPr>
        <p:spPr>
          <a:xfrm>
            <a:off x="571680" y="3929040"/>
            <a:ext cx="7929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90-е годы работал в газетах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осибирс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: «Сибирская газета» и «Слово», печатался в «Советской Сибири», «Вечернем Новосибирске», «Молодости Сибири», «Новой Сибири». С 2000 года печатается, а затем работает (с 2002 г.) в журнале «Сибирские огни», одновременно занимаясь литературоведением, в том числе сибирск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2" descr="http://glfr.ru/img/cache/43b77d444f213a07597b9982d12b4e0d"/>
          <p:cNvPicPr/>
          <p:nvPr/>
        </p:nvPicPr>
        <p:blipFill>
          <a:blip r:embed="rId2"/>
          <a:stretch/>
        </p:blipFill>
        <p:spPr>
          <a:xfrm>
            <a:off x="1500120" y="571680"/>
            <a:ext cx="135756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15:17:57Z</dcterms:created>
  <dc:creator>Илья Кузнецов</dc:creator>
  <dc:description/>
  <dc:language>en-US</dc:language>
  <cp:lastModifiedBy>Admin</cp:lastModifiedBy>
  <dcterms:modified xsi:type="dcterms:W3CDTF">2011-09-08T16:32:02Z</dcterms:modified>
  <cp:revision>11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e0e0000000000010243100207f6000400038000</vt:lpwstr>
  </property>
</Properties>
</file>