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s/comment5.xml" ContentType="application/vnd.openxmlformats-officedocument.presentationml.comments+xml"/>
  <Override PartName="/ppt/comments/comment6.xml" ContentType="application/vnd.openxmlformats-officedocument.presentationml.comments+xml"/>
  <Override PartName="/ppt/comments/comment7.xml" ContentType="application/vnd.openxmlformats-officedocument.presentationml.comments+xml"/>
  <Override PartName="/ppt/comments/comment8.xml" ContentType="application/vnd.openxmlformats-officedocument.presentationml.comments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учитель" initials="у" lastIdx="7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<Relationship Id="rId25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1-06-22T23:29:44.625000000" idx="1">
    <p:pos x="5760" y="0"/>
    <p:text/>
  </p:cm>
</p:cmLst>
</file>

<file path=ppt/comments/comment4.xml><?xml version="1.0" encoding="utf-8"?>
<p:cmLst xmlns:p="http://schemas.openxmlformats.org/presentationml/2006/main">
  <p:cm authorId="0" dt="2011-06-22T23:29:44.625000000" idx="2">
    <p:pos x="5760" y="0"/>
    <p:text/>
  </p:cm>
</p:cmLst>
</file>

<file path=ppt/comments/comment5.xml><?xml version="1.0" encoding="utf-8"?>
<p:cmLst xmlns:p="http://schemas.openxmlformats.org/presentationml/2006/main">
  <p:cm authorId="0" dt="2011-06-22T23:29:44.625000000" idx="3">
    <p:pos x="5760" y="0"/>
    <p:text/>
  </p:cm>
</p:cmLst>
</file>

<file path=ppt/comments/comment6.xml><?xml version="1.0" encoding="utf-8"?>
<p:cmLst xmlns:p="http://schemas.openxmlformats.org/presentationml/2006/main">
  <p:cm authorId="0" dt="2011-06-22T23:29:44.625000000" idx="4">
    <p:pos x="5760" y="0"/>
    <p:text/>
  </p:cm>
</p:cmLst>
</file>

<file path=ppt/comments/comment7.xml><?xml version="1.0" encoding="utf-8"?>
<p:cmLst xmlns:p="http://schemas.openxmlformats.org/presentationml/2006/main">
  <p:cm authorId="0" dt="2011-06-22T23:29:44.625000000" idx="5">
    <p:pos x="5760" y="0"/>
    <p:text/>
  </p:cm>
</p:cmLst>
</file>

<file path=ppt/comments/comment8.xml><?xml version="1.0" encoding="utf-8"?>
<p:cmLst xmlns:p="http://schemas.openxmlformats.org/presentationml/2006/main">
  <p:cm authorId="0" dt="2011-06-22T23:29:44.625000000" idx="6">
    <p:pos x="5760" y="0"/>
    <p:text/>
  </p:cm>
</p:cmLst>
</file>

<file path=ppt/comments/comment9.xml><?xml version="1.0" encoding="utf-8"?>
<p:cmLst xmlns:p="http://schemas.openxmlformats.org/presentationml/2006/main">
  <p:cm authorId="0" dt="2011-06-22T23:29:44.625000000" idx="7">
    <p:pos x="5760" y="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39A-3760-4145-A4EB-F9819737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41D4-FB37-433B-8C9C-203CF187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86F711-F089-4B66-AA5B-3E32758B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79B0D8-BFFB-4ADF-854E-9302A1F3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6E9E2A-7248-437A-BCD8-5E546D7B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EFC309-9781-4C76-B40E-98BE3AF8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67F52B-9805-4233-8187-9FE609CF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76D236-3FDD-4E8A-9DE5-C4E5C427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0CB173-CBB6-4394-BCBB-3666AD52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199F2B-E25E-4989-A3EE-34FA3FEF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6F147C-D04E-49B1-BFCB-B1642A5F1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7C531B-FA1E-4415-91E9-93C884BD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8CA2-4D42-4989-BE3F-A954A09D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B5EA3F-06FE-49D1-81B5-849B20B8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EBB12E-BF27-4D5E-9499-AC1214A7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CDCCC4-85D4-4BA8-9DA4-BB3B8ED4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B7F000-9441-40E7-92C4-E99FDEAD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7E0439-DCAD-4F2B-B9AD-AA68C350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9ADB2C-325D-4DAF-9BE2-50D568DF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9627EF-011C-48C3-A4D3-B1740D94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C9F700-8AB1-4570-9589-2C04A0FE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6D08F9-8357-467B-80EC-C0BF1812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2AB5F0-C52C-4F1F-8F10-E5123F12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24F8-050B-45F7-BBA7-AC42563B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5E0EC7-BD62-4B0A-8CD4-62F90742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23F1E-7318-4430-AF0D-1A15EC76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2085A-3469-4B6C-92CA-6D1CF18E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B820E-6369-4DF3-B293-F1D54904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AA75D-77A0-4A46-B457-D09C6870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F3732-774F-4D77-9DA5-EA0F5C68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2DBFB-3B47-494F-9E20-A38A7FA3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649A8-C997-49B8-AB0E-8E37F02C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F191F-E4B0-44D8-960F-1580EBAD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30B93-C617-4747-9872-E09025DF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923F-0A56-4E03-9346-31380AF5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168B5-B545-43B9-9C59-8DC729EF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8199B-F5CA-4EDE-B1C9-A5AEE33A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A1110-C869-4966-A52A-BD07119F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86FF01-33FA-42E5-B708-22AF6C0F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C73104-D570-4851-B5C6-F65B5149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2EC344-88B9-49CB-AE70-530CFBE4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C33317-7AA3-4C75-A6B5-C8A11B00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DBDBDE-D664-4D95-A321-76270D58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D72575-E8E0-47A1-B5B0-1C927477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86D524-2AB3-4E9F-B35F-2EF5EE84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4D42-6B64-4ADF-8610-08DA734D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979AB7-B39C-48EB-BD68-03092239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6DCDF1-A040-474A-B318-A6712709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EE580C-D3CE-4A81-B35C-A0E2B6FA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9B280C-E5F6-4A79-82C1-43C3E72C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5E0E66-012B-441A-95A4-6122AA38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3358-1AD4-4275-8820-A7424C17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A445-3F31-4485-831F-63C3E30F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9393-C9EC-4D9E-8AD4-89C97AFD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40BA-CF1F-4F1C-8A3B-66EF4807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0A5B-7E53-44FE-9EDB-B36A8ACE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39E0-3AF5-4A3C-9A31-772AEFC2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5579-FB4E-426B-9B20-F789F9CA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672C-46E9-4930-B3F4-C5BF0B31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F86B-630D-4DF8-BC36-09D3135F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D229-2A55-4661-AE5C-C43AD314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C692-2E65-4291-953C-AEA76906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C1C4E-5F7A-4580-B5F4-11889570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51BD4-E31C-4B6A-9F25-7149DDE7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F3D58-1D71-4123-A8D7-7074CB57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C62D3-065B-4E1C-95D1-66B357A9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F80B7-8601-4E7F-9BF4-96BBE070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E3B7-03E5-4831-A8E8-50ECD3D5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B8105-A0FB-4965-81BD-25DAD0CE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377C3-1E91-4991-9136-D7537CD3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B2F7E-7D08-4C6B-9A41-3CB6EF04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894B2-8A63-4EBA-8BBA-0EAF6394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9F49A-8B4D-43EC-AA94-75A6BC6B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F3DC8-7669-4CF8-BE5B-F9047455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DAB0B-93A5-4286-BFFF-73B1A828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DD91F-6915-45EA-9DA0-611CFBB6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B4641-F2D9-4305-B1AA-69849A89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49D61-91E5-4892-A5A7-46EB0BD7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F146-BE5E-47B0-824C-BC8096B9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57A89-AB73-4C20-8AE6-3FDB43D6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75D55-E1DA-45B0-9EAA-259B12AB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A5BA7-1989-4B32-9E32-A66BB250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7E3F7-F1A1-4B70-AD31-859868F6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DE457-8938-4629-9796-F88986F9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68D18-FD33-40F1-9477-B944E9CF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014F4-1423-4783-9577-0976038E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E8431-7E8C-4A7C-B318-6A48D9BBD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091C0-54BF-493C-BFF1-43CB259C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24072-BE15-46D4-A6C6-7B245D152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B592-ADF0-47B8-B041-E33D71EC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1424F-C65A-4848-9CD4-CAE8E673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7FF8C-33C4-4B6C-A782-DCDC273F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4401D-C472-48DA-838D-44714D5F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4516C-20CE-4A90-B5AB-09513BC7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E6C37-A59F-4D48-A56D-258B0D5A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BCA29-4A2A-4554-A246-BF59898F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947DD-AD78-4C9D-B567-736C8E7B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5DD72-8FEA-4AC9-978F-2F2F0E74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E6C0C-9B1F-4AFD-908E-EAC720B3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98C02-E456-4AB9-B1D3-0B1B9E3A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8C58-7054-4CED-A734-EAA1C367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58ECA-F0A4-4275-AE8E-637833C3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15297-A462-46D4-BEFA-52BBD50A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5E3F8-052D-4E1A-875C-18D399DC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882C1-45FE-46FA-AE9B-E81B434A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0BD22-DD6F-459C-AEDF-ECDDFBE6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F085E-8721-47C0-9237-3F9BB521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181EE-7C21-4848-B413-CE1B4821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09432-8F89-4B3E-8865-AA37A206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4A15F-DE98-40A4-BFF2-26929DD3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BCF33-9310-4F0D-B3E1-F66FCF48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8346-6750-4842-8707-4367A83F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EA09B-0F56-4C95-B83F-51DCDC93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36A3A-55EF-4868-8B43-42699580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417F1-2D5B-46E0-A023-27E205AA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D5E84-BF8C-4409-86E3-024168B3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3C526-6F3A-45B5-AF40-97EBE023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8BE4D-D988-4427-A545-E47D8AE0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E0DF7-B2FF-4F94-A6CC-AEB9233F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D186D-ECB2-4966-95A2-7124B2CF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81494-88C3-4A62-AE0D-0F7944B5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40EA3-1F48-445A-AE36-DC3BC4B7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A7A9-98FC-473E-ADB2-E4BC4137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27405-85F3-4F4E-B5A0-F35B3234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58674-1683-4666-8862-9AD1CDC7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2086B-BF81-4E9D-BFFB-ABFE617A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29255-EDD1-4293-AF21-51B99207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F20AB-7FDA-4E9C-83B7-588A69B9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66FE4-F01C-4839-911F-EE76F3A5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258FD-F359-4BB2-BC02-0D02C556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0B145-858A-4E7E-A5E1-0E57032F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946A9-DF69-409E-9903-C1D47957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A12B4-FD36-493F-AEAF-B67B4903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E742-99F6-42BD-8A46-4AC2EB8C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AFAEC-25C9-4AD0-A6EA-14C84148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5501C-FD21-4B95-9C0C-43ECD123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6C24B-5386-4D4E-8662-E0C15552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47E6E-0A66-46E8-9B7B-EE202251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A292F-8EB8-48EE-A1B4-2A6829E7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938BD-738E-48A0-AED0-EDCFB951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4F77D-DF7D-46AA-BC15-8260908D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3D5FBC-4229-4364-8B1F-DA7585FF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3E5B98-77DD-4734-A647-38B8A78A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598112-68DC-4F6F-AD99-81394F32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18C5-6BBA-41C1-9E9B-E466A3DBBD1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B1DC-1BB4-48E4-917C-D66C5B99782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DB42-2E37-4A15-AADA-4CE327A344A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E258-1CAC-4772-A7E6-7F9750D6415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1246-E25D-4A5A-8A9B-4BEAE85C8A7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FAC1-8E52-4080-9220-115DD771559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2EA6-F625-4D1A-AAD6-97EDBDFEFA7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40C9-6068-45C9-A42D-72405C8CA0D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47FB-BEBC-4764-9689-9CAF0F33D04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D35C-ED4C-4B7C-80DF-BCAEFBE1884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4A1D-8654-4C6C-83E0-95D06EB6F616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8BD1-6EC3-4B6B-8D20-78F6A095E80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4" descr="thumb20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63e38"/>
            </a:solidFill>
            <a:miter/>
          </a:ln>
        </p:spPr>
      </p:pic>
      <p:sp>
        <p:nvSpPr>
          <p:cNvPr id="608" name="Прямоугольник 10"/>
          <p:cNvSpPr/>
          <p:nvPr/>
        </p:nvSpPr>
        <p:spPr>
          <a:xfrm>
            <a:off x="642960" y="2714760"/>
            <a:ext cx="757224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65a00"/>
                </a:solidFill>
                <a:latin typeface="Georgia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Georgia"/>
              </a:rPr>
              <a:t>Литератур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Georgia"/>
              </a:rPr>
              <a:t>на географической карте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вестные детские поэты, писате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4"/>
          <p:cNvSpPr/>
          <p:nvPr/>
        </p:nvSpPr>
        <p:spPr>
          <a:xfrm>
            <a:off x="3143160" y="8571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 Краснотурьи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ердл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: Лоретц Анн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16349"/>
              </a:solidFill>
              <a:latin typeface="Georgia"/>
            </a:endParaRPr>
          </a:p>
        </p:txBody>
      </p:sp>
      <p:pic>
        <p:nvPicPr>
          <p:cNvPr id="679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0" name="TextBox 4"/>
          <p:cNvSpPr/>
          <p:nvPr/>
        </p:nvSpPr>
        <p:spPr>
          <a:xfrm>
            <a:off x="3183480" y="78588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571680" y="1646280"/>
            <a:ext cx="778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velib.com/biograph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иографии русских поэтов и пис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"/>
          <p:cNvPicPr/>
          <p:nvPr/>
        </p:nvPicPr>
        <p:blipFill>
          <a:blip r:embed="rId2"/>
          <a:stretch/>
        </p:blipFill>
        <p:spPr>
          <a:xfrm>
            <a:off x="0" y="428760"/>
            <a:ext cx="8923320" cy="4784760"/>
          </a:xfrm>
          <a:prstGeom prst="rect">
            <a:avLst/>
          </a:prstGeom>
          <a:ln w="0">
            <a:noFill/>
          </a:ln>
        </p:spPr>
      </p:pic>
      <p:sp>
        <p:nvSpPr>
          <p:cNvPr id="614" name="Прямоугольник 5"/>
          <p:cNvSpPr/>
          <p:nvPr/>
        </p:nvSpPr>
        <p:spPr>
          <a:xfrm>
            <a:off x="861120" y="278604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6"/>
          <p:cNvSpPr/>
          <p:nvPr/>
        </p:nvSpPr>
        <p:spPr>
          <a:xfrm>
            <a:off x="1218240" y="314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оугольник 7"/>
          <p:cNvSpPr/>
          <p:nvPr/>
        </p:nvSpPr>
        <p:spPr>
          <a:xfrm>
            <a:off x="1500120" y="3857760"/>
            <a:ext cx="13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атеринбур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оугольник 8"/>
          <p:cNvSpPr/>
          <p:nvPr/>
        </p:nvSpPr>
        <p:spPr>
          <a:xfrm>
            <a:off x="2001960" y="3143160"/>
            <a:ext cx="167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жний Нов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9"/>
          <p:cNvSpPr/>
          <p:nvPr/>
        </p:nvSpPr>
        <p:spPr>
          <a:xfrm>
            <a:off x="4648320" y="450072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ркут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10"/>
          <p:cNvSpPr/>
          <p:nvPr/>
        </p:nvSpPr>
        <p:spPr>
          <a:xfrm>
            <a:off x="2507760" y="407196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яби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11"/>
          <p:cNvSpPr/>
          <p:nvPr/>
        </p:nvSpPr>
        <p:spPr>
          <a:xfrm>
            <a:off x="3575160" y="435780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сибир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Прямоугольник 4"/>
          <p:cNvSpPr/>
          <p:nvPr/>
        </p:nvSpPr>
        <p:spPr>
          <a:xfrm>
            <a:off x="3643200" y="6429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ковский Корней Иванович (Корнейчуков Николай Василье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6" descr="Чуковский Корней Иванович (Корнейчуков Николай Васильевич) - фотография автора"/>
          <p:cNvPicPr/>
          <p:nvPr/>
        </p:nvPicPr>
        <p:blipFill>
          <a:blip r:embed="rId2"/>
          <a:stretch/>
        </p:blipFill>
        <p:spPr>
          <a:xfrm>
            <a:off x="928800" y="64296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626" name="Прямоугольник 6"/>
          <p:cNvSpPr/>
          <p:nvPr/>
        </p:nvSpPr>
        <p:spPr>
          <a:xfrm>
            <a:off x="571680" y="2967120"/>
            <a:ext cx="80010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ковский Корней Иванович (настоящее имя Корнейчуков Николай Васильевич) родился 19 марта (31 н.с.)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етербург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16 по приглашению Горького Чуковский руководит детским отделом издательства "Парус" и начинает писать для детей: стихотворные сказки "Крокодил" (1916), "Мойдодыр" (1923), "Муха-цокотуха" (1924), "Бармалей" (1925), "Айболит" (1929)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оугольник 7"/>
          <p:cNvSpPr/>
          <p:nvPr/>
        </p:nvSpPr>
        <p:spPr>
          <a:xfrm>
            <a:off x="428760" y="5214960"/>
            <a:ext cx="678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дние годы жизни выступал со статьями-эссе о Зощенко, Б.Житкове, А. Ахматовой, Б.Пастернаке и многих друг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1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арто Агния Ль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Прямоугольник 6"/>
          <p:cNvSpPr/>
          <p:nvPr/>
        </p:nvSpPr>
        <p:spPr>
          <a:xfrm>
            <a:off x="357120" y="2143080"/>
            <a:ext cx="8143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то Агния Львовна (1906-1981) родилась 17 феврал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Москв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мье ветеринарного врача. Получила хорошее домашнее воспитание, которым руководил отец. Училась в гимназии, где и начала писать сти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рямоугольник 7"/>
          <p:cNvSpPr/>
          <p:nvPr/>
        </p:nvSpPr>
        <p:spPr>
          <a:xfrm>
            <a:off x="357120" y="4214880"/>
            <a:ext cx="67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регулярно выпускала сборники стихов: "Братишки" (1928), "Мальчик наоборот"(1934), "Игрушки", (1936), "Снегирь" (193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" descr="Барто Агния Львовна - фотография автора"/>
          <p:cNvPicPr/>
          <p:nvPr/>
        </p:nvPicPr>
        <p:blipFill>
          <a:blip r:embed="rId2"/>
          <a:stretch/>
        </p:blipFill>
        <p:spPr>
          <a:xfrm>
            <a:off x="1143000" y="64296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635" name="Прямоугольник 9"/>
          <p:cNvSpPr/>
          <p:nvPr/>
        </p:nvSpPr>
        <p:spPr>
          <a:xfrm>
            <a:off x="428760" y="3500280"/>
            <a:ext cx="79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25 были опубликованы книжки стихов для детей - "Китайчонок Ван Ли", Мишка-воришка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11"/>
          <p:cNvSpPr/>
          <p:nvPr/>
        </p:nvSpPr>
        <p:spPr>
          <a:xfrm>
            <a:off x="214200" y="5226120"/>
            <a:ext cx="742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0-50 выходят новые сборники: "Первоклассница", "Звенигород", "Веселые стихи", "Стихи детям". В эти же годы работает над сценариями детских кинофильмов "Подкидыш", "Слон и веревочка", "Алеша Птицын вырабатывает характер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0" name="Прямоугольник 4"/>
          <p:cNvSpPr/>
          <p:nvPr/>
        </p:nvSpPr>
        <p:spPr>
          <a:xfrm>
            <a:off x="3643200" y="642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ажов Павел Пет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оугольник 6"/>
          <p:cNvSpPr/>
          <p:nvPr/>
        </p:nvSpPr>
        <p:spPr>
          <a:xfrm>
            <a:off x="357120" y="2143080"/>
            <a:ext cx="8143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жов Павел Петрович (27 января 1879 - 31 августа 1967). Знаменитый уральский сказоч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в семье рабочих. Окончил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атеринбур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е духовное училище (1893) и Пермскую духовную семинарию (189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ик 7"/>
          <p:cNvSpPr/>
          <p:nvPr/>
        </p:nvSpPr>
        <p:spPr>
          <a:xfrm>
            <a:off x="285840" y="335772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40-е гг. Бажов дополняет и развивает проблематику довоенного "гумешевского" цикла на материале истории Южного Урала ("Иванко Крылатко", "Чугунная бабушка", "Коренная тайность" и др.). Отдельную группу составляют сатирические "Сказы о немцах" (1943-45)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6" descr="Бажов Павел Петрович - фотография автора"/>
          <p:cNvPicPr/>
          <p:nvPr/>
        </p:nvPicPr>
        <p:blipFill>
          <a:blip r:embed="rId2"/>
          <a:stretch/>
        </p:blipFill>
        <p:spPr>
          <a:xfrm>
            <a:off x="1214280" y="428760"/>
            <a:ext cx="1285920" cy="1428480"/>
          </a:xfrm>
          <a:prstGeom prst="rect">
            <a:avLst/>
          </a:prstGeom>
          <a:ln w="0">
            <a:noFill/>
          </a:ln>
        </p:spPr>
      </p:pic>
      <p:sp>
        <p:nvSpPr>
          <p:cNvPr id="644" name="Прямоугольник 14"/>
          <p:cNvSpPr/>
          <p:nvPr/>
        </p:nvSpPr>
        <p:spPr>
          <a:xfrm>
            <a:off x="428760" y="4826160"/>
            <a:ext cx="8215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путь Бажова завершается социально-бытовыми сказами ("Васина гора", "Широкое плечо", "Не та цапля" и др.), которые тематически примыкают к его "Уральским былям". Последнее крупное произведение - автобиографическая повесть "Далекое - близкое" (1949) содержит многообразные сведения из жизни и быта Екатеринбурга начала XX 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7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Прямоугольник 4"/>
          <p:cNvSpPr/>
          <p:nvPr/>
        </p:nvSpPr>
        <p:spPr>
          <a:xfrm>
            <a:off x="3643200" y="642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льдар Абузя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Прямоугольник 6"/>
          <p:cNvSpPr/>
          <p:nvPr/>
        </p:nvSpPr>
        <p:spPr>
          <a:xfrm>
            <a:off x="357120" y="2143080"/>
            <a:ext cx="81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5 июня 1976 года в Горь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рямоугольник 7"/>
          <p:cNvSpPr/>
          <p:nvPr/>
        </p:nvSpPr>
        <p:spPr>
          <a:xfrm>
            <a:off x="285840" y="2571840"/>
            <a:ext cx="8143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ил исторический факультет  университета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жнего Новг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ютировал как прозаик в 2000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ковался в литературных журналах и альманахах «Вавилон», «Дружба Народов», «Октябрь», «Знамя», «Новый мир», «День и ночь»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я переведены на немецкий, чешский, шведский, армянский, арабский яз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2" descr="http://glfr.ru/img/cache/86f6c841077e2b10cb50ed0e6ce1704f"/>
          <p:cNvPicPr/>
          <p:nvPr/>
        </p:nvPicPr>
        <p:blipFill>
          <a:blip r:embed="rId2"/>
          <a:stretch/>
        </p:blipFill>
        <p:spPr>
          <a:xfrm>
            <a:off x="1071720" y="285840"/>
            <a:ext cx="13572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4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айбородин Анатолий Григор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Прямоугольник 7"/>
          <p:cNvSpPr/>
          <p:nvPr/>
        </p:nvSpPr>
        <p:spPr>
          <a:xfrm>
            <a:off x="285840" y="242892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толий Григорьевич Байбородин родился 24 марта 1950 года в селе Сосново-Озерск Республики Бурятия. После окончани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ркутск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 государственного университета (отделение журналистики) работал в сельских и областных газетах Восточной Сиби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2" descr="http://glfr.ru/img/cache/917ca793ed8ea3fbd85969f6181722a4"/>
          <p:cNvPicPr/>
          <p:nvPr/>
        </p:nvPicPr>
        <p:blipFill>
          <a:blip r:embed="rId2"/>
          <a:stretch/>
        </p:blipFill>
        <p:spPr>
          <a:xfrm>
            <a:off x="1214280" y="285840"/>
            <a:ext cx="1643400" cy="2095560"/>
          </a:xfrm>
          <a:prstGeom prst="rect">
            <a:avLst/>
          </a:prstGeom>
          <a:ln w="0">
            <a:noFill/>
          </a:ln>
        </p:spPr>
      </p:pic>
      <p:sp>
        <p:nvSpPr>
          <p:cNvPr id="659" name="Прямоугольник 9"/>
          <p:cNvSpPr/>
          <p:nvPr/>
        </p:nvSpPr>
        <p:spPr>
          <a:xfrm>
            <a:off x="357120" y="40719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пьес «Косопят – борода до пят» (Постановка: Иркутский городской театр 2003.), «Птицы черные, птицы белые» (Постановка: Иркутский областной кукольный театр, 200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2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окопьева Зоя Григо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оугольник 7"/>
          <p:cNvSpPr/>
          <p:nvPr/>
        </p:nvSpPr>
        <p:spPr>
          <a:xfrm>
            <a:off x="285840" y="242892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аик Зоя Егоровна Прокопьева родилась в селе Белозерское Белозерского района Курганской области 15.11.193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2" descr="http://glfr.ru/img/cache/1bbc1f52681bd9c272206412d6c69a29"/>
          <p:cNvPicPr/>
          <p:nvPr/>
        </p:nvPicPr>
        <p:blipFill>
          <a:blip r:embed="rId2"/>
          <a:stretch/>
        </p:blipFill>
        <p:spPr>
          <a:xfrm>
            <a:off x="1214280" y="428760"/>
            <a:ext cx="1202040" cy="1585800"/>
          </a:xfrm>
          <a:prstGeom prst="rect">
            <a:avLst/>
          </a:prstGeom>
          <a:ln w="0">
            <a:noFill/>
          </a:ln>
        </p:spPr>
      </p:pic>
      <p:sp>
        <p:nvSpPr>
          <p:cNvPr id="667" name="Прямоугольник 10"/>
          <p:cNvSpPr/>
          <p:nvPr/>
        </p:nvSpPr>
        <p:spPr>
          <a:xfrm>
            <a:off x="357120" y="3105000"/>
            <a:ext cx="80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9 году Прокопьева переезжает в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ябин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Прямоугольник 11"/>
          <p:cNvSpPr/>
          <p:nvPr/>
        </p:nvSpPr>
        <p:spPr>
          <a:xfrm>
            <a:off x="571680" y="3500280"/>
            <a:ext cx="7929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опьева возглавляет Бюро пропаганды художественной литературы Челябинской областной писательской организации, деятельность которого распространялась на три области Южного Урала: Челябинскую, Курганскую и Оренбургскую. У нее выходят сборники прозы - в Челябинске и в Москве, которые, в основном, развивают «биографическую» и «рабочую» темы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1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2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ранцев Владимир Никола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оугольник 7"/>
          <p:cNvSpPr/>
          <p:nvPr/>
        </p:nvSpPr>
        <p:spPr>
          <a:xfrm>
            <a:off x="285840" y="2428920"/>
            <a:ext cx="814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Николаевич Яранцев родился в г. Калинин (Тверь) в 1958 году. Закончил гуманитарный факультет Новосибирского государственного университета (Академгородок) по специальности «филолог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оугольник 11"/>
          <p:cNvSpPr/>
          <p:nvPr/>
        </p:nvSpPr>
        <p:spPr>
          <a:xfrm>
            <a:off x="571680" y="3929040"/>
            <a:ext cx="7929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90-е годы работал в газетах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сибирс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: «Сибирская газета» и «Слово», печатался в «Советской Сибири», «Вечернем Новосибирске», «Молодости Сибири», «Новой Сибири». С 2000 года печатается, а затем работает (с 2002 г.) в журнале «Сибирские огни», одновременно занимаясь литературоведением, в том числе сибир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2" descr="http://glfr.ru/img/cache/43b77d444f213a07597b9982d12b4e0d"/>
          <p:cNvPicPr/>
          <p:nvPr/>
        </p:nvPicPr>
        <p:blipFill>
          <a:blip r:embed="rId2"/>
          <a:stretch/>
        </p:blipFill>
        <p:spPr>
          <a:xfrm>
            <a:off x="1500120" y="571680"/>
            <a:ext cx="135756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5:17:57Z</dcterms:created>
  <dc:creator>Илья Кузнецов</dc:creator>
  <dc:description/>
  <dc:language>en-US</dc:language>
  <cp:lastModifiedBy>Admin</cp:lastModifiedBy>
  <dcterms:modified xsi:type="dcterms:W3CDTF">2011-09-08T16:32:02Z</dcterms:modified>
  <cp:revision>1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0e0000000000010243100207f6000400038000</vt:lpwstr>
  </property>
</Properties>
</file>