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comments/comment3.xml" ContentType="application/vnd.openxmlformats-officedocument.presentationml.comments+xml"/>
  <Override PartName="/ppt/comments/comment4.xml" ContentType="application/vnd.openxmlformats-officedocument.presentationml.comments+xml"/>
  <Override PartName="/ppt/comments/comment5.xml" ContentType="application/vnd.openxmlformats-officedocument.presentationml.comments+xml"/>
  <Override PartName="/ppt/comments/comment6.xml" ContentType="application/vnd.openxmlformats-officedocument.presentationml.comments+xml"/>
  <Override PartName="/ppt/comments/comment7.xml" ContentType="application/vnd.openxmlformats-officedocument.presentationml.comments+xml"/>
  <Override PartName="/ppt/comments/comment8.xml" ContentType="application/vnd.openxmlformats-officedocument.presentationml.comments+xml"/>
  <Override PartName="/ppt/comments/comment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учитель" initials="у" lastIdx="7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<Relationship Id="rId25" Type="http://schemas.openxmlformats.org/officeDocument/2006/relationships/commentAuthors" Target="commentAuthors.xml"/>
</Relationships>
</file>

<file path=ppt/comments/comment3.xml><?xml version="1.0" encoding="utf-8"?>
<p:cmLst xmlns:p="http://schemas.openxmlformats.org/presentationml/2006/main">
  <p:cm authorId="0" dt="2011-06-22T23:29:44.625000000" idx="1">
    <p:pos x="5760" y="0"/>
    <p:text/>
  </p:cm>
</p:cmLst>
</file>

<file path=ppt/comments/comment4.xml><?xml version="1.0" encoding="utf-8"?>
<p:cmLst xmlns:p="http://schemas.openxmlformats.org/presentationml/2006/main">
  <p:cm authorId="0" dt="2011-06-22T23:29:44.625000000" idx="2">
    <p:pos x="5760" y="0"/>
    <p:text/>
  </p:cm>
</p:cmLst>
</file>

<file path=ppt/comments/comment5.xml><?xml version="1.0" encoding="utf-8"?>
<p:cmLst xmlns:p="http://schemas.openxmlformats.org/presentationml/2006/main">
  <p:cm authorId="0" dt="2011-06-22T23:29:44.625000000" idx="3">
    <p:pos x="5760" y="0"/>
    <p:text/>
  </p:cm>
</p:cmLst>
</file>

<file path=ppt/comments/comment6.xml><?xml version="1.0" encoding="utf-8"?>
<p:cmLst xmlns:p="http://schemas.openxmlformats.org/presentationml/2006/main">
  <p:cm authorId="0" dt="2011-06-22T23:29:44.625000000" idx="4">
    <p:pos x="5760" y="0"/>
    <p:text/>
  </p:cm>
</p:cmLst>
</file>

<file path=ppt/comments/comment7.xml><?xml version="1.0" encoding="utf-8"?>
<p:cmLst xmlns:p="http://schemas.openxmlformats.org/presentationml/2006/main">
  <p:cm authorId="0" dt="2011-06-22T23:29:44.625000000" idx="5">
    <p:pos x="5760" y="0"/>
    <p:text/>
  </p:cm>
</p:cmLst>
</file>

<file path=ppt/comments/comment8.xml><?xml version="1.0" encoding="utf-8"?>
<p:cmLst xmlns:p="http://schemas.openxmlformats.org/presentationml/2006/main">
  <p:cm authorId="0" dt="2011-06-22T23:29:44.625000000" idx="6">
    <p:pos x="5760" y="0"/>
    <p:text/>
  </p:cm>
</p:cmLst>
</file>

<file path=ppt/comments/comment9.xml><?xml version="1.0" encoding="utf-8"?>
<p:cmLst xmlns:p="http://schemas.openxmlformats.org/presentationml/2006/main">
  <p:cm authorId="0" dt="2011-06-22T23:29:44.625000000" idx="7">
    <p:pos x="5760" y="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160F-73F6-44B1-A1D8-82380ADF0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A19C-68D4-4C5B-B26F-DDB4E43D0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9435A8-7AFC-4C86-9504-ACCF383D2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D927F8-007F-4DEA-88B6-F4CA12D8D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106EBD-B439-4E98-835E-773917C51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26BC83-4096-4AE8-AE29-19BE553E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B3EFDC-B9DA-4372-8385-B4A79566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3B71C0-2A7C-482C-AAF8-376A67ED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72AEAC-2734-4E72-9108-3D3B79D6B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E99616-4C47-4264-93C5-F7F7B37CC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DB9266-9908-48D5-B9CF-66FA4CDF6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DE322E-FD6C-4CE1-BEAF-735A64C40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60A8-DC0D-435A-8014-D2BB684A2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C6776A-5890-48B1-B82E-88159A813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84A01F-846E-480C-9938-87078FE16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A391CD-9963-4D5D-98BF-B33C2E501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D1E64E-A75B-4A9D-ADEF-FB000525E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1D1EBB-BA2C-4E27-A25D-18016226D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A89912-B888-4B54-B66D-82506EE46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2A700C-A0B6-41E6-BFF0-13B5E4DF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CF03CA-13C2-4189-8345-6CD7601A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7F01C5-E67C-4480-BB1A-3F37170B8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8D50A2-FA41-4A8D-97BB-2EEAE36DE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3D21-9495-4807-BDF6-9BD353147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03106E-F972-495A-9B99-BA877ACDB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5744CA-8718-442F-ADB1-1FDAAE84E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5B43B9-38C3-4EBE-84D2-30DD56D1E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E8F9BB-9788-4D88-A9D3-C9E93DB8D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EE7EC6-454F-49FC-A99D-093F4EAAF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4618F8-2855-46C2-AE71-C175F80DE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55BDEE-941F-4F46-94C3-F9C309560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76D48F-64DA-45F5-B161-8BA9A08C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38C41A-1110-44AB-9B33-2AD02683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F343E1-36E4-442A-8CA6-9AF7588C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0DFD5-E8DE-441B-8B94-66B52C048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20D49C-BFF6-4CEA-9B49-798DA05B2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A69585-69BA-4F41-A2E0-B4FE0E183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F98EE2-9DCD-4454-B3D8-0467F6C38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861542-9AA7-4D68-AF80-C24BD0407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C068E3-EE42-4166-AB23-B3D207E3A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E035E8-73D2-4FDD-B9C0-288145461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82E2F1-303D-4A8E-B9A0-08FD093CA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EC69C3-BDCD-4333-81DE-795E3F37E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4ECAA8-2083-4891-8716-0B69D78FF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1B29D9-FF75-47A8-AF68-B9FDF43A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CD054-340D-4EA4-B041-8D522363A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B3985A-54AB-4848-9523-D123D3DE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C0C5CE-E050-47F8-91D0-5AD5CE00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3817FE-B655-4702-A4AE-EB00D919E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E1ECA4-0896-4E8D-BE55-93E91EAF6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127DF0-7A55-4645-8AD1-B44EC94F6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3D9C9-E5C8-40B3-9887-C3592BB1C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0E0D0-F064-4F0A-8FB5-44C774D73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995A3-86C9-4166-986D-EA2BFD095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2869B-71EF-4BAA-BAD1-8D2C4A18D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08591-9ED4-45E4-8948-5BFCF65B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5E9E-71C4-4A7F-8007-B742694DD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7305E-94A6-4098-99B0-65D6BA61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F29E4-8422-41EE-AA72-D776EC7E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2810F-181A-4FA9-98F0-08715E80A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39105-05DC-416A-B95E-584AEB31D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01582-6E45-4222-B813-36BFDCF02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C2FF1-9F3F-4DC7-AAA4-38E6D77BC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FB434-9B0F-43E8-88FC-78F5A970A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81A59-AF50-4C06-8D0D-A61B48549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DA6D6-2A5A-4655-85EE-1A69A5844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E659D-BEAB-4B65-A445-6C2DF5D96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3FEA-58AF-4D2E-AB08-68868DD44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D21D4-D18D-47FC-A56C-1FCEA6472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E6CAF-328C-468F-8CA6-0A95FF90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B5411-4EBF-48DD-9B0F-0DD8A83D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B71D1-6A31-4385-A68D-5E36AED4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AA743-1660-4C3E-8E55-D4FD58CC8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B9D39-77C6-4D6D-8D14-18FC041E6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74177-DC2C-41D1-BDE6-C91B35D05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FBD52-BE87-4360-884E-99E59601C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F9778-3413-4EFA-828D-7A2A1C813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CA57E-6DD1-4655-BB54-AD711B7E9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1FAA-E818-4599-8389-2595A0844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F34A0-2B5B-43B6-8288-80E82990C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589D2-2F2E-4C8F-B958-7FA61ADDD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E947F-766C-4014-B055-025E5747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93C9E-2C9C-4AC6-AB0F-F61D3549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40DB1-8CB7-4C7B-B7CC-C6B9BAC8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4E151-ACCD-452A-8843-1E8326E1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46B5B-55FB-42BB-BBEF-484E1F94C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D2E01-E346-4E81-A216-E3AC19899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2D26C-85CB-4DB9-B161-BAB7F41A7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FA363-AFD6-4B1E-9582-D6D0BB23F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0D53-56F9-4C09-B44C-5103F5AC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F6B48-C182-4F5F-BDFB-8D8AC5D0E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28D63-84C5-434A-979A-3E928E56D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3B39C-AC73-4F87-B1A1-606326A27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0E4A3-98C5-46C5-BC8F-9784EE91C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33AEA-4E7C-417C-9F90-E71110BAC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CA215-6B34-4096-96D1-2404020F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D3B10-6ADA-485C-8168-05B59355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0CB1D-5AF0-4442-B112-ECD0E327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2A2B9-E24D-456E-BDF9-FE336C973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C7500-0410-4F47-82DB-09C8B4BD0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1F2B-9D4E-4DC5-AA75-D3271E12B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B235E-B551-49C4-AE2D-F6A50299E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6B5E3-FD7B-4B19-927D-2A7F56511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602ED-9AC1-46B1-A2FD-B30ADBB72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A27CC-BEC7-4D08-9962-711627A48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C4960-B6B0-4564-89F3-78B86C712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B5978-6489-404E-8B8B-6F8EB19F3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7EE39-D357-4AFD-BB23-FB8D5308F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8C1CE-928A-434D-9AC1-06241A8B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134C3-07B8-4FE4-A673-CBB2C93E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7F053-DC3E-4552-853F-6DD83E4F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7E96-3C1F-46B6-8005-7CD448B6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B08DB2-C943-4976-AB7D-0E823AE5B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F13AF-CBE1-42A8-89D6-AAD118EB2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B902C-86F5-4BE9-ACC8-DCBD1E897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BFA35B-DC83-4B10-B589-09A877B86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467C8-0E11-414D-8694-25FE3EF7C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8074E-F04E-4665-889C-46445E24E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9B0DF4-5E14-4BA2-900E-384466EE5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A561B-2098-4063-8120-988CE308D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B4C3E-2CCC-4FE5-AF06-0998AEAF0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6CC73-0F1C-46DD-A941-D4B5076E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9E44-4CB1-4BD5-B280-44D73056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83AE5B-031C-4642-9FA1-2DA32C31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4C9B4-D490-49A7-8F7E-C235E0D1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0526AA-2118-46EA-B0F5-5C5FCDC71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0BC56-673A-459E-9FE2-DBB2D8F60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392EC-7A40-4162-A4C8-64AA2E6DA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B400F8-B9F5-4BE3-8F02-DF57215C3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7AAABF-DC65-4442-93B8-EECF5F1B5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8393EB-C86F-4614-98AB-94433BC52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0A958-76CD-4287-827A-F0C2AD6C3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47D1F0-9974-4C17-9046-DC8822F48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2BB1-BC99-4646-885D-4C8F817E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CAF205-62CD-4834-8A60-49F12B11E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ED7EE7-5071-4BD2-B37D-5934B777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89A132-1058-4B44-A97A-787C5FCD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F80F91-0F26-4224-946D-32E29FE6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48127-D475-4748-8B6D-D3401224E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63160E-6D5A-45BF-B2AE-0CC130C9C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162C8B-3900-46EF-99C6-BC04AC550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88CEF1-5BA1-474A-9CDF-89A16B00A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E70B0F-B647-4BA7-8C78-C6953CE95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D4B0D4-842D-4E8E-9BE1-A995A10F7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F442C-E527-4F1C-82D5-7CB3B53D6291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20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1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1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19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1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11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12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2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0006F-1E63-4D01-8981-B83B60028CCF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9D8A5-FA09-4531-97E6-60B4277C42D6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1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1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1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1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1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92B14-36B0-4FD3-AFF3-9423A44D1A54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5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9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E52BB-5DB7-4EEC-8205-B4795B4612AF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94555-6C62-4D69-843A-9903345F5E3A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1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1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1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7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1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2466F-E9BE-4A64-B1E8-BF21F35A957E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7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B9F94-F15D-45C1-83F6-E3E815980CB1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1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1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4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1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4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9DA9C-1117-4052-9E50-FEA433EC77AA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B337-EA7C-4CD3-BB89-3B0182E79622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9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0D446-F413-4566-8A9A-D2860F1FD493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8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17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15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1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1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2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08CB1-3143-456A-9DC2-6E76FD63027E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comments" Target="../comments/commen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comments" Target="../comments/commen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<Relationship Id="rId4" Type="http://schemas.openxmlformats.org/officeDocument/2006/relationships/comments" Target="../comments/comment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<Relationship Id="rId4" Type="http://schemas.openxmlformats.org/officeDocument/2006/relationships/comments" Target="../comments/commen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comments" Target="../comments/commen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<Relationship Id="rId4" Type="http://schemas.openxmlformats.org/officeDocument/2006/relationships/comments" Target="../comments/commen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7" name="Picture 4" descr="thumb204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463e38"/>
            </a:solidFill>
            <a:miter/>
          </a:ln>
        </p:spPr>
      </p:pic>
      <p:sp>
        <p:nvSpPr>
          <p:cNvPr id="608" name="Прямоугольник 10"/>
          <p:cNvSpPr/>
          <p:nvPr/>
        </p:nvSpPr>
        <p:spPr>
          <a:xfrm>
            <a:off x="642960" y="2714760"/>
            <a:ext cx="7572240" cy="31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65a00"/>
                </a:solidFill>
                <a:latin typeface="Georgia"/>
              </a:rPr>
              <a:t>   </a:t>
            </a:r>
            <a:r>
              <a:rPr b="1" lang="en-US" sz="3300" spc="-1" strike="noStrike">
                <a:solidFill>
                  <a:srgbClr val="000000"/>
                </a:solidFill>
                <a:latin typeface="Georgia"/>
              </a:rPr>
              <a:t>Литература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Georgia"/>
              </a:rPr>
              <a:t>на географической карте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вестные детские поэты, писател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Прямоугольник 4"/>
          <p:cNvSpPr/>
          <p:nvPr/>
        </p:nvSpPr>
        <p:spPr>
          <a:xfrm>
            <a:off x="3143160" y="85716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. Краснотурьин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вердлов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: Лоретц Анна Васи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46b86"/>
              </a:solidFill>
              <a:latin typeface="Georgi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16349"/>
              </a:solidFill>
              <a:latin typeface="Georgia"/>
            </a:endParaRPr>
          </a:p>
        </p:txBody>
      </p:sp>
      <p:pic>
        <p:nvPicPr>
          <p:cNvPr id="679" name="Picture 2" descr="C:\Users\Администратор\Desktop\Школьная форма\Шаблон 1 сентября\Рисунок1гн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0" name="TextBox 4"/>
          <p:cNvSpPr/>
          <p:nvPr/>
        </p:nvSpPr>
        <p:spPr>
          <a:xfrm>
            <a:off x="3183480" y="785880"/>
            <a:ext cx="18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ур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2"/>
          <p:cNvSpPr/>
          <p:nvPr/>
        </p:nvSpPr>
        <p:spPr>
          <a:xfrm>
            <a:off x="571680" y="1646280"/>
            <a:ext cx="778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velib.com/biography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биографии русских поэтов и писа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2" name="Picture 2" descr="C:\Users\Администратор\Desktop\Школьная форма\Шаблон 1 сентября\Рисунок1гн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5" descr=""/>
          <p:cNvPicPr/>
          <p:nvPr/>
        </p:nvPicPr>
        <p:blipFill>
          <a:blip r:embed="rId2"/>
          <a:stretch/>
        </p:blipFill>
        <p:spPr>
          <a:xfrm>
            <a:off x="0" y="428760"/>
            <a:ext cx="8923320" cy="4784760"/>
          </a:xfrm>
          <a:prstGeom prst="rect">
            <a:avLst/>
          </a:prstGeom>
          <a:ln w="0">
            <a:noFill/>
          </a:ln>
        </p:spPr>
      </p:pic>
      <p:sp>
        <p:nvSpPr>
          <p:cNvPr id="614" name="Прямоугольник 5"/>
          <p:cNvSpPr/>
          <p:nvPr/>
        </p:nvSpPr>
        <p:spPr>
          <a:xfrm>
            <a:off x="861120" y="278604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ербур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Прямоугольник 6"/>
          <p:cNvSpPr/>
          <p:nvPr/>
        </p:nvSpPr>
        <p:spPr>
          <a:xfrm>
            <a:off x="1218240" y="3143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ск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Прямоугольник 7"/>
          <p:cNvSpPr/>
          <p:nvPr/>
        </p:nvSpPr>
        <p:spPr>
          <a:xfrm>
            <a:off x="1500120" y="3857760"/>
            <a:ext cx="132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катеринбур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Прямоугольник 8"/>
          <p:cNvSpPr/>
          <p:nvPr/>
        </p:nvSpPr>
        <p:spPr>
          <a:xfrm>
            <a:off x="2001960" y="3143160"/>
            <a:ext cx="167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ижний Новгор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Прямоугольник 9"/>
          <p:cNvSpPr/>
          <p:nvPr/>
        </p:nvSpPr>
        <p:spPr>
          <a:xfrm>
            <a:off x="4648320" y="4500720"/>
            <a:ext cx="87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ркут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Прямоугольник 10"/>
          <p:cNvSpPr/>
          <p:nvPr/>
        </p:nvSpPr>
        <p:spPr>
          <a:xfrm>
            <a:off x="2507760" y="407196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елябин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Прямоугольник 11"/>
          <p:cNvSpPr/>
          <p:nvPr/>
        </p:nvSpPr>
        <p:spPr>
          <a:xfrm>
            <a:off x="3575160" y="435780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восибир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3" name="Picture 2" descr="C:\Users\Администратор\Desktop\Школьная форма\Шаблон 1 сентября\Рисунок1гн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4" name="Прямоугольник 4"/>
          <p:cNvSpPr/>
          <p:nvPr/>
        </p:nvSpPr>
        <p:spPr>
          <a:xfrm>
            <a:off x="3643200" y="64296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ковский Корней Иванович (Корнейчуков Николай Васильевич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6" descr="Чуковский Корней Иванович (Корнейчуков Николай Васильевич) - фотография автора"/>
          <p:cNvPicPr/>
          <p:nvPr/>
        </p:nvPicPr>
        <p:blipFill>
          <a:blip r:embed="rId2"/>
          <a:stretch/>
        </p:blipFill>
        <p:spPr>
          <a:xfrm>
            <a:off x="928800" y="642960"/>
            <a:ext cx="1428480" cy="1428840"/>
          </a:xfrm>
          <a:prstGeom prst="rect">
            <a:avLst/>
          </a:prstGeom>
          <a:ln w="0">
            <a:noFill/>
          </a:ln>
        </p:spPr>
      </p:pic>
      <p:sp>
        <p:nvSpPr>
          <p:cNvPr id="626" name="Прямоугольник 6"/>
          <p:cNvSpPr/>
          <p:nvPr/>
        </p:nvSpPr>
        <p:spPr>
          <a:xfrm>
            <a:off x="571680" y="2967120"/>
            <a:ext cx="8001000" cy="27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ковский Корней Иванович (настоящее имя Корнейчуков Николай Васильевич) родился 19 марта (31 н.с.)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Петербург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1916 по приглашению Горького Чуковский руководит детским отделом издательства "Парус" и начинает писать для детей: стихотворные сказки "Крокодил" (1916), "Мойдодыр" (1923), "Муха-цокотуха" (1924), "Бармалей" (1925), "Айболит" (1929)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Прямоугольник 7"/>
          <p:cNvSpPr/>
          <p:nvPr/>
        </p:nvSpPr>
        <p:spPr>
          <a:xfrm>
            <a:off x="428760" y="5214960"/>
            <a:ext cx="678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следние годы жизни выступал со статьями-эссе о Зощенко, Б.Житкове, А. Ахматовой, Б.Пастернаке и многих друг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0" name="Picture 2" descr="C:\Users\Администратор\Desktop\Школьная форма\Шаблон 1 сентября\Рисунок1гн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1" name="Прямоугольник 4"/>
          <p:cNvSpPr/>
          <p:nvPr/>
        </p:nvSpPr>
        <p:spPr>
          <a:xfrm>
            <a:off x="3643200" y="6429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арто Агния Льв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Прямоугольник 6"/>
          <p:cNvSpPr/>
          <p:nvPr/>
        </p:nvSpPr>
        <p:spPr>
          <a:xfrm>
            <a:off x="357120" y="2143080"/>
            <a:ext cx="8143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рто Агния Львовна (1906-1981) родилась 17 февраля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Москве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емье ветеринарного врача. Получила хорошее домашнее воспитание, которым руководил отец. Училась в гимназии, где и начала писать стих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Прямоугольник 7"/>
          <p:cNvSpPr/>
          <p:nvPr/>
        </p:nvSpPr>
        <p:spPr>
          <a:xfrm>
            <a:off x="357120" y="4214880"/>
            <a:ext cx="678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регулярно выпускала сборники стихов: "Братишки" (1928), "Мальчик наоборот"(1934), "Игрушки", (1936), "Снегирь" (193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cture 2" descr="Барто Агния Львовна - фотография автора"/>
          <p:cNvPicPr/>
          <p:nvPr/>
        </p:nvPicPr>
        <p:blipFill>
          <a:blip r:embed="rId2"/>
          <a:stretch/>
        </p:blipFill>
        <p:spPr>
          <a:xfrm>
            <a:off x="1143000" y="64296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635" name="Прямоугольник 9"/>
          <p:cNvSpPr/>
          <p:nvPr/>
        </p:nvSpPr>
        <p:spPr>
          <a:xfrm>
            <a:off x="428760" y="3500280"/>
            <a:ext cx="792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25 были опубликованы книжки стихов для детей - "Китайчонок Ван Ли", Мишка-воришка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Прямоугольник 11"/>
          <p:cNvSpPr/>
          <p:nvPr/>
        </p:nvSpPr>
        <p:spPr>
          <a:xfrm>
            <a:off x="214200" y="5226120"/>
            <a:ext cx="7429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40-50 выходят новые сборники: "Первоклассница", "Звенигород", "Веселые стихи", "Стихи детям". В эти же годы работает над сценариями детских кинофильмов "Подкидыш", "Слон и веревочка", "Алеша Птицын вырабатывает характер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9" name="Picture 2" descr="C:\Users\Администратор\Desktop\Школьная форма\Шаблон 1 сентября\Рисунок1гн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0" name="Прямоугольник 4"/>
          <p:cNvSpPr/>
          <p:nvPr/>
        </p:nvSpPr>
        <p:spPr>
          <a:xfrm>
            <a:off x="3643200" y="6429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Бажов Павел Петр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Прямоугольник 6"/>
          <p:cNvSpPr/>
          <p:nvPr/>
        </p:nvSpPr>
        <p:spPr>
          <a:xfrm>
            <a:off x="357120" y="2143080"/>
            <a:ext cx="8143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жов Павел Петрович (27 января 1879 - 31 августа 1967). Знаменитый уральский сказочн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лся в семье рабочих. Окончил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катеринбург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е духовное училище (1893) и Пермскую духовную семинарию (189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Прямоугольник 7"/>
          <p:cNvSpPr/>
          <p:nvPr/>
        </p:nvSpPr>
        <p:spPr>
          <a:xfrm>
            <a:off x="285840" y="3357720"/>
            <a:ext cx="8143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40-е гг. Бажов дополняет и развивает проблематику довоенного "гумешевского" цикла на материале истории Южного Урала ("Иванко Крылатко", "Чугунная бабушка", "Коренная тайность" и др.). Отдельную группу составляют сатирические "Сказы о немцах" (1943-45)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Picture 6" descr="Бажов Павел Петрович - фотография автора"/>
          <p:cNvPicPr/>
          <p:nvPr/>
        </p:nvPicPr>
        <p:blipFill>
          <a:blip r:embed="rId2"/>
          <a:stretch/>
        </p:blipFill>
        <p:spPr>
          <a:xfrm>
            <a:off x="1214280" y="428760"/>
            <a:ext cx="1285920" cy="1428480"/>
          </a:xfrm>
          <a:prstGeom prst="rect">
            <a:avLst/>
          </a:prstGeom>
          <a:ln w="0">
            <a:noFill/>
          </a:ln>
        </p:spPr>
      </p:pic>
      <p:sp>
        <p:nvSpPr>
          <p:cNvPr id="644" name="Прямоугольник 14"/>
          <p:cNvSpPr/>
          <p:nvPr/>
        </p:nvSpPr>
        <p:spPr>
          <a:xfrm>
            <a:off x="428760" y="4826160"/>
            <a:ext cx="8215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ий путь Бажова завершается социально-бытовыми сказами ("Васина гора", "Широкое плечо", "Не та цапля" и др.), которые тематически примыкают к его "Уральским былям". Последнее крупное произведение - автобиографическая повесть "Далекое - близкое" (1949) содержит многообразные сведения из жизни и быта Екатеринбурга начала XX в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7" name="Picture 2" descr="C:\Users\Администратор\Desktop\Школьная форма\Шаблон 1 сентября\Рисунок1гн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8" name="Прямоугольник 4"/>
          <p:cNvSpPr/>
          <p:nvPr/>
        </p:nvSpPr>
        <p:spPr>
          <a:xfrm>
            <a:off x="3643200" y="6429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льдар Абузя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Прямоугольник 6"/>
          <p:cNvSpPr/>
          <p:nvPr/>
        </p:nvSpPr>
        <p:spPr>
          <a:xfrm>
            <a:off x="357120" y="2143080"/>
            <a:ext cx="814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лся 5 июня 1976 года в Горь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Прямоугольник 7"/>
          <p:cNvSpPr/>
          <p:nvPr/>
        </p:nvSpPr>
        <p:spPr>
          <a:xfrm>
            <a:off x="285840" y="2571840"/>
            <a:ext cx="81439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нчил исторический факультет  университета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ижнего Новгор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бютировал как прозаик в 2000 г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бликовался в литературных журналах и альманахах «Вавилон», «Дружба Народов», «Октябрь», «Знамя», «Новый мир», «День и ночь»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едения переведены на немецкий, чешский, шведский, армянский, арабский язы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Picture 2" descr="http://glfr.ru/img/cache/86f6c841077e2b10cb50ed0e6ce1704f"/>
          <p:cNvPicPr/>
          <p:nvPr/>
        </p:nvPicPr>
        <p:blipFill>
          <a:blip r:embed="rId2"/>
          <a:stretch/>
        </p:blipFill>
        <p:spPr>
          <a:xfrm>
            <a:off x="1071720" y="285840"/>
            <a:ext cx="1357200" cy="17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54" name="Picture 2" descr="C:\Users\Администратор\Desktop\Школьная форма\Шаблон 1 сентября\Рисунок1гн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5" name="Прямоугольник 4"/>
          <p:cNvSpPr/>
          <p:nvPr/>
        </p:nvSpPr>
        <p:spPr>
          <a:xfrm>
            <a:off x="3643200" y="6429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айбородин Анатолий Григорь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Прямоугольник 6"/>
          <p:cNvSpPr/>
          <p:nvPr/>
        </p:nvSpPr>
        <p:spPr>
          <a:xfrm>
            <a:off x="357120" y="2143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Прямоугольник 7"/>
          <p:cNvSpPr/>
          <p:nvPr/>
        </p:nvSpPr>
        <p:spPr>
          <a:xfrm>
            <a:off x="285840" y="2428920"/>
            <a:ext cx="8143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толий Григорьевич Байбородин родился 24 марта 1950 года в селе Сосново-Озерск Республики Бурятия. После окончания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ркутск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о государственного университета (отделение журналистики) работал в сельских и областных газетах Восточной Сиби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Picture 2" descr="http://glfr.ru/img/cache/917ca793ed8ea3fbd85969f6181722a4"/>
          <p:cNvPicPr/>
          <p:nvPr/>
        </p:nvPicPr>
        <p:blipFill>
          <a:blip r:embed="rId2"/>
          <a:stretch/>
        </p:blipFill>
        <p:spPr>
          <a:xfrm>
            <a:off x="1214280" y="285840"/>
            <a:ext cx="1643400" cy="2095560"/>
          </a:xfrm>
          <a:prstGeom prst="rect">
            <a:avLst/>
          </a:prstGeom>
          <a:ln w="0">
            <a:noFill/>
          </a:ln>
        </p:spPr>
      </p:pic>
      <p:sp>
        <p:nvSpPr>
          <p:cNvPr id="659" name="Прямоугольник 9"/>
          <p:cNvSpPr/>
          <p:nvPr/>
        </p:nvSpPr>
        <p:spPr>
          <a:xfrm>
            <a:off x="357120" y="407196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пьес «Косопят – борода до пят» (Постановка: Иркутский городской театр 2003.), «Птицы черные, птицы белые» (Постановка: Иркутский областной кукольный театр, 200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62" name="Picture 2" descr="C:\Users\Администратор\Desktop\Школьная форма\Шаблон 1 сентября\Рисунок1гн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3" name="Прямоугольник 4"/>
          <p:cNvSpPr/>
          <p:nvPr/>
        </p:nvSpPr>
        <p:spPr>
          <a:xfrm>
            <a:off x="3643200" y="6429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рокопьева Зоя Григор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Прямоугольник 6"/>
          <p:cNvSpPr/>
          <p:nvPr/>
        </p:nvSpPr>
        <p:spPr>
          <a:xfrm>
            <a:off x="357120" y="2143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Прямоугольник 7"/>
          <p:cNvSpPr/>
          <p:nvPr/>
        </p:nvSpPr>
        <p:spPr>
          <a:xfrm>
            <a:off x="285840" y="242892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заик Зоя Егоровна Прокопьева родилась в селе Белозерское Белозерского района Курганской области 15.11.193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Picture 2" descr="http://glfr.ru/img/cache/1bbc1f52681bd9c272206412d6c69a29"/>
          <p:cNvPicPr/>
          <p:nvPr/>
        </p:nvPicPr>
        <p:blipFill>
          <a:blip r:embed="rId2"/>
          <a:stretch/>
        </p:blipFill>
        <p:spPr>
          <a:xfrm>
            <a:off x="1214280" y="428760"/>
            <a:ext cx="1202040" cy="1585800"/>
          </a:xfrm>
          <a:prstGeom prst="rect">
            <a:avLst/>
          </a:prstGeom>
          <a:ln w="0">
            <a:noFill/>
          </a:ln>
        </p:spPr>
      </p:pic>
      <p:sp>
        <p:nvSpPr>
          <p:cNvPr id="667" name="Прямоугольник 10"/>
          <p:cNvSpPr/>
          <p:nvPr/>
        </p:nvSpPr>
        <p:spPr>
          <a:xfrm>
            <a:off x="357120" y="3105000"/>
            <a:ext cx="80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49 году Прокопьева переезжает в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елябинс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Прямоугольник 11"/>
          <p:cNvSpPr/>
          <p:nvPr/>
        </p:nvSpPr>
        <p:spPr>
          <a:xfrm>
            <a:off x="571680" y="3500280"/>
            <a:ext cx="7929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копьева возглавляет Бюро пропаганды художественной литературы Челябинской областной писательской организации, деятельность которого распространялась на три области Южного Урала: Челябинскую, Курганскую и Оренбургскую. У нее выходят сборники прозы - в Челябинске и в Москве, которые, в основном, развивают «биографическую» и «рабочую» темы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71" name="Picture 2" descr="C:\Users\Администратор\Desktop\Школьная форма\Шаблон 1 сентября\Рисунок1гн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2" name="Прямоугольник 4"/>
          <p:cNvSpPr/>
          <p:nvPr/>
        </p:nvSpPr>
        <p:spPr>
          <a:xfrm>
            <a:off x="3643200" y="6429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Яранцев Владимир Никола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Прямоугольник 6"/>
          <p:cNvSpPr/>
          <p:nvPr/>
        </p:nvSpPr>
        <p:spPr>
          <a:xfrm>
            <a:off x="357120" y="2143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Прямоугольник 7"/>
          <p:cNvSpPr/>
          <p:nvPr/>
        </p:nvSpPr>
        <p:spPr>
          <a:xfrm>
            <a:off x="285840" y="2428920"/>
            <a:ext cx="8143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имир Николаевич Яранцев родился в г. Калинин (Тверь) в 1958 году. Закончил гуманитарный факультет Новосибирского государственного университета (Академгородок) по специальности «филологи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Прямоугольник 11"/>
          <p:cNvSpPr/>
          <p:nvPr/>
        </p:nvSpPr>
        <p:spPr>
          <a:xfrm>
            <a:off x="571680" y="3929040"/>
            <a:ext cx="7929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90-е годы работал в газетах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восибирс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: «Сибирская газета» и «Слово», печатался в «Советской Сибири», «Вечернем Новосибирске», «Молодости Сибири», «Новой Сибири». С 2000 года печатается, а затем работает (с 2002 г.) в журнале «Сибирские огни», одновременно занимаясь литературоведением, в том числе сибирск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Picture 2" descr="http://glfr.ru/img/cache/43b77d444f213a07597b9982d12b4e0d"/>
          <p:cNvPicPr/>
          <p:nvPr/>
        </p:nvPicPr>
        <p:blipFill>
          <a:blip r:embed="rId2"/>
          <a:stretch/>
        </p:blipFill>
        <p:spPr>
          <a:xfrm>
            <a:off x="1500120" y="571680"/>
            <a:ext cx="1357560" cy="14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3T15:17:57Z</dcterms:created>
  <dc:creator>Илья Кузнецов</dc:creator>
  <dc:description/>
  <dc:language>en-US</dc:language>
  <cp:lastModifiedBy>Admin</cp:lastModifiedBy>
  <dcterms:modified xsi:type="dcterms:W3CDTF">2011-09-08T16:32:02Z</dcterms:modified>
  <cp:revision>11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e0e0000000000010243100207f6000400038000</vt:lpwstr>
  </property>
</Properties>
</file>