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итель" initials="у" lastIdx="7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6-22T23:29:44.625000000" idx="1">
    <p:pos x="5760" y="0"/>
    <p:text/>
  </p:cm>
</p:cmLst>
</file>

<file path=ppt/comments/comment4.xml><?xml version="1.0" encoding="utf-8"?>
<p:cmLst xmlns:p="http://schemas.openxmlformats.org/presentationml/2006/main">
  <p:cm authorId="0" dt="2011-06-22T23:29:44.625000000" idx="2">
    <p:pos x="5760" y="0"/>
    <p:text/>
  </p:cm>
</p:cmLst>
</file>

<file path=ppt/comments/comment5.xml><?xml version="1.0" encoding="utf-8"?>
<p:cmLst xmlns:p="http://schemas.openxmlformats.org/presentationml/2006/main">
  <p:cm authorId="0" dt="2011-06-22T23:29:44.625000000" idx="3">
    <p:pos x="5760" y="0"/>
    <p:text/>
  </p:cm>
</p:cmLst>
</file>

<file path=ppt/comments/comment6.xml><?xml version="1.0" encoding="utf-8"?>
<p:cmLst xmlns:p="http://schemas.openxmlformats.org/presentationml/2006/main">
  <p:cm authorId="0" dt="2011-06-22T23:29:44.625000000" idx="4">
    <p:pos x="5760" y="0"/>
    <p:text/>
  </p:cm>
</p:cmLst>
</file>

<file path=ppt/comments/comment7.xml><?xml version="1.0" encoding="utf-8"?>
<p:cmLst xmlns:p="http://schemas.openxmlformats.org/presentationml/2006/main">
  <p:cm authorId="0" dt="2011-06-22T23:29:44.625000000" idx="5">
    <p:pos x="5760" y="0"/>
    <p:text/>
  </p:cm>
</p:cmLst>
</file>

<file path=ppt/comments/comment8.xml><?xml version="1.0" encoding="utf-8"?>
<p:cmLst xmlns:p="http://schemas.openxmlformats.org/presentationml/2006/main">
  <p:cm authorId="0" dt="2011-06-22T23:29:44.625000000" idx="6">
    <p:pos x="5760" y="0"/>
    <p:text/>
  </p:cm>
</p:cmLst>
</file>

<file path=ppt/comments/comment9.xml><?xml version="1.0" encoding="utf-8"?>
<p:cmLst xmlns:p="http://schemas.openxmlformats.org/presentationml/2006/main">
  <p:cm authorId="0" dt="2011-06-22T23:29:44.625000000" idx="7">
    <p:pos x="576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D6A-0680-4B2D-A633-FAD2D051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4F15-C310-46BB-899C-4A0BA6B4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F386FF-1275-423A-BFDA-E61EAE84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44B62-4661-4F3B-8D08-EB31810B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A135B5-410F-44F5-AEB4-9596FC3B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3F423-04DC-45D8-A78D-3451E1CA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30F7C-8347-457E-A8B6-839810BB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E980F-FD1F-465C-AB2B-D5F22B40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B80339-4D21-46A4-8CD2-9F69E042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40D09-1D4D-47EB-AB0C-8671A008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B70A0-C021-4B3D-85F1-6E507FF6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5FEA3-5799-49CB-8133-8625CFB4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46A-556E-4EBC-A764-C45502C6B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280E71-F5D8-48BD-9AD7-3680194F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D94F8-0509-4363-8D61-4E646013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8A34DB-61DC-423A-90F5-C8051442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1F5332-5063-4EB1-A568-E1BF7406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A2F7D-88BD-49A3-B748-0F58822E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4306D-0470-4C5A-8C0A-A0E07DCD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0893D-D57A-43BA-BD02-4C7188AA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33894-57E5-43FD-94D7-3AB037EB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40AA7-2C24-4C0E-AD89-8D576381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43B7D-3E02-48D5-ADFA-CBF381EC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893-1907-45ED-B15F-A3F2CDBD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65996-A54B-472A-A705-FA204D3E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A8AF8-5452-4C21-A15E-8AF058D3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EC0A0-D4EE-4520-9849-4C7FBE8F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50D9E-140D-447F-8CA4-9CD967E4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41C48-4928-4C02-956B-926BA572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4BBEA-7543-4F0E-9C9C-4CA4D42B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A0B13-5C63-4530-A0ED-87B5AC59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24ED1-44BF-4E46-BA42-535F0C9F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605C2-AD58-475C-90B7-48EA56D2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9F1D0-4295-4C23-A029-400DCFFE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35FE-B923-4C4F-AF48-83B193A2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E8807-C5F5-4EE4-80C8-605A4531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CEF7D-C4E1-4A9E-B45D-437BC1A4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C3F18-2D91-40D1-A25B-3351A6DE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8E26A2-AED2-43AE-9C10-3C1B74B4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EE12C-B2AA-4A85-BBB0-E0062B9B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606DA-E997-4D04-8630-BFFB9A5A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A7A28-61BB-465F-A8C4-145A523B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388D71-672C-4FA4-B73B-7E27F034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82B26-D445-441A-A124-C1D06C1D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EE8F7-479C-4278-8E97-EE311E5E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467A-EE6E-45E6-A6C2-D8C50A25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7F56B1-8203-4AD0-A251-8175EA7C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ED483-F995-4279-9DA3-C306C85C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BD242-2F23-4204-8967-4EDF8F2F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01CD2-611D-498E-9736-C923131B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F8DF83-9EAD-49C7-9F2E-86B5715A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010C-2782-416F-9EBE-66B95A14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6D1A-EC1A-4174-BD84-610F89F2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F7B9-3497-4576-9AE3-606DD7AD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9A7D-E5DE-4A9E-8470-0151BC78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D62A-90FF-4999-88E0-A34CFC82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9377-6EF6-401D-A470-C92C563C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5B6E-2AED-4527-88CB-080AA27A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444C-2A73-40EA-988C-072C69A2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68CF-1D0D-415F-943B-D58361C1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E622-FD31-4755-9059-3D42F8D3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6FCB-E7FA-4E4F-8E06-210A2F46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E3A1F-D9C5-4C87-BBE3-366F67A6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3F53-0783-438D-AD64-4736059F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D7D6-4581-45E5-B665-FBFA251B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58CF6-B4FC-4B06-B86E-864190AA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71980-40DC-472B-9095-AB97381B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69F-A857-47A3-85E7-6DEEF6BC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914E-51D8-4440-AB7B-25B6A0AC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55456-EFD4-46BB-B89B-A2DB8209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4AAD-F214-43F3-9383-1A7BCAE1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A486A-DB5F-482D-819E-705F4072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5812-4B00-4B79-94EE-C339FD6C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8B217-06F7-4B5E-8CED-78E114FD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947B3-3AC7-490E-8B26-8C247648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13F42-8137-40CA-A76C-8761188A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AEE6C-427C-453A-B438-117314FC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6420A-15EB-4E1B-A128-C8E5B420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262-39B6-456D-BC69-37ACB1D1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BF3DC-7DBD-4FA4-B247-B5D00157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47287-60C4-4F95-986B-AC955B5A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DBE11-1054-40BF-8602-A65A1559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A4DBB-788E-4518-8953-C0E4A995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500A9-0B1B-4EFF-990A-73547F3F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C6771-ADDD-47E1-B450-C7EE1773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C4EE-CCB3-484E-A440-A7D2B87F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6BFE4-58BF-47FC-8194-C80D8B2D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4034F-F634-42F8-B9BC-7D2C7523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37C45-E13C-4802-9A84-42425196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37B-748B-48AD-9C3D-AE9FFB6B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54AFD-DD99-4B09-B9BF-956D74CA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08979-14BF-4654-86F8-EB467C63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52A82-A5B3-4593-8F28-EB66F427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959CA-8785-4CB6-BAD3-9B2A3AA37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BC9CB-8E6F-457C-AEDE-BEAD0FA8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10D02-B882-48E4-B69F-8ED637F8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53732-EB02-46A1-B136-AF67E7C0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74B91-7415-4751-A1A4-B8B88522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496A1-DF35-4112-BE74-40664919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76A5D-8D24-440E-83AC-ED97D0B1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F13-C9DE-451F-842C-EEC64C46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213F8-9B63-4889-A34B-5CB01ADC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C6C33-B728-4909-B658-F0667E58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1CE6B-2637-4E65-880D-671C27EF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935D8-5305-4FD9-9443-AEDCF220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91214-3BE3-46D9-8971-3D06F208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846F7-B438-4FD5-A186-F7F9AFBB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87D06-0DF5-4B3B-8700-34E19945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CB9D7-D75D-4564-806A-410572BA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96947-58C0-40A9-BEAD-8CCE9A24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AAE11-739A-4CE8-8CD0-4C33FCA6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060C-2FF7-4E17-A0FF-CDC9B94B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C0F26-3403-4D74-AF53-5AB42D3B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3FF1E-54F1-46F6-98C2-BA2F0BC0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38149-4260-4C95-8063-F5FD379E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A313F-95B5-4D91-8C16-FB8C0821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40989-5C2A-478B-821D-1286369F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2227F-32EE-4D48-887A-2327355F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79E3C-C39A-4E9B-A337-B7F3B2B0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C8F43-CC20-4DF4-BCBF-F4A905AC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F5250-8FFF-466C-81AF-9B39A117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E8300-AFFE-4437-8B0A-04FED50C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6F0-566A-4F56-A849-A20B4690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DEF62-8BE7-459A-B79D-5AEA044E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A9AC9-7188-4A3D-852C-AEF720ED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5A141-95E0-4CFF-AAC0-67439520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3EE3C-B3A5-4CF0-802F-880C7A6C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AA9DB-944C-4E0F-A1A9-078BB8AC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47C31-427A-4399-A021-0C3B9AAB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EFEEF-5AE0-43F5-8EF9-33485648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A9647-8AF9-4C77-B386-29040A7E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F7379-84A1-45CF-B8E0-5F3A941B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C147A-2039-48A3-994A-2C5C3854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D766-FE25-4AA2-BC18-828BFC15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4A699-3B80-48F7-9AA5-AE9091FC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D498B-C298-4F65-B4A9-EDBF0C0A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68D9F-FB90-440E-BB8F-974E1AE4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AF7DA-883F-4883-AADB-6E1DAE7F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18119-BF91-4208-A8AD-3D7E924A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605DA-ACD4-4135-9A7A-43E4E89C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0CF65-6F28-4E65-AE41-2628059A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824A9-EF11-485F-9A31-C6F46610E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D1276-4F08-4028-B655-94B6460D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7C9914-2890-4773-9B48-57245C08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B149-1A95-44ED-A42B-6A1826149BD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5289-AAA9-4EE7-9CAD-08B3109628B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CE38-66E5-42DF-997F-F7A25267CEC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89C7-B84A-4ED0-B04D-3F1F6870ACE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6FD3-0287-49E7-A4B0-8AE3EF8A225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CBC1-AFA9-4BE0-9E43-93CEB2BB36B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0FC9-93FD-40C4-9E38-ACABD806171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F9A6-CEC2-4C43-8A84-15A17CD3148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DB27-3DA1-407D-B741-4128B6A500B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A35B-B3E3-4CA4-BC8C-8A1A00993EB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EE6A-1D0D-4F38-AE00-5CE58AD72101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1E78-6EFA-4374-8AD7-737B1BE41EC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thumb2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63e38"/>
            </a:solidFill>
            <a:miter/>
          </a:ln>
        </p:spPr>
      </p:pic>
      <p:sp>
        <p:nvSpPr>
          <p:cNvPr id="608" name="Прямоугольник 10"/>
          <p:cNvSpPr/>
          <p:nvPr/>
        </p:nvSpPr>
        <p:spPr>
          <a:xfrm>
            <a:off x="642960" y="2714760"/>
            <a:ext cx="75722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5a00"/>
                </a:solidFill>
                <a:latin typeface="Georgia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на географической карт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вестные детские поэты, писат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3143160" y="8571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раснотурь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: Лоретц Ан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16349"/>
              </a:solidFill>
              <a:latin typeface="Georgia"/>
            </a:endParaRPr>
          </a:p>
        </p:txBody>
      </p:sp>
      <p:pic>
        <p:nvPicPr>
          <p:cNvPr id="67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3183480" y="78588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571680" y="164628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velib.com/biograph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иографии русских поэтов и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0" y="428760"/>
            <a:ext cx="8923320" cy="478476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5"/>
          <p:cNvSpPr/>
          <p:nvPr/>
        </p:nvSpPr>
        <p:spPr>
          <a:xfrm>
            <a:off x="861120" y="27860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1218240" y="314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7"/>
          <p:cNvSpPr/>
          <p:nvPr/>
        </p:nvSpPr>
        <p:spPr>
          <a:xfrm>
            <a:off x="1500120" y="385776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8"/>
          <p:cNvSpPr/>
          <p:nvPr/>
        </p:nvSpPr>
        <p:spPr>
          <a:xfrm>
            <a:off x="2001960" y="314316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ий Нов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9"/>
          <p:cNvSpPr/>
          <p:nvPr/>
        </p:nvSpPr>
        <p:spPr>
          <a:xfrm>
            <a:off x="4648320" y="450072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0"/>
          <p:cNvSpPr/>
          <p:nvPr/>
        </p:nvSpPr>
        <p:spPr>
          <a:xfrm>
            <a:off x="2507760" y="407196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11"/>
          <p:cNvSpPr/>
          <p:nvPr/>
        </p:nvSpPr>
        <p:spPr>
          <a:xfrm>
            <a:off x="3575160" y="435780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4"/>
          <p:cNvSpPr/>
          <p:nvPr/>
        </p:nvSpPr>
        <p:spPr>
          <a:xfrm>
            <a:off x="3643200" y="6429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Корнейчуков Николай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6" descr="Чуковский Корней Иванович (Корнейчуков Николай Васильевич) - фотография автора"/>
          <p:cNvPicPr/>
          <p:nvPr/>
        </p:nvPicPr>
        <p:blipFill>
          <a:blip r:embed="rId2"/>
          <a:stretch/>
        </p:blipFill>
        <p:spPr>
          <a:xfrm>
            <a:off x="928800" y="6429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6"/>
          <p:cNvSpPr/>
          <p:nvPr/>
        </p:nvSpPr>
        <p:spPr>
          <a:xfrm>
            <a:off x="571680" y="2967120"/>
            <a:ext cx="8001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настоящее имя Корнейчуков Николай Васильевич) родился 19 марта (31 н.с.)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етербург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16 по приглашению Горького Чуковский руководит детским отделом издательства "Парус" и начинает писать для детей: стихотворные сказки "Крокодил" (1916), "Мойдодыр" (1923), "Муха-цокотуха" (1924), "Бармалей" (1925), "Айболит" (1929)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7"/>
          <p:cNvSpPr/>
          <p:nvPr/>
        </p:nvSpPr>
        <p:spPr>
          <a:xfrm>
            <a:off x="428760" y="5214960"/>
            <a:ext cx="67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ие годы жизни выступал со статьями-эссе о Зощенко, Б.Житкове, А. Ахматовой, Б.Пастернаке и многих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рто Агния Ль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то Агния Львовна (1906-1981) родилась 17 феврал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оскв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ветеринарного врача. Получила хорошее домашнее воспитание, которым руководил отец. Училась в гимназии, где и начала писать ст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7"/>
          <p:cNvSpPr/>
          <p:nvPr/>
        </p:nvSpPr>
        <p:spPr>
          <a:xfrm>
            <a:off x="357120" y="421488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регулярно выпускала сборники стихов: "Братишки" (1928), "Мальчик наоборот"(1934), "Игрушки", (1936), "Снегирь" (19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Барто Агния Львовна - фотография автора"/>
          <p:cNvPicPr/>
          <p:nvPr/>
        </p:nvPicPr>
        <p:blipFill>
          <a:blip r:embed="rId2"/>
          <a:stretch/>
        </p:blipFill>
        <p:spPr>
          <a:xfrm>
            <a:off x="1143000" y="6429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635" name="Прямоугольник 9"/>
          <p:cNvSpPr/>
          <p:nvPr/>
        </p:nvSpPr>
        <p:spPr>
          <a:xfrm>
            <a:off x="428760" y="350028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5 были опубликованы книжки стихов для детей - "Китайчонок Ван Ли", Мишка-воришк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11"/>
          <p:cNvSpPr/>
          <p:nvPr/>
        </p:nvSpPr>
        <p:spPr>
          <a:xfrm>
            <a:off x="214200" y="5226120"/>
            <a:ext cx="742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0-50 выходят новые сборники: "Первоклассница", "Звенигород", "Веселые стихи", "Стихи детям". В эти же годы работает над сценариями детских кинофильмов "Подкидыш", "Слон и веревочка", "Алеша Птицын вырабатывает характер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ажов Павел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ов Павел Петрович (27 января 1879 - 31 августа 1967). Знаменитый уральский сказо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семье рабочих. Окончил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е духовное училище (1893) и Пермскую духовную семинарию (189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7"/>
          <p:cNvSpPr/>
          <p:nvPr/>
        </p:nvSpPr>
        <p:spPr>
          <a:xfrm>
            <a:off x="285840" y="33577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0-е гг. Бажов дополняет и развивает проблематику довоенного "гумешевского" цикла на материале истории Южного Урала ("Иванко Крылатко", "Чугунная бабушка", "Коренная тайность" и др.). Отдельную группу составляют сатирические "Сказы о немцах" (1943-45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6" descr="Бажов Павел Петрович - фотография автора"/>
          <p:cNvPicPr/>
          <p:nvPr/>
        </p:nvPicPr>
        <p:blipFill>
          <a:blip r:embed="rId2"/>
          <a:stretch/>
        </p:blipFill>
        <p:spPr>
          <a:xfrm>
            <a:off x="1214280" y="428760"/>
            <a:ext cx="1285920" cy="142848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14"/>
          <p:cNvSpPr/>
          <p:nvPr/>
        </p:nvSpPr>
        <p:spPr>
          <a:xfrm>
            <a:off x="428760" y="4826160"/>
            <a:ext cx="821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Бажова завершается социально-бытовыми сказами ("Васина гора", "Широкое плечо", "Не та цапля" и др.), которые тематически примыкают к его "Уральским былям". Последнее крупное произведение - автобиографическая повесть "Далекое - близкое" (1949) содержит многообразные сведения из жизни и быта Екатеринбурга начала XX 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льдар Абузя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6"/>
          <p:cNvSpPr/>
          <p:nvPr/>
        </p:nvSpPr>
        <p:spPr>
          <a:xfrm>
            <a:off x="357120" y="2143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5 июня 1976 года в Горь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7"/>
          <p:cNvSpPr/>
          <p:nvPr/>
        </p:nvSpPr>
        <p:spPr>
          <a:xfrm>
            <a:off x="285840" y="257184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 исторический факультет  университета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его Нов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ютировал как прозаик в 2000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овался в литературных журналах и альманахах «Вавилон», «Дружба Народов», «Октябрь», «Знамя», «Новый мир», «День и ночь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переведены на немецкий, чешский, шведский, армянский, арабский я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http://glfr.ru/img/cache/86f6c841077e2b10cb50ed0e6ce1704f"/>
          <p:cNvPicPr/>
          <p:nvPr/>
        </p:nvPicPr>
        <p:blipFill>
          <a:blip r:embed="rId2"/>
          <a:stretch/>
        </p:blipFill>
        <p:spPr>
          <a:xfrm>
            <a:off x="1071720" y="285840"/>
            <a:ext cx="13572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йбородин Анатолий Григо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7"/>
          <p:cNvSpPr/>
          <p:nvPr/>
        </p:nvSpPr>
        <p:spPr>
          <a:xfrm>
            <a:off x="285840" y="24289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лий Григорьевич Байбородин родился 24 марта 1950 года в селе Сосново-Озерск Республики Бурятия. После окончани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 государственного университета (отделение журналистики) работал в сельских и областных газетах Восточной Сиби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glfr.ru/img/cache/917ca793ed8ea3fbd85969f6181722a4"/>
          <p:cNvPicPr/>
          <p:nvPr/>
        </p:nvPicPr>
        <p:blipFill>
          <a:blip r:embed="rId2"/>
          <a:stretch/>
        </p:blipFill>
        <p:spPr>
          <a:xfrm>
            <a:off x="1214280" y="285840"/>
            <a:ext cx="1643400" cy="2095560"/>
          </a:xfrm>
          <a:prstGeom prst="rect">
            <a:avLst/>
          </a:prstGeom>
          <a:ln w="0">
            <a:noFill/>
          </a:ln>
        </p:spPr>
      </p:pic>
      <p:sp>
        <p:nvSpPr>
          <p:cNvPr id="659" name="Прямоугольник 9"/>
          <p:cNvSpPr/>
          <p:nvPr/>
        </p:nvSpPr>
        <p:spPr>
          <a:xfrm>
            <a:off x="357120" y="40719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ьес «Косопят – борода до пят» (Постановка: Иркутский городской театр 2003.), «Птицы черные, птицы белые» (Постановка: Иркутский областной кукольный театр, 20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копьева Зоя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7"/>
          <p:cNvSpPr/>
          <p:nvPr/>
        </p:nvSpPr>
        <p:spPr>
          <a:xfrm>
            <a:off x="285840" y="242892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аик Зоя Егоровна Прокопьева родилась в селе Белозерское Белозерского района Курганской области 15.11.19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http://glfr.ru/img/cache/1bbc1f52681bd9c272206412d6c69a29"/>
          <p:cNvPicPr/>
          <p:nvPr/>
        </p:nvPicPr>
        <p:blipFill>
          <a:blip r:embed="rId2"/>
          <a:stretch/>
        </p:blipFill>
        <p:spPr>
          <a:xfrm>
            <a:off x="1214280" y="428760"/>
            <a:ext cx="1202040" cy="1585800"/>
          </a:xfrm>
          <a:prstGeom prst="rect">
            <a:avLst/>
          </a:prstGeom>
          <a:ln w="0">
            <a:noFill/>
          </a:ln>
        </p:spPr>
      </p:pic>
      <p:sp>
        <p:nvSpPr>
          <p:cNvPr id="667" name="Прямоугольник 10"/>
          <p:cNvSpPr/>
          <p:nvPr/>
        </p:nvSpPr>
        <p:spPr>
          <a:xfrm>
            <a:off x="357120" y="3105000"/>
            <a:ext cx="80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9 году Прокопьева переезжает 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11"/>
          <p:cNvSpPr/>
          <p:nvPr/>
        </p:nvSpPr>
        <p:spPr>
          <a:xfrm>
            <a:off x="571680" y="350028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пьева возглавляет Бюро пропаганды художественной литературы Челябинской областной писательской организации, деятельность которого распространялась на три области Южного Урала: Челябинскую, Курганскую и Оренбургскую. У нее выходят сборники прозы - в Челябинске и в Москве, которые, в основном, развивают «биографическую» и «рабочую» тем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ранцев Владимир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7"/>
          <p:cNvSpPr/>
          <p:nvPr/>
        </p:nvSpPr>
        <p:spPr>
          <a:xfrm>
            <a:off x="285840" y="2428920"/>
            <a:ext cx="814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Николаевич Яранцев родился в г. Калинин (Тверь) в 1958 году. Закончил гуманитарный факультет Новосибирского государственного университета (Академгородок) по специальности «филолог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11"/>
          <p:cNvSpPr/>
          <p:nvPr/>
        </p:nvSpPr>
        <p:spPr>
          <a:xfrm>
            <a:off x="571680" y="392904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0-е годы работал в газетах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«Сибирская газета» и «Слово», печатался в «Советской Сибири», «Вечернем Новосибирске», «Молодости Сибири», «Новой Сибири». С 2000 года печатается, а затем работает (с 2002 г.) в журнале «Сибирские огни», одновременно занимаясь литературоведением, в том числе сибир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" descr="http://glfr.ru/img/cache/43b77d444f213a07597b9982d12b4e0d"/>
          <p:cNvPicPr/>
          <p:nvPr/>
        </p:nvPicPr>
        <p:blipFill>
          <a:blip r:embed="rId2"/>
          <a:stretch/>
        </p:blipFill>
        <p:spPr>
          <a:xfrm>
            <a:off x="1500120" y="571680"/>
            <a:ext cx="13575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5:17:57Z</dcterms:created>
  <dc:creator>Илья Кузнецов</dc:creator>
  <dc:description/>
  <dc:language>en-US</dc:language>
  <cp:lastModifiedBy>Admin</cp:lastModifiedBy>
  <dcterms:modified xsi:type="dcterms:W3CDTF">2011-09-08T16:32:02Z</dcterms:modified>
  <cp:revision>1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e0000000000010243100207f6000400038000</vt:lpwstr>
  </property>
</Properties>
</file>