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19EA4-7A31-4C83-A73C-E308D814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5A008-E6ED-4332-A41E-8502CE17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F312F-D6E4-4288-A3BB-7E262ED6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49687-6827-49F0-8C9C-0CA2F197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5E2E-18CD-44EC-A29F-6ED71001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9761-0367-4D85-8EC7-5CF9C457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4526-8274-4A35-9F77-49308CBB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A234-39F2-4558-A6BB-E77A951A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DC66-F0E4-410C-9F8B-264FD962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64F2-A7B6-4BC2-90A1-7F7E92C1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C30A-CDFD-4B2A-A364-276B5910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8D348-5706-46B4-B9D2-99F0CD43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33F2-AB0D-4264-BB2A-2C785E4F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BBB4-9D70-4C17-9EBB-D22BF487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D09E-95D6-4B0C-B3D3-B913AEE2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2145-FCC6-4FD3-A89A-BE1D45CD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D785-3EC4-48C7-B4D6-47F2E99A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B9B57-E2DB-4FAE-875D-89813B0B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14A4-D306-4DA7-AFAA-7D74CE2A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9B037-D3F5-4D4F-AA23-C596F55F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32CCA-A8AC-435C-B417-49F47CB3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E1BA9-B1F9-4D75-BFA6-0FDD35ED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0913B-9AEF-4BC9-9176-283B74D6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7721-8082-4E97-BFA4-AE82E803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B0C1-697C-4AA2-9229-15FEB659D8C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FF56-B67A-4A98-8CA2-C87796764E7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63640" y="1268280"/>
            <a:ext cx="532296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.С. Пуш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Метел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0000" y="544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Презентацию выполнила учитель русского языка и литературы 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МОУ СОШ № 40 г. Перми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 Арчакова Т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620640"/>
            <a:ext cx="835344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роничность пове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Марьи Гавриловны, ее состояния, когда наивность, мечтательность подвергаются испытанию жизненной проз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рассказчика, который словно бы подмигивает читателю, настраивая его на снисходительно – доброжелательное отношение к геро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одные конструкци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амо по себе разумеется», «что весьма естественно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оторые порождают сомнения в глубине и искренности чувств главных гер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57480" y="260280"/>
            <a:ext cx="4654440" cy="640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65760" cy="6048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0" y="1628640"/>
            <a:ext cx="432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юбят ли друг друга Марья Гавриловна и Владимир Николаеви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ли просто играют в любов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836640"/>
            <a:ext cx="835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едёт себя Марья Гавриловна при осуществлении своих романтических планов? Как это её характеризу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 рассказе о её побеге из дома начинает звучать тема судьб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ель – нетерпеливые кони – стремительный бег в неведомое – божий хра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м предстаёт перед нами Владимир в «своём» эпизоде повести? Как ведёт себя в неожиданных обстоятельств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11240" y="260280"/>
            <a:ext cx="49658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60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Марья Гавриловна   Владимир Николаевич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 полчас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аша должна была навсегда оставить родительский дом, свою комнату, тихую девическую жизнь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ша сошла в сад. «Метель не утихала; ветер дул навстречу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и «не стояли на месте», едва же барышня уселась, «лошади понесл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для себя велел заложить маленькие сани в одну лошадь и отправился в Жадрино, куд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два час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олжна была приехать Марья Гавриловна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езды было всего 20 минут», но «поднялся ветер и сделалась такая метель, что он ничего не взвидел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ь « ступала наудачу и поминутно проваливалась в яму», потом «начала уставать», потом «чуть ступа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в ночь Маша занемог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особна изменить себя, приобрести новые жизненные ценности, сохранить надежду на благие повороты судьбы, поэтому остаётся жи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Какое известие ожидало его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кончилась романтическая история, которой он жил, вне которой не мыслил своего существования, - закончилась жиз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284640"/>
            <a:ext cx="8424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а и та же сила с помощью одних и тех же средств в одном случае подхватывает и мчит навстречу желаемому, в другом – мешает, противодействует, преграждает п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акция Марьи Гавриловны на случившееся была столь острой, что едва не стоила ей жизни. Владимир Николаевич в письме отказывается от столь желаемого счастья, взывает к смерти, и голос его звучит пророчес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756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6920" y="287280"/>
            <a:ext cx="46087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981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олдинская осень – необычайно плодотворный период творчества А.С. Пушкина. Это стихи, поэмы и прозаические произведения в том числе. Именно в период вынужденного «сидения» в Болдино были созданы «Повести Белкина» - цикл, состоящий из пяти пове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4005360"/>
            <a:ext cx="5113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Метел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Станционный смотр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Гробовщ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Барышня – крестьян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Выстре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930920" cy="6308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58920" y="14842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700280"/>
            <a:ext cx="763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м смысл названия пове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мысли и ассоциации оно вызывает у читате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что настраивает? Что обещ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246480" cy="417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46800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907920"/>
            <a:ext cx="6696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ЕЛЬ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ртина природы: снег, ветер, разбушевавшаяся зимняя стих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звихренность, «метельность»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уговерть событ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евога, смятение в душах главны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ТЕЛЬ – несчастье, крах жизненных планов одних, счастливый поворот судьбы други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Как соотносится начало повести с ее эпиграфом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907920"/>
            <a:ext cx="8532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й таинственности – спокойств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го героя – «добрый Гаврила Гаврилович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взволнованного настоящего – уравновешенное прошедш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драматических коллизий – обыденность, скука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9:42:03Z</dcterms:created>
  <dc:creator>School</dc:creator>
  <dc:description/>
  <dc:language>en-US</dc:language>
  <cp:lastModifiedBy>thoy</cp:lastModifiedBy>
  <dcterms:modified xsi:type="dcterms:W3CDTF">2006-09-13T04:57:32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5000000000001024140</vt:lpwstr>
  </property>
</Properties>
</file>