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F1B09-99F3-4AFD-B939-8928F188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4E9C3-1EE8-4AC0-B1DE-EF70FB78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8AD9-3C58-4286-9302-FEAB3FDB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FCFE-BF71-4857-9160-BB5B6AD4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4069-4CC6-42E8-82C0-E60F68CB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12A5-D685-419B-859A-58B32F8C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5843-DA21-423C-96E5-BBD236D3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3DE8-D361-4E13-A958-8C45DB1A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EC8A-ACC3-483C-8AFB-6B8335A5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2FC9-AB40-47A0-B11B-19BDCEC6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258D-28F3-4D86-AA8B-1546FC07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EFF73-51FD-4F4E-A278-8272E6A9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E841-5525-4ED6-9A8A-FD22A840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3B95-3E39-4807-970C-5E86AD6E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0ABF-C6DB-4FEB-A502-759F9BB8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BC27-32AF-47A8-B9B6-D94A6095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DD42-E3BC-44FD-8123-DEB9E8C5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3B1DD-25D7-4432-85F1-70455D7B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CDE11-80BD-4AEE-AF62-9ED05DC8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C0EAF-0411-412D-89B3-BE2788BE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F63CE-4128-462F-99E8-C8B6F46C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84872-AA01-4F68-9542-0B136BC9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12D45-D89B-4AAA-B816-F8324351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9BFB6-8DC8-43F4-BA29-61BA7830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E7A7-1AC6-4198-9177-6F762A82572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A48B-F02D-4C73-A890-3111BA57766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63640" y="1268280"/>
            <a:ext cx="532296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.С. Пуш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Метел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0000" y="544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Презентацию выполнила учитель русского языка и литературы 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МОУ СОШ № 40 г. Перми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 Арчакова Т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620640"/>
            <a:ext cx="835344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роничность пове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Марьи Гавриловны, ее состояния, когда наивность, мечтательность подвергаются испытанию жизненной проз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рассказчика, который словно бы подмигивает читателю, настраивая его на снисходительно – доброжелательное отношение к геро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одные конструкци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амо по себе разумеется», «что весьма естественно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оторые порождают сомнения в глубине и искренности чувств главных гер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57480" y="260280"/>
            <a:ext cx="4654440" cy="640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65760" cy="6048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0" y="1628640"/>
            <a:ext cx="432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юбят ли друг друга Марья Гавриловна и Владимир Николаеви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ли просто играют в любов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836640"/>
            <a:ext cx="835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едёт себя Марья Гавриловна при осуществлении своих романтических планов? Как это её характеризу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 рассказе о её побеге из дома начинает звучать тема судьб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ель – нетерпеливые кони – стремительный бег в неведомое – божий хра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м предстаёт перед нами Владимир в «своём» эпизоде повести? Как ведёт себя в неожиданных обстоятельств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11240" y="260280"/>
            <a:ext cx="49658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60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Марья Гавриловна   Владимир Николаевич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 полчас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аша должна была навсегда оставить родительский дом, свою комнату, тихую девическую жизнь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ша сошла в сад. «Метель не утихала; ветер дул навстречу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и «не стояли на месте», едва же барышня уселась, «лошади понесл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для себя велел заложить маленькие сани в одну лошадь и отправился в Жадрино, куд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два час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олжна была приехать Марья Гавриловна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езды было всего 20 минут», но «поднялся ветер и сделалась такая метель, что он ничего не взвидел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ь « ступала наудачу и поминутно проваливалась в яму», потом «начала уставать», потом «чуть ступа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в ночь Маша занемог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особна изменить себя, приобрести новые жизненные ценности, сохранить надежду на благие повороты судьбы, поэтому остаётся жи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Какое известие ожидало его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кончилась романтическая история, которой он жил, вне которой не мыслил своего существования, - закончилась жиз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284640"/>
            <a:ext cx="8424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а и та же сила с помощью одних и тех же средств в одном случае подхватывает и мчит навстречу желаемому, в другом – мешает, противодействует, преграждает п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акция Марьи Гавриловны на случившееся была столь острой, что едва не стоила ей жизни. Владимир Николаевич в письме отказывается от столь желаемого счастья, взывает к смерти, и голос его звучит пророчес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756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6920" y="287280"/>
            <a:ext cx="46087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981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олдинская осень – необычайно плодотворный период творчества А.С. Пушкина. Это стихи, поэмы и прозаические произведения в том числе. Именно в период вынужденного «сидения» в Болдино были созданы «Повести Белкина» - цикл, состоящий из пяти пове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4005360"/>
            <a:ext cx="5113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Метел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Станционный смотр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Гробовщ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Барышня – крестьян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Выстре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930920" cy="6308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58920" y="14842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700280"/>
            <a:ext cx="763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м смысл названия пове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мысли и ассоциации оно вызывает у читате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что настраивает? Что обещ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246480" cy="417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46800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907920"/>
            <a:ext cx="6696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ЕЛЬ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ртина природы: снег, ветер, разбушевавшаяся зимняя стих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звихренность, «метельность»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уговерть событ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евога, смятение в душах главны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ТЕЛЬ – несчастье, крах жизненных планов одних, счастливый поворот судьбы други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Как соотносится начало повести с ее эпиграфом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907920"/>
            <a:ext cx="8532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й таинственности – спокойств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го героя – «добрый Гаврила Гаврилович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взволнованного настоящего – уравновешенное прошедш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драматических коллизий – обыденность, скука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9:42:03Z</dcterms:created>
  <dc:creator>School</dc:creator>
  <dc:description/>
  <dc:language>en-US</dc:language>
  <cp:lastModifiedBy>thoy</cp:lastModifiedBy>
  <dcterms:modified xsi:type="dcterms:W3CDTF">2006-09-13T04:57:32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5000000000001024140</vt:lpwstr>
  </property>
</Properties>
</file>