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CD27-075C-4567-975F-EC69278D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6117-39B5-4D86-AB48-B3DAA898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19161-8A01-465C-9704-71DDC53E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2278-AC89-458E-BCBD-97428BE0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2C4A-3C64-41F1-90A7-0D93A351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9A19-F5A9-41C0-ADEB-1006480A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2695-619A-42C1-A679-96702F4F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8E90-DD25-4160-AC90-20526A97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0F0E-2D18-4B53-8F9E-33DCBB68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DD01-2B1C-4C7C-913F-C455D880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D46E-444D-499B-951D-60CBAEC9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B3CC-DD96-427F-AFB3-F5457FDD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045E-1482-4A39-AE67-31F8049A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6915-9992-42F8-8804-3D97E19E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9F86-7503-4871-8D3D-8739E799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203F-E926-4717-899B-F07E6299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7703-2FDE-4108-8FF0-FD26465C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B8744-090A-4981-AB49-14A80D7C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7ABA9-AEFC-4A36-AADC-68D9616E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17E9-EFAC-4737-B0F0-FDBF4422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218A-7DBA-4E79-9A31-79EA8E90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A66B-FE16-4B5B-9051-1266DE4D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9F436-2ECA-426C-8333-751908D6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F90BA-B31C-42AA-9496-F4FBF402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E1AB-C4E7-4923-8661-30E468967D4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8512-C21D-456A-B0B9-FCADA3433FB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63640" y="1268280"/>
            <a:ext cx="532296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.С. Пуш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Метел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0000" y="544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Презентацию выполнила учитель русского языка и литературы 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МОУ СОШ № 40 г. Перми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 Арчакова Т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620640"/>
            <a:ext cx="835344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роничность пове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Марьи Гавриловны, ее состояния, когда наивность, мечтательность подвергаются испытанию жизненной проз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рассказчика, который словно бы подмигивает читателю, настраивая его на снисходительно – доброжелательное отношение к геро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дные конструкци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амо по себе разумеется», «что весьма естественно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торые порождают сомнения в глубине и искренности чувств главных гер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57480" y="260280"/>
            <a:ext cx="4654440" cy="640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65760" cy="6048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0" y="1628640"/>
            <a:ext cx="432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бят ли друг друга Марья Гавриловна и Владимир Николаеви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ли просто играют в любов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836640"/>
            <a:ext cx="835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едёт себя Марья Гавриловна при осуществлении своих романтических планов? Как это её характеризу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 рассказе о её побеге из дома начинает звучать тема судьб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ель – нетерпеливые кони – стремительный бег в неведомое – божий хр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 предстаёт перед нами Владимир в «своём» эпизоде повести? Как ведёт себя в неожиданных обстоятельств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11240" y="260280"/>
            <a:ext cx="4965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60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Марья Гавриловна   Владимир Николаевич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 полчас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аша должна была навсегда оставить родительский дом, свою комнату, тихую девическую жизнь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ша сошла в сад. «Метель не утихала; ветер дул навстречу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и «не стояли на месте», едва же барышня уселась, «лошади понесл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для себя велел заложить маленькие сани в одну лошадь и отправился в Жадрино, куд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два час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олжна была приехать Марья Гавриловна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езды было всего 20 минут», но «поднялся ветер и сделалась такая метель, что он ничего не взвидел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ь « ступала наудачу и поминутно проваливалась в яму», потом «начала уставать», потом «чуть ступа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в ночь Маша занемог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особна изменить себя, приобрести новые жизненные ценности, сохранить надежду на благие повороты судьбы, поэтому остаётся ж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Какое известие ожидало его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кончилась романтическая история, которой он жил, вне которой не мыслил своего существования, - закончилась жиз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284640"/>
            <a:ext cx="8424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а и та же сила с помощью одних и тех же средств в одном случае подхватывает и мчит навстречу желаемому, в другом – мешает, противодействует, преграждает п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акция Марьи Гавриловны на случившееся была столь острой, что едва не стоила ей жизни. Владимир Николаевич в письме отказывается от столь желаемого счастья, взывает к смерти, и голос его звучит пророчес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756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6920" y="287280"/>
            <a:ext cx="46087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981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олдинская осень – необычайно плодотворный период творчества А.С. Пушкина. Это стихи, поэмы и прозаические произведения в том числе. Именно в период вынужденного «сидения» в Болдино были созданы «Повести Белкина» - цикл, состоящий из пяти пове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005360"/>
            <a:ext cx="5113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Метел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Станционный смотр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Гробовщ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Барышня – крестьян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Выстре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930920" cy="6308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58920" y="14842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700280"/>
            <a:ext cx="763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м смысл названия пове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мысли и ассоциации оно вызывает у читате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что настраивает? Что обещ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246480" cy="417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6800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907920"/>
            <a:ext cx="6696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ЕЛЬ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ртина природы: снег, ветер, разбушевавшаяся зимняя стих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звихренность, «метельность»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уговерть событ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евога, смятение в душах главны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ТЕЛЬ – несчастье, крах жизненных планов одних, счастливый поворот судьбы други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Как соотносится начало повести с ее эпиграфом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907920"/>
            <a:ext cx="8532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й таинственности – спокойств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го героя – «добрый Гаврила Гаврилович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взволнованного настоящего – уравновешенное прошедш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драматических коллизий – обыденность, скука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9:42:03Z</dcterms:created>
  <dc:creator>School</dc:creator>
  <dc:description/>
  <dc:language>en-US</dc:language>
  <cp:lastModifiedBy>thoy</cp:lastModifiedBy>
  <dcterms:modified xsi:type="dcterms:W3CDTF">2006-09-13T04:57:32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5000000000001024140</vt:lpwstr>
  </property>
</Properties>
</file>