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D3A0A-9204-4CEE-896F-A52DB122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79EC9-E9FA-40C0-83AC-61AE0C50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64F45-F044-447E-879C-4E6E55AB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EE6B2-909D-4225-A481-E6925DB8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0604-4E5F-48A2-8F32-46D5B2D5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54FB-A5D4-46C5-9711-2F548989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F8BC-3F8A-497F-84E5-E47D8EEA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6133-CA1A-472D-8A3B-E4DD70B7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E679-1412-4645-9ADD-4A6DAEC1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EDF3-F87B-4BEF-A29C-5725194D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6265-385E-4FEA-9B67-4C70E743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AFE51-EAD7-481B-B7DC-2CF35428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A905-BB29-499F-B4CA-D1650C8A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2150-85F2-461D-9472-62455F2A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C022-0957-4549-8537-07218CB9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4B79-35B1-43E9-BCAE-2C9949EC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6402-58FB-4AF8-84F4-97609F27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9E558-FA84-4765-A881-C5DF453F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D9B54-4710-4907-8F25-B9419C33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90EC2-05CF-4B9C-8033-750F9F24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527EF-88DC-4EF8-888B-81CC3213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CF241-1473-4289-A142-1E66EA15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DF604-882D-4BB8-A4C4-DD47BEB6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CBD07-85B9-4E07-8FF5-5080B5B1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85F4-4092-4728-80C8-ACCDC3D8CCB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A68C-87A7-4250-954F-95D3BDAF4D1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63640" y="1268280"/>
            <a:ext cx="5322960" cy="23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.С. Пушк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Метел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0000" y="544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Презентацию выполнила учитель русского языка и литературы </a:t>
            </a:r>
            <a:r>
              <a:rPr b="1" i="1" lang="en-US" sz="1800" spc="-1" strike="noStrike">
                <a:solidFill>
                  <a:srgbClr val="f2aa68"/>
                </a:solidFill>
                <a:latin typeface="Tahoma"/>
              </a:rPr>
              <a:t>       </a:t>
            </a: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МОУ СОШ № 40 г. Перми</a:t>
            </a:r>
            <a:r>
              <a:rPr b="1" i="1" lang="en-US" sz="1800" spc="-1" strike="noStrike">
                <a:solidFill>
                  <a:srgbClr val="f2aa68"/>
                </a:solidFill>
                <a:latin typeface="Tahoma"/>
              </a:rPr>
              <a:t>        </a:t>
            </a: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 Арчакова Т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620640"/>
            <a:ext cx="8353440" cy="52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роничность пове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стика Марьи Гавриловны, ее состояния, когда наивность, мечтательность подвергаются испытанию жизненной проз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стика рассказчика, который словно бы подмигивает читателю, настраивая его на снисходительно – доброжелательное отношение к геро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водные конструкци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амо по себе разумеется», «что весьма естественно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которые порождают сомнения в глубине и искренности чувств главных геро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57480" y="260280"/>
            <a:ext cx="4654440" cy="640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965760" cy="6048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0" y="1628640"/>
            <a:ext cx="432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юбят ли друг друга Марья Гавриловна и Владимир Николаеви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ли просто играют в любов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836640"/>
            <a:ext cx="83516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едёт себя Марья Гавриловна при осуществлении своих романтических планов? Как это её характеризу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 рассказе о её побеге из дома начинает звучать тема судьб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ель – нетерпеливые кони – стремительный бег в неведомое – божий хра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м предстаёт перед нами Владимир в «своём» эпизоде повести? Как ведёт себя в неожиданных обстоятельства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11240" y="260280"/>
            <a:ext cx="49658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60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Марья Гавриловна   Владимир Николаевич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Через полчас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Маша должна была навсегда оставить родительский дом, свою комнату, тихую девическую жизнь…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ша сошла в сад. «Метель не утихала; ветер дул навстречу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ошади «не стояли на месте», едва же барышня уселась, «лошади понесли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для себя велел заложить маленькие сани в одну лошадь и отправился в Жадрино, куд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через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два час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должна была приехать Марья Гавриловна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езды было всего 20 минут», но «поднялся ветер и сделалась такая метель, что он ничего не взвидел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ошадь « ступала наудачу и поминутно проваливалась в яму», потом «начала уставать», потом «чуть ступал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в ночь Маша занемогл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особна изменить себя, приобрести новые жизненные ценности, сохранить надежду на благие повороты судьбы, поэтому остаётся жи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Какое известие ожидало его!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кончилась романтическая история, которой он жил, вне которой не мыслил своего существования, - закончилась жизн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3284640"/>
            <a:ext cx="8424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на и та же сила с помощью одних и тех же средств в одном случае подхватывает и мчит навстречу желаемому, в другом – мешает, противодействует, преграждает п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акция Марьи Гавриловны на случившееся была столь острой, что едва не стоила ей жизни. Владимир Николаевич в письме отказывается от столь желаемого счастья, взывает к смерти, и голос его звучит пророчес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7564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66920" y="287280"/>
            <a:ext cx="46087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981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олдинская осень – необычайно плодотворный период творчества А.С. Пушкина. Это стихи, поэмы и прозаические произведения в том числе. Именно в период вынужденного «сидения» в Болдино были созданы «Повести Белкина» - цикл, состоящий из пяти пове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4005360"/>
            <a:ext cx="5113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Метел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Станционный смотр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Гробовщи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Барышня – крестьян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Выстре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930920" cy="6308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58920" y="14842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700280"/>
            <a:ext cx="7632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ем смысл названия пове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мысли и ассоциации оно вызывает у читате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что настраивает? Что обеща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246480" cy="417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95640" y="333360"/>
            <a:ext cx="468000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907920"/>
            <a:ext cx="6696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ЕЛЬ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ртина природы: снег, ветер, разбушевавшаяся зимняя стих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звихренность, «метельность»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уговерть событ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евога, смятение в душах главных геро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ТЕЛЬ – несчастье, крах жизненных планов одних, счастливый поворот судьбы других геро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Как соотносится начало повести с ее эпиграфом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907920"/>
            <a:ext cx="8532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романтической таинственности – спокойств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романтического героя – «добрый Гаврила Гаврилович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взволнованного настоящего – уравновешенное прошедш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драматических коллизий – обыденность, скука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9:42:03Z</dcterms:created>
  <dc:creator>School</dc:creator>
  <dc:description/>
  <dc:language>en-US</dc:language>
  <cp:lastModifiedBy>thoy</cp:lastModifiedBy>
  <dcterms:modified xsi:type="dcterms:W3CDTF">2006-09-13T04:57:32Z</dcterms:modified>
  <cp:revision>5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5000000000001024140</vt:lpwstr>
  </property>
</Properties>
</file>