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DF89D-75D2-4764-8E77-2C150A164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1183B-4407-4240-929D-56E093FB9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8AB12-117C-4448-90C2-7BD8A5ED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F0780-B012-4645-B8DA-B907FAD4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11A34-8099-4F5D-8F1F-B8B04ED3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615F-32E1-4F9D-ABB5-F0D3469C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034D-D008-47CE-B8F0-706D9F807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0315-789E-4812-89BE-C837247F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5FE9-ADD8-440A-BB11-04D44995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6FE1-C7D6-440C-B90B-FA32D4CB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6EBC-1BC8-4C9E-AAD5-004C1DF1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5F19E-F9D2-49E5-BB5D-442DEA49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7334-F136-4A38-AA9C-1338EEC6C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FC6F-8067-4ED0-9D93-47DB0F690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009A1-150B-4967-8673-34027490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9ADD-8F79-489E-8390-9AD031C0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1EC39-452F-4A74-9C40-D1070F41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49FF4-E52E-4470-ADF9-E2D53C36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55E70-4C5A-4408-8097-4D3C1AF38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D3C1AA-9DEB-423B-894C-F8F1D6DF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3A40E-3640-4F0D-B2CD-A51CE9D91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F0E01F-D3E3-4F38-801E-0C124826D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ED2C9-BBCD-4F94-B282-855DB3F7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6A9903-C272-45D5-9698-C3453E3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D8863-C538-4D74-A2CE-CD7C2D8A44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D99A-5931-46D9-B689-FC710AA2C70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63640" y="1268280"/>
            <a:ext cx="5322960" cy="235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A.С. Пушки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"Метель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0000" y="544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Презентацию выполнила учитель русского языка и литературы 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МОУ СОШ № 40 г. Перми</a:t>
            </a:r>
            <a:r>
              <a:rPr b="1" i="1" lang="en-US" sz="1800" spc="-1" strike="noStrike">
                <a:solidFill>
                  <a:srgbClr val="f2aa68"/>
                </a:solidFill>
                <a:latin typeface="Tahoma"/>
              </a:rPr>
              <a:t>        </a:t>
            </a:r>
            <a:r>
              <a:rPr b="1" i="1" lang="ru-RU" sz="1800" spc="-1" strike="noStrike">
                <a:solidFill>
                  <a:srgbClr val="f2aa68"/>
                </a:solidFill>
                <a:latin typeface="Tahoma"/>
              </a:rPr>
              <a:t> Арчакова Т.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620640"/>
            <a:ext cx="8353440" cy="52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роничность пове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Марьи Гавриловны, ее состояния, когда наивность, мечтательность подвергаются испытанию жизненной проз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Характеристика рассказчика, который словно бы подмигивает читателю, настраивая его на снисходительно – доброжелательное отношение к герои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водные конструкции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само по себе разумеется», «что весьма естественно»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которые порождают сомнения в глубине и искренности чувств главных герое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2157480" y="260280"/>
            <a:ext cx="4654440" cy="6408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3965760" cy="6048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4572000" y="1628640"/>
            <a:ext cx="4321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Любят ли друг друга Марья Гавриловна и Владимир Николаевич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Или просто играют в любов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836640"/>
            <a:ext cx="835164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едёт себя Марья Гавриловна при осуществлении своих романтических планов? Как это её характеризует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 рассказе о её побеге из дома начинает звучать тема судьбы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етель – нетерпеливые кони – стремительный бег в неведомое – божий храм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предстаёт перед нами Владимир в «своём» эпизоде повести? Как ведёт себя в неожиданных обстоятельствах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911240" y="260280"/>
            <a:ext cx="496584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26028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cc"/>
                </a:solidFill>
                <a:uFillTx/>
                <a:latin typeface="Tahoma"/>
              </a:rPr>
              <a:t>Марья Гавриловна   Владимир Николаевич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 полчаса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Маша должна была навсегда оставить родительский дом, свою комнату, тихую девическую жизнь…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Маша сошла в сад. «Метель не утихала; ветер дул навстречу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и «не стояли на месте», едва же барышня уселась, «лошади понесли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для себя велел заложить маленькие сани в одну лошадь и отправился в Жадрино, куда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через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Tahoma"/>
              </a:rPr>
              <a:t> два часа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должна была приехать Марья Гавриловна.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…езды было всего 20 минут», но «поднялся ветер и сделалась такая метель, что он ничего не взвидел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Лошадь « ступала наудачу и поминутно проваливалась в яму», потом «начала уставать», потом «чуть ступа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40384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«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…в ночь Маша занемогла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пособна изменить себя, приобрести новые жизненные ценности, сохранить надежду на благие повороты судьбы, поэтому остаётся жит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48320" y="404640"/>
            <a:ext cx="4038480" cy="57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«Какое известие ожидало его!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Закончилась романтическая история, которой он жил, вне которой не мыслил своего существования, - закончилась жизнь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395280" y="3284640"/>
            <a:ext cx="8424720" cy="27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ВЫВОД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дна и та же сила с помощью одних и тех же средств в одном случае подхватывает и мчит навстречу желаемому, в другом – мешает, противодействует, преграждает пу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Реакция Марьи Гавриловны на случившееся была столь острой, что едва не стоила ей жизни. Владимир Николаевич в письме отказывается от столь желаемого счастья, взывает к смерти, и голос его звучит пророчес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67564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266920" y="287280"/>
            <a:ext cx="460872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50920" y="981000"/>
            <a:ext cx="835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олдинская осень – необычайно плодотворный период творчества А.С. Пушкина. Это стихи, поэмы и прозаические произведения в том числе. Именно в период вынужденного «сидения» в Болдино были созданы «Повести Белкина» - цикл, состоящий из пяти пове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42920" y="4005360"/>
            <a:ext cx="51134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Метель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Станционный смотри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Гробовщик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Барышня – крестьянка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«Выстрел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124000" y="333360"/>
            <a:ext cx="4930920" cy="6308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258920" y="14842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700280"/>
            <a:ext cx="7632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чем смысл названия повест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кие мысли и ассоциации оно вызывает у читател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На что настраивает? Что обещает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0920" y="1844640"/>
            <a:ext cx="3246480" cy="4175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3995640" y="333360"/>
            <a:ext cx="4680000" cy="42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39640" y="907920"/>
            <a:ext cx="669636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ЕЛЬ –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ртина природы: снег, ветер, разбушевавшаяся зимняя стихия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звихренность, «метельность»,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уговерть событий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ревога, смятение в душах главны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ТЕЛЬ – несчастье, крах жизненных планов одних, счастливый поворот судьбы других героев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br>
              <a:rPr sz="3800"/>
            </a:br>
            <a:br>
              <a:rPr sz="3800"/>
            </a:br>
            <a:br>
              <a:rPr sz="3800"/>
            </a:br>
            <a:r>
              <a:rPr b="0" lang="en-US" sz="3800" spc="-1" strike="noStrike">
                <a:solidFill>
                  <a:srgbClr val="ffffcc"/>
                </a:solidFill>
                <a:latin typeface="Tahoma"/>
              </a:rPr>
              <a:t>Как соотносится начало повести с ее эпиграфом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11280" y="907920"/>
            <a:ext cx="85327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й таинственности – спокойстви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романтического героя – «добрый Гаврила Гаврилович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взволнованного настоящего – уравновешенное прошедше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место драматических коллизий – обыденность, скука.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1T09:42:03Z</dcterms:created>
  <dc:creator>School</dc:creator>
  <dc:description/>
  <dc:language>en-US</dc:language>
  <cp:lastModifiedBy>thoy</cp:lastModifiedBy>
  <dcterms:modified xsi:type="dcterms:W3CDTF">2006-09-13T04:57:32Z</dcterms:modified>
  <cp:revision>5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5000000000001024140</vt:lpwstr>
  </property>
</Properties>
</file>