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FCA4-6B42-4FF4-AF1D-5E9C0E61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BC8-F116-4854-91C8-6B8F7AE1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6D2-FF6B-4C48-8F17-5D3598BB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BC49-D066-434D-BC5E-9FEF8498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8378-F69C-4302-A465-3C5DF460F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622B-FE8B-4DDE-8068-E13B7552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4E29-603D-4087-B099-4B394960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BA4D-22AC-4514-BC44-D9510C43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8B92-7FCB-4311-8CE1-3DA9FC69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9A33-E5EE-47BF-B07F-05173720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5B32-BEFA-41A0-9FAD-26951DBA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6A1-5D44-4922-B07D-085EDD17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9DCE-2B75-4FB9-814B-9580EA20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A95B-3C00-40B9-B32B-9B93DFB7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5EA0-C4FC-490A-91C5-03F579F4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7D48-948F-4137-976E-0A6799E9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FA78-9BD7-4880-BE6C-141C31F4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ADC-468A-4342-A37D-FA984BDA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CD6-6C63-48D4-8C10-1A6F4B73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A59-EF61-4701-B767-535911E8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7E8B-3115-415D-AF25-61E17EE19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4DEF-46A8-4913-B4BF-B1FB9E70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F980-DAE0-41B9-8976-6F66936A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2CAE-EF34-4FCF-BADC-CEC309FE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DE03-2942-4577-BB99-CBF68CA6AC3D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106D-7739-4392-9C9B-E652D2F7E4FE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9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ный процесс второй половины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IX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ека. Общая характеристика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19280" y="2927520"/>
            <a:ext cx="3924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Историческая ситуац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Общественные течения, журнальная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дательская деятельно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. Литературно-художе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. Проз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 Драматург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. Поэз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Драматург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18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843280" y="3860640"/>
            <a:ext cx="1944720" cy="2449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932360" y="2421000"/>
            <a:ext cx="2016000" cy="244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093080" y="3789360"/>
            <a:ext cx="1873080" cy="2519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73440" y="4941720"/>
            <a:ext cx="14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В.Сухов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Кобы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720" y="630864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К.Толст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7080" y="494172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Н.Остр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82520" y="63086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П.Чех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47720" y="613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Поэз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843280" y="1989000"/>
            <a:ext cx="36478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ПРАВЛЕНИЯ: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3429000"/>
            <a:ext cx="39592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3429000"/>
            <a:ext cx="39610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292720" y="2492280"/>
            <a:ext cx="33829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гоголев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87280" y="2492280"/>
            <a:ext cx="3384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ушкин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32000" y="4292640"/>
            <a:ext cx="1511280" cy="2158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1513080" cy="2162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1513080" cy="216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020000" y="4221000"/>
            <a:ext cx="1512720" cy="216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64720" y="364500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чистое»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6720" y="3500280"/>
            <a:ext cx="31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реалист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демократическое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ная борьб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720" y="2421000"/>
            <a:ext cx="383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овремен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2000" y="40053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усское слово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8920" y="5589720"/>
            <a:ext cx="623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2360" y="3213000"/>
            <a:ext cx="61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Библиотека для чтени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50560" y="4653000"/>
            <a:ext cx="45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Русский 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500"/>
                            </p:stCondLst>
                            <p:childTnLst>
                              <p:par>
                                <p:cTn id="493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7480" y="3789360"/>
            <a:ext cx="348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основан А.С. Пушки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760" y="5661000"/>
            <a:ext cx="45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8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переходит в руки П.А. Плетне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519280" cy="3456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732720" y="249228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804000" y="4508640"/>
            <a:ext cx="1224000" cy="1511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2492280"/>
            <a:ext cx="4824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В 1847 году журнал взяли в аренду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И.И.Пана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2160720" cy="288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580000" y="3357720"/>
            <a:ext cx="2160720" cy="2950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278960" y="2781360"/>
            <a:ext cx="36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и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Н.А Некрасов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5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19000" y="54000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31112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2160" y="5300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11 - 18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8720" y="2349360"/>
            <a:ext cx="65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В.Г. Белинский – руководитель критического отд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03640" y="2852640"/>
            <a:ext cx="936720" cy="1152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372360" y="2997360"/>
            <a:ext cx="1079280" cy="1655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7812000" y="2852640"/>
            <a:ext cx="1081080" cy="1297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4716360" y="2997360"/>
            <a:ext cx="1149480" cy="1726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3203640" y="4797360"/>
            <a:ext cx="1150920" cy="1511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5580000" y="5084640"/>
            <a:ext cx="1152720" cy="1540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596360" y="4724280"/>
            <a:ext cx="1152360" cy="1513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132360" y="400536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И. Герц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60000" y="472428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.П. Огар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52200" y="46735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.С.Турген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9920" y="422100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.В. Григор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84920" y="6329520"/>
            <a:ext cx="145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Ф.М. Достоев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1080" y="6583320"/>
            <a:ext cx="110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12720" y="630864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А. Ф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000"/>
                            </p:stCondLst>
                            <p:childTnLst>
                              <p:par>
                                <p:cTn id="627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8500"/>
                            </p:stCondLst>
                            <p:childTnLst>
                              <p:par>
                                <p:cTn id="66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187956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419640" y="3860640"/>
            <a:ext cx="1728720" cy="244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292720" y="2492280"/>
            <a:ext cx="38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Журнал наш идёт отлично… Думаю, что много в этом «Совре-менник» обязан Черны-шевском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Н.А.Некр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8920" y="5176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Г. Черныш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20360" y="649116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А. 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16480" y="60372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" y="1916280"/>
            <a:ext cx="572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0 г. – раскол в редакции «Современни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4464000" cy="3097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98840" y="5587920"/>
            <a:ext cx="460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руппа сотрудников журнала "Современник"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дят слева направо: И.А. Гончаров, И.С. Тургене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В. Дружинин, А.Н. Островск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оят: Л.Н. Толстой, Д.В. Григорови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Фото 185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32560" y="2637000"/>
            <a:ext cx="35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1860 г. - статья «Когда же придет настоящий день?» Н.А. Добролюбова о романе И.С.Тургенева «Наканун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11800" y="670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2637000"/>
            <a:ext cx="82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Я даю вам совет – очистить свой журнал от таких сотрудников, как Добролюбов и Чернышевский, и всей их шай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ачальник корпуса жандармов Тимаш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3716280"/>
            <a:ext cx="808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Чернышевского с братьями и «Современником» уничтожьте. Это враг опасный, опаснее Герце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нонимный донос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87560" y="1982880"/>
            <a:ext cx="53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5 июня 1862 г. – закрытие на 8 месяц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4653000"/>
            <a:ext cx="1439640" cy="1871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203640" y="465300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406880" y="6491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6-18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4653000"/>
            <a:ext cx="42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юле 1862 был арестован и разме-щён под стражей в Петропавловской крепости по обвинению в составле-нии прокламаций «Барским крестья-нам от доброжелателей покло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32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720"/>
                            </p:stCondLst>
                            <p:childTnLst>
                              <p:par>
                                <p:cTn id="7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29720" y="810360"/>
            <a:ext cx="7833240" cy="6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376720" cy="3313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635280" y="3284640"/>
            <a:ext cx="2087640" cy="2519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443640" y="3933720"/>
            <a:ext cx="2089080" cy="2521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566160" y="256536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3 г. – «Что делать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Н.Г. Черныш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7640" y="314172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6 г. – «Железная дорога» Н.А. Некрас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6000" y="580536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Е. Салтыков - Щед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1268280"/>
            <a:ext cx="8785440" cy="3600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В области искусства, в творчестве сердца русский народ обнаружил изумительную силу, создав при нали-чии ужаснейших условий прекрасную литературу, уди-вительную живопись и оригинальную музыку, которой восхищается весь мир. Замкнуты были уста народа, связаны крылья души, но сердце его родило десятки великих художников слова, звуков, кра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М. Горь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520" y="1916280"/>
            <a:ext cx="46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6 г. – закрытие «Современни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8200" y="2421000"/>
            <a:ext cx="8335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Тот, кто не жил тогда в Петербурге и не принадлежал к литературным кругам… не может представить той паники, которая здесь происходила. Всякий литератор, не принадлежавший к направлению Каткова</a:t>
            </a:r>
            <a:r>
              <a:rPr b="1" lang="ar-SA" sz="22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считал себя обречённою жертвою и был уверен, что его не-пременно, потому только, что он литератор, аресту-ют… Сотрудники «Современника», на который Катков смотрел как на очаг и притон всяких зловредных уче-ний, тем более были уверены в неизбежности такой участи для себ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Г.З. Елисее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3680" y="632952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.Н. Катков – реакционный журнал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7480"/>
                            </p:stCondLst>
                            <p:childTnLst>
                              <p:par>
                                <p:cTn id="8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ое слово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308720" y="476280"/>
            <a:ext cx="1584360" cy="2303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780000" y="191628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59 - 1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06560" y="2565360"/>
            <a:ext cx="8137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Ежемесячный журнал, издававшийся в 1859—66 в Петербург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Основан графом Г. А. Кушелевым-Безбородко. Вначале — малопопулярный «литера-турно-учёный журнал» умеренно либерального направления. Во 2-й половине 1860 образовалась новая редакция во главе с Г. Е. Благосветловым; ведущими сотруд-никами стали Д. И. Писарев, В. А. Зайцев, Н. В. Шелгунов, Д. Д. Минаев, А. К. Шеллер-Михайлов, Н. В. Соколов. Направление обновленного ««Русское слово» (журнал)» определяли преимущественно его литературная критика и публицистика, прежде всего — деятельность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.И. Писарева.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71640" y="4076640"/>
            <a:ext cx="8172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По важнейшим общеполитическим вопросам журнал разделял революционно-демократическую линию «Современника» (обличе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ние самодержавия, крепостничества и капиталистических порядков, проповедь идеи утопического крестьянского социализма). Критика ««Русское слово» (журнал)» вы-ступала за реалистическое, «неподкрашенное» изображение народной жизни, верно оценивала талант И. С. Тургенева, Л. Н. Толстого, Н. Г. Чернышевского, В. А. Слепцо-ва. Однако при анализе творчества А. С. Пушкина, М. Ю. Лермонтова и др. журнал допускал ошибки, вызванные утилитарным взглядом на искусство. Журнал подвер-гался преследованиям правительства; дважды его издание приостанавливалось, затем он был запрещ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66560" y="198900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18 - 18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80000" y="2421000"/>
            <a:ext cx="37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Журнал был основан исто-риком и писателем П. П. Свиньиным в 1818 и заполнял-ся статьями на темы исто-рии, географии, быта и нра-вов России. Выходил до 1831; в 1838 был возобновлён Сви-ньиным и с января 1839 пере-дан А. А. Краевскому. Краевс-кий преобразовал «Отечест-венные записки» в ежемесяч-ный журнал учёно-литерату-рный и политический боль-шого объёма (до 40 печатных листов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1656000" cy="2879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843280" y="2565360"/>
            <a:ext cx="1873080" cy="2879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1933560" cy="20890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09440" y="64911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А. Кра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8708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9836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256536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Краевский же  оставался официальным редактором журнала и со-хранял некоторые имущественные права. К руководству журна-лом Некрасов, оставив за собой общее руководство журналом и отдел поэзии, привлёк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. Е. Салтыкова-Щедрина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(беллетристи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58920" y="4149720"/>
            <a:ext cx="1800360" cy="2519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572000" y="4076640"/>
            <a:ext cx="1871640" cy="2519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732720" y="4149720"/>
            <a:ext cx="1800000" cy="244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31600" y="227664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С 1868 фактическим руководителем журнала стал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. А. Некрасов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8000" y="3645000"/>
            <a:ext cx="40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Г. З. Елисеева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(публицистик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72640" y="738000"/>
            <a:ext cx="7833600" cy="6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2349360"/>
            <a:ext cx="82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После смерти Некрасова руководителем «Отечественных запи-сок» стал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алтыков-Щедрин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, соредактором —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. К. Михайловский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. Журнал, отчасти продолжая революционно-демократическую ли-нию «Современника», носил народнический характер. В апреле 1884 журнал был закрыт по личному распоряжению главного цензора России, начальника Главного управления по делам печати, Евгения Феоктистова, в недавнем прошлом - сотрудника журн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651640" y="4365720"/>
            <a:ext cx="1584360" cy="2160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2556000" y="4365720"/>
            <a:ext cx="1726920" cy="2232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0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98920" y="908640"/>
            <a:ext cx="3887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иблиотек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для чтения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2087640" cy="2879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335600" y="256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4-18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1942920" cy="2421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701080" y="630864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В. Дружи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2376360" cy="2881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720680" y="249228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Москве (1856—1887)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нкт-Петербурге (1887—190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1942920" cy="244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094520" y="630864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Н. Кат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620640"/>
            <a:ext cx="31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и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13280" y="87624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ирическая журналистик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2421000"/>
            <a:ext cx="460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льстивый бард, не громкий лир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оды сладеньких певц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 вдохновенный злой сатирик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Поток правдивых горьких с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ужны России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.А.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300720" y="2565360"/>
            <a:ext cx="2232000" cy="2592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661440" y="522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.С.Куроч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8000" y="191628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«Свисток»                               «Искр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0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Историческая ситуац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446400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024360" cy="3529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5942160"/>
            <a:ext cx="318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авров Н.А. Император Александр II Освободитель. 1868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08560" y="6021360"/>
            <a:ext cx="44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стодиев Б.М. Чтение манифеста. Освобождение крестьян. 190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0360" y="1916280"/>
            <a:ext cx="75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февраля 1861 г. - Манифест об отмене крепостной зависим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00"/>
                            </p:stCondLst>
                            <p:childTnLst>
                              <p:par>
                                <p:cTn id="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1197000"/>
            <a:ext cx="8785440" cy="3600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7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Крестьян «освобождали» в России сами по-мещики, помещичье правительство самодержав-ного царя и его чиновники. И эти «освободите-ли» так повели дело, что крестьяне вышли на «свободу», ободранные до нищеты, вышли из рабства у помещиков в кабалу к тем же поме-щикам и их ставленникам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бщественные течения, журнальная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и издательская деятельность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692000" y="2707920"/>
            <a:ext cx="7273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« У нас все чего-то ждут . Между тем ни в чем почти нет нравственного соглашения; все разбилось и разби-вается, и даже не на кучки, а уж на единицы 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                  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Ф.М. Достоевский, 187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88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29680" y="958320"/>
            <a:ext cx="64522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енные теч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421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653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2421000"/>
            <a:ext cx="3600360" cy="208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4724280"/>
            <a:ext cx="3527280" cy="19447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74280" y="314172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Запад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3480" y="5373720"/>
            <a:ext cx="39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Славянофиль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62040" y="314064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Нигил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360" y="537372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Народничеств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2565360"/>
            <a:ext cx="3817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оссия должна пойти по западноевропейскому пу-ти развития. Активно выступали за ликвидацию крепостничества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4724280"/>
            <a:ext cx="345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тупали с обоснова-нием самобытного пути исторического развития России, принципиально отличного от западно-европейско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781360"/>
            <a:ext cx="34765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ешительное отрицание господствующей идео-логии, морали, норм жизненного поведени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35480" y="4869000"/>
            <a:ext cx="39085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ссия должна идти по соци-алистическому пути развития, минуя капитализм через сохра-нение, использование и преоб-разование коллективистских начал сельской общины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рналы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6680" y="184464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ую литературу называют «журнальной»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0757000">
            <a:off x="1042560" y="2637000"/>
            <a:ext cx="2376720" cy="3240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708360" y="2637000"/>
            <a:ext cx="2305080" cy="3168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 rot="926400">
            <a:off x="6443280" y="2636640"/>
            <a:ext cx="2303640" cy="316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 rot="20956800">
            <a:off x="3708000" y="4797360"/>
            <a:ext cx="1224000" cy="1755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 rot="1535400">
            <a:off x="5003280" y="5102280"/>
            <a:ext cx="1152720" cy="1755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 rot="1623000">
            <a:off x="7235640" y="4581360"/>
            <a:ext cx="1441440" cy="2087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 rot="19712400">
            <a:off x="899640" y="4292640"/>
            <a:ext cx="144144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Литературно-художественные направления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0760" y="246060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е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5076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7600" y="3357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Натур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7040" y="429264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Импрессион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576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Симво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6000" y="2557440"/>
            <a:ext cx="60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ernard MT Condense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направление, стремящееся к изображен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342900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точное, беспрестрастное научное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ссоздание 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02200" y="4365720"/>
            <a:ext cx="50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воссоздает не саму действитель-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ость, а впечатление, которое 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оизводит на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59280" y="5546880"/>
            <a:ext cx="660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- все видимое и сущее тайными знаками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шифрами вечных идей, которые челове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ожет постигать интуитивно с помощь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скус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роза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32000" y="2781000"/>
            <a:ext cx="76327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лубокий психологиз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армоничное сочетание социальных, философских и общественных пробл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высокий уровень литературного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184464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Ведущий жанр – </a:t>
            </a:r>
            <a:r>
              <a:rPr b="1" lang="en-US" sz="3200" spc="-1" strike="noStrike">
                <a:solidFill>
                  <a:srgbClr val="cc3300"/>
                </a:solidFill>
                <a:latin typeface="Georgia"/>
              </a:rPr>
              <a:t>Р О М А Н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3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3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9:29:56Z</dcterms:created>
  <dc:creator>солодченкова</dc:creator>
  <dc:description/>
  <dc:language>en-US</dc:language>
  <cp:lastModifiedBy>солодченкова</cp:lastModifiedBy>
  <dcterms:modified xsi:type="dcterms:W3CDTF">2011-07-11T22:49:29Z</dcterms:modified>
  <cp:revision>12</cp:revision>
  <dc:subject/>
  <dc:title>Литературный процесс второй половины XIX века. Общая характеристи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c0000000000010243100207f6000400038000</vt:lpwstr>
  </property>
</Properties>
</file>