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2CAA-4BE0-4679-A3B4-9DEE2618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396E-38E1-4AB3-8AC3-D5FFE169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F952-BF1A-4070-9C61-6FC1F5B5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BEDF-7311-4FEC-A6B6-08D6FF14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7F75-B087-4A68-95CE-96EC3E3C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2A37-1269-4B46-A742-075289B9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A01A-1F53-4739-9864-76C0D21D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E051-C540-4CAC-86CE-4666A3BC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BF75-D06C-4B2C-A5D5-E1CE0BFE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887E-614B-4A39-BB9E-DEC5F1F3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9409-6624-477E-9CB1-1A90D429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B276-C281-41D0-A066-7FA14D36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0F20-96C9-4B09-A501-43C0FE5D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4860-58D6-479C-9FC3-62D074AC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9919-658E-49CA-9B44-BCEFDCE8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42D4-B888-4EEA-AEB9-A59F8E58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EDC7-0D4A-420E-AC90-C1A137EE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FD83-D2C6-4252-939E-7A0B6AF5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57D9-96FF-4385-AFAD-382ECC02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FB1-7D02-4B66-9C2F-CAD71D31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D187-1F3D-4227-8851-252AA24F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A513-6A92-44FB-AB98-52061785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463-B9B0-447F-AC4A-891628D8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0CE6-82D2-4F08-934C-6F8E9EB2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D72A-7A38-4943-BFAC-00F315347D02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a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4799-3A68-4498-BE0D-BB064CE2453C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9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ный процесс второй половины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IX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ека. Общая характеристика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219280" y="2927520"/>
            <a:ext cx="3924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лан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Историческая ситуац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Общественные течения, журнальная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дательская деятельнос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. Литературно-художе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. Проз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. Драматург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. Поэз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Драматург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18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843280" y="3860640"/>
            <a:ext cx="1944720" cy="2449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932360" y="2421000"/>
            <a:ext cx="2016000" cy="244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093080" y="3789360"/>
            <a:ext cx="1873080" cy="2519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73440" y="4941720"/>
            <a:ext cx="14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В.Сухов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Кобы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720" y="630864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К.Толст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7080" y="494172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Н.Остр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82520" y="630864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П.Чех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47720" y="613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Поэз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843280" y="1989000"/>
            <a:ext cx="36478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ПРАВЛЕНИЯ: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3429000"/>
            <a:ext cx="3959280" cy="316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03640" y="3429000"/>
            <a:ext cx="3961080" cy="316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292720" y="2492280"/>
            <a:ext cx="33829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гоголевское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87280" y="2492280"/>
            <a:ext cx="3384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ушкинское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32000" y="4292640"/>
            <a:ext cx="1511280" cy="2158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1513080" cy="2162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1513080" cy="216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7020000" y="4221000"/>
            <a:ext cx="1512720" cy="216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64720" y="3645000"/>
            <a:ext cx="22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чистое» искус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6720" y="3500280"/>
            <a:ext cx="31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реалист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демократическое искус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ная борьб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720" y="2421000"/>
            <a:ext cx="383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овремен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2000" y="400536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усское слово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8920" y="5589720"/>
            <a:ext cx="623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2360" y="3213000"/>
            <a:ext cx="611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Библиотека для чтени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50560" y="4653000"/>
            <a:ext cx="45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Русский вест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500"/>
                            </p:stCondLst>
                            <p:childTnLst>
                              <p:par>
                                <p:cTn id="493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7480" y="3789360"/>
            <a:ext cx="348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1836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основан А.С. Пушкин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760" y="5661000"/>
            <a:ext cx="459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1838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переходит в руки П.А. Плетне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2519280" cy="3456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732720" y="2492280"/>
            <a:ext cx="129528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804000" y="4508640"/>
            <a:ext cx="1224000" cy="1511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42920" y="2492280"/>
            <a:ext cx="4824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В 1847 году журнал взяли в аренду</a:t>
            </a: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И.И.Пана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2160720" cy="288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580000" y="3357720"/>
            <a:ext cx="2160720" cy="2950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278960" y="2781360"/>
            <a:ext cx="36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и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Н.А Некрасов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5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19000" y="54000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800360" cy="2376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31112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2160" y="5300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11 - 18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8720" y="2349360"/>
            <a:ext cx="65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В.Г. Белинский – руководитель критического отд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03640" y="2852640"/>
            <a:ext cx="936720" cy="1152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372360" y="2997360"/>
            <a:ext cx="1079280" cy="1655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7812000" y="2852640"/>
            <a:ext cx="1081080" cy="1297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4716360" y="2997360"/>
            <a:ext cx="1149480" cy="1726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3203640" y="4797360"/>
            <a:ext cx="1150920" cy="1511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5580000" y="5084640"/>
            <a:ext cx="1152720" cy="1540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596360" y="4724280"/>
            <a:ext cx="1152360" cy="1513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132360" y="400536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.И. Герц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60000" y="472428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.П. Огар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52200" y="46735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.С.Турген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19920" y="422100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Д.В. Григор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84920" y="6329520"/>
            <a:ext cx="145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Ф.М. Достоев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1080" y="6583320"/>
            <a:ext cx="110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Л.Н. Толст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812720" y="630864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.А. Ф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0"/>
                            </p:stCondLst>
                            <p:childTnLst>
                              <p:par>
                                <p:cTn id="616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4000"/>
                            </p:stCondLst>
                            <p:childTnLst>
                              <p:par>
                                <p:cTn id="627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8500"/>
                            </p:stCondLst>
                            <p:childTnLst>
                              <p:par>
                                <p:cTn id="66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187956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419640" y="3860640"/>
            <a:ext cx="1728720" cy="244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292720" y="2492280"/>
            <a:ext cx="385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Журнал наш идёт отлично… Думаю, что много в этом «Совре-менник» обязан Черны-шевском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                  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Н.А.Некр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8920" y="5176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.Г. Черныше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20360" y="649116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.А. Добролюб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16480" y="603720"/>
            <a:ext cx="781524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6440" y="1916280"/>
            <a:ext cx="572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60 г. – раскол в редакции «Современни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4464000" cy="3097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98840" y="5587920"/>
            <a:ext cx="460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руппа сотрудников журнала "Современник"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идят слева направо: И.А. Гончаров, И.С. Тургене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В. Дружинин, А.Н. Островски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тоят: Л.Н. Толстой, Д.В. Григорови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Фото 185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32560" y="2637000"/>
            <a:ext cx="351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1860 г. - статья «Когда же придет настоящий день?» Н.А. Добролюбова о романе И.С.Тургенева «Наканун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11800" y="670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2637000"/>
            <a:ext cx="82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Я даю вам совет – очистить свой журнал от таких сотрудников, как Добролюбов и Чернышевский, и всей их шай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ачальник корпуса жандармов Тимаш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3716280"/>
            <a:ext cx="808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Чернышевского с братьями и «Современником» уничтожьте. Это враг опасный, опаснее Герце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Анонимный донос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87560" y="1982880"/>
            <a:ext cx="53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5 июня 1862 г. – закрытие на 8 месяц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4653000"/>
            <a:ext cx="1439640" cy="1871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203640" y="4653000"/>
            <a:ext cx="1439640" cy="1844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406880" y="6491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6-18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59280" y="4653000"/>
            <a:ext cx="42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юле 1862 был арестован и разме-щён под стражей в Петропавловской крепости по обвинению в составле-нии прокламаций «Барским крестья-нам от доброжелателей покло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32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720"/>
                            </p:stCondLst>
                            <p:childTnLst>
                              <p:par>
                                <p:cTn id="7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29720" y="810360"/>
            <a:ext cx="7833240" cy="6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2376720" cy="3313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635280" y="3284640"/>
            <a:ext cx="2087640" cy="2519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6443640" y="3933720"/>
            <a:ext cx="2089080" cy="2521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566160" y="256536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863 г. – «Что делать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Н.Г. Черныше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7640" y="314172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866 г. – «Железная дорога» Н.А. Некрас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6000" y="580536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.Е. Салтыков - Щед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1268280"/>
            <a:ext cx="8785440" cy="36007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484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В области искусства, в творчестве сердца русский народ обнаружил изумительную силу, создав при нали-чии ужаснейших условий прекрасную литературу, уди-вительную живопись и оригинальную музыку, которой восхищается весь мир. Замкнуты были уста народа, связаны крылья души, но сердце его родило десятки великих художников слова, звуков, крас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М. Горь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9520" y="1916280"/>
            <a:ext cx="468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66 г. – закрытие «Современни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8200" y="2421000"/>
            <a:ext cx="83358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Тот, кто не жил тогда в Петербурге и не принадлежал к литературным кругам… не может представить той паники, которая здесь происходила. Всякий литератор, не принадлежавший к направлению Каткова</a:t>
            </a:r>
            <a:r>
              <a:rPr b="1" lang="ar-SA" sz="2200" spc="-1" strike="noStrike">
                <a:solidFill>
                  <a:srgbClr val="ffff99"/>
                </a:solidFill>
                <a:latin typeface="Arial"/>
              </a:rPr>
              <a:t>٭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…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считал себя обречённою жертвою и был уверен, что его не-пременно, потому только, что он литератор, аресту-ют… Сотрудники «Современника», на который Катков смотрел как на очаг и притон всяких зловредных уче-ний, тем более были уверены в неизбежности такой участи для себ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Г.З. Елисее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3680" y="6329520"/>
            <a:ext cx="45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99"/>
                </a:solidFill>
                <a:latin typeface="Arial"/>
              </a:rPr>
              <a:t>٭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.Н. Катков – реакционный журнал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7480"/>
                            </p:stCondLst>
                            <p:childTnLst>
                              <p:par>
                                <p:cTn id="8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сское слово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308720" y="476280"/>
            <a:ext cx="1584360" cy="2303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780000" y="191628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59 - 1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06560" y="2565360"/>
            <a:ext cx="8137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Ежемесячный журнал, издававшийся в 1859—66 в Петербург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Основан графом Г. А. Кушелевым-Безбородко. Вначале — малопопулярный «литера-турно-учёный журнал» умеренно либерального направления. Во 2-й половине 1860 образовалась новая редакция во главе с Г. Е. Благосветловым; ведущими сотруд-никами стали Д. И. Писарев, В. А. Зайцев, Н. В. Шелгунов, Д. Д. Минаев, А. К. Шеллер-Михайлов, Н. В. Соколов. Направление обновленного ««Русское слово» (журнал)» определяли преимущественно его литературная критика и публицистика, прежде всего — деятельность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.И. Писарева.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71640" y="4076640"/>
            <a:ext cx="8172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По важнейшим общеполитическим вопросам журнал разделял революционно-демократическую линию «Современника» (обличе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ние самодержавия, крепостничества и капиталистических порядков, проповедь идеи утопического крестьянского социализма). Критика ««Русское слово» (журнал)» вы-ступала за реалистическое, «неподкрашенное» изображение народной жизни, верно оценивала талант И. С. Тургенева, Л. Н. Толстого, Н. Г. Чернышевского, В. А. Слепцо-ва. Однако при анализе творчества А. С. Пушкина, М. Ю. Лермонтова и др. журнал допускал ошибки, вызванные утилитарным взглядом на искусство. Журнал подвер-гался преследованиям правительства; дважды его издание приостанавливалось, затем он был запреще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66560" y="198900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18 - 18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80000" y="2421000"/>
            <a:ext cx="374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Журнал был основан исто-риком и писателем П. П. Свиньиным в 1818 и заполнял-ся статьями на темы исто-рии, географии, быта и нра-вов России. Выходил до 1831; в 1838 был возобновлён Сви-ньиным и с января 1839 пере-дан А. А. Краевскому. Краевс-кий преобразовал «Отечест-венные записки» в ежемесяч-ный журнал учёно-литерату-рный и политический боль-шого объёма (до 40 печатных листов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1656000" cy="2879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843280" y="2565360"/>
            <a:ext cx="1873080" cy="2879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3635280" y="4365720"/>
            <a:ext cx="1933560" cy="20890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09440" y="649116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А. Крае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87080" y="5465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98360" y="5465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256536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Краевский же  оставался официальным редактором журнала и со-хранял некоторые имущественные права. К руководству журна-лом Некрасов, оставив за собой общее руководство журналом и отдел поэзии, привлёк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. Е. Салтыкова-Щедрина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(беллетристи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258920" y="4149720"/>
            <a:ext cx="1800360" cy="2519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572000" y="4076640"/>
            <a:ext cx="1871640" cy="2519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732720" y="4149720"/>
            <a:ext cx="1800000" cy="2448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31600" y="227664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С 1868 фактическим руководителем журнала стал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Н. А. Некрасов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8000" y="3645000"/>
            <a:ext cx="40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Г. З. Елисеева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(публицистик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72640" y="738000"/>
            <a:ext cx="7833600" cy="6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2349360"/>
            <a:ext cx="82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После смерти Некрасова руководителем «Отечественных запи-сок» стал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алтыков-Щедрин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, соредактором —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. К. Михайловский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. Журнал, отчасти продолжая революционно-демократическую ли-нию «Современника», носил народнический характер. В апреле 1884 журнал был закрыт по личному распоряжению главного цензора России, начальника Главного управления по делам печати, Евгения Феоктистова, в недавнем прошлом - сотрудника журн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343640" y="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651640" y="4365720"/>
            <a:ext cx="1584360" cy="2160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2556000" y="4365720"/>
            <a:ext cx="1726920" cy="2232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0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98920" y="908640"/>
            <a:ext cx="3887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иблиотек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для чтения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2087640" cy="2879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335600" y="25653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4-18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1942920" cy="2421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701080" y="630864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В. Дружи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4788000" y="3141720"/>
            <a:ext cx="2376360" cy="2881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720680" y="249228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Москве (1856—1887)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нкт-Петербурге (1887—1906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1942920" cy="244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094520" y="630864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.Н. Кат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6000" y="620640"/>
            <a:ext cx="31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сски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т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13280" y="876240"/>
            <a:ext cx="4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ирическая журналистик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00000" y="2421000"/>
            <a:ext cx="460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е льстивый бард, не громкий лири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е оды сладеньких певц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А вдохновенный злой сатирик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Поток правдивых горьких с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ужны России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.А.Добролюб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300720" y="2565360"/>
            <a:ext cx="2232000" cy="2592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661440" y="52293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.С.Курочк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8000" y="1916280"/>
            <a:ext cx="56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«Свисток»                               «Искр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0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5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Историческая ситуац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356000" y="2492280"/>
            <a:ext cx="446400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024360" cy="3529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6920" y="5942160"/>
            <a:ext cx="318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авров Н.А. Император Александр II Освободитель. 1868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08560" y="6021360"/>
            <a:ext cx="44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стодиев Б.М. Чтение манифеста. Освобождение крестьян. 190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0360" y="1916280"/>
            <a:ext cx="75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февраля 1861 г. - Манифест об отмене крепостной зависим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200"/>
                            </p:stCondLst>
                            <p:childTnLst>
                              <p:par>
                                <p:cTn id="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9280" y="1197000"/>
            <a:ext cx="8785440" cy="3600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84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7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Крестьян «освобождали» в России сами по-мещики, помещичье правительство самодержав-ного царя и его чиновники. И эти «освободите-ли» так повели дело, что крестьяне вышли на «свободу», ободранные до нищеты, вышли из рабства у помещиков в кабалу к тем же поме-щикам и их ставленникам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бщественные течения, журнальная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и издательская деятельность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692000" y="2707920"/>
            <a:ext cx="7273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   </a:t>
            </a: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« У нас все чего-то ждут . Между тем ни в чем почти нет нравственного соглашения; все разбилось и разби-вается, и даже не на кучки, а уж на единицы 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                        </a:t>
            </a: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Ф.М. Достоевский, 1876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88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29680" y="958320"/>
            <a:ext cx="64522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ственные течен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2421000"/>
            <a:ext cx="3745080" cy="2016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4653000"/>
            <a:ext cx="3745080" cy="2016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19640" y="2421000"/>
            <a:ext cx="3600360" cy="2087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4724280"/>
            <a:ext cx="3527280" cy="194472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74280" y="314172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Запад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3480" y="5373720"/>
            <a:ext cx="39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Славянофиль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62040" y="314064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Нигил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360" y="537372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Народничеств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2565360"/>
            <a:ext cx="3817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оссия должна пойти по западноевропейскому пу-ти развития. Активно выступали за ликвидацию крепостничества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4724280"/>
            <a:ext cx="345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тупали с обоснова-нием самобытного пути исторического развития России, принципиально отличного от западно-европейско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781360"/>
            <a:ext cx="34765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ешительное отрицание господствующей идео-логии, морали, норм жизненного поведения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35480" y="4869000"/>
            <a:ext cx="39085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ссия должна идти по соци-алистическому пути развития, минуя капитализм через сохра-нение, использование и преоб-разование коллективистских начал сельской общины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урналы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6680" y="184464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сскую литературу называют «журнальной»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0757000">
            <a:off x="1042560" y="2637000"/>
            <a:ext cx="2376720" cy="3240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708360" y="2637000"/>
            <a:ext cx="2305080" cy="3168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 rot="926400">
            <a:off x="6443280" y="2636640"/>
            <a:ext cx="2303640" cy="316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 rot="20956800">
            <a:off x="3708000" y="4797360"/>
            <a:ext cx="1224000" cy="1755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 rot="1535400">
            <a:off x="5003280" y="5102280"/>
            <a:ext cx="1152720" cy="1755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 rot="1623000">
            <a:off x="7235640" y="4581360"/>
            <a:ext cx="1441440" cy="2087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 rot="19712400">
            <a:off x="899640" y="4292640"/>
            <a:ext cx="1441440" cy="2232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Литературно-художественные направления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0760" y="246060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еа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5076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7600" y="3357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Натура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7040" y="429264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Импрессион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5760" y="5516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Симво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46000" y="2557440"/>
            <a:ext cx="60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ernard MT Condense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направление, стремящееся к изображен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действи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342900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точное, беспрестрастное научное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ссоздание действи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02200" y="4365720"/>
            <a:ext cx="504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воссоздает не саму действитель-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ость, а впечатление, которое 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оизводит на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59280" y="5546880"/>
            <a:ext cx="660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- все видимое и сущее тайными знаками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шифрами вечных идей, которые челове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ожет постигать интуитивно с помощь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скус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роза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332000" y="2781000"/>
            <a:ext cx="76327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глубокий психологиз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гармоничное сочетание социальных, философских и общественных пробл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высокий уровень литературного язы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184464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Ведущий жанр – </a:t>
            </a:r>
            <a:r>
              <a:rPr b="1" lang="en-US" sz="3200" spc="-1" strike="noStrike">
                <a:solidFill>
                  <a:srgbClr val="cc3300"/>
                </a:solidFill>
                <a:latin typeface="Georgia"/>
              </a:rPr>
              <a:t>Р О М А Н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3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3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3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9:29:56Z</dcterms:created>
  <dc:creator>солодченкова</dc:creator>
  <dc:description/>
  <dc:language>en-US</dc:language>
  <cp:lastModifiedBy>солодченкова</cp:lastModifiedBy>
  <dcterms:modified xsi:type="dcterms:W3CDTF">2011-07-11T22:49:29Z</dcterms:modified>
  <cp:revision>12</cp:revision>
  <dc:subject/>
  <dc:title>Литературный процесс второй половины XIX века. Общая характеристи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c0000000000010243100207f6000400038000</vt:lpwstr>
  </property>
</Properties>
</file>