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C551-AD76-4C89-8105-B373812D35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1285-3423-4511-92BD-6852EF7D09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5D86-FDCC-4D41-B51B-C48A72767C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A747-1AD7-4209-B609-003EE5895C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7BA7-C5DA-42FD-A4BD-0C14C63520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65B9-7ECA-481D-B46F-C247479884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F03E-AC1B-4D22-80DA-D80AEE3257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64FF-ED84-402A-8831-FE47947ED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C575-CF1D-4AC8-95D0-CDA03BE932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5CE0-DCC9-4D02-985C-5B70C74356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E163-DE26-47DF-BFC6-0DF4AF3239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8C6C-FF7C-410B-AFE8-0A8A8E1ED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0BA4-7405-40E3-B9CA-80E4AFA317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B0E8-B592-4F53-B13D-5FAAB7CFD7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7C16-CA7D-41B8-B985-F631B60F8D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B23C-E345-4C00-B3F4-B259B346C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AEB8-CE9F-4E4F-852F-194FA839E9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9125-32A0-492B-8D22-FDB30BEF64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525D-AF8B-4CD8-B802-F90382ED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498-8A25-44D8-B34A-D58FBEA2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438-7123-40C7-97E3-36990BBF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ECD-7B46-428E-BEBA-70E64775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484-148E-44EA-A91B-690A8467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06BA-5CA4-4843-91DE-64B115C9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75E-898A-4562-8FDA-C7BD2B7E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BB9F-95CE-4312-8A48-1F1693A1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EA9-8D75-44F5-A2AD-C254B31C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37B-62C2-4E67-BEEF-BDBC76C4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FD0-6B8C-432C-8A28-EB456C74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E6B-FB53-4682-866A-EE0D007C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D763-9826-42AA-9879-A32A788A2B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Юные Ростовы и Броис"/>
          <p:cNvPicPr/>
          <p:nvPr/>
        </p:nvPicPr>
        <p:blipFill>
          <a:blip r:embed="rId1"/>
          <a:stretch/>
        </p:blipFill>
        <p:spPr>
          <a:xfrm>
            <a:off x="171360" y="2438280"/>
            <a:ext cx="17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урагины 2 Ипполит"/>
          <p:cNvPicPr/>
          <p:nvPr/>
        </p:nvPicPr>
        <p:blipFill>
          <a:blip r:embed="rId2"/>
          <a:stretch/>
        </p:blipFill>
        <p:spPr>
          <a:xfrm>
            <a:off x="6934320" y="4495680"/>
            <a:ext cx="1890720" cy="217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Курагины Друбецкие 1"/>
          <p:cNvPicPr/>
          <p:nvPr/>
        </p:nvPicPr>
        <p:blipFill>
          <a:blip r:embed="rId3"/>
          <a:stretch/>
        </p:blipFill>
        <p:spPr>
          <a:xfrm>
            <a:off x="3962520" y="44956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Наташа и Соня"/>
          <p:cNvPicPr/>
          <p:nvPr/>
        </p:nvPicPr>
        <p:blipFill>
          <a:blip r:embed="rId4"/>
          <a:stretch/>
        </p:blipFill>
        <p:spPr>
          <a:xfrm>
            <a:off x="7772400" y="152280"/>
            <a:ext cx="12160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Ладанка"/>
          <p:cNvPicPr/>
          <p:nvPr/>
        </p:nvPicPr>
        <p:blipFill>
          <a:blip r:embed="rId5"/>
          <a:stretch/>
        </p:blipFill>
        <p:spPr>
          <a:xfrm>
            <a:off x="152280" y="152280"/>
            <a:ext cx="963720" cy="176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Прощание отца и сына"/>
          <p:cNvPicPr/>
          <p:nvPr/>
        </p:nvPicPr>
        <p:blipFill>
          <a:blip r:embed="rId6"/>
          <a:stretch/>
        </p:blipFill>
        <p:spPr>
          <a:xfrm>
            <a:off x="7391520" y="2362320"/>
            <a:ext cx="147456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Курагины 3 на балу"/>
          <p:cNvPicPr/>
          <p:nvPr/>
        </p:nvPicPr>
        <p:blipFill>
          <a:blip r:embed="rId7"/>
          <a:stretch/>
        </p:blipFill>
        <p:spPr>
          <a:xfrm>
            <a:off x="609480" y="47242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Николенька Болконский"/>
          <p:cNvPicPr/>
          <p:nvPr/>
        </p:nvPicPr>
        <p:blipFill>
          <a:blip r:embed="rId8"/>
          <a:stretch/>
        </p:blipFill>
        <p:spPr>
          <a:xfrm>
            <a:off x="3581280" y="152280"/>
            <a:ext cx="1752840" cy="132084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1219320" y="1523880"/>
            <a:ext cx="6400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СЕМЬЯ –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РАВСТВЕННЫЙ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ОПЛОТ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АЦИИ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380880" y="1523880"/>
            <a:ext cx="8534520" cy="3886200"/>
          </a:xfrm>
          <a:prstGeom prst="roundRect">
            <a:avLst>
              <a:gd name="adj" fmla="val 16667"/>
            </a:avLst>
          </a:prstGeom>
          <a:solidFill>
            <a:srgbClr val="ccecff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1676520"/>
            <a:ext cx="82296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мейство Ростовых, хотя они и графы, есть простое семейство русских помещиков, тесно связанное с деревнею, сохраняющее весь строй, все предания русской жизни и только случайно соприкасающееся с большим светом. Большой свет есть сфера, совершенно от них отдельная, тлетворная сфера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. Н. Страхов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609480" y="1219320"/>
            <a:ext cx="7925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БОЛКОНСКИЕ</a:t>
            </a:r>
            <a:endParaRPr b="1" lang="en-US" sz="4000" spc="1" strike="noStrike">
              <a:ln w="936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2133720" y="57150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ЛЫСЫЕ ГОР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Прощание отца с сыном фильм"/>
          <p:cNvPicPr/>
          <p:nvPr/>
        </p:nvPicPr>
        <p:blipFill>
          <a:blip r:embed="rId2"/>
          <a:stretch/>
        </p:blipFill>
        <p:spPr>
          <a:xfrm>
            <a:off x="380880" y="3137040"/>
            <a:ext cx="6172200" cy="372096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1" name="Picture 5" descr="Старый Болконский 2"/>
          <p:cNvPicPr/>
          <p:nvPr/>
        </p:nvPicPr>
        <p:blipFill>
          <a:blip r:embed="rId3"/>
          <a:stretch/>
        </p:blipFill>
        <p:spPr>
          <a:xfrm>
            <a:off x="5975280" y="3124080"/>
            <a:ext cx="316872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0" y="3124080"/>
            <a:ext cx="181440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sp>
        <p:nvSpPr>
          <p:cNvPr id="103" name="Text Box 9"/>
          <p:cNvSpPr/>
          <p:nvPr/>
        </p:nvSpPr>
        <p:spPr>
          <a:xfrm>
            <a:off x="609480" y="685800"/>
            <a:ext cx="822960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Georgia"/>
              </a:rPr>
              <a:t>КНЯЗЬ НИКОЛАЙ АНДРЕЕВИЧ БОЛКОНСКИЙ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04920" y="836640"/>
            <a:ext cx="8534160" cy="180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«Он говорил, что есть только два источника людских пороков: праздность и суеверие, и что есть только две добродетели: деятельность и ум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Кн"/>
          <p:cNvPicPr/>
          <p:nvPr/>
        </p:nvPicPr>
        <p:blipFill>
          <a:blip r:embed="rId2"/>
          <a:stretch/>
        </p:blipFill>
        <p:spPr>
          <a:xfrm>
            <a:off x="3352680" y="3828960"/>
            <a:ext cx="7010640" cy="3029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2747880" cy="411480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7" name="Picture 4" descr=""/>
          <p:cNvPicPr/>
          <p:nvPr/>
        </p:nvPicPr>
        <p:blipFill>
          <a:blip r:embed="rId4"/>
          <a:stretch/>
        </p:blipFill>
        <p:spPr>
          <a:xfrm>
            <a:off x="0" y="3838680"/>
            <a:ext cx="5105520" cy="301932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sp>
        <p:nvSpPr>
          <p:cNvPr id="108" name="Text Box 7"/>
          <p:cNvSpPr/>
          <p:nvPr/>
        </p:nvSpPr>
        <p:spPr>
          <a:xfrm>
            <a:off x="2971800" y="820800"/>
            <a:ext cx="6019920" cy="220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КНЯЖНА МАРЬЯ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Georgia"/>
              </a:rPr>
              <a:t>« А чтобы ты была похожа на наших глупых барынь, я не хочу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Прощание с сыном фильм"/>
          <p:cNvPicPr/>
          <p:nvPr/>
        </p:nvPicPr>
        <p:blipFill>
          <a:blip r:embed="rId2"/>
          <a:stretch/>
        </p:blipFill>
        <p:spPr>
          <a:xfrm>
            <a:off x="914400" y="2449440"/>
            <a:ext cx="7467480" cy="4256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0" name="Picture 9" descr="Ладанка"/>
          <p:cNvPicPr/>
          <p:nvPr/>
        </p:nvPicPr>
        <p:blipFill>
          <a:blip r:embed="rId3"/>
          <a:stretch/>
        </p:blipFill>
        <p:spPr>
          <a:xfrm>
            <a:off x="6573960" y="2438280"/>
            <a:ext cx="254304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1" name="Picture 11" descr="Прощание отца и сына"/>
          <p:cNvPicPr/>
          <p:nvPr/>
        </p:nvPicPr>
        <p:blipFill>
          <a:blip r:embed="rId4"/>
          <a:stretch/>
        </p:blipFill>
        <p:spPr>
          <a:xfrm>
            <a:off x="-20520" y="2438280"/>
            <a:ext cx="351936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2" name="Picture 14" descr="Болконский карандаш"/>
          <p:cNvPicPr/>
          <p:nvPr/>
        </p:nvPicPr>
        <p:blipFill>
          <a:blip r:embed="rId5"/>
          <a:stretch/>
        </p:blipFill>
        <p:spPr>
          <a:xfrm>
            <a:off x="3505320" y="2438280"/>
            <a:ext cx="3012840" cy="3886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3" name="Text Box 16"/>
          <p:cNvSpPr/>
          <p:nvPr/>
        </p:nvSpPr>
        <p:spPr>
          <a:xfrm>
            <a:off x="838080" y="228600"/>
            <a:ext cx="7543800" cy="1778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eorgia"/>
              </a:rPr>
              <a:t>КНЯЗЬ АНДРЕЙ 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«Я иду на войну …, потому что та жизнь, которую здесь я веду, не по мн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109440"/>
            <a:ext cx="8991720" cy="2478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-Помни одно, князь Андрей: коли тебя убьют, мне старику больно будет …, а коли узнаю, что ты повел себя не как сын Николая Болконского, мне будет … стыдно!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Это вы могли бы не говорить мне, батюшка, - улыбаясь, сказал сын»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5"/>
          <p:cNvSpPr/>
          <p:nvPr/>
        </p:nvSpPr>
        <p:spPr>
          <a:xfrm>
            <a:off x="1447920" y="1600200"/>
            <a:ext cx="6781680" cy="3962520"/>
          </a:xfrm>
          <a:prstGeom prst="roundRect">
            <a:avLst>
              <a:gd name="adj" fmla="val 16667"/>
            </a:avLst>
          </a:prstGeom>
          <a:solidFill>
            <a:srgbClr val="c0c0c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76520" y="1752480"/>
            <a:ext cx="624816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eorgia"/>
              </a:rPr>
              <a:t>«Семейство Болконских точно так же не принадлежит к большому свету. Скорее можно сказать, что оно выше этого света, но во всяком случае оно вне его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Дед Толстого Н"/>
          <p:cNvPicPr/>
          <p:nvPr/>
        </p:nvPicPr>
        <p:blipFill>
          <a:blip r:embed="rId1"/>
          <a:stretch/>
        </p:blipFill>
        <p:spPr>
          <a:xfrm>
            <a:off x="304920" y="1295280"/>
            <a:ext cx="3284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Н. С.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лконский-прототип Н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Болконского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119" name="Picture 4" descr="И"/>
          <p:cNvPicPr/>
          <p:nvPr/>
        </p:nvPicPr>
        <p:blipFill>
          <a:blip r:embed="rId2"/>
          <a:stretch/>
        </p:blipFill>
        <p:spPr>
          <a:xfrm>
            <a:off x="5181480" y="1295280"/>
            <a:ext cx="355608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5181480" y="54864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И. А. Толсто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прототип графа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Ростов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3808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ЛЮБИМЫЕ СЕМЬИ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1066680" y="1936800"/>
            <a:ext cx="647712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omic"/>
              </a:rPr>
              <a:t>« СЕМЬЯ - НРАВСТВЕННЫЙ ОПЛОТ НАЦИИ»</a:t>
            </a:r>
            <a:endParaRPr b="0" lang="en-US" sz="54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omic"/>
              </a:rPr>
              <a:t>Л. Н. Толстой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219320" y="1143000"/>
            <a:ext cx="66294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 … Нигде с такой яркостию и силою не выступала русская семейная жизнь, как в «Войне и мире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Это не роман вообще, не исторический роман, даже не историческая хроника; это – хроника семейная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Танец у Ростовых"/>
          <p:cNvPicPr/>
          <p:nvPr/>
        </p:nvPicPr>
        <p:blipFill>
          <a:blip r:embed="rId1"/>
          <a:stretch/>
        </p:blipFill>
        <p:spPr>
          <a:xfrm>
            <a:off x="6477120" y="1371600"/>
            <a:ext cx="247176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Курагины 3 на балу"/>
          <p:cNvPicPr/>
          <p:nvPr/>
        </p:nvPicPr>
        <p:blipFill>
          <a:blip r:embed="rId2"/>
          <a:stretch/>
        </p:blipFill>
        <p:spPr>
          <a:xfrm>
            <a:off x="3200400" y="1905120"/>
            <a:ext cx="2895480" cy="214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Ст"/>
          <p:cNvPicPr/>
          <p:nvPr/>
        </p:nvPicPr>
        <p:blipFill>
          <a:blip r:embed="rId3"/>
          <a:stretch/>
        </p:blipFill>
        <p:spPr>
          <a:xfrm>
            <a:off x="228600" y="1371600"/>
            <a:ext cx="249876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152280" y="49528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Болконские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971800" y="4038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Курагин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477120" y="4952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Ростов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0948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Georgia"/>
              </a:rPr>
              <a:t>ИСТОРИЯ ТРЕХ СЕМЕЙСТВ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2819520" y="1905120"/>
            <a:ext cx="3581280" cy="457200"/>
          </a:xfrm>
          <a:prstGeom prst="leftRightArrow">
            <a:avLst>
              <a:gd name="adj1" fmla="val 50000"/>
              <a:gd name="adj2" fmla="val 15593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048120" y="1447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2819520" y="3505320"/>
            <a:ext cx="3581280" cy="533160"/>
          </a:xfrm>
          <a:prstGeom prst="downArrowCallout">
            <a:avLst>
              <a:gd name="adj1" fmla="val 167943"/>
              <a:gd name="adj2" fmla="val 167927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666880" y="3048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96532E-006 L -0.0033 -0.14983 E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9191E-006 L 0.00416 -0.1308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09827E-006 L 3.33333E-006 -0.14428 E">
                                      <p:cBhvr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9191E-006 L 0.00417 -0.14197 E">
                                      <p:cBhvr>
                                        <p:cTn id="2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676520" y="1371600"/>
            <a:ext cx="5943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КУРАГИНЫ</a:t>
            </a:r>
            <a:endParaRPr b="1" lang="en-US" sz="40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Курагины 3 на балу"/>
          <p:cNvPicPr/>
          <p:nvPr/>
        </p:nvPicPr>
        <p:blipFill>
          <a:blip r:embed="rId2"/>
          <a:stretch/>
        </p:blipFill>
        <p:spPr>
          <a:xfrm>
            <a:off x="380880" y="2590920"/>
            <a:ext cx="5410440" cy="40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4" descr="Курагины Друбецкие 1"/>
          <p:cNvPicPr/>
          <p:nvPr/>
        </p:nvPicPr>
        <p:blipFill>
          <a:blip r:embed="rId3"/>
          <a:stretch/>
        </p:blipFill>
        <p:spPr>
          <a:xfrm>
            <a:off x="5775480" y="2590920"/>
            <a:ext cx="306360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2" name="AutoShape 6"/>
          <p:cNvSpPr/>
          <p:nvPr/>
        </p:nvSpPr>
        <p:spPr>
          <a:xfrm>
            <a:off x="457200" y="685800"/>
            <a:ext cx="8305920" cy="1752480"/>
          </a:xfrm>
          <a:prstGeom prst="roundRect">
            <a:avLst>
              <a:gd name="adj" fmla="val 16667"/>
            </a:avLst>
          </a:prstGeom>
          <a:solidFill>
            <a:srgbClr val="c0c0c0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04920" y="48708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Мои дети - ce sont les entraves de mon existence. Это мой крест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(Мои дети – обуза моего существования)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74" name="Picture 7" descr="Пьер и Элен 1"/>
          <p:cNvPicPr/>
          <p:nvPr/>
        </p:nvPicPr>
        <p:blipFill>
          <a:blip r:embed="rId4"/>
          <a:stretch/>
        </p:blipFill>
        <p:spPr>
          <a:xfrm>
            <a:off x="5715000" y="2590920"/>
            <a:ext cx="308628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5" name="Picture 8" descr="Элен каротчка"/>
          <p:cNvPicPr/>
          <p:nvPr/>
        </p:nvPicPr>
        <p:blipFill>
          <a:blip r:embed="rId5"/>
          <a:stretch/>
        </p:blipFill>
        <p:spPr>
          <a:xfrm>
            <a:off x="228600" y="2590920"/>
            <a:ext cx="312732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6" name="Picture 10" descr="Курагины 2 Ипполит"/>
          <p:cNvPicPr/>
          <p:nvPr/>
        </p:nvPicPr>
        <p:blipFill>
          <a:blip r:embed="rId6"/>
          <a:stretch/>
        </p:blipFill>
        <p:spPr>
          <a:xfrm>
            <a:off x="2895480" y="2590920"/>
            <a:ext cx="370836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" name="Picture 12" descr="Анатоль 1"/>
          <p:cNvPicPr/>
          <p:nvPr/>
        </p:nvPicPr>
        <p:blipFill>
          <a:blip r:embed="rId7"/>
          <a:stretch/>
        </p:blipFill>
        <p:spPr>
          <a:xfrm>
            <a:off x="3657600" y="2590920"/>
            <a:ext cx="5257800" cy="4038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685800" y="60948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- Вы знаете, я сделал для их воспитания все, что может отец … Ипполит, по крайней мере, покойный дурак, а Анатоль – беспокойный. Вот одно различи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9.82659E-007 L -0.29444 9.82659E-007 E">
                                      <p:cBhvr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447920" y="20098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«… Влияние в свете – капитал, который надо беречь, чтобы он не исчез».</a:t>
            </a:r>
            <a:endParaRPr b="0" lang="en-US" sz="4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380880"/>
            <a:ext cx="822960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ПОДЛАЯ ПОРОДА»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(Пьер о Курагиных)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752480" y="3240"/>
            <a:ext cx="11048760" cy="685476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914400" y="685800"/>
            <a:ext cx="7010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РОСТОВЫ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62120" y="4267080"/>
            <a:ext cx="72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828800" y="426708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Georgia"/>
              </a:rPr>
              <a:t>ОТРАДНОЕ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Молодые Ростовы 2"/>
          <p:cNvPicPr/>
          <p:nvPr/>
        </p:nvPicPr>
        <p:blipFill>
          <a:blip r:embed="rId2"/>
          <a:stretch/>
        </p:blipFill>
        <p:spPr>
          <a:xfrm>
            <a:off x="-152280" y="2362320"/>
            <a:ext cx="3195360" cy="4495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Юные Ростовы и Броис"/>
          <p:cNvPicPr/>
          <p:nvPr/>
        </p:nvPicPr>
        <p:blipFill>
          <a:blip r:embed="rId3"/>
          <a:stretch/>
        </p:blipFill>
        <p:spPr>
          <a:xfrm>
            <a:off x="2971800" y="2362320"/>
            <a:ext cx="3951360" cy="4495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Наташа и Соня"/>
          <p:cNvPicPr/>
          <p:nvPr/>
        </p:nvPicPr>
        <p:blipFill>
          <a:blip r:embed="rId4"/>
          <a:stretch/>
        </p:blipFill>
        <p:spPr>
          <a:xfrm>
            <a:off x="6553080" y="2362320"/>
            <a:ext cx="345132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-228600" y="0"/>
            <a:ext cx="9372600" cy="2362320"/>
          </a:xfrm>
          <a:prstGeom prst="rect">
            <a:avLst/>
          </a:prstGeom>
          <a:solidFill>
            <a:srgbClr val="c0c0c0">
              <a:alpha val="53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-63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«Вдруг из соседней комнаты послышался бег к двери нескольких мужских и женских ног, грохот зацепленного и поваленного стула, и в комнату вбежала тринадцатилетняя девочка, запахнув что-то короткою кисейною юбкою, и остановилась посередине комнат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У Ростовых 2"/>
          <p:cNvPicPr/>
          <p:nvPr/>
        </p:nvPicPr>
        <p:blipFill>
          <a:blip r:embed="rId2"/>
          <a:stretch/>
        </p:blipFill>
        <p:spPr>
          <a:xfrm>
            <a:off x="-76320" y="1676520"/>
            <a:ext cx="9372600" cy="5742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-152280" y="0"/>
            <a:ext cx="9296280" cy="259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76320"/>
            <a:ext cx="9144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Пляска оживлялась все более и более. Все было занято графом и Марьею Дмитриевной. Наташа дергала за рукава и платье всех присутствовавших, которые и без того не спускали глаз с танцующих, и требовала, чтоб смотрели на папеньку. Граф в промежутках танца тяжело переводил дух, махал и кричал музыкантам, чтоб они играли скорее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Вот как в наше время танцовывали,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a chere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,- сказал граф»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2-13T10:22:3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0000000000001024140</vt:lpwstr>
  </property>
  <property fmtid="{D5CDD505-2E9C-101B-9397-08002B2CF9AE}" pid="3" name="Version">
    <vt:r8>1</vt:r8>
  </property>
</Properties>
</file>