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23B9-60A3-4560-8ED1-D434A79B8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8006-ADE2-47C5-8DDA-16819958D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6535-C2FC-4EAF-A03F-E311D0B83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F86D-5DEF-4247-9509-7A369DB3D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BE46-2621-4B25-BDC9-3F4A41364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3692-ADB1-4B60-84D4-03926F614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2E94-DE8E-43E5-948E-8AACD3585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C081-19CD-49A8-B365-72E20822E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F84E-5F9D-483A-9F14-25AF45C52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CD93-5E8D-43A5-AAA8-DAFC2CB9F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7F19-2529-4B67-ACB8-AA1D7F9EFA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03DD-42A7-4FAD-AFA4-5D24694C74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9201-1608-4C1E-878E-27919BD9C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2A96-96D4-4165-9BBB-69B8BFA325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2C7F-3CF9-40DE-9992-221BC1BD9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99EB-ED0B-4C50-85B2-E3AC027F5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0718-09CD-44A4-92C1-F9460DE99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B5C7-75AE-4F7D-8F30-0D18E9E58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C75-A6F0-475F-B647-72D24596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DFA-1D3F-443D-A170-4413E799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989-D120-493D-ACEC-4C918F51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40F-7186-48B8-AC54-28C7E550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908-A109-45B5-8F84-88587FDB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D42-D657-420A-8E6F-2180E7B4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68B-E8B9-42BF-AEA2-9E921407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465-8492-403F-9BF0-70B74B3B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E8C-70D4-411B-8978-B57F28C9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50F-9BCA-47B6-92E3-F5F65369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08D-F4FA-414C-B479-CF433CF6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B8D-85EC-42AF-84A4-A720D6B4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5BBB-DC75-46DA-A040-54C151FC0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Юные Ростовы и Броис"/>
          <p:cNvPicPr/>
          <p:nvPr/>
        </p:nvPicPr>
        <p:blipFill>
          <a:blip r:embed="rId1"/>
          <a:stretch/>
        </p:blipFill>
        <p:spPr>
          <a:xfrm>
            <a:off x="171360" y="2438280"/>
            <a:ext cx="17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урагины 2 Ипполит"/>
          <p:cNvPicPr/>
          <p:nvPr/>
        </p:nvPicPr>
        <p:blipFill>
          <a:blip r:embed="rId2"/>
          <a:stretch/>
        </p:blipFill>
        <p:spPr>
          <a:xfrm>
            <a:off x="6934320" y="4495680"/>
            <a:ext cx="1890720" cy="21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урагины Друбецкие 1"/>
          <p:cNvPicPr/>
          <p:nvPr/>
        </p:nvPicPr>
        <p:blipFill>
          <a:blip r:embed="rId3"/>
          <a:stretch/>
        </p:blipFill>
        <p:spPr>
          <a:xfrm>
            <a:off x="3962520" y="44956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Наташа и Соня"/>
          <p:cNvPicPr/>
          <p:nvPr/>
        </p:nvPicPr>
        <p:blipFill>
          <a:blip r:embed="rId4"/>
          <a:stretch/>
        </p:blipFill>
        <p:spPr>
          <a:xfrm>
            <a:off x="7772400" y="152280"/>
            <a:ext cx="12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Ладанка"/>
          <p:cNvPicPr/>
          <p:nvPr/>
        </p:nvPicPr>
        <p:blipFill>
          <a:blip r:embed="rId5"/>
          <a:stretch/>
        </p:blipFill>
        <p:spPr>
          <a:xfrm>
            <a:off x="152280" y="152280"/>
            <a:ext cx="96372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Прощание отца и сына"/>
          <p:cNvPicPr/>
          <p:nvPr/>
        </p:nvPicPr>
        <p:blipFill>
          <a:blip r:embed="rId6"/>
          <a:stretch/>
        </p:blipFill>
        <p:spPr>
          <a:xfrm>
            <a:off x="7391520" y="2362320"/>
            <a:ext cx="147456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Курагины 3 на балу"/>
          <p:cNvPicPr/>
          <p:nvPr/>
        </p:nvPicPr>
        <p:blipFill>
          <a:blip r:embed="rId7"/>
          <a:stretch/>
        </p:blipFill>
        <p:spPr>
          <a:xfrm>
            <a:off x="609480" y="4724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Николенька Болконский"/>
          <p:cNvPicPr/>
          <p:nvPr/>
        </p:nvPicPr>
        <p:blipFill>
          <a:blip r:embed="rId8"/>
          <a:stretch/>
        </p:blipFill>
        <p:spPr>
          <a:xfrm>
            <a:off x="3581280" y="15228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219320" y="1523880"/>
            <a:ext cx="6400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СЕМЬЯ –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РАВСТВЕННЫЙ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ОПЛОТ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АЦИИ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80880" y="1523880"/>
            <a:ext cx="8534520" cy="3886200"/>
          </a:xfrm>
          <a:prstGeom prst="roundRect">
            <a:avLst>
              <a:gd name="adj" fmla="val 16667"/>
            </a:avLst>
          </a:prstGeom>
          <a:solidFill>
            <a:srgbClr val="ccec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676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мейство Ростовых, хотя они и графы, есть простое семейство русских помещиков, тесно связанное с деревнею, сохраняющее весь строй, все предания русской жизни и только случайно соприкасающееся с большим светом. Большой свет есть сфера, совершенно от них отдельная, тлетворная сфера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. Н. Страхов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09480" y="12193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БОЛКОНСКИЕ</a:t>
            </a:r>
            <a:endParaRPr b="1" lang="en-US" sz="4000" spc="1" strike="noStrike">
              <a:ln w="936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133720" y="57150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ЛЫСЫЕ ГО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Прощание отца с сыном фильм"/>
          <p:cNvPicPr/>
          <p:nvPr/>
        </p:nvPicPr>
        <p:blipFill>
          <a:blip r:embed="rId2"/>
          <a:stretch/>
        </p:blipFill>
        <p:spPr>
          <a:xfrm>
            <a:off x="380880" y="3137040"/>
            <a:ext cx="6172200" cy="372096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1" name="Picture 5" descr="Старый Болконский 2"/>
          <p:cNvPicPr/>
          <p:nvPr/>
        </p:nvPicPr>
        <p:blipFill>
          <a:blip r:embed="rId3"/>
          <a:stretch/>
        </p:blipFill>
        <p:spPr>
          <a:xfrm>
            <a:off x="5975280" y="3124080"/>
            <a:ext cx="316872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3124080"/>
            <a:ext cx="181440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sp>
        <p:nvSpPr>
          <p:cNvPr id="103" name="Text Box 9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КНЯЗЬ НИКОЛАЙ АНДРЕЕВИЧ БОЛКОНСКИЙ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4920" y="836640"/>
            <a:ext cx="853416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«Он говорил, что есть только два источника людских пороков: праздность и суеверие, и что есть только две добродетели: деятельность и ум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н"/>
          <p:cNvPicPr/>
          <p:nvPr/>
        </p:nvPicPr>
        <p:blipFill>
          <a:blip r:embed="rId2"/>
          <a:stretch/>
        </p:blipFill>
        <p:spPr>
          <a:xfrm>
            <a:off x="3352680" y="3828960"/>
            <a:ext cx="701064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747880" cy="411480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0" y="3838680"/>
            <a:ext cx="5105520" cy="3019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2971800" y="820800"/>
            <a:ext cx="6019920" cy="22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КНЯЖНА МАРЬЯ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Georgia"/>
              </a:rPr>
              <a:t>« А чтобы ты была похожа на наших глупых барынь, я не хочу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Прощание с сыном фильм"/>
          <p:cNvPicPr/>
          <p:nvPr/>
        </p:nvPicPr>
        <p:blipFill>
          <a:blip r:embed="rId2"/>
          <a:stretch/>
        </p:blipFill>
        <p:spPr>
          <a:xfrm>
            <a:off x="914400" y="2449440"/>
            <a:ext cx="746748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Picture 9" descr="Ладанка"/>
          <p:cNvPicPr/>
          <p:nvPr/>
        </p:nvPicPr>
        <p:blipFill>
          <a:blip r:embed="rId3"/>
          <a:stretch/>
        </p:blipFill>
        <p:spPr>
          <a:xfrm>
            <a:off x="6573960" y="2438280"/>
            <a:ext cx="254304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1" name="Picture 11" descr="Прощание отца и сына"/>
          <p:cNvPicPr/>
          <p:nvPr/>
        </p:nvPicPr>
        <p:blipFill>
          <a:blip r:embed="rId4"/>
          <a:stretch/>
        </p:blipFill>
        <p:spPr>
          <a:xfrm>
            <a:off x="-20520" y="2438280"/>
            <a:ext cx="351936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Picture 14" descr="Болконский карандаш"/>
          <p:cNvPicPr/>
          <p:nvPr/>
        </p:nvPicPr>
        <p:blipFill>
          <a:blip r:embed="rId5"/>
          <a:stretch/>
        </p:blipFill>
        <p:spPr>
          <a:xfrm>
            <a:off x="3505320" y="2438280"/>
            <a:ext cx="3012840" cy="388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Text Box 16"/>
          <p:cNvSpPr/>
          <p:nvPr/>
        </p:nvSpPr>
        <p:spPr>
          <a:xfrm>
            <a:off x="838080" y="228600"/>
            <a:ext cx="7543800" cy="177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НЯЗЬ АНДРЕЙ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Я иду на войну …, потому что та жизнь, которую здесь я веду, не по мн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109440"/>
            <a:ext cx="8991720" cy="247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-Помни одно, князь Андрей: коли тебя убьют, мне старику больно будет …, а коли узнаю, что ты повел себя не как сын Николая Болконского, мне будет … стыдно!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вы могли бы не говорить мне, батюшка, - улыбаясь, сказал сын»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1447920" y="1600200"/>
            <a:ext cx="6781680" cy="3962520"/>
          </a:xfrm>
          <a:prstGeom prst="roundRect">
            <a:avLst>
              <a:gd name="adj" fmla="val 16667"/>
            </a:avLst>
          </a:prstGeom>
          <a:solidFill>
            <a:srgbClr val="c0c0c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1752480"/>
            <a:ext cx="6248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eorgia"/>
              </a:rPr>
              <a:t>«Семейство Болконских точно так же не принадлежит к большому свету. Скорее можно сказать, что оно выше этого света, но во всяком случае оно вне его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ед Толстого Н"/>
          <p:cNvPicPr/>
          <p:nvPr/>
        </p:nvPicPr>
        <p:blipFill>
          <a:blip r:embed="rId1"/>
          <a:stretch/>
        </p:blipFill>
        <p:spPr>
          <a:xfrm>
            <a:off x="304920" y="1295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. С.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лконский-прототип Н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Болконского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9" name="Picture 4" descr="И"/>
          <p:cNvPicPr/>
          <p:nvPr/>
        </p:nvPicPr>
        <p:blipFill>
          <a:blip r:embed="rId2"/>
          <a:stretch/>
        </p:blipFill>
        <p:spPr>
          <a:xfrm>
            <a:off x="5181480" y="1295280"/>
            <a:ext cx="35560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181480" y="5486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И. А. Толст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прототип граф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Ростов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ЛЮБИМЫЕ СЕМЬИ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66680" y="1936800"/>
            <a:ext cx="6477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omic"/>
              </a:rPr>
              <a:t>« СЕМЬЯ - НРАВСТВЕННЫЙ ОПЛОТ НАЦИИ»</a:t>
            </a:r>
            <a:endParaRPr b="0" lang="en-US" sz="54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9320" y="1143000"/>
            <a:ext cx="66294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 … Нигде с такой яркостию и силою не выступала русская семейная жизнь, как в «Войне и мире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Это не роман вообще, не исторический роман, даже не историческая хроника; это – хроника семейная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Танец у Ростовых"/>
          <p:cNvPicPr/>
          <p:nvPr/>
        </p:nvPicPr>
        <p:blipFill>
          <a:blip r:embed="rId1"/>
          <a:stretch/>
        </p:blipFill>
        <p:spPr>
          <a:xfrm>
            <a:off x="6477120" y="1371600"/>
            <a:ext cx="24717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урагины 3 на балу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Ст"/>
          <p:cNvPicPr/>
          <p:nvPr/>
        </p:nvPicPr>
        <p:blipFill>
          <a:blip r:embed="rId3"/>
          <a:stretch/>
        </p:blipFill>
        <p:spPr>
          <a:xfrm>
            <a:off x="228600" y="1371600"/>
            <a:ext cx="249876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52280" y="4952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Болконские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9718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Курагин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771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остов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ИСТОРИЯ ТРЕХ СЕМЕЙСТВ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2819520" y="1905120"/>
            <a:ext cx="3581280" cy="457200"/>
          </a:xfrm>
          <a:prstGeom prst="leftRightArrow">
            <a:avLst>
              <a:gd name="adj1" fmla="val 50000"/>
              <a:gd name="adj2" fmla="val 1559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48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819520" y="3505320"/>
            <a:ext cx="3581280" cy="533160"/>
          </a:xfrm>
          <a:prstGeom prst="downArrowCallout">
            <a:avLst>
              <a:gd name="adj1" fmla="val 167943"/>
              <a:gd name="adj2" fmla="val 167927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666880" y="3048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6532E-006 L -0.0033 -0.14983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416 -0.1308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9827E-006 L 3.33333E-006 -0.1442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00417 -0.14197 E">
                                      <p:cBhvr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676520" y="137160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УРАГИНЫ</a:t>
            </a:r>
            <a:endParaRPr b="1" lang="en-US" sz="40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Курагины 3 на балу"/>
          <p:cNvPicPr/>
          <p:nvPr/>
        </p:nvPicPr>
        <p:blipFill>
          <a:blip r:embed="rId2"/>
          <a:stretch/>
        </p:blipFill>
        <p:spPr>
          <a:xfrm>
            <a:off x="380880" y="2590920"/>
            <a:ext cx="5410440" cy="40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4" descr="Курагины Друбецкие 1"/>
          <p:cNvPicPr/>
          <p:nvPr/>
        </p:nvPicPr>
        <p:blipFill>
          <a:blip r:embed="rId3"/>
          <a:stretch/>
        </p:blipFill>
        <p:spPr>
          <a:xfrm>
            <a:off x="5775480" y="2590920"/>
            <a:ext cx="306360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AutoShape 6"/>
          <p:cNvSpPr/>
          <p:nvPr/>
        </p:nvSpPr>
        <p:spPr>
          <a:xfrm>
            <a:off x="457200" y="685800"/>
            <a:ext cx="8305920" cy="1752480"/>
          </a:xfrm>
          <a:prstGeom prst="roundRect">
            <a:avLst>
              <a:gd name="adj" fmla="val 16667"/>
            </a:avLst>
          </a:prstGeom>
          <a:solidFill>
            <a:srgbClr val="c0c0c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04920" y="487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Мои дети - ce sont les entraves de mon existence. Это мой крест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Мои дети – обуза моего существования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4" name="Picture 7" descr="Пьер и Элен 1"/>
          <p:cNvPicPr/>
          <p:nvPr/>
        </p:nvPicPr>
        <p:blipFill>
          <a:blip r:embed="rId4"/>
          <a:stretch/>
        </p:blipFill>
        <p:spPr>
          <a:xfrm>
            <a:off x="5715000" y="2590920"/>
            <a:ext cx="308628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8" descr="Элен каротчка"/>
          <p:cNvPicPr/>
          <p:nvPr/>
        </p:nvPicPr>
        <p:blipFill>
          <a:blip r:embed="rId5"/>
          <a:stretch/>
        </p:blipFill>
        <p:spPr>
          <a:xfrm>
            <a:off x="228600" y="2590920"/>
            <a:ext cx="312732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10" descr="Курагины 2 Ипполит"/>
          <p:cNvPicPr/>
          <p:nvPr/>
        </p:nvPicPr>
        <p:blipFill>
          <a:blip r:embed="rId6"/>
          <a:stretch/>
        </p:blipFill>
        <p:spPr>
          <a:xfrm>
            <a:off x="2895480" y="2590920"/>
            <a:ext cx="37083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12" descr="Анатоль 1"/>
          <p:cNvPicPr/>
          <p:nvPr/>
        </p:nvPicPr>
        <p:blipFill>
          <a:blip r:embed="rId7"/>
          <a:stretch/>
        </p:blipFill>
        <p:spPr>
          <a:xfrm>
            <a:off x="3657600" y="25909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85800" y="6094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- Вы знаете, я сделал для их воспитания все, что может отец … Ипполит, по крайней мере, покойный дурак, а Анатоль – беспокойный. Вот одно различи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82659E-007 L -0.29444 9.82659E-007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009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«… Влияние в свете – капитал, который надо беречь, чтобы он не исчез»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80880"/>
            <a:ext cx="82296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ПОДЛАЯ ПОРОДА»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Пьер о Курагиных)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752480" y="3240"/>
            <a:ext cx="1104876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914400" y="68580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РОСТОВЫ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26708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828800" y="426708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Georgia"/>
              </a:rPr>
              <a:t>ОТРАДНО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олодые Ростовы 2"/>
          <p:cNvPicPr/>
          <p:nvPr/>
        </p:nvPicPr>
        <p:blipFill>
          <a:blip r:embed="rId2"/>
          <a:stretch/>
        </p:blipFill>
        <p:spPr>
          <a:xfrm>
            <a:off x="-152280" y="2362320"/>
            <a:ext cx="319536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Юные Ростовы и Броис"/>
          <p:cNvPicPr/>
          <p:nvPr/>
        </p:nvPicPr>
        <p:blipFill>
          <a:blip r:embed="rId3"/>
          <a:stretch/>
        </p:blipFill>
        <p:spPr>
          <a:xfrm>
            <a:off x="2971800" y="2362320"/>
            <a:ext cx="395136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Наташа и Соня"/>
          <p:cNvPicPr/>
          <p:nvPr/>
        </p:nvPicPr>
        <p:blipFill>
          <a:blip r:embed="rId4"/>
          <a:stretch/>
        </p:blipFill>
        <p:spPr>
          <a:xfrm>
            <a:off x="6553080" y="2362320"/>
            <a:ext cx="3451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-228600" y="0"/>
            <a:ext cx="9372600" cy="2362320"/>
          </a:xfrm>
          <a:prstGeom prst="rect">
            <a:avLst/>
          </a:prstGeom>
          <a:solidFill>
            <a:srgbClr val="c0c0c0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-63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Вдруг из соседней комнаты послышался бег к двери нескольких мужских и женских ног, грохот зацепленного и поваленного стула, и в комнату вбежала тринадцатилетняя девочка, запахнув что-то короткою кисейною юбкою, и остановилась посередине комнат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У Ростовых 2"/>
          <p:cNvPicPr/>
          <p:nvPr/>
        </p:nvPicPr>
        <p:blipFill>
          <a:blip r:embed="rId2"/>
          <a:stretch/>
        </p:blipFill>
        <p:spPr>
          <a:xfrm>
            <a:off x="-76320" y="1676520"/>
            <a:ext cx="9372600" cy="5742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52280" y="0"/>
            <a:ext cx="929628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76320"/>
            <a:ext cx="9144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ляска оживлялась все более и более. Все было занято графом и Марьею Дмитриевной. Наташа дергала за рукава и платье всех присутствовавших, которые и без того не спускали глаз с танцующих, и требовала, чтоб смотрели на папеньку. Граф в промежутках танца тяжело переводил дух, махал и кричал музыкантам, чтоб они играли скоре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Вот как в наше время танцовывали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 chere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,- сказал граф»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22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4140</vt:lpwstr>
  </property>
  <property fmtid="{D5CDD505-2E9C-101B-9397-08002B2CF9AE}" pid="3" name="Version">
    <vt:r8>1</vt:r8>
  </property>
</Properties>
</file>