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91A3-57B0-4072-934B-EABBC1838E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553E-8211-4EA9-ABB0-C33D76CC4C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D320-4FBF-4622-A784-BFCC4DD0C5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5175-6D12-44E4-BFFE-860E2A3661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7B67-1D7E-4485-9F99-4346698E33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8E45-4316-4996-8F95-72962143F8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88F9-A194-431D-A78A-BA1B72481E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68B8-15D9-4297-AD83-A318E20770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5FD1-EE8B-4083-8B27-772B6138B8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854B-71A6-4865-998A-C907C9426A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9B51-7468-44EC-AEE1-9BF0276F87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EA86-03A6-49A1-A1EF-4C793CE1F6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0D11-5868-43D7-867E-918499F896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ED77-89AC-44C8-89B3-84E3996730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920F-F664-4660-89C8-D056FAAAB8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EB05-BEA1-4FF5-A5A3-CB7DC95F74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802A-9059-4DA1-92DC-BCC9A886CD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D856-21E2-4F31-A3AC-14705581E2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D4A4-9D96-4E76-AAFC-11F2BE02B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0A96-BD57-4F43-9689-B568A9D4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B5FA-FA37-461C-A243-A110687D4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4910-9B4A-4DE3-9B05-5635956A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4012-DE93-4F8E-80B3-F8F4414B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7E07-5CA3-42B3-945C-ADA5F5AD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524C-855C-416C-BB01-D927A7F2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6FE8-5FC9-4F7B-B9F2-0936DB4C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1E7C-CDFE-4A87-A0E2-94E492CD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8F68-0F17-4C9E-87B7-FDAA17CA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C76D-294F-469F-AE6D-CE7315CD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0EE8-70BE-46E9-A72F-F2C5D6F3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6A17-C0F6-40DC-B048-7310AF4B94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9.jpeg"/><Relationship Id="rId3" Type="http://schemas.openxmlformats.org/officeDocument/2006/relationships/image" Target="../media/image5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Юные Ростовы и Броис"/>
          <p:cNvPicPr/>
          <p:nvPr/>
        </p:nvPicPr>
        <p:blipFill>
          <a:blip r:embed="rId1"/>
          <a:stretch/>
        </p:blipFill>
        <p:spPr>
          <a:xfrm>
            <a:off x="171360" y="2438280"/>
            <a:ext cx="1741680" cy="1981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Курагины 2 Ипполит"/>
          <p:cNvPicPr/>
          <p:nvPr/>
        </p:nvPicPr>
        <p:blipFill>
          <a:blip r:embed="rId2"/>
          <a:stretch/>
        </p:blipFill>
        <p:spPr>
          <a:xfrm>
            <a:off x="6934320" y="4495680"/>
            <a:ext cx="1890720" cy="2176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Курагины Друбецкие 1"/>
          <p:cNvPicPr/>
          <p:nvPr/>
        </p:nvPicPr>
        <p:blipFill>
          <a:blip r:embed="rId3"/>
          <a:stretch/>
        </p:blipFill>
        <p:spPr>
          <a:xfrm>
            <a:off x="3962520" y="449568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Наташа и Соня"/>
          <p:cNvPicPr/>
          <p:nvPr/>
        </p:nvPicPr>
        <p:blipFill>
          <a:blip r:embed="rId4"/>
          <a:stretch/>
        </p:blipFill>
        <p:spPr>
          <a:xfrm>
            <a:off x="7772400" y="152280"/>
            <a:ext cx="1216080" cy="1584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Ладанка"/>
          <p:cNvPicPr/>
          <p:nvPr/>
        </p:nvPicPr>
        <p:blipFill>
          <a:blip r:embed="rId5"/>
          <a:stretch/>
        </p:blipFill>
        <p:spPr>
          <a:xfrm>
            <a:off x="152280" y="152280"/>
            <a:ext cx="963720" cy="1762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Прощание отца и сына"/>
          <p:cNvPicPr/>
          <p:nvPr/>
        </p:nvPicPr>
        <p:blipFill>
          <a:blip r:embed="rId6"/>
          <a:stretch/>
        </p:blipFill>
        <p:spPr>
          <a:xfrm>
            <a:off x="7391520" y="2362320"/>
            <a:ext cx="1474560" cy="1981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Курагины 3 на балу"/>
          <p:cNvPicPr/>
          <p:nvPr/>
        </p:nvPicPr>
        <p:blipFill>
          <a:blip r:embed="rId7"/>
          <a:stretch/>
        </p:blipFill>
        <p:spPr>
          <a:xfrm>
            <a:off x="609480" y="4724280"/>
            <a:ext cx="2362320" cy="1752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Николенька Болконский"/>
          <p:cNvPicPr/>
          <p:nvPr/>
        </p:nvPicPr>
        <p:blipFill>
          <a:blip r:embed="rId8"/>
          <a:stretch/>
        </p:blipFill>
        <p:spPr>
          <a:xfrm>
            <a:off x="3581280" y="152280"/>
            <a:ext cx="1752840" cy="1320840"/>
          </a:xfrm>
          <a:prstGeom prst="rect">
            <a:avLst/>
          </a:prstGeom>
          <a:ln w="0">
            <a:noFill/>
          </a:ln>
        </p:spPr>
      </p:pic>
      <p:sp>
        <p:nvSpPr>
          <p:cNvPr id="56" name="WordArt 5"/>
          <p:cNvSpPr txBox="1"/>
          <p:nvPr/>
        </p:nvSpPr>
        <p:spPr>
          <a:xfrm>
            <a:off x="1219320" y="1523880"/>
            <a:ext cx="64008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a50021"/>
                </a:solidFill>
                <a:latin typeface="comic"/>
              </a:rPr>
              <a:t>СЕМЬЯ – </a:t>
            </a:r>
            <a:endParaRPr b="1" i="1" lang="en-US" sz="4400" spc="1" strike="noStrike">
              <a:ln w="0">
                <a:noFill/>
              </a:ln>
              <a:solidFill>
                <a:srgbClr val="a50021"/>
              </a:solidFill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a50021"/>
                </a:solidFill>
                <a:latin typeface="comic"/>
              </a:rPr>
              <a:t>НРАВСТВЕННЫЙ </a:t>
            </a:r>
            <a:endParaRPr b="1" i="1" lang="en-US" sz="4400" spc="1" strike="noStrike">
              <a:ln w="0">
                <a:noFill/>
              </a:ln>
              <a:solidFill>
                <a:srgbClr val="a50021"/>
              </a:solidFill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a50021"/>
                </a:solidFill>
                <a:latin typeface="comic"/>
              </a:rPr>
              <a:t>ОПЛОТ </a:t>
            </a:r>
            <a:endParaRPr b="1" i="1" lang="en-US" sz="4400" spc="1" strike="noStrike">
              <a:ln w="0">
                <a:noFill/>
              </a:ln>
              <a:solidFill>
                <a:srgbClr val="a50021"/>
              </a:solidFill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a50021"/>
                </a:solidFill>
                <a:latin typeface="comic"/>
              </a:rPr>
              <a:t>НАЦИИ</a:t>
            </a:r>
            <a:endParaRPr b="1" i="1" lang="en-US" sz="4400" spc="1" strike="noStrike">
              <a:ln w="0">
                <a:noFill/>
              </a:ln>
              <a:solidFill>
                <a:srgbClr val="a50021"/>
              </a:solidFill>
              <a:latin typeface="comic"/>
              <a:ea typeface="comic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Ясная Поляна Отрадное 4 Цветник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-1905120" y="0"/>
            <a:ext cx="11049120" cy="685476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4"/>
          <p:cNvSpPr/>
          <p:nvPr/>
        </p:nvSpPr>
        <p:spPr>
          <a:xfrm>
            <a:off x="380880" y="1523880"/>
            <a:ext cx="8534520" cy="3886200"/>
          </a:xfrm>
          <a:prstGeom prst="roundRect">
            <a:avLst>
              <a:gd name="adj" fmla="val 16667"/>
            </a:avLst>
          </a:prstGeom>
          <a:solidFill>
            <a:srgbClr val="ccecff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533520" y="1676520"/>
            <a:ext cx="8229600" cy="39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емейство Ростовых, хотя они и графы, есть простое семейство русских помещиков, тесно связанное с деревнею, сохраняющее весь строй, все предания русской жизни и только случайно соприкасающееся с большим светом. Большой свет есть сфера, совершенно от них отдельная, тлетворная сфера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. Н. Страхов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609480" y="1219320"/>
            <a:ext cx="7925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БОЛКОНСКИЕ</a:t>
            </a:r>
            <a:endParaRPr b="1" lang="en-US" sz="4000" spc="1" strike="noStrike">
              <a:ln w="9360">
                <a:solidFill>
                  <a:srgbClr val="c0c0c0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99" name="WordArt 6"/>
          <p:cNvSpPr txBox="1"/>
          <p:nvPr/>
        </p:nvSpPr>
        <p:spPr>
          <a:xfrm>
            <a:off x="2133720" y="571500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Georgia"/>
              </a:rPr>
              <a:t>ЛЫСЫЕ ГОРЫ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Georgia"/>
              <a:ea typeface="Georgi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Прощание отца с сыном фильм"/>
          <p:cNvPicPr/>
          <p:nvPr/>
        </p:nvPicPr>
        <p:blipFill>
          <a:blip r:embed="rId2"/>
          <a:stretch/>
        </p:blipFill>
        <p:spPr>
          <a:xfrm>
            <a:off x="380880" y="3137040"/>
            <a:ext cx="6172200" cy="3720960"/>
          </a:xfrm>
          <a:prstGeom prst="rect">
            <a:avLst/>
          </a:prstGeom>
          <a:ln w="15840">
            <a:solidFill>
              <a:srgbClr val="0000ff"/>
            </a:solidFill>
            <a:miter/>
          </a:ln>
        </p:spPr>
      </p:pic>
      <p:pic>
        <p:nvPicPr>
          <p:cNvPr id="101" name="Picture 5" descr="Старый Болконский 2"/>
          <p:cNvPicPr/>
          <p:nvPr/>
        </p:nvPicPr>
        <p:blipFill>
          <a:blip r:embed="rId3"/>
          <a:stretch/>
        </p:blipFill>
        <p:spPr>
          <a:xfrm>
            <a:off x="5975280" y="3124080"/>
            <a:ext cx="3168720" cy="3733920"/>
          </a:xfrm>
          <a:prstGeom prst="rect">
            <a:avLst/>
          </a:prstGeom>
          <a:ln w="15840">
            <a:solidFill>
              <a:srgbClr val="3366ff"/>
            </a:solidFill>
            <a:miter/>
          </a:ln>
        </p:spPr>
      </p:pic>
      <p:pic>
        <p:nvPicPr>
          <p:cNvPr id="102" name="Picture 4" descr=""/>
          <p:cNvPicPr/>
          <p:nvPr/>
        </p:nvPicPr>
        <p:blipFill>
          <a:blip r:embed="rId4"/>
          <a:stretch/>
        </p:blipFill>
        <p:spPr>
          <a:xfrm>
            <a:off x="0" y="3124080"/>
            <a:ext cx="1814400" cy="3733920"/>
          </a:xfrm>
          <a:prstGeom prst="rect">
            <a:avLst/>
          </a:prstGeom>
          <a:ln w="15840">
            <a:solidFill>
              <a:srgbClr val="3366ff"/>
            </a:solidFill>
            <a:miter/>
          </a:ln>
        </p:spPr>
      </p:pic>
      <p:sp>
        <p:nvSpPr>
          <p:cNvPr id="103" name="Text Box 9"/>
          <p:cNvSpPr/>
          <p:nvPr/>
        </p:nvSpPr>
        <p:spPr>
          <a:xfrm>
            <a:off x="609480" y="685800"/>
            <a:ext cx="8229600" cy="1191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Georgia"/>
              </a:rPr>
              <a:t>КНЯЗЬ НИКОЛАЙ АНДРЕЕВИЧ БОЛКОНСКИЙ</a:t>
            </a:r>
            <a:endParaRPr b="0" lang="en-US" sz="36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04920" y="836640"/>
            <a:ext cx="8534160" cy="1800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Georgia"/>
              </a:rPr>
              <a:t>«Он говорил, что есть только два источника людских пороков: праздность и суеверие, и что есть только две добродетели: деятельность и ум»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Кн"/>
          <p:cNvPicPr/>
          <p:nvPr/>
        </p:nvPicPr>
        <p:blipFill>
          <a:blip r:embed="rId2"/>
          <a:stretch/>
        </p:blipFill>
        <p:spPr>
          <a:xfrm>
            <a:off x="3352680" y="3828960"/>
            <a:ext cx="7010640" cy="30290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06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2747880" cy="4114800"/>
          </a:xfrm>
          <a:prstGeom prst="rect">
            <a:avLst/>
          </a:prstGeom>
          <a:ln w="15840">
            <a:solidFill>
              <a:srgbClr val="0000ff"/>
            </a:solidFill>
            <a:miter/>
          </a:ln>
        </p:spPr>
      </p:pic>
      <p:pic>
        <p:nvPicPr>
          <p:cNvPr id="107" name="Picture 4" descr=""/>
          <p:cNvPicPr/>
          <p:nvPr/>
        </p:nvPicPr>
        <p:blipFill>
          <a:blip r:embed="rId4"/>
          <a:stretch/>
        </p:blipFill>
        <p:spPr>
          <a:xfrm>
            <a:off x="0" y="3838680"/>
            <a:ext cx="5105520" cy="3019320"/>
          </a:xfrm>
          <a:prstGeom prst="rect">
            <a:avLst/>
          </a:prstGeom>
          <a:ln w="15840">
            <a:solidFill>
              <a:srgbClr val="0000ff"/>
            </a:solidFill>
            <a:miter/>
          </a:ln>
        </p:spPr>
      </p:pic>
      <p:sp>
        <p:nvSpPr>
          <p:cNvPr id="108" name="Text Box 7"/>
          <p:cNvSpPr/>
          <p:nvPr/>
        </p:nvSpPr>
        <p:spPr>
          <a:xfrm>
            <a:off x="2971800" y="820800"/>
            <a:ext cx="6019920" cy="2205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Georgia"/>
              </a:rPr>
              <a:t>КНЯЖНА МАРЬЯ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00"/>
                </a:solidFill>
                <a:latin typeface="Georgia"/>
              </a:rPr>
              <a:t>« А чтобы ты была похожа на наших глупых барынь, я не хочу»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0" descr="Прощание с сыном фильм"/>
          <p:cNvPicPr/>
          <p:nvPr/>
        </p:nvPicPr>
        <p:blipFill>
          <a:blip r:embed="rId2"/>
          <a:stretch/>
        </p:blipFill>
        <p:spPr>
          <a:xfrm>
            <a:off x="914400" y="2449440"/>
            <a:ext cx="7467480" cy="4256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10" name="Picture 9" descr="Ладанка"/>
          <p:cNvPicPr/>
          <p:nvPr/>
        </p:nvPicPr>
        <p:blipFill>
          <a:blip r:embed="rId3"/>
          <a:stretch/>
        </p:blipFill>
        <p:spPr>
          <a:xfrm>
            <a:off x="6573960" y="2438280"/>
            <a:ext cx="2543040" cy="46483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11" name="Picture 11" descr="Прощание отца и сына"/>
          <p:cNvPicPr/>
          <p:nvPr/>
        </p:nvPicPr>
        <p:blipFill>
          <a:blip r:embed="rId4"/>
          <a:stretch/>
        </p:blipFill>
        <p:spPr>
          <a:xfrm>
            <a:off x="-20520" y="2438280"/>
            <a:ext cx="3519360" cy="46483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12" name="Picture 14" descr="Болконский карандаш"/>
          <p:cNvPicPr/>
          <p:nvPr/>
        </p:nvPicPr>
        <p:blipFill>
          <a:blip r:embed="rId5"/>
          <a:stretch/>
        </p:blipFill>
        <p:spPr>
          <a:xfrm>
            <a:off x="3505320" y="2438280"/>
            <a:ext cx="3012840" cy="3886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13" name="Text Box 16"/>
          <p:cNvSpPr/>
          <p:nvPr/>
        </p:nvSpPr>
        <p:spPr>
          <a:xfrm>
            <a:off x="838080" y="228600"/>
            <a:ext cx="7543800" cy="1778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Georgia"/>
              </a:rPr>
              <a:t>КНЯЗЬ АНДРЕЙ 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«Я иду на войну …, потому что та жизнь, которую здесь я веду, не по мне»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152280" y="109440"/>
            <a:ext cx="8991720" cy="2478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-Помни одно, князь Андрей: коли тебя убьют, мне старику больно будет …, а коли узнаю, что ты повел себя не как сын Николая Болконского, мне будет … стыдно!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Это вы могли бы не говорить мне, батюшка, - улыбаясь, сказал сын».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5"/>
          <p:cNvSpPr/>
          <p:nvPr/>
        </p:nvSpPr>
        <p:spPr>
          <a:xfrm>
            <a:off x="1447920" y="1600200"/>
            <a:ext cx="6781680" cy="3962520"/>
          </a:xfrm>
          <a:prstGeom prst="roundRect">
            <a:avLst>
              <a:gd name="adj" fmla="val 16667"/>
            </a:avLst>
          </a:prstGeom>
          <a:solidFill>
            <a:srgbClr val="c0c0c0">
              <a:alpha val="8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676520" y="1752480"/>
            <a:ext cx="6248160" cy="40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Georgia"/>
              </a:rPr>
              <a:t>«Семейство Болконских точно так же не принадлежит к большому свету. Скорее можно сказать, что оно выше этого света, но во всяком случае оно вне его».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Georgia"/>
              </a:rPr>
              <a:t>Н. Н. Страхов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Дед Толстого Н"/>
          <p:cNvPicPr/>
          <p:nvPr/>
        </p:nvPicPr>
        <p:blipFill>
          <a:blip r:embed="rId1"/>
          <a:stretch/>
        </p:blipFill>
        <p:spPr>
          <a:xfrm>
            <a:off x="304920" y="1295280"/>
            <a:ext cx="3284280" cy="41148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0" y="54864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Н. С.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олконский-прототип Н.</a:t>
            </a: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 Болконского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119" name="Picture 4" descr="И"/>
          <p:cNvPicPr/>
          <p:nvPr/>
        </p:nvPicPr>
        <p:blipFill>
          <a:blip r:embed="rId2"/>
          <a:stretch/>
        </p:blipFill>
        <p:spPr>
          <a:xfrm>
            <a:off x="5181480" y="1295280"/>
            <a:ext cx="3556080" cy="41148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5181480" y="54864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И. А. Толстой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 прототип графа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.</a:t>
            </a: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 Ростова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838080" y="1522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Georgia"/>
              </a:rPr>
              <a:t>ЛЮБИМЫЕ СЕМЬИ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6"/>
          <p:cNvSpPr/>
          <p:nvPr/>
        </p:nvSpPr>
        <p:spPr>
          <a:xfrm>
            <a:off x="1066680" y="1936800"/>
            <a:ext cx="6477120" cy="35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comic"/>
              </a:rPr>
              <a:t>« СЕМЬЯ - НРАВСТВЕННЫЙ ОПЛОТ НАЦИИ»</a:t>
            </a:r>
            <a:endParaRPr b="0" lang="en-US" sz="54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comic"/>
              </a:rPr>
              <a:t>Л. Н. Толстой</a:t>
            </a:r>
            <a:endParaRPr b="0" lang="en-US" sz="4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219320" y="1143000"/>
            <a:ext cx="662940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Georgia"/>
              </a:rPr>
              <a:t>« … Нигде с такой яркостию и силою не выступала русская семейная жизнь, как в «Войне и мире».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Georgia"/>
              </a:rPr>
              <a:t>Это не роман вообще, не исторический роман, даже не историческая хроника; это – хроника семейная».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Georgia"/>
              </a:rPr>
              <a:t>Н. Н. Страхов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Танец у Ростовых"/>
          <p:cNvPicPr/>
          <p:nvPr/>
        </p:nvPicPr>
        <p:blipFill>
          <a:blip r:embed="rId1"/>
          <a:stretch/>
        </p:blipFill>
        <p:spPr>
          <a:xfrm>
            <a:off x="6477120" y="1371600"/>
            <a:ext cx="2471760" cy="3505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Курагины 3 на балу"/>
          <p:cNvPicPr/>
          <p:nvPr/>
        </p:nvPicPr>
        <p:blipFill>
          <a:blip r:embed="rId2"/>
          <a:stretch/>
        </p:blipFill>
        <p:spPr>
          <a:xfrm>
            <a:off x="3200400" y="1905120"/>
            <a:ext cx="2895480" cy="2149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Ст"/>
          <p:cNvPicPr/>
          <p:nvPr/>
        </p:nvPicPr>
        <p:blipFill>
          <a:blip r:embed="rId3"/>
          <a:stretch/>
        </p:blipFill>
        <p:spPr>
          <a:xfrm>
            <a:off x="228600" y="1371600"/>
            <a:ext cx="2498760" cy="3581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1"/>
          <p:cNvSpPr/>
          <p:nvPr/>
        </p:nvSpPr>
        <p:spPr>
          <a:xfrm>
            <a:off x="152280" y="49528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Болконские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2971800" y="40384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Курагины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6477120" y="49528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Ростовы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609480" y="2286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Georgia"/>
              </a:rPr>
              <a:t>ИСТОРИЯ ТРЕХ СЕМЕЙСТВ</a:t>
            </a:r>
            <a:endParaRPr b="0" lang="en-US" sz="36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2819520" y="1905120"/>
            <a:ext cx="3581280" cy="457200"/>
          </a:xfrm>
          <a:prstGeom prst="leftRightArrow">
            <a:avLst>
              <a:gd name="adj1" fmla="val 50000"/>
              <a:gd name="adj2" fmla="val 15593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3048120" y="1447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СРАВНЕНИЕ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7" name="AutoShape 19"/>
          <p:cNvSpPr/>
          <p:nvPr/>
        </p:nvSpPr>
        <p:spPr>
          <a:xfrm>
            <a:off x="2819520" y="3505320"/>
            <a:ext cx="3581280" cy="533160"/>
          </a:xfrm>
          <a:prstGeom prst="downArrowCallout">
            <a:avLst>
              <a:gd name="adj1" fmla="val 167943"/>
              <a:gd name="adj2" fmla="val 167927"/>
              <a:gd name="adj3" fmla="val 16667"/>
              <a:gd name="adj4" fmla="val 6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2666880" y="30481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АНТИТЕЗА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11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13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96532E-006 L -0.0033 -0.14983 E">
                                      <p:cBhvr>
                                        <p:cTn id="16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79191E-006 L 0.00416 -0.13087 E">
                                      <p:cBhvr>
                                        <p:cTn id="1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09827E-006 L 3.33333E-006 -0.14428 E">
                                      <p:cBhvr>
                                        <p:cTn id="2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9191E-006 L 0.00417 -0.14197 E">
                                      <p:cBhvr>
                                        <p:cTn id="22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2"/>
          <p:cNvSpPr txBox="1"/>
          <p:nvPr/>
        </p:nvSpPr>
        <p:spPr>
          <a:xfrm>
            <a:off x="1676520" y="1371600"/>
            <a:ext cx="59436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808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КУРАГИНЫ</a:t>
            </a:r>
            <a:endParaRPr b="1" lang="en-US" sz="4000" spc="1" strike="noStrike">
              <a:ln w="0">
                <a:noFill/>
              </a:ln>
              <a:solidFill>
                <a:srgbClr val="808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Курагины 3 на балу"/>
          <p:cNvPicPr/>
          <p:nvPr/>
        </p:nvPicPr>
        <p:blipFill>
          <a:blip r:embed="rId2"/>
          <a:stretch/>
        </p:blipFill>
        <p:spPr>
          <a:xfrm>
            <a:off x="380880" y="2590920"/>
            <a:ext cx="5410440" cy="401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1" name="Picture 4" descr="Курагины Друбецкие 1"/>
          <p:cNvPicPr/>
          <p:nvPr/>
        </p:nvPicPr>
        <p:blipFill>
          <a:blip r:embed="rId3"/>
          <a:stretch/>
        </p:blipFill>
        <p:spPr>
          <a:xfrm>
            <a:off x="5775480" y="2590920"/>
            <a:ext cx="3063600" cy="403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2" name="AutoShape 6"/>
          <p:cNvSpPr/>
          <p:nvPr/>
        </p:nvSpPr>
        <p:spPr>
          <a:xfrm>
            <a:off x="457200" y="685800"/>
            <a:ext cx="8305920" cy="1752480"/>
          </a:xfrm>
          <a:prstGeom prst="roundRect">
            <a:avLst>
              <a:gd name="adj" fmla="val 16667"/>
            </a:avLst>
          </a:prstGeom>
          <a:solidFill>
            <a:srgbClr val="c0c0c0">
              <a:alpha val="7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304920" y="487080"/>
            <a:ext cx="853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Georgia"/>
              </a:rPr>
              <a:t>«Мои дети - ce sont les entraves de mon existence. Это мой крест».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(Мои дети – обуза моего существования)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74" name="Picture 7" descr="Пьер и Элен 1"/>
          <p:cNvPicPr/>
          <p:nvPr/>
        </p:nvPicPr>
        <p:blipFill>
          <a:blip r:embed="rId4"/>
          <a:stretch/>
        </p:blipFill>
        <p:spPr>
          <a:xfrm>
            <a:off x="5715000" y="2590920"/>
            <a:ext cx="3086280" cy="403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5" name="Picture 8" descr="Элен каротчка"/>
          <p:cNvPicPr/>
          <p:nvPr/>
        </p:nvPicPr>
        <p:blipFill>
          <a:blip r:embed="rId5"/>
          <a:stretch/>
        </p:blipFill>
        <p:spPr>
          <a:xfrm>
            <a:off x="228600" y="2590920"/>
            <a:ext cx="3127320" cy="403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6" name="Picture 10" descr="Курагины 2 Ипполит"/>
          <p:cNvPicPr/>
          <p:nvPr/>
        </p:nvPicPr>
        <p:blipFill>
          <a:blip r:embed="rId6"/>
          <a:stretch/>
        </p:blipFill>
        <p:spPr>
          <a:xfrm>
            <a:off x="2895480" y="2590920"/>
            <a:ext cx="3708360" cy="403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7" name="Picture 12" descr="Анатоль 1"/>
          <p:cNvPicPr/>
          <p:nvPr/>
        </p:nvPicPr>
        <p:blipFill>
          <a:blip r:embed="rId7"/>
          <a:stretch/>
        </p:blipFill>
        <p:spPr>
          <a:xfrm>
            <a:off x="3657600" y="2590920"/>
            <a:ext cx="5257800" cy="40384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3"/>
          <p:cNvSpPr/>
          <p:nvPr/>
        </p:nvSpPr>
        <p:spPr>
          <a:xfrm>
            <a:off x="685800" y="60948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- Вы знаете, я сделал для их воспитания все, что может отец … Ипполит, по крайней мере, покойный дурак, а Анатоль – беспокойный. Вот одно различие»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9.82659E-007 L -0.29444 9.82659E-007 E">
                                      <p:cBhvr>
                                        <p:cTn id="75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447920" y="2009880"/>
            <a:ext cx="6400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50021"/>
                </a:solidFill>
                <a:latin typeface="Georgia"/>
              </a:rPr>
              <a:t>«… Влияние в свете – капитал, который надо беречь, чтобы он не исчез».</a:t>
            </a:r>
            <a:endParaRPr b="0" lang="en-US" sz="4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09480" y="380880"/>
            <a:ext cx="822960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«ПОДЛАЯ ПОРОДА»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(Пьер о Курагиных)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Ясная Поляна Отрадное 4 Цветник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-1752480" y="3240"/>
            <a:ext cx="11048760" cy="6854760"/>
          </a:xfrm>
          <a:prstGeom prst="rect">
            <a:avLst/>
          </a:prstGeom>
          <a:ln w="0">
            <a:noFill/>
          </a:ln>
        </p:spPr>
      </p:pic>
      <p:sp>
        <p:nvSpPr>
          <p:cNvPr id="82" name="WordArt 5"/>
          <p:cNvSpPr txBox="1"/>
          <p:nvPr/>
        </p:nvSpPr>
        <p:spPr>
          <a:xfrm>
            <a:off x="914400" y="685800"/>
            <a:ext cx="70102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РОСТОВЫ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762120" y="4267080"/>
            <a:ext cx="7238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1828800" y="4267080"/>
            <a:ext cx="5029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Georgia"/>
              </a:rPr>
              <a:t>ОТРАДНОЕ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Georgia"/>
              <a:ea typeface="Georgi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Ясная Поляна Отрадное 4 Цветник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-1905120" y="0"/>
            <a:ext cx="11049120" cy="6854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Молодые Ростовы 2"/>
          <p:cNvPicPr/>
          <p:nvPr/>
        </p:nvPicPr>
        <p:blipFill>
          <a:blip r:embed="rId2"/>
          <a:stretch/>
        </p:blipFill>
        <p:spPr>
          <a:xfrm>
            <a:off x="-152280" y="2362320"/>
            <a:ext cx="3195360" cy="4495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Юные Ростовы и Броис"/>
          <p:cNvPicPr/>
          <p:nvPr/>
        </p:nvPicPr>
        <p:blipFill>
          <a:blip r:embed="rId3"/>
          <a:stretch/>
        </p:blipFill>
        <p:spPr>
          <a:xfrm>
            <a:off x="2971800" y="2362320"/>
            <a:ext cx="3951360" cy="4495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Наташа и Соня"/>
          <p:cNvPicPr/>
          <p:nvPr/>
        </p:nvPicPr>
        <p:blipFill>
          <a:blip r:embed="rId4"/>
          <a:stretch/>
        </p:blipFill>
        <p:spPr>
          <a:xfrm>
            <a:off x="6553080" y="2362320"/>
            <a:ext cx="3451320" cy="44956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8"/>
          <p:cNvSpPr/>
          <p:nvPr/>
        </p:nvSpPr>
        <p:spPr>
          <a:xfrm>
            <a:off x="-228600" y="0"/>
            <a:ext cx="9372600" cy="2362320"/>
          </a:xfrm>
          <a:prstGeom prst="rect">
            <a:avLst/>
          </a:prstGeom>
          <a:solidFill>
            <a:srgbClr val="c0c0c0">
              <a:alpha val="53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-6336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«Вдруг из соседней комнаты послышался бег к двери нескольких мужских и женских ног, грохот зацепленного и поваленного стула, и в комнату вбежала тринадцатилетняя девочка, запахнув что-то короткою кисейною юбкою, и остановилась посередине комнаты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Ясная Поляна Отрадное 4 Цветник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-1905120" y="0"/>
            <a:ext cx="11049120" cy="6854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У Ростовых 2"/>
          <p:cNvPicPr/>
          <p:nvPr/>
        </p:nvPicPr>
        <p:blipFill>
          <a:blip r:embed="rId2"/>
          <a:stretch/>
        </p:blipFill>
        <p:spPr>
          <a:xfrm>
            <a:off x="-76320" y="1676520"/>
            <a:ext cx="9372600" cy="5742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"/>
          <p:cNvSpPr/>
          <p:nvPr/>
        </p:nvSpPr>
        <p:spPr>
          <a:xfrm>
            <a:off x="-152280" y="0"/>
            <a:ext cx="9296280" cy="2590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0" y="76320"/>
            <a:ext cx="914400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«Пляска оживлялась все более и более. Все было занято графом и Марьею Дмитриевной. Наташа дергала за рукава и платье всех присутствовавших, которые и без того не спускали глаз с танцующих, и требовала, чтоб смотрели на папеньку. Граф в промежутках танца тяжело переводил дух, махал и кричал музыкантам, чтоб они играли скорее.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- Вот как в наше время танцовывали,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ma chere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,- сказал граф».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0-12-13T10:22:31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410000000000001024140</vt:lpwstr>
  </property>
  <property fmtid="{D5CDD505-2E9C-101B-9397-08002B2CF9AE}" pid="3" name="Version">
    <vt:r8>1</vt:r8>
  </property>
</Properties>
</file>