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3926-49CF-4FE6-96A0-374CFFF875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C1E0-4AAC-4E1D-956C-F19761979C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6654-B58A-4EE6-B480-8658286429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269F-AB56-4E14-8BD5-E791B91360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6E4B-3136-4EBC-8052-475B3D370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2599-03CB-4068-A55D-07802EFEB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0A0C-48AF-4CEC-8CE2-EA897E66AF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4293-47F9-471E-86D5-4979AE9BF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46F0-7D3F-4780-B8F8-680CE68AD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4578-3491-4857-ABBC-6B8794290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A262-F11A-4B03-BB39-4D7761985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DF7A-ACEF-4A80-A564-D1DC4EAD96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665B-C34D-4533-B858-1C1C8693B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CCAB-D1C0-4C09-8D53-771A50B14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AFBA-3EE2-42C2-8C0F-FDE89A6620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0CA4-1938-4629-AE5F-3F59ABD1C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9D2A-897E-4482-83AB-4892C3D56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01CE-F5C9-468D-B5B1-2E989B891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097-CA05-4CDA-9A01-65F4FA17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014-82F4-4968-8D11-126F8E6C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059-A3D7-49AE-B5E1-42E11764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D88-6D1C-4F6F-ADD0-F1107F6B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62A-BF54-4690-936F-E930F7A1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165-D075-43B8-B229-2D4365B3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C1D-B1B9-432E-905D-E1B1F175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032-487A-4F4E-8F6D-52EBA84E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A04-3750-486B-823B-DE4F258E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1C4-8989-4FA1-A715-A8C9BDFA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364-5463-4A1E-8A7B-3852B889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258-E791-4E27-9CAB-05AD0634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935A-C6D0-4041-80EF-365619F17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Юные Ростовы и Броис"/>
          <p:cNvPicPr/>
          <p:nvPr/>
        </p:nvPicPr>
        <p:blipFill>
          <a:blip r:embed="rId1"/>
          <a:stretch/>
        </p:blipFill>
        <p:spPr>
          <a:xfrm>
            <a:off x="171360" y="2438280"/>
            <a:ext cx="17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урагины 2 Ипполит"/>
          <p:cNvPicPr/>
          <p:nvPr/>
        </p:nvPicPr>
        <p:blipFill>
          <a:blip r:embed="rId2"/>
          <a:stretch/>
        </p:blipFill>
        <p:spPr>
          <a:xfrm>
            <a:off x="6934320" y="4495680"/>
            <a:ext cx="1890720" cy="217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урагины Друбецкие 1"/>
          <p:cNvPicPr/>
          <p:nvPr/>
        </p:nvPicPr>
        <p:blipFill>
          <a:blip r:embed="rId3"/>
          <a:stretch/>
        </p:blipFill>
        <p:spPr>
          <a:xfrm>
            <a:off x="3962520" y="44956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Наташа и Соня"/>
          <p:cNvPicPr/>
          <p:nvPr/>
        </p:nvPicPr>
        <p:blipFill>
          <a:blip r:embed="rId4"/>
          <a:stretch/>
        </p:blipFill>
        <p:spPr>
          <a:xfrm>
            <a:off x="7772400" y="152280"/>
            <a:ext cx="12160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Ладанка"/>
          <p:cNvPicPr/>
          <p:nvPr/>
        </p:nvPicPr>
        <p:blipFill>
          <a:blip r:embed="rId5"/>
          <a:stretch/>
        </p:blipFill>
        <p:spPr>
          <a:xfrm>
            <a:off x="152280" y="152280"/>
            <a:ext cx="963720" cy="17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Прощание отца и сына"/>
          <p:cNvPicPr/>
          <p:nvPr/>
        </p:nvPicPr>
        <p:blipFill>
          <a:blip r:embed="rId6"/>
          <a:stretch/>
        </p:blipFill>
        <p:spPr>
          <a:xfrm>
            <a:off x="7391520" y="2362320"/>
            <a:ext cx="147456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Курагины 3 на балу"/>
          <p:cNvPicPr/>
          <p:nvPr/>
        </p:nvPicPr>
        <p:blipFill>
          <a:blip r:embed="rId7"/>
          <a:stretch/>
        </p:blipFill>
        <p:spPr>
          <a:xfrm>
            <a:off x="609480" y="47242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Николенька Болконский"/>
          <p:cNvPicPr/>
          <p:nvPr/>
        </p:nvPicPr>
        <p:blipFill>
          <a:blip r:embed="rId8"/>
          <a:stretch/>
        </p:blipFill>
        <p:spPr>
          <a:xfrm>
            <a:off x="3581280" y="152280"/>
            <a:ext cx="1752840" cy="132084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219320" y="1523880"/>
            <a:ext cx="6400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СЕМЬЯ –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РАВСТВЕННЫЙ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ОПЛОТ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АЦИИ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380880" y="1523880"/>
            <a:ext cx="8534520" cy="3886200"/>
          </a:xfrm>
          <a:prstGeom prst="roundRect">
            <a:avLst>
              <a:gd name="adj" fmla="val 16667"/>
            </a:avLst>
          </a:prstGeom>
          <a:solidFill>
            <a:srgbClr val="ccec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1676520"/>
            <a:ext cx="82296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мейство Ростовых, хотя они и графы, есть простое семейство русских помещиков, тесно связанное с деревнею, сохраняющее весь строй, все предания русской жизни и только случайно соприкасающееся с большим светом. Большой свет есть сфера, совершенно от них отдельная, тлетворная сфера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. Н. Страхов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09480" y="1219320"/>
            <a:ext cx="7925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БОЛКОНСКИЕ</a:t>
            </a:r>
            <a:endParaRPr b="1" lang="en-US" sz="4000" spc="1" strike="noStrike">
              <a:ln w="936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133720" y="57150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ЛЫСЫЕ ГОР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Прощание отца с сыном фильм"/>
          <p:cNvPicPr/>
          <p:nvPr/>
        </p:nvPicPr>
        <p:blipFill>
          <a:blip r:embed="rId2"/>
          <a:stretch/>
        </p:blipFill>
        <p:spPr>
          <a:xfrm>
            <a:off x="380880" y="3137040"/>
            <a:ext cx="6172200" cy="372096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1" name="Picture 5" descr="Старый Болконский 2"/>
          <p:cNvPicPr/>
          <p:nvPr/>
        </p:nvPicPr>
        <p:blipFill>
          <a:blip r:embed="rId3"/>
          <a:stretch/>
        </p:blipFill>
        <p:spPr>
          <a:xfrm>
            <a:off x="5975280" y="3124080"/>
            <a:ext cx="316872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3124080"/>
            <a:ext cx="181440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sp>
        <p:nvSpPr>
          <p:cNvPr id="103" name="Text Box 9"/>
          <p:cNvSpPr/>
          <p:nvPr/>
        </p:nvSpPr>
        <p:spPr>
          <a:xfrm>
            <a:off x="609480" y="685800"/>
            <a:ext cx="82296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Georgia"/>
              </a:rPr>
              <a:t>КНЯЗЬ НИКОЛАЙ АНДРЕЕВИЧ БОЛКОНСКИЙ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04920" y="836640"/>
            <a:ext cx="853416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«Он говорил, что есть только два источника людских пороков: праздность и суеверие, и что есть только две добродетели: деятельность и ум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Кн"/>
          <p:cNvPicPr/>
          <p:nvPr/>
        </p:nvPicPr>
        <p:blipFill>
          <a:blip r:embed="rId2"/>
          <a:stretch/>
        </p:blipFill>
        <p:spPr>
          <a:xfrm>
            <a:off x="3352680" y="3828960"/>
            <a:ext cx="7010640" cy="3029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2747880" cy="411480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0" y="3838680"/>
            <a:ext cx="5105520" cy="30193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sp>
        <p:nvSpPr>
          <p:cNvPr id="108" name="Text Box 7"/>
          <p:cNvSpPr/>
          <p:nvPr/>
        </p:nvSpPr>
        <p:spPr>
          <a:xfrm>
            <a:off x="2971800" y="820800"/>
            <a:ext cx="6019920" cy="220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КНЯЖНА МАРЬЯ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Georgia"/>
              </a:rPr>
              <a:t>« А чтобы ты была похожа на наших глупых барынь, я не хочу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Прощание с сыном фильм"/>
          <p:cNvPicPr/>
          <p:nvPr/>
        </p:nvPicPr>
        <p:blipFill>
          <a:blip r:embed="rId2"/>
          <a:stretch/>
        </p:blipFill>
        <p:spPr>
          <a:xfrm>
            <a:off x="914400" y="2449440"/>
            <a:ext cx="746748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0" name="Picture 9" descr="Ладанка"/>
          <p:cNvPicPr/>
          <p:nvPr/>
        </p:nvPicPr>
        <p:blipFill>
          <a:blip r:embed="rId3"/>
          <a:stretch/>
        </p:blipFill>
        <p:spPr>
          <a:xfrm>
            <a:off x="6573960" y="2438280"/>
            <a:ext cx="254304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1" name="Picture 11" descr="Прощание отца и сына"/>
          <p:cNvPicPr/>
          <p:nvPr/>
        </p:nvPicPr>
        <p:blipFill>
          <a:blip r:embed="rId4"/>
          <a:stretch/>
        </p:blipFill>
        <p:spPr>
          <a:xfrm>
            <a:off x="-20520" y="2438280"/>
            <a:ext cx="351936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2" name="Picture 14" descr="Болконский карандаш"/>
          <p:cNvPicPr/>
          <p:nvPr/>
        </p:nvPicPr>
        <p:blipFill>
          <a:blip r:embed="rId5"/>
          <a:stretch/>
        </p:blipFill>
        <p:spPr>
          <a:xfrm>
            <a:off x="3505320" y="2438280"/>
            <a:ext cx="3012840" cy="3886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Text Box 16"/>
          <p:cNvSpPr/>
          <p:nvPr/>
        </p:nvSpPr>
        <p:spPr>
          <a:xfrm>
            <a:off x="838080" y="228600"/>
            <a:ext cx="7543800" cy="177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КНЯЗЬ АНДРЕЙ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«Я иду на войну …, потому что та жизнь, которую здесь я веду, не по мн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109440"/>
            <a:ext cx="8991720" cy="247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-Помни одно, князь Андрей: коли тебя убьют, мне старику больно будет …, а коли узнаю, что ты повел себя не как сын Николая Болконского, мне будет … стыдно!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Это вы могли бы не говорить мне, батюшка, - улыбаясь, сказал сын»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1447920" y="1600200"/>
            <a:ext cx="6781680" cy="3962520"/>
          </a:xfrm>
          <a:prstGeom prst="roundRect">
            <a:avLst>
              <a:gd name="adj" fmla="val 16667"/>
            </a:avLst>
          </a:prstGeom>
          <a:solidFill>
            <a:srgbClr val="c0c0c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1752480"/>
            <a:ext cx="624816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eorgia"/>
              </a:rPr>
              <a:t>«Семейство Болконских точно так же не принадлежит к большому свету. Скорее можно сказать, что оно выше этого света, но во всяком случае оно вне его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Дед Толстого Н"/>
          <p:cNvPicPr/>
          <p:nvPr/>
        </p:nvPicPr>
        <p:blipFill>
          <a:blip r:embed="rId1"/>
          <a:stretch/>
        </p:blipFill>
        <p:spPr>
          <a:xfrm>
            <a:off x="304920" y="1295280"/>
            <a:ext cx="3284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. С.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лконский-прототип Н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Болконского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19" name="Picture 4" descr="И"/>
          <p:cNvPicPr/>
          <p:nvPr/>
        </p:nvPicPr>
        <p:blipFill>
          <a:blip r:embed="rId2"/>
          <a:stretch/>
        </p:blipFill>
        <p:spPr>
          <a:xfrm>
            <a:off x="5181480" y="1295280"/>
            <a:ext cx="35560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181480" y="54864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И. А. Толст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прототип граф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Ростов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0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ЛЮБИМЫЕ СЕМЬИ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066680" y="1936800"/>
            <a:ext cx="647712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omic"/>
              </a:rPr>
              <a:t>« СЕМЬЯ - НРАВСТВЕННЫЙ ОПЛОТ НАЦИИ»</a:t>
            </a:r>
            <a:endParaRPr b="0" lang="en-US" sz="54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"/>
              </a:rPr>
              <a:t>Л. Н. Толстой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19320" y="1143000"/>
            <a:ext cx="66294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 … Нигде с такой яркостию и силою не выступала русская семейная жизнь, как в «Войне и мире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Это не роман вообще, не исторический роман, даже не историческая хроника; это – хроника семейная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Танец у Ростовых"/>
          <p:cNvPicPr/>
          <p:nvPr/>
        </p:nvPicPr>
        <p:blipFill>
          <a:blip r:embed="rId1"/>
          <a:stretch/>
        </p:blipFill>
        <p:spPr>
          <a:xfrm>
            <a:off x="6477120" y="1371600"/>
            <a:ext cx="24717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урагины 3 на балу"/>
          <p:cNvPicPr/>
          <p:nvPr/>
        </p:nvPicPr>
        <p:blipFill>
          <a:blip r:embed="rId2"/>
          <a:stretch/>
        </p:blipFill>
        <p:spPr>
          <a:xfrm>
            <a:off x="3200400" y="1905120"/>
            <a:ext cx="2895480" cy="21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Ст"/>
          <p:cNvPicPr/>
          <p:nvPr/>
        </p:nvPicPr>
        <p:blipFill>
          <a:blip r:embed="rId3"/>
          <a:stretch/>
        </p:blipFill>
        <p:spPr>
          <a:xfrm>
            <a:off x="228600" y="1371600"/>
            <a:ext cx="249876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152280" y="49528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Болконские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9718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Курагин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47712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Ростов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0948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ИСТОРИЯ ТРЕХ СЕМЕЙСТВ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2819520" y="1905120"/>
            <a:ext cx="3581280" cy="457200"/>
          </a:xfrm>
          <a:prstGeom prst="leftRightArrow">
            <a:avLst>
              <a:gd name="adj1" fmla="val 50000"/>
              <a:gd name="adj2" fmla="val 1559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04812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819520" y="3505320"/>
            <a:ext cx="3581280" cy="533160"/>
          </a:xfrm>
          <a:prstGeom prst="downArrowCallout">
            <a:avLst>
              <a:gd name="adj1" fmla="val 167943"/>
              <a:gd name="adj2" fmla="val 167927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666880" y="3048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6532E-006 L -0.0033 -0.14983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416 -0.1308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9827E-006 L 3.33333E-006 -0.14428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9191E-006 L 0.00417 -0.14197 E">
                                      <p:cBhvr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676520" y="137160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КУРАГИНЫ</a:t>
            </a:r>
            <a:endParaRPr b="1" lang="en-US" sz="40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Курагины 3 на балу"/>
          <p:cNvPicPr/>
          <p:nvPr/>
        </p:nvPicPr>
        <p:blipFill>
          <a:blip r:embed="rId2"/>
          <a:stretch/>
        </p:blipFill>
        <p:spPr>
          <a:xfrm>
            <a:off x="380880" y="2590920"/>
            <a:ext cx="5410440" cy="40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4" descr="Курагины Друбецкие 1"/>
          <p:cNvPicPr/>
          <p:nvPr/>
        </p:nvPicPr>
        <p:blipFill>
          <a:blip r:embed="rId3"/>
          <a:stretch/>
        </p:blipFill>
        <p:spPr>
          <a:xfrm>
            <a:off x="5775480" y="2590920"/>
            <a:ext cx="306360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2" name="AutoShape 6"/>
          <p:cNvSpPr/>
          <p:nvPr/>
        </p:nvSpPr>
        <p:spPr>
          <a:xfrm>
            <a:off x="457200" y="685800"/>
            <a:ext cx="8305920" cy="1752480"/>
          </a:xfrm>
          <a:prstGeom prst="roundRect">
            <a:avLst>
              <a:gd name="adj" fmla="val 16667"/>
            </a:avLst>
          </a:prstGeom>
          <a:solidFill>
            <a:srgbClr val="c0c0c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04920" y="4870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Мои дети - ce sont les entraves de mon existence. Это мой крест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(Мои дети – обуза моего существования)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74" name="Picture 7" descr="Пьер и Элен 1"/>
          <p:cNvPicPr/>
          <p:nvPr/>
        </p:nvPicPr>
        <p:blipFill>
          <a:blip r:embed="rId4"/>
          <a:stretch/>
        </p:blipFill>
        <p:spPr>
          <a:xfrm>
            <a:off x="5715000" y="2590920"/>
            <a:ext cx="308628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5" name="Picture 8" descr="Элен каротчка"/>
          <p:cNvPicPr/>
          <p:nvPr/>
        </p:nvPicPr>
        <p:blipFill>
          <a:blip r:embed="rId5"/>
          <a:stretch/>
        </p:blipFill>
        <p:spPr>
          <a:xfrm>
            <a:off x="228600" y="2590920"/>
            <a:ext cx="312732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Picture 10" descr="Курагины 2 Ипполит"/>
          <p:cNvPicPr/>
          <p:nvPr/>
        </p:nvPicPr>
        <p:blipFill>
          <a:blip r:embed="rId6"/>
          <a:stretch/>
        </p:blipFill>
        <p:spPr>
          <a:xfrm>
            <a:off x="2895480" y="2590920"/>
            <a:ext cx="370836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Picture 12" descr="Анатоль 1"/>
          <p:cNvPicPr/>
          <p:nvPr/>
        </p:nvPicPr>
        <p:blipFill>
          <a:blip r:embed="rId7"/>
          <a:stretch/>
        </p:blipFill>
        <p:spPr>
          <a:xfrm>
            <a:off x="3657600" y="25909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685800" y="6094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- Вы знаете, я сделал для их воспитания все, что может отец … Ипполит, по крайней мере, покойный дурак, а Анатоль – беспокойный. Вот одно различи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9.82659E-007 L -0.29444 9.82659E-007 E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7920" y="2009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«… Влияние в свете – капитал, который надо беречь, чтобы он не исчез».</a:t>
            </a:r>
            <a:endParaRPr b="0" lang="en-US" sz="4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380880"/>
            <a:ext cx="82296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ПОДЛАЯ ПОРОДА»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Пьер о Курагиных)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752480" y="3240"/>
            <a:ext cx="11048760" cy="68547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914400" y="685800"/>
            <a:ext cx="7010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РОСТОВЫ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2120" y="4267080"/>
            <a:ext cx="72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828800" y="426708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Georgia"/>
              </a:rPr>
              <a:t>ОТРАДНО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Молодые Ростовы 2"/>
          <p:cNvPicPr/>
          <p:nvPr/>
        </p:nvPicPr>
        <p:blipFill>
          <a:blip r:embed="rId2"/>
          <a:stretch/>
        </p:blipFill>
        <p:spPr>
          <a:xfrm>
            <a:off x="-152280" y="2362320"/>
            <a:ext cx="3195360" cy="449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Юные Ростовы и Броис"/>
          <p:cNvPicPr/>
          <p:nvPr/>
        </p:nvPicPr>
        <p:blipFill>
          <a:blip r:embed="rId3"/>
          <a:stretch/>
        </p:blipFill>
        <p:spPr>
          <a:xfrm>
            <a:off x="2971800" y="2362320"/>
            <a:ext cx="395136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Наташа и Соня"/>
          <p:cNvPicPr/>
          <p:nvPr/>
        </p:nvPicPr>
        <p:blipFill>
          <a:blip r:embed="rId4"/>
          <a:stretch/>
        </p:blipFill>
        <p:spPr>
          <a:xfrm>
            <a:off x="6553080" y="2362320"/>
            <a:ext cx="3451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-228600" y="0"/>
            <a:ext cx="9372600" cy="2362320"/>
          </a:xfrm>
          <a:prstGeom prst="rect">
            <a:avLst/>
          </a:prstGeom>
          <a:solidFill>
            <a:srgbClr val="c0c0c0">
              <a:alpha val="5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-63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«Вдруг из соседней комнаты послышался бег к двери нескольких мужских и женских ног, грохот зацепленного и поваленного стула, и в комнату вбежала тринадцатилетняя девочка, запахнув что-то короткою кисейною юбкою, и остановилась посередине комнат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У Ростовых 2"/>
          <p:cNvPicPr/>
          <p:nvPr/>
        </p:nvPicPr>
        <p:blipFill>
          <a:blip r:embed="rId2"/>
          <a:stretch/>
        </p:blipFill>
        <p:spPr>
          <a:xfrm>
            <a:off x="-76320" y="1676520"/>
            <a:ext cx="9372600" cy="5742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-152280" y="0"/>
            <a:ext cx="9296280" cy="259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76320"/>
            <a:ext cx="9144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Пляска оживлялась все более и более. Все было занято графом и Марьею Дмитриевной. Наташа дергала за рукава и платье всех присутствовавших, которые и без того не спускали глаз с танцующих, и требовала, чтоб смотрели на папеньку. Граф в промежутках танца тяжело переводил дух, махал и кричал музыкантам, чтоб они играли скорее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Вот как в наше время танцовывали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a chere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,- сказал граф»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22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4140</vt:lpwstr>
  </property>
  <property fmtid="{D5CDD505-2E9C-101B-9397-08002B2CF9AE}" pid="3" name="Version">
    <vt:r8>1</vt:r8>
  </property>
</Properties>
</file>