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28.jpeg" ContentType="image/jpeg"/>
  <Override PartName="/ppt/media/image51.jpeg" ContentType="image/jpeg"/>
  <Override PartName="/ppt/media/image6.jpeg" ContentType="image/jpeg"/>
  <Override PartName="/ppt/media/image63.jpeg" ContentType="image/jpeg"/>
  <Override PartName="/ppt/media/image60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0.png" ContentType="image/pn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54.png" ContentType="image/png"/>
  <Override PartName="/ppt/media/image41.jpeg" ContentType="image/jpeg"/>
  <Override PartName="/ppt/media/image14.jpeg" ContentType="image/jpeg"/>
  <Override PartName="/ppt/media/image16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3.jpeg" ContentType="image/jpeg"/>
  <Override PartName="/ppt/media/image18.jpeg" ContentType="image/jpeg"/>
  <Override PartName="/ppt/media/image15.png" ContentType="image/png"/>
  <Override PartName="/ppt/media/image22.jpeg" ContentType="image/jpeg"/>
  <Override PartName="/ppt/media/image9.png" ContentType="image/png"/>
  <Override PartName="/ppt/media/image17.jpeg" ContentType="image/jpe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19.jpeg" ContentType="image/jpeg"/>
  <Override PartName="/ppt/media/image11.png" ContentType="image/png"/>
  <Override PartName="/ppt/media/image48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13.jpeg" ContentType="image/jpeg"/>
  <Override PartName="/ppt/media/image44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EE0-2E1F-44E8-991C-40F8345C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6654-E9A6-4994-8D9D-EBD33A24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1F5-2ECA-4EE9-9422-0553BB41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5C8-D77A-4FA6-9CFA-9036CA34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11B2-B5E1-48E0-BD97-C4FBB453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9B2-B1D9-4278-82E9-9896D587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6EE1-21D9-43F4-A3F1-E0DB622D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6C9-81EE-455A-99C5-62DE83E8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B817-0F62-4365-A864-CF911AFB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E58C-A92B-4A72-BC5A-C22865D6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73AC-EAC9-4CD0-BC46-F3CB7A39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AEC-2BAC-451D-8120-E366D6E3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D16A-95F6-48C3-86AB-7E8918BE3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" Target="slide3.xml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6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7.jpeg"/><Relationship Id="rId5" Type="http://schemas.openxmlformats.org/officeDocument/2006/relationships/slide" Target="slide3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9.jpeg"/><Relationship Id="rId4" Type="http://schemas.openxmlformats.org/officeDocument/2006/relationships/image" Target="../media/image14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0.png"/><Relationship Id="rId4" Type="http://schemas.openxmlformats.org/officeDocument/2006/relationships/image" Target="../media/image42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4.jpe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jpeg"/><Relationship Id="rId8" Type="http://schemas.openxmlformats.org/officeDocument/2006/relationships/image" Target="../media/image4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27.xml"/><Relationship Id="rId13" Type="http://schemas.openxmlformats.org/officeDocument/2006/relationships/slide" Target="slide27.xml"/><Relationship Id="rId14" Type="http://schemas.openxmlformats.org/officeDocument/2006/relationships/slide" Target="slide30.xml"/><Relationship Id="rId15" Type="http://schemas.openxmlformats.org/officeDocument/2006/relationships/slide" Target="slide30.xml"/><Relationship Id="rId16" Type="http://schemas.openxmlformats.org/officeDocument/2006/relationships/slide" Target="slide41.xml"/><Relationship Id="rId17" Type="http://schemas.openxmlformats.org/officeDocument/2006/relationships/slide" Target="slide41.xml"/><Relationship Id="rId18" Type="http://schemas.openxmlformats.org/officeDocument/2006/relationships/slide" Target="slide41.xml"/><Relationship Id="rId19" Type="http://schemas.openxmlformats.org/officeDocument/2006/relationships/slide" Target="slide38.xml"/><Relationship Id="rId20" Type="http://schemas.openxmlformats.org/officeDocument/2006/relationships/slide" Target="slide38.xml"/><Relationship Id="rId21" Type="http://schemas.openxmlformats.org/officeDocument/2006/relationships/slide" Target="slide38.xml"/><Relationship Id="rId2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3.jpeg"/><Relationship Id="rId8" Type="http://schemas.openxmlformats.org/officeDocument/2006/relationships/image" Target="../media/image54.png"/><Relationship Id="rId9" Type="http://schemas.openxmlformats.org/officeDocument/2006/relationships/image" Target="../media/image55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6.jpeg"/><Relationship Id="rId8" Type="http://schemas.openxmlformats.org/officeDocument/2006/relationships/image" Target="../media/image57.png"/><Relationship Id="rId9" Type="http://schemas.openxmlformats.org/officeDocument/2006/relationships/image" Target="../media/image58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9.jpeg"/><Relationship Id="rId8" Type="http://schemas.openxmlformats.org/officeDocument/2006/relationships/image" Target="../media/image60.png"/><Relationship Id="rId9" Type="http://schemas.openxmlformats.org/officeDocument/2006/relationships/image" Target="../media/image22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14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58920" y="1557360"/>
            <a:ext cx="6912000" cy="3384360"/>
          </a:xfrm>
          <a:prstGeom prst="flowChartProcess">
            <a:avLst/>
          </a:prstGeom>
          <a:solidFill>
            <a:srgbClr val="ffffc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1844640"/>
            <a:ext cx="6480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теллектуальная игра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Что? Где? Когда?"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 тему: "Литература XIX века"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1240" y="189000"/>
            <a:ext cx="846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осударственное обще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Центр образования №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60680" y="5157720"/>
            <a:ext cx="634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олодченкова Юлия 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3960" y="6276960"/>
            <a:ext cx="178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26560" y="1628640"/>
            <a:ext cx="40089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аки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Ринат Абдул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2808360" cy="4049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00720" y="3213000"/>
            <a:ext cx="428616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етодическая литература по исто-рии и обществозн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давно перечит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жон Голсуорси «Сага о Форсайтах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565360"/>
            <a:ext cx="5256000" cy="230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005360"/>
            <a:ext cx="1946160" cy="2376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588000" y="4292640"/>
            <a:ext cx="1656000" cy="1871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70920" y="2781360"/>
            <a:ext cx="490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ть остров на том океан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устынный и мрачный грани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острове том есть моги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в ней император за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45800" y="1628640"/>
            <a:ext cx="690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строки из стихотво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Ю. Лермонтова «Воздушный кораб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4797360"/>
            <a:ext cx="55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какой географической точке говорится? С какими реальны-ми событиями связано это сти-хотвор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4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5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6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6" dur="1633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633"/>
                            </p:stCondLst>
                            <p:childTnLst>
                              <p:par>
                                <p:cTn id="5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633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266"/>
                            </p:stCondLst>
                            <p:childTnLst>
                              <p:par>
                                <p:cTn id="5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5" dur="1633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4899"/>
                            </p:stCondLst>
                            <p:childTnLst>
                              <p:par>
                                <p:cTn id="5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1" dur="1633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1532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633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8165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633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4798"/>
                            </p:stCondLst>
                            <p:childTnLst>
                              <p:par>
                                <p:cTn id="5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9" dur="163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1431"/>
                            </p:stCondLst>
                            <p:childTnLst>
                              <p:par>
                                <p:cTn id="5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5" dur="1633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8064"/>
                            </p:stCondLst>
                            <p:childTnLst>
                              <p:par>
                                <p:cTn id="5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633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4697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63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133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633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5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67963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633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6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4596"/>
                            </p:stCondLst>
                            <p:childTnLst>
                              <p:par>
                                <p:cTn id="60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5" dur="1633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6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1773360"/>
            <a:ext cx="4248360" cy="3095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40360" y="2924280"/>
            <a:ext cx="2590920" cy="3529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227640" y="3068640"/>
            <a:ext cx="2038320" cy="2738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940360" y="5805360"/>
            <a:ext cx="275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олеон Бонапарт после отречения во дворце Фонтенбло Поль Делар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1042920" y="1844640"/>
            <a:ext cx="3881520" cy="2233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79480" y="683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2920" y="4221000"/>
            <a:ext cx="40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ланный на остров Святой Елены, Наполеон жил там в поместье Лонгв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5013360"/>
            <a:ext cx="4895640" cy="1509840"/>
          </a:xfrm>
          <a:prstGeom prst="wedgeRoundRectCallout">
            <a:avLst>
              <a:gd name="adj1" fmla="val 82231"/>
              <a:gd name="adj2" fmla="val -79023"/>
              <a:gd name="adj3" fmla="val 16667"/>
            </a:avLst>
          </a:prstGeom>
          <a:blipFill rotWithShape="0">
            <a:blip r:embed="rId6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5013360"/>
            <a:ext cx="446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Это хуже, чем железная клетка Тамерлана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Я предпочёл бы, чтобы меня выдали Бурбонам… Я отдался под защиту ваших законов. Прави-тельство попирает священные обычаи госте-приимства… Это равносильно подписанию смертного приговор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2808360" cy="4032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285080" y="1628640"/>
            <a:ext cx="4225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алах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Эмма Антон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924280"/>
            <a:ext cx="428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в детстве книг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Ганс Христиан Андерсен «Снежная Королев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Философия Н.А. Бердяев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С. Соловь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Пелевин «Жизнь насекомых», «Омон 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1557360"/>
            <a:ext cx="849636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79640" y="3500280"/>
            <a:ext cx="2160720" cy="2881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3500280"/>
            <a:ext cx="2376720" cy="2881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1773360"/>
            <a:ext cx="5473440" cy="86364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050920" y="191628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ЛИ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87280" y="2708280"/>
            <a:ext cx="71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герои романа И.С.Тургенева «Отцы и дети» охарактеризованы следующими цита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2124000" y="3573360"/>
            <a:ext cx="190512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5364000" y="3573360"/>
            <a:ext cx="2089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9640" y="1700280"/>
            <a:ext cx="4392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а вид ему было лет сорок пять: его коротко остриженные седые волосы отливали темным блеском, как новое серебро; лицо его, желчное, но без морщин, не-обыкновенно правильное и чистое, словно выведенное тонким и легким резцом, яв-ляло следы красоты замеча-тельной; особенно хороши были светлые, черные, про-долговатые гла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5580000" y="1916280"/>
            <a:ext cx="2772000" cy="3981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219640" y="5805360"/>
            <a:ext cx="340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Павел Петрович Кирсанов. Художник Е. Рудаков. 1946–19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633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633"/>
                            </p:stCondLst>
                            <p:childTnLst>
                              <p:par>
                                <p:cTn id="76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63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8266"/>
                            </p:stCondLst>
                            <p:childTnLst>
                              <p:par>
                                <p:cTn id="77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4" dur="1633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4899"/>
                            </p:stCondLst>
                            <p:childTnLst>
                              <p:par>
                                <p:cTn id="77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0" dur="1633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1532"/>
                            </p:stCondLst>
                            <p:childTnLst>
                              <p:par>
                                <p:cTn id="78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6" dur="1633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2060640"/>
            <a:ext cx="446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твернув воротник балахона, показал … все свое лицо. Длинное и худое, с ши-роким лбом, кверху плоским, книзу заостренным носом, большими зеленоватыми глазами и висячими бакен-бардами песочного цвету, оно оживлялось спокойной улыбкой и выражало само-уверенность и у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5508720" y="1916280"/>
            <a:ext cx="2879640" cy="39607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219640" y="5805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аза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Художник Д. Боровский.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8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3" dur="1633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633"/>
                            </p:stCondLst>
                            <p:childTnLst>
                              <p:par>
                                <p:cTn id="83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6" dur="1633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8266"/>
                            </p:stCondLst>
                            <p:childTnLst>
                              <p:par>
                                <p:cTn id="84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2" dur="1633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4899"/>
                            </p:stCondLst>
                            <p:childTnLst>
                              <p:par>
                                <p:cTn id="84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8" dur="1633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1532"/>
                            </p:stCondLst>
                            <p:childTnLst>
                              <p:par>
                                <p:cTn id="85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4" dur="1633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8360" y="1773360"/>
            <a:ext cx="446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бнаженные ее руки краси-во лежали вдоль стройного стана; красиво падали с бле-стящих волос на покатые плечи легкие ветки фуксий; спокойно и умно, именно спо-койно, а не задумчиво, гляде-ли светлые глаза из-под не-много нависшего белого лба, и губы улыбались едва заме-тною улыбкою. Какою-то ласковой и мягкой силой веяло от ее ли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508720" y="1989000"/>
            <a:ext cx="2879640" cy="3745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219640" y="5805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Анна Сергеевна Одинцова. Художник Д. Бор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7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8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1" dur="1633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633"/>
                            </p:stCondLst>
                            <p:childTnLst>
                              <p:par>
                                <p:cTn id="90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4" dur="1633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8266"/>
                            </p:stCondLst>
                            <p:childTnLst>
                              <p:par>
                                <p:cTn id="90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633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4899"/>
                            </p:stCondLst>
                            <p:childTnLst>
                              <p:par>
                                <p:cTn id="91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6" dur="1633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9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1532"/>
                            </p:stCondLst>
                            <p:childTnLst>
                              <p:par>
                                <p:cTn id="92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2" dur="1633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79600" y="1628640"/>
            <a:ext cx="43855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ондр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Ирин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директора по У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2665440" cy="3889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00720" y="3357720"/>
            <a:ext cx="428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ективы Т. Устин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в детстве кни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Хижина дяди Тома» Гарриет Бичер- Ст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95640" y="2708280"/>
            <a:ext cx="518292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00000" y="1947960"/>
            <a:ext cx="72723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названия четырех сказ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азовите лишнюю и объясните свой выб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91200" y="2924280"/>
            <a:ext cx="484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Медведь на воеводств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Маша и медвед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Сказка о медведих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2" dur="1633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633"/>
                            </p:stCondLst>
                            <p:childTnLst>
                              <p:par>
                                <p:cTn id="103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5" dur="1633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8266"/>
                            </p:stCondLst>
                            <p:childTnLst>
                              <p:par>
                                <p:cTn id="104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1" dur="1633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4899"/>
                            </p:stCondLst>
                            <p:childTnLst>
                              <p:par>
                                <p:cTn id="10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7" dur="1633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4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21532"/>
                            </p:stCondLst>
                            <p:childTnLst>
                              <p:par>
                                <p:cTn id="10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3" dur="1633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8165"/>
                            </p:stCondLst>
                            <p:childTnLst>
                              <p:par>
                                <p:cTn id="10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9" dur="1633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6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34798"/>
                            </p:stCondLst>
                            <p:childTnLst>
                              <p:par>
                                <p:cTn id="10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5" dur="1633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41431"/>
                            </p:stCondLst>
                            <p:childTnLst>
                              <p:par>
                                <p:cTn id="10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1" dur="1633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48064"/>
                            </p:stCondLst>
                            <p:childTnLst>
                              <p:par>
                                <p:cTn id="10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7" dur="1633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4697"/>
                            </p:stCondLst>
                            <p:childTnLst>
                              <p:par>
                                <p:cTn id="10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3" dur="1633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61330"/>
                            </p:stCondLst>
                            <p:childTnLst>
                              <p:par>
                                <p:cTn id="10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9" dur="1633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67963"/>
                            </p:stCondLst>
                            <p:childTnLst>
                              <p:par>
                                <p:cTn id="10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5" dur="1633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74596"/>
                            </p:stCondLst>
                            <p:childTnLst>
                              <p:par>
                                <p:cTn id="11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1" dur="1633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6000" y="692280"/>
            <a:ext cx="6912000" cy="5545080"/>
          </a:xfrm>
          <a:prstGeom prst="flowChartProcess">
            <a:avLst/>
          </a:prstGeom>
          <a:solidFill>
            <a:srgbClr val="ffffcc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63640" y="1484280"/>
            <a:ext cx="57610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ЕНИКИ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тив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ИТЕЛЕЙ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357720"/>
            <a:ext cx="1293840" cy="136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80360" y="5013360"/>
            <a:ext cx="1295280" cy="1297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635280" y="1773360"/>
            <a:ext cx="50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3024360" cy="41036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7524720" y="5084640"/>
            <a:ext cx="100800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7451640" y="3500280"/>
            <a:ext cx="1081080" cy="1079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308720" y="1700280"/>
            <a:ext cx="1295640" cy="1297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6"/>
          <a:stretch/>
        </p:blipFill>
        <p:spPr>
          <a:xfrm>
            <a:off x="7451640" y="1844640"/>
            <a:ext cx="1008000" cy="1081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929400" y="1844640"/>
            <a:ext cx="297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Медве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а воеводств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6680" y="3716280"/>
            <a:ext cx="28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89040" y="5157720"/>
            <a:ext cx="263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Ска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 медведих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7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0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971640" y="1989000"/>
            <a:ext cx="2663640" cy="4176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857840" y="3213000"/>
            <a:ext cx="428616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сторическая 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Э.С. Радзинский «Три смерти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В. Веденеев «Великие тайны Стал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03680" y="1657440"/>
            <a:ext cx="35974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Шар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Елена Вита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4360" y="1916280"/>
            <a:ext cx="3671640" cy="244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16360" y="1916280"/>
            <a:ext cx="3816360" cy="2449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479736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оотнесите названия из левого столбца с именами русских писателей из пра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55640" y="198900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сквор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их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ское-Лутови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64000" y="2060640"/>
            <a:ext cx="269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Н. Ост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.С. 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0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3" dur="1633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633"/>
                            </p:stCondLst>
                            <p:childTnLst>
                              <p:par>
                                <p:cTn id="126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6" dur="1633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6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6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6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8266"/>
                            </p:stCondLst>
                            <p:childTnLst>
                              <p:par>
                                <p:cTn id="127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2" dur="1633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7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4899"/>
                            </p:stCondLst>
                            <p:childTnLst>
                              <p:par>
                                <p:cTn id="127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8" dur="1633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1532"/>
                            </p:stCondLst>
                            <p:childTnLst>
                              <p:par>
                                <p:cTn id="128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4" dur="1633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8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28165"/>
                            </p:stCondLst>
                            <p:childTnLst>
                              <p:par>
                                <p:cTn id="128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0" dur="1633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34798"/>
                            </p:stCondLst>
                            <p:childTnLst>
                              <p:par>
                                <p:cTn id="129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6" dur="1633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41431"/>
                            </p:stCondLst>
                            <p:childTnLst>
                              <p:par>
                                <p:cTn id="130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2" dur="1633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48064"/>
                            </p:stCondLst>
                            <p:childTnLst>
                              <p:par>
                                <p:cTn id="130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8" dur="1633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4697"/>
                            </p:stCondLst>
                            <p:childTnLst>
                              <p:par>
                                <p:cTn id="13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4" dur="1633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1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1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61330"/>
                            </p:stCondLst>
                            <p:childTnLst>
                              <p:par>
                                <p:cTn id="13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0" dur="1633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2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67963"/>
                            </p:stCondLst>
                            <p:childTnLst>
                              <p:par>
                                <p:cTn id="132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6" dur="1633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74596"/>
                            </p:stCondLst>
                            <p:childTnLst>
                              <p:par>
                                <p:cTn id="13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2" dur="1633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3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3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84360" y="1700280"/>
            <a:ext cx="367164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26920" y="162864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сквор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их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ское-Лутови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716360" y="1700280"/>
            <a:ext cx="381636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1700280"/>
            <a:ext cx="2692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Н. Ост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.С. 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1655640" cy="11523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5"/>
          <a:stretch/>
        </p:blipFill>
        <p:spPr>
          <a:xfrm>
            <a:off x="4788000" y="4581360"/>
            <a:ext cx="1439640" cy="17290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6"/>
          <a:stretch/>
        </p:blipFill>
        <p:spPr>
          <a:xfrm>
            <a:off x="6156360" y="429264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7"/>
          <a:stretch/>
        </p:blipFill>
        <p:spPr>
          <a:xfrm>
            <a:off x="1042920" y="5229360"/>
            <a:ext cx="2016360" cy="11509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8"/>
          <a:stretch/>
        </p:blipFill>
        <p:spPr>
          <a:xfrm>
            <a:off x="7164360" y="522936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9"/>
          <a:stretch/>
        </p:blipFill>
        <p:spPr>
          <a:xfrm>
            <a:off x="2843280" y="4221000"/>
            <a:ext cx="1871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0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253400" y="1657440"/>
            <a:ext cx="42984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Ча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Наталия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2736720" cy="3889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19640" y="3141720"/>
            <a:ext cx="428616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рубежная литера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Дэн Брау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Ф.И. Тютч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А.П.Чехо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.М. Зощен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0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58920" y="1773360"/>
            <a:ext cx="6697800" cy="100800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763640" y="184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 ЯЩИ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11280" y="2924280"/>
            <a:ext cx="4464360" cy="33130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84360" y="364500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ужны, чтобы напо-минать человеку, что его оригинальные мысли не так уж н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 Линколь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3059280" y="5229360"/>
            <a:ext cx="784080" cy="9363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0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8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6" dur="1633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633"/>
                            </p:stCondLst>
                            <p:childTnLst>
                              <p:par>
                                <p:cTn id="154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9" dur="1633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266"/>
                            </p:stCondLst>
                            <p:childTnLst>
                              <p:par>
                                <p:cTn id="155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5" dur="1633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14899"/>
                            </p:stCondLst>
                            <p:childTnLst>
                              <p:par>
                                <p:cTn id="156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1" dur="163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21532"/>
                            </p:stCondLst>
                            <p:childTnLst>
                              <p:par>
                                <p:cTn id="156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7" dur="1633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28165"/>
                            </p:stCondLst>
                            <p:childTnLst>
                              <p:par>
                                <p:cTn id="157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3" dur="1633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7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34798"/>
                            </p:stCondLst>
                            <p:childTnLst>
                              <p:par>
                                <p:cTn id="157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9" dur="1633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41431"/>
                            </p:stCondLst>
                            <p:childTnLst>
                              <p:par>
                                <p:cTn id="158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5" dur="1633" fill="hold"/>
                                        <p:tgtEl>
                                          <p:spTgt spid="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48064"/>
                            </p:stCondLst>
                            <p:childTnLst>
                              <p:par>
                                <p:cTn id="159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1" dur="1633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9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9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54697"/>
                            </p:stCondLst>
                            <p:childTnLst>
                              <p:par>
                                <p:cTn id="159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7" dur="1633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9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0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61330"/>
                            </p:stCondLst>
                            <p:childTnLst>
                              <p:par>
                                <p:cTn id="160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3" dur="1633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0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0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67963"/>
                            </p:stCondLst>
                            <p:childTnLst>
                              <p:par>
                                <p:cTn id="160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9" dur="1633" fill="hold"/>
                                        <p:tgtEl>
                                          <p:spTgt spid="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1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74596"/>
                            </p:stCondLst>
                            <p:childTnLst>
                              <p:par>
                                <p:cTn id="161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5" dur="1633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1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1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1773360"/>
            <a:ext cx="6697800" cy="100800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763640" y="184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 ЯЩИ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40000" y="2924280"/>
            <a:ext cx="4464000" cy="33130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2411280" y="3789360"/>
            <a:ext cx="3600720" cy="2448000"/>
          </a:xfrm>
          <a:prstGeom prst="rect">
            <a:avLst/>
          </a:prstGeom>
          <a:ln w="0">
            <a:noFill/>
          </a:ln>
        </p:spPr>
      </p:pic>
      <p:sp>
        <p:nvSpPr>
          <p:cNvPr id="508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5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02160" y="1657440"/>
            <a:ext cx="3789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е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Ирин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971640" y="1916280"/>
            <a:ext cx="2592360" cy="42782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00720" y="3141720"/>
            <a:ext cx="428616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ое произведение: Антуан де Сент-Экзюпери «Маленький принц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А.С.Пушкина «Евгений Онегин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Серебряного 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А.П.Чехова («О любви», «Дама с собачкой»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И.А.Бунина («Темные аллеи», «Солнечный удар»), в домашней библиотеке представлено полное собрание сочинений данного автор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9640" y="1700280"/>
            <a:ext cx="1656000" cy="1873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093080" y="3213000"/>
            <a:ext cx="1654200" cy="19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7236000" y="3357720"/>
            <a:ext cx="1368360" cy="17269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124000" y="3357720"/>
            <a:ext cx="4896000" cy="863280"/>
          </a:xfrm>
          <a:prstGeom prst="wedgeRoundRectCallout">
            <a:avLst>
              <a:gd name="adj1" fmla="val 50875"/>
              <a:gd name="adj2" fmla="val 64523"/>
              <a:gd name="adj3" fmla="val 16667"/>
            </a:avLst>
          </a:prstGeom>
          <a:blipFill rotWithShape="0">
            <a:blip r:embed="rId4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тихах не говорю  - половина должна войти в послов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1800" y="18446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411280" y="2492280"/>
            <a:ext cx="6120000" cy="576360"/>
          </a:xfrm>
          <a:prstGeom prst="wedgeRoundRectCallout">
            <a:avLst>
              <a:gd name="adj1" fmla="val -54175"/>
              <a:gd name="adj2" fmla="val 78925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глупцов на одного здравомысля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484360" y="1700280"/>
            <a:ext cx="4896000" cy="576360"/>
          </a:xfrm>
          <a:prstGeom prst="wedgeRoundRectCallout">
            <a:avLst>
              <a:gd name="adj1" fmla="val -55611"/>
              <a:gd name="adj2" fmla="val 81129"/>
              <a:gd name="adj3" fmla="val 16667"/>
            </a:avLst>
          </a:prstGeom>
          <a:blipFill rotWithShape="0">
            <a:blip r:embed="rId6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не дано, наяву исполн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39640" y="4221000"/>
            <a:ext cx="1584360" cy="1872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7"/>
          <a:stretch/>
        </p:blipFill>
        <p:spPr>
          <a:xfrm>
            <a:off x="684360" y="4292640"/>
            <a:ext cx="1296720" cy="16635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2484360" y="4365720"/>
            <a:ext cx="4464000" cy="1657080"/>
          </a:xfrm>
          <a:prstGeom prst="wedgeRoundRectCallout">
            <a:avLst>
              <a:gd name="adj1" fmla="val -59638"/>
              <a:gd name="adj2" fmla="val 19828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ее достойно оценит сию комедию и поставит ее в число первых творений на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38160" y="6093000"/>
            <a:ext cx="57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произведение и его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9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0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1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2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3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4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5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6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7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8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9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0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1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0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8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9" dur="1633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633"/>
                            </p:stCondLst>
                            <p:childTnLst>
                              <p:par>
                                <p:cTn id="177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2" dur="1633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7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8266"/>
                            </p:stCondLst>
                            <p:childTnLst>
                              <p:par>
                                <p:cTn id="177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8" dur="1633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14899"/>
                            </p:stCondLst>
                            <p:childTnLst>
                              <p:par>
                                <p:cTn id="178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4" dur="1633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21532"/>
                            </p:stCondLst>
                            <p:childTnLst>
                              <p:par>
                                <p:cTn id="178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0" dur="1633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28165"/>
                            </p:stCondLst>
                            <p:childTnLst>
                              <p:par>
                                <p:cTn id="179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6" dur="1633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34798"/>
                            </p:stCondLst>
                            <p:childTnLst>
                              <p:par>
                                <p:cTn id="180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2" dur="1633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41431"/>
                            </p:stCondLst>
                            <p:childTnLst>
                              <p:par>
                                <p:cTn id="180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8" dur="1633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1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1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48064"/>
                            </p:stCondLst>
                            <p:childTnLst>
                              <p:par>
                                <p:cTn id="18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4" dur="1633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1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1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1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54697"/>
                            </p:stCondLst>
                            <p:childTnLst>
                              <p:par>
                                <p:cTn id="18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0" dur="1633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2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61330"/>
                            </p:stCondLst>
                            <p:childTnLst>
                              <p:par>
                                <p:cTn id="182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6" dur="1633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2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2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67963"/>
                            </p:stCondLst>
                            <p:childTnLst>
                              <p:par>
                                <p:cTn id="18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2" dur="1633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3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3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74596"/>
                            </p:stCondLst>
                            <p:childTnLst>
                              <p:par>
                                <p:cTn id="183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8" dur="1633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4360" y="2708280"/>
            <a:ext cx="3024000" cy="3311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6000" y="2060640"/>
            <a:ext cx="2448000" cy="3600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971640" y="2924280"/>
            <a:ext cx="2519280" cy="287964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6084720" y="2276640"/>
            <a:ext cx="1905120" cy="316224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542880" y="1628640"/>
            <a:ext cx="32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Сергее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ибое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95240" y="587700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едия «Горе от у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0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500"/>
                            </p:stCondLst>
                            <p:childTnLst>
                              <p:par>
                                <p:cTn id="18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1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64000" y="2492280"/>
            <a:ext cx="2016000" cy="1873440"/>
          </a:xfrm>
          <a:prstGeom prst="flowChartConnec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067280" y="2708280"/>
            <a:ext cx="1008000" cy="136836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5580000" y="620640"/>
            <a:ext cx="1297080" cy="1224000"/>
          </a:xfrm>
          <a:custGeom>
            <a:avLst/>
            <a:gdLst>
              <a:gd name="textAreaLeft" fmla="*/ 79200 w 1297080"/>
              <a:gd name="textAreaRight" fmla="*/ 1217880 w 12970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5867280" y="76500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6877080" y="1413000"/>
            <a:ext cx="1225440" cy="1224000"/>
          </a:xfrm>
          <a:custGeom>
            <a:avLst/>
            <a:gdLst>
              <a:gd name="textAreaLeft" fmla="*/ 79200 w 1225440"/>
              <a:gd name="textAreaRight" fmla="*/ 1146240 w 12254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8" action="ppaction://hlinksldjump"/>
          </p:cNvPr>
          <p:cNvSpPr/>
          <p:nvPr/>
        </p:nvSpPr>
        <p:spPr>
          <a:xfrm>
            <a:off x="5508720" y="5229360"/>
            <a:ext cx="1296720" cy="1197000"/>
          </a:xfrm>
          <a:custGeom>
            <a:avLst/>
            <a:gdLst>
              <a:gd name="textAreaLeft" fmla="*/ 77400 w 1296720"/>
              <a:gd name="textAreaRight" fmla="*/ 1219320 w 129672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399" h="21600">
                <a:moveTo>
                  <a:pt x="0" y="0"/>
                </a:moveTo>
                <a:lnTo>
                  <a:pt x="23399" y="0"/>
                </a:lnTo>
                <a:lnTo>
                  <a:pt x="23399" y="21600"/>
                </a:lnTo>
                <a:lnTo>
                  <a:pt x="0" y="21600"/>
                </a:lnTo>
                <a:close/>
              </a:path>
              <a:path fill="lightenLess" w="23399" h="21600">
                <a:moveTo>
                  <a:pt x="0" y="0"/>
                </a:moveTo>
                <a:lnTo>
                  <a:pt x="23399" y="0"/>
                </a:lnTo>
                <a:lnTo>
                  <a:pt x="21999" y="1400"/>
                </a:lnTo>
                <a:lnTo>
                  <a:pt x="1400" y="1400"/>
                </a:lnTo>
                <a:close/>
              </a:path>
              <a:path fill="darken" w="23399" h="21600">
                <a:moveTo>
                  <a:pt x="23399" y="0"/>
                </a:moveTo>
                <a:lnTo>
                  <a:pt x="23399" y="21600"/>
                </a:lnTo>
                <a:lnTo>
                  <a:pt x="21999" y="20200"/>
                </a:lnTo>
                <a:lnTo>
                  <a:pt x="21999" y="1400"/>
                </a:lnTo>
                <a:close/>
              </a:path>
              <a:path fill="darkenLess" w="23399" h="21600">
                <a:moveTo>
                  <a:pt x="23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9" y="20200"/>
                </a:lnTo>
                <a:close/>
              </a:path>
              <a:path fill="lighten" w="23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0" action="ppaction://hlinksldjump"/>
          </p:cNvPr>
          <p:cNvSpPr/>
          <p:nvPr/>
        </p:nvSpPr>
        <p:spPr>
          <a:xfrm>
            <a:off x="6804000" y="429264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2" action="ppaction://hlinksldjump"/>
          </p:cNvPr>
          <p:cNvSpPr/>
          <p:nvPr/>
        </p:nvSpPr>
        <p:spPr>
          <a:xfrm>
            <a:off x="2411280" y="522936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4" action="ppaction://hlinksldjump"/>
          </p:cNvPr>
          <p:cNvSpPr/>
          <p:nvPr/>
        </p:nvSpPr>
        <p:spPr>
          <a:xfrm>
            <a:off x="1116000" y="429264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6" action="ppaction://hlinksldjump"/>
          </p:cNvPr>
          <p:cNvSpPr/>
          <p:nvPr/>
        </p:nvSpPr>
        <p:spPr>
          <a:xfrm>
            <a:off x="2484360" y="54936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1</a:t>
            </a: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1116000" y="148428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1</a:t>
            </a: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0"/>
            <a:ext cx="1657440" cy="144000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2781360"/>
            <a:ext cx="1657440" cy="143964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5418000"/>
            <a:ext cx="1657080" cy="1440000"/>
          </a:xfrm>
          <a:custGeom>
            <a:avLst/>
            <a:gdLst>
              <a:gd name="textAreaLeft" fmla="*/ 378360 w 1657080"/>
              <a:gd name="textAreaRight" fmla="*/ 1278720 w 165708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2781360"/>
            <a:ext cx="1657080" cy="1439640"/>
          </a:xfrm>
          <a:custGeom>
            <a:avLst/>
            <a:gdLst>
              <a:gd name="textAreaLeft" fmla="*/ 378360 w 1657080"/>
              <a:gd name="textAreaRight" fmla="*/ 1278720 w 165708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3"/>
          <a:stretch/>
        </p:blipFill>
        <p:spPr>
          <a:xfrm>
            <a:off x="900000" y="2133720"/>
            <a:ext cx="2808360" cy="37447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00720" y="3213000"/>
            <a:ext cx="42861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Читайте стоящие книги, а не просто чтиво. Изучайте историю и литературу. И то и другое должен хорошо знать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нтеллигентный человек. Именно они дают человеку нравственный и эстети-ческий кругозор, делают окружающий мир большим, интересным, излуча-ющим опыт и рад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.С.Лихаче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85080" y="1657440"/>
            <a:ext cx="4225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Архип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Раиса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0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5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4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64313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39640" y="177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классика русской литературы на основании при-ведённых фактов его биограф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9640" y="2637000"/>
            <a:ext cx="8136000" cy="388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39640" y="2637000"/>
            <a:ext cx="8064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лосы этого поэта были тёмно-каштановыми, почти чёрными, но посредине темени была прядь светлых волос, поэтому некоторые (например, немецкий поэт Боденштедт) считали его блонди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О нашем герое его убийца отзывался следующим образом: “умственное развитие его было настолько выше других, что и параллели между ними провести невозможно... Тогда как дру-гие только всматривались в жизнь, он уже изучил её со всех сторон. Если вспомнить, как ма-ло окружающая его обстановка способствовала к серьёзным занятиям, то становится едва понятным, как он мог достигнуть тех блестящих результатов при столь малом труде и в таких ранних годах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В своей повести «Большой свет», написанной по заказу великой княгини Марии Николаев-ны (дочери Николая I), автор — граф В.А. Соллогуб — изобразил “истинное светское значе-ние” нашего героя в образе Леонина: ничтожный человек, пробирающийся в круг петербург-ской знати. Согласно повести, единственным положительным качеством его являлась любовь к бабушке, при этом указывалось, что своими потугами к светской жизни он едва не разорил её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Судьбу нашего героя решил выпавший “решёткой” вверх полтинник, который он бросил по дороге из Ставрополя в крепость Георгиевску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0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4" dur="1633" fill="hold"/>
                                        <p:tgtEl>
                                          <p:spTgt spid="6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633"/>
                            </p:stCondLst>
                            <p:childTnLst>
                              <p:par>
                                <p:cTn id="19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7" dur="1633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8266"/>
                            </p:stCondLst>
                            <p:childTnLst>
                              <p:par>
                                <p:cTn id="19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3" dur="1633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5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14899"/>
                            </p:stCondLst>
                            <p:childTnLst>
                              <p:par>
                                <p:cTn id="19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9" dur="1633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6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21532"/>
                            </p:stCondLst>
                            <p:childTnLst>
                              <p:par>
                                <p:cTn id="19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5" dur="1633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6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28165"/>
                            </p:stCondLst>
                            <p:childTnLst>
                              <p:par>
                                <p:cTn id="19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1" dur="1633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7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7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4798"/>
                            </p:stCondLst>
                            <p:childTnLst>
                              <p:par>
                                <p:cTn id="19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7" dur="1633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7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fill="hold">
                            <p:stCondLst>
                              <p:cond delay="41431"/>
                            </p:stCondLst>
                            <p:childTnLst>
                              <p:par>
                                <p:cTn id="19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3" dur="1633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8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48064"/>
                            </p:stCondLst>
                            <p:childTnLst>
                              <p:par>
                                <p:cTn id="19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9" dur="1633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9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54697"/>
                            </p:stCondLst>
                            <p:childTnLst>
                              <p:par>
                                <p:cTn id="19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5" dur="1633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9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61330"/>
                            </p:stCondLst>
                            <p:childTnLst>
                              <p:par>
                                <p:cTn id="20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1" dur="1633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67963"/>
                            </p:stCondLst>
                            <p:childTnLst>
                              <p:par>
                                <p:cTn id="200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7" dur="1633" fill="hold"/>
                                        <p:tgtEl>
                                          <p:spTgt spid="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0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1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74596"/>
                            </p:stCondLst>
                            <p:childTnLst>
                              <p:par>
                                <p:cTn id="201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3" dur="1633" fill="hold"/>
                                        <p:tgtEl>
                                          <p:spTgt spid="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1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500"/>
                            </p:stCondLst>
                            <p:childTnLst>
                              <p:par>
                                <p:cTn id="20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1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1" dur="1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1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1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71640" y="1773360"/>
            <a:ext cx="381636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3024000" cy="41050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637440" y="602136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rId4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8" dur="indefinite" restart="never" nodeType="tmRoot">
          <p:childTnLst>
            <p:seq>
              <p:cTn id="2059" dur="indefinite" nodeType="mainSeq">
                <p:childTnLst>
                  <p:par>
                    <p:cTn id="2060" fill="hold">
                      <p:stCondLst>
                        <p:cond delay="0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4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6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65200" y="1657440"/>
            <a:ext cx="4464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Хлебн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ветла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040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16360" y="3068640"/>
            <a:ext cx="3816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Специальная литература по работе, психология коллекти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Любимые в детстве авторы: Н.Н.Носов и В.Ю.Драгун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.В.Голяв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Детективы Т. Усти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И. Хмелев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ичард Дэвис Б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.О.Пе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6" dur="indefinite" restart="never" nodeType="tmRoot">
          <p:childTnLst>
            <p:seq>
              <p:cTn id="2087" dur="indefinite" nodeType="mainSeq">
                <p:childTnLst>
                  <p:par>
                    <p:cTn id="2088" fill="hold">
                      <p:stCondLst>
                        <p:cond delay="0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2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4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5280" y="1557360"/>
            <a:ext cx="849636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835280" y="1773360"/>
            <a:ext cx="5473440" cy="86364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2050920" y="191628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ПЕРБЛИ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187280" y="3789360"/>
            <a:ext cx="711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какого произведения каждый из афоризм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6" dur="indefinite" restart="never" nodeType="tmRoot">
          <p:childTnLst>
            <p:seq>
              <p:cTn id="2127" dur="indefinite" nodeType="mainSeq">
                <p:childTnLst>
                  <p:par>
                    <p:cTn id="2128" fill="hold">
                      <p:stCondLst>
                        <p:cond delay="0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4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771640" y="184464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19640" y="5805360"/>
            <a:ext cx="340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4360" y="3573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7"/>
          <a:stretch/>
        </p:blipFill>
        <p:spPr>
          <a:xfrm>
            <a:off x="1116000" y="2852640"/>
            <a:ext cx="2448000" cy="360072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611280" y="1773360"/>
            <a:ext cx="4176720" cy="1008000"/>
          </a:xfrm>
          <a:prstGeom prst="wedgeRoundRectCallout">
            <a:avLst>
              <a:gd name="adj1" fmla="val 8037"/>
              <a:gd name="adj2" fmla="val 115671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чего люди не лета-ют так, как птиц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9"/>
          <a:stretch/>
        </p:blipFill>
        <p:spPr>
          <a:xfrm>
            <a:off x="5435640" y="1916280"/>
            <a:ext cx="3024000" cy="439236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5" dur="indefinite" restart="never" nodeType="tmRoot">
          <p:childTnLst>
            <p:seq>
              <p:cTn id="2156" dur="indefinite" nodeType="mainSeq">
                <p:childTnLst>
                  <p:par>
                    <p:cTn id="2157" fill="hold">
                      <p:stCondLst>
                        <p:cond delay="0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5" dur="1633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1633"/>
                            </p:stCondLst>
                            <p:childTnLst>
                              <p:par>
                                <p:cTn id="216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8" dur="1633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6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7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8266"/>
                            </p:stCondLst>
                            <p:childTnLst>
                              <p:par>
                                <p:cTn id="217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4" dur="1633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7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14899"/>
                            </p:stCondLst>
                            <p:childTnLst>
                              <p:par>
                                <p:cTn id="217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0" dur="1633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8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18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21532"/>
                            </p:stCondLst>
                            <p:childTnLst>
                              <p:par>
                                <p:cTn id="218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6" dur="1633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8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8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4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3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8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219640" y="5805360"/>
            <a:ext cx="34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611280" y="3141720"/>
            <a:ext cx="4032000" cy="331164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611280" y="1844640"/>
            <a:ext cx="4105080" cy="1152720"/>
          </a:xfrm>
          <a:prstGeom prst="wedgeRoundRectCallout">
            <a:avLst>
              <a:gd name="adj1" fmla="val 7925"/>
              <a:gd name="adj2" fmla="val 187601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1844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 хочу учи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хочу женить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9"/>
          <a:stretch/>
        </p:blipFill>
        <p:spPr>
          <a:xfrm>
            <a:off x="5435640" y="1989000"/>
            <a:ext cx="3024000" cy="42483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9" dur="indefinite" restart="never" nodeType="tmRoot">
          <p:childTnLst>
            <p:seq>
              <p:cTn id="2220" dur="indefinite" nodeType="mainSeq">
                <p:childTnLst>
                  <p:par>
                    <p:cTn id="2221" fill="hold">
                      <p:stCondLst>
                        <p:cond delay="0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9" dur="1633" fill="hold"/>
                                        <p:tgtEl>
                                          <p:spTgt spid="6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0" fill="hold">
                            <p:stCondLst>
                              <p:cond delay="1633"/>
                            </p:stCondLst>
                            <p:childTnLst>
                              <p:par>
                                <p:cTn id="22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2" dur="1633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3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3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fill="hold">
                            <p:stCondLst>
                              <p:cond delay="8266"/>
                            </p:stCondLst>
                            <p:childTnLst>
                              <p:par>
                                <p:cTn id="223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8" dur="1633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4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4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14899"/>
                            </p:stCondLst>
                            <p:childTnLst>
                              <p:par>
                                <p:cTn id="224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4" dur="1633" fill="hold"/>
                                        <p:tgtEl>
                                          <p:spTgt spid="6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4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24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21532"/>
                            </p:stCondLst>
                            <p:childTnLst>
                              <p:par>
                                <p:cTn id="224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0" dur="1633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5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5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5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8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2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7"/>
          <a:stretch/>
        </p:blipFill>
        <p:spPr>
          <a:xfrm>
            <a:off x="1476360" y="2924280"/>
            <a:ext cx="2665440" cy="35290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468360" y="1700280"/>
            <a:ext cx="4103640" cy="1152360"/>
          </a:xfrm>
          <a:prstGeom prst="wedgeRoundRectCallout">
            <a:avLst>
              <a:gd name="adj1" fmla="val -5435"/>
              <a:gd name="adj2" fmla="val 110606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1628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рядочный химик в двадцать раз полезнее всякого поэ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9"/>
          <a:stretch/>
        </p:blipFill>
        <p:spPr>
          <a:xfrm>
            <a:off x="5435640" y="1989000"/>
            <a:ext cx="3024000" cy="424836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3" dur="indefinite" restart="never" nodeType="tmRoot">
          <p:childTnLst>
            <p:seq>
              <p:cTn id="2284" dur="indefinite" nodeType="mainSeq">
                <p:childTnLst>
                  <p:par>
                    <p:cTn id="2285" fill="hold">
                      <p:stCondLst>
                        <p:cond delay="0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6" dur="1633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633"/>
                            </p:stCondLst>
                            <p:childTnLst>
                              <p:par>
                                <p:cTn id="229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9" dur="1633" fill="hold"/>
                                        <p:tgtEl>
                                          <p:spTgt spid="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0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8266"/>
                            </p:stCondLst>
                            <p:childTnLst>
                              <p:par>
                                <p:cTn id="230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5" dur="1633" fill="hold"/>
                                        <p:tgtEl>
                                          <p:spTgt spid="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0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14899"/>
                            </p:stCondLst>
                            <p:childTnLst>
                              <p:par>
                                <p:cTn id="231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1" dur="1633" fill="hold"/>
                                        <p:tgtEl>
                                          <p:spTgt spid="6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1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31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21532"/>
                            </p:stCondLst>
                            <p:childTnLst>
                              <p:par>
                                <p:cTn id="231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7" dur="1633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1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5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9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178520" y="1657440"/>
            <a:ext cx="44402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ости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Антонина Марья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директора по 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2847960" cy="43146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3995640" y="2421000"/>
            <a:ext cx="4680000" cy="4608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2924280"/>
            <a:ext cx="4286160" cy="37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ниги позитивных и успешных людей (Наполеон Хилл, Луиза Хей, Бодо Шефер, Роберт Кийосаки, Ренди Гейдж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Какой тип людей самый порочны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Человек без цели. Потому что именно этот дефект человеческой личности лежит в осно-ве всех тех злодеяний, которые вы упомянули в своем вопросе. … Человек без цели – это че-ловек, который находится во власти случай-ных чувств и прихотей и способен на любое зло, потому что совершенно не контролирует собственную жи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0" dur="indefinite" restart="never" nodeType="tmRoot">
          <p:childTnLst>
            <p:seq>
              <p:cTn id="2351" dur="indefinite" nodeType="mainSeq">
                <p:childTnLst>
                  <p:par>
                    <p:cTn id="2352" fill="hold">
                      <p:stCondLst>
                        <p:cond delay="0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6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3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5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979640" y="2349360"/>
            <a:ext cx="5688000" cy="1295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55640" y="436572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становите цитату по «перевертышу». Назовите автора и о ком он так напис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129760" y="2421000"/>
            <a:ext cx="54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у на лету обгон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 тлеющего дворца вый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0" dur="indefinite" restart="never" nodeType="tmRoot">
          <p:childTnLst>
            <p:seq>
              <p:cTn id="2391" dur="indefinite" nodeType="mainSeq">
                <p:childTnLst>
                  <p:par>
                    <p:cTn id="2392" fill="hold">
                      <p:stCondLst>
                        <p:cond delay="0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8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8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0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4" dur="1633" fill="hold"/>
                                        <p:tgtEl>
                                          <p:spTgt spid="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5" fill="hold">
                            <p:stCondLst>
                              <p:cond delay="1633"/>
                            </p:stCondLst>
                            <p:childTnLst>
                              <p:par>
                                <p:cTn id="24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7" dur="1633" fill="hold"/>
                                        <p:tgtEl>
                                          <p:spTgt spid="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8266"/>
                            </p:stCondLst>
                            <p:childTnLst>
                              <p:par>
                                <p:cTn id="24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3" dur="1633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3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14899"/>
                            </p:stCondLst>
                            <p:childTnLst>
                              <p:par>
                                <p:cTn id="24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9" dur="1633" fill="hold"/>
                                        <p:tgtEl>
                                          <p:spTgt spid="7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4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21532"/>
                            </p:stCondLst>
                            <p:childTnLst>
                              <p:par>
                                <p:cTn id="24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5" dur="1633" fill="hold"/>
                                        <p:tgtEl>
                                          <p:spTgt spid="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4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28165"/>
                            </p:stCondLst>
                            <p:childTnLst>
                              <p:par>
                                <p:cTn id="24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1" dur="1633" fill="hold"/>
                                        <p:tgtEl>
                                          <p:spTgt spid="7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4798"/>
                            </p:stCondLst>
                            <p:childTnLst>
                              <p:par>
                                <p:cTn id="24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7" dur="1633" fill="hold"/>
                                        <p:tgtEl>
                                          <p:spTgt spid="7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5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fill="hold">
                            <p:stCondLst>
                              <p:cond delay="41431"/>
                            </p:stCondLst>
                            <p:childTnLst>
                              <p:par>
                                <p:cTn id="24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3" dur="1633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6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48064"/>
                            </p:stCondLst>
                            <p:childTnLst>
                              <p:par>
                                <p:cTn id="24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9" dur="1633" fill="hold"/>
                                        <p:tgtEl>
                                          <p:spTgt spid="7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7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54697"/>
                            </p:stCondLst>
                            <p:childTnLst>
                              <p:par>
                                <p:cTn id="24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5" dur="1633" fill="hold"/>
                                        <p:tgtEl>
                                          <p:spTgt spid="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7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61330"/>
                            </p:stCondLst>
                            <p:childTnLst>
                              <p:par>
                                <p:cTn id="24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1633" fill="hold"/>
                                        <p:tgtEl>
                                          <p:spTgt spid="7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8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8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5" fill="hold">
                            <p:stCondLst>
                              <p:cond delay="67963"/>
                            </p:stCondLst>
                            <p:childTnLst>
                              <p:par>
                                <p:cTn id="24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7" dur="1633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8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fill="hold">
                            <p:stCondLst>
                              <p:cond delay="74596"/>
                            </p:stCondLst>
                            <p:childTnLst>
                              <p:par>
                                <p:cTn id="24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3" dur="1633" fill="hold"/>
                                        <p:tgtEl>
                                          <p:spTgt spid="7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9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9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2748240" cy="4359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72400" y="1628640"/>
            <a:ext cx="44510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олодче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Юлия 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2997360"/>
            <a:ext cx="4286160" cy="29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е произведения детства: стихи С.Я. Маршака, А.Л. Барто, «Телефон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.И. Чуковского, русские народные сказки и сказки А.С.Пушк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давно перечитала: М. Дрюон «Про-клятые короли» и «Сильные мира сего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книга «Охотники за удачей» Гарольда Роббинс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640" y="1773360"/>
            <a:ext cx="6264360" cy="2232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03240" y="1916280"/>
            <a:ext cx="5815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игре ее конный не слов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беде — не сробеет, — спас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ня на скаку остано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 горящую избу войд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04000" y="4221000"/>
            <a:ext cx="1871640" cy="230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4"/>
          <a:stretch/>
        </p:blipFill>
        <p:spPr>
          <a:xfrm>
            <a:off x="6877080" y="4292640"/>
            <a:ext cx="1657440" cy="20160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6950520" y="61657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. А. Некра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053080" y="5178600"/>
            <a:ext cx="39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роз, Красный но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7" dur="indefinite" restart="never" nodeType="tmRoot">
          <p:childTnLst>
            <p:seq>
              <p:cTn id="2498" dur="indefinite" nodeType="mainSeq">
                <p:childTnLst>
                  <p:par>
                    <p:cTn id="2499" fill="hold">
                      <p:stCondLst>
                        <p:cond delay="0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3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5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0" dur="1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3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5" dur="10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7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1" dur="10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6" dur="10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8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2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7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300200" y="1657440"/>
            <a:ext cx="4201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улаг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Татьяна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643280" y="3357720"/>
            <a:ext cx="428652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й литературный герой: Герасим («Муму» И.С.Тургене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аблица Д.И. Менделе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8" dur="indefinite" restart="never" nodeType="tmRoot">
          <p:childTnLst>
            <p:seq>
              <p:cTn id="2559" dur="indefinite" nodeType="mainSeq">
                <p:childTnLst>
                  <p:par>
                    <p:cTn id="2560" fill="hold">
                      <p:stCondLst>
                        <p:cond delay="0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4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6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26920" y="1844640"/>
            <a:ext cx="7561440" cy="3313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970200" y="1916280"/>
            <a:ext cx="6198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рузья мои, прекрасен наш сою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как душа неразделим и вечен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колебим, свободен и беспе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астался он под сенью дружных му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да бы нас ни бросила судьб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счастие куда б ни пове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ё те же мы: нам целый мир чужб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ечество нам 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5"/>
          <a:stretch/>
        </p:blipFill>
        <p:spPr>
          <a:xfrm>
            <a:off x="7093080" y="1844640"/>
            <a:ext cx="1295280" cy="158436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684360" y="522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ончите строфу стихотворения А.С.Пушки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19 октября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Какова связь этого окончания с названием стихотво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6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8" dur="indefinite" restart="never" nodeType="tmRoot">
          <p:childTnLst>
            <p:seq>
              <p:cTn id="2599" dur="indefinite" nodeType="mainSeq">
                <p:childTnLst>
                  <p:par>
                    <p:cTn id="2600" fill="hold">
                      <p:stCondLst>
                        <p:cond delay="0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4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6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9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1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8" dur="1633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9" fill="hold">
                            <p:stCondLst>
                              <p:cond delay="1633"/>
                            </p:stCondLst>
                            <p:childTnLst>
                              <p:par>
                                <p:cTn id="264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1" dur="1633" fill="hold"/>
                                        <p:tgtEl>
                                          <p:spTgt spid="7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4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4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8266"/>
                            </p:stCondLst>
                            <p:childTnLst>
                              <p:par>
                                <p:cTn id="26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7" dur="1633" fill="hold"/>
                                        <p:tgtEl>
                                          <p:spTgt spid="7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4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fill="hold">
                            <p:stCondLst>
                              <p:cond delay="14899"/>
                            </p:stCondLst>
                            <p:childTnLst>
                              <p:par>
                                <p:cTn id="26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3" dur="1633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5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7" fill="hold">
                            <p:stCondLst>
                              <p:cond delay="21532"/>
                            </p:stCondLst>
                            <p:childTnLst>
                              <p:par>
                                <p:cTn id="26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9" dur="1633" fill="hold"/>
                                        <p:tgtEl>
                                          <p:spTgt spid="7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6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3" fill="hold">
                            <p:stCondLst>
                              <p:cond delay="28165"/>
                            </p:stCondLst>
                            <p:childTnLst>
                              <p:par>
                                <p:cTn id="26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5" dur="1633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6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9" fill="hold">
                            <p:stCondLst>
                              <p:cond delay="34798"/>
                            </p:stCondLst>
                            <p:childTnLst>
                              <p:par>
                                <p:cTn id="26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1" dur="1633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7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7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41431"/>
                            </p:stCondLst>
                            <p:childTnLst>
                              <p:par>
                                <p:cTn id="26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7" dur="1633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7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1" fill="hold">
                            <p:stCondLst>
                              <p:cond delay="48064"/>
                            </p:stCondLst>
                            <p:childTnLst>
                              <p:par>
                                <p:cTn id="26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3" dur="1633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8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54697"/>
                            </p:stCondLst>
                            <p:childTnLst>
                              <p:par>
                                <p:cTn id="26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9" dur="1633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9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3" fill="hold">
                            <p:stCondLst>
                              <p:cond delay="61330"/>
                            </p:stCondLst>
                            <p:childTnLst>
                              <p:par>
                                <p:cTn id="26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5" dur="1633" fill="hold"/>
                                        <p:tgtEl>
                                          <p:spTgt spid="8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69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67963"/>
                            </p:stCondLst>
                            <p:childTnLst>
                              <p:par>
                                <p:cTn id="27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1" dur="1633" fill="hold"/>
                                        <p:tgtEl>
                                          <p:spTgt spid="8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70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70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74596"/>
                            </p:stCondLst>
                            <p:childTnLst>
                              <p:par>
                                <p:cTn id="270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7" dur="1633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70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1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640" y="1773360"/>
            <a:ext cx="4824360" cy="266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90120" y="1916280"/>
            <a:ext cx="468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зья мои, прекрасен наш сою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как душа неразделим и вечен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колебим, свободен и беспе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астался он под сенью дружных му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да бы нас ни бросила судьб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частие куда б ни пове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 те же мы: нам целый мир чужб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ечество 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3"/>
          <a:stretch/>
        </p:blipFill>
        <p:spPr>
          <a:xfrm>
            <a:off x="5724360" y="1773360"/>
            <a:ext cx="2735280" cy="266364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4"/>
          <a:stretch/>
        </p:blipFill>
        <p:spPr>
          <a:xfrm>
            <a:off x="1187280" y="4581360"/>
            <a:ext cx="3313440" cy="18720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5523840" y="5013360"/>
            <a:ext cx="3231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арскосель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ткрыт 19 октября 18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484360" y="3789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арское С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1" dur="indefinite" restart="never" nodeType="tmRoot">
          <p:childTnLst>
            <p:seq>
              <p:cTn id="2712" dur="indefinite" nodeType="mainSeq">
                <p:childTnLst>
                  <p:par>
                    <p:cTn id="2713" fill="hold">
                      <p:stCondLst>
                        <p:cond delay="0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7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9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4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2" fill="hold">
                            <p:stCondLst>
                              <p:cond delay="500"/>
                            </p:stCondLst>
                            <p:childTnLst>
                              <p:par>
                                <p:cTn id="27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0" dur="10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3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5" dur="10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2" dur="10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64313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948360" y="4437000"/>
            <a:ext cx="1441440" cy="19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020000" y="4508640"/>
            <a:ext cx="1266840" cy="1782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40360" y="1773360"/>
            <a:ext cx="46796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изображение предмета, некогда принад-лежавшего Льву Николае-вичу Толст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Что это за предмет и как его использовал пис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633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633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63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266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633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899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63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1532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63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8165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6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4798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6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1431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63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8064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63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4697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63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133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633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7963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63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4596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63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773360"/>
            <a:ext cx="1871640" cy="244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1511280" cy="2087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732720" y="4221000"/>
            <a:ext cx="187164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1773360"/>
            <a:ext cx="6048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ка-ст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любил гулять в окрестностях Ясной Поляны, часто совершал длитель-ные путешествия пешком. В 1881г. ходил в Оптину Пустынь; в 1886, 1888 и1889 гг. – из Москвы в Ясную Поля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877080" y="4365720"/>
            <a:ext cx="1582560" cy="1968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32000" y="4365720"/>
            <a:ext cx="4895640" cy="1942920"/>
          </a:xfrm>
          <a:prstGeom prst="wedgeRoundRectCallout">
            <a:avLst>
              <a:gd name="adj1" fmla="val 69194"/>
              <a:gd name="adj2" fmla="val 38643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вать и даже очень сильно на воздухе или на пахоте есть положительное благо во всех отношениях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6" action="ppaction://hlinksldjump"/>
          </p:cNvPr>
          <p:cNvSpPr/>
          <p:nvPr/>
        </p:nvSpPr>
        <p:spPr>
          <a:xfrm>
            <a:off x="324000" y="6237360"/>
            <a:ext cx="287280" cy="3934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93480"/>
              <a:gd name="textAreaBottom" fmla="*/ 375120 h 393480"/>
            </a:gdLst>
            <a:ahLst/>
            <a:rect l="textAreaLeft" t="textAreaTop" r="textAreaRight" b="textAreaBottom"/>
            <a:pathLst>
              <a:path w="21600" h="29575">
                <a:moveTo>
                  <a:pt x="0" y="0"/>
                </a:moveTo>
                <a:lnTo>
                  <a:pt x="21600" y="0"/>
                </a:lnTo>
                <a:lnTo>
                  <a:pt x="21600" y="29575"/>
                </a:lnTo>
                <a:lnTo>
                  <a:pt x="0" y="29575"/>
                </a:lnTo>
                <a:close/>
              </a:path>
              <a:path fill="lightenLess" w="21600" h="295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575">
                <a:moveTo>
                  <a:pt x="21600" y="0"/>
                </a:moveTo>
                <a:lnTo>
                  <a:pt x="21600" y="29575"/>
                </a:lnTo>
                <a:lnTo>
                  <a:pt x="20200" y="28175"/>
                </a:lnTo>
                <a:lnTo>
                  <a:pt x="20200" y="1400"/>
                </a:lnTo>
                <a:close/>
              </a:path>
              <a:path fill="darkenLess" w="21600" h="29575">
                <a:moveTo>
                  <a:pt x="21600" y="29575"/>
                </a:moveTo>
                <a:lnTo>
                  <a:pt x="0" y="29575"/>
                </a:lnTo>
                <a:lnTo>
                  <a:pt x="1400" y="28175"/>
                </a:lnTo>
                <a:lnTo>
                  <a:pt x="20200" y="28175"/>
                </a:lnTo>
                <a:close/>
              </a:path>
              <a:path fill="lighten" w="21600" h="29575">
                <a:moveTo>
                  <a:pt x="0" y="295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8175"/>
                </a:lnTo>
                <a:close/>
              </a:path>
              <a:path fill="darken" w="21600" h="29575">
                <a:moveTo>
                  <a:pt x="7301" y="14787"/>
                </a:moveTo>
                <a:lnTo>
                  <a:pt x="17806" y="7781"/>
                </a:lnTo>
                <a:lnTo>
                  <a:pt x="17806" y="21794"/>
                </a:lnTo>
                <a:close/>
              </a:path>
              <a:path fill="darken" w="21600" h="29575">
                <a:moveTo>
                  <a:pt x="3794" y="7781"/>
                </a:moveTo>
                <a:lnTo>
                  <a:pt x="5456" y="7781"/>
                </a:lnTo>
                <a:lnTo>
                  <a:pt x="5456" y="21794"/>
                </a:lnTo>
                <a:lnTo>
                  <a:pt x="3794" y="2179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2640" y="1657440"/>
            <a:ext cx="40287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Поз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аргарита Ю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042920" y="1916280"/>
            <a:ext cx="2592360" cy="4313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2997360"/>
            <a:ext cx="4286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е литературные герои: герои произве-дений Н.В.Гоголя и героиня романа С. Моэма «Театр» Джулия Лэмбер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очитала «Войну и мир» Л.Н.Толст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.Д.  Довлатов «Иностран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. Акунин «Алмазная колесниц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. Лукьяненко «Ночной доз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ективы: Рекс Стаут, Стивен К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домашней библиотеке полные собрания сочинений как русских, так и зарубежных авт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4221000"/>
            <a:ext cx="194292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1773360"/>
            <a:ext cx="48243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одна из иллю-страций А.С.Пушкина к ро-ману «Евгений Онегин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ого изобразил пис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877080" y="4437000"/>
            <a:ext cx="1584360" cy="1827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633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633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633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266"/>
                            </p:stCondLst>
                            <p:childTnLst>
                              <p:par>
                                <p:cTn id="3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633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4899"/>
                            </p:stCondLst>
                            <p:childTnLst>
                              <p:par>
                                <p:cTn id="3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63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1532"/>
                            </p:stCondLst>
                            <p:childTnLst>
                              <p:par>
                                <p:cTn id="3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16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8165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633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4798"/>
                            </p:stCondLst>
                            <p:childTnLst>
                              <p:par>
                                <p:cTn id="3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633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1431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633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8064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633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4697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633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1330"/>
                            </p:stCondLst>
                            <p:childTnLst>
                              <p:par>
                                <p:cTn id="3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633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7963"/>
                            </p:stCondLst>
                            <p:childTnLst>
                              <p:par>
                                <p:cTn id="3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7" dur="1633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4596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63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1773360"/>
            <a:ext cx="2808000" cy="33112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4221000"/>
            <a:ext cx="187164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35280" y="1773360"/>
            <a:ext cx="50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душою, полной сожал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першися на гран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ял задумчив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вг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описал себя пи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было тихо; лишь н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кликались часов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 дрожек отдаленный ст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Мильонной раздавался вдру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шь лодка, веслами мах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ыла по дремлющей ре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еняли вдал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ок и песня удалая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2449800" cy="3025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877080" y="4365720"/>
            <a:ext cx="1584360" cy="1827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32000" y="5084640"/>
            <a:ext cx="4895640" cy="1297080"/>
          </a:xfrm>
          <a:prstGeom prst="wedgeRoundRectCallout">
            <a:avLst>
              <a:gd name="adj1" fmla="val 69194"/>
              <a:gd name="adj2" fmla="val 27356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.. Сам Александр Сергеич Пушкин с мосье Онегиным сто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6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22:58:47Z</dcterms:created>
  <dc:creator>солодченкова</dc:creator>
  <dc:description/>
  <dc:language>en-US</dc:language>
  <cp:lastModifiedBy>солодченкова</cp:lastModifiedBy>
  <dcterms:modified xsi:type="dcterms:W3CDTF">2011-06-19T22:55:14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170000000000010243100207f6000400038000</vt:lpwstr>
  </property>
</Properties>
</file>