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6.jpeg" ContentType="image/jpeg"/>
  <Override PartName="/ppt/media/image55.jpeg" ContentType="image/jpeg"/>
  <Override PartName="/ppt/media/image53.jpeg" ContentType="image/jpeg"/>
  <Override PartName="/ppt/media/image28.jpeg" ContentType="image/jpeg"/>
  <Override PartName="/ppt/media/image51.jpeg" ContentType="image/jpeg"/>
  <Override PartName="/ppt/media/image6.jpeg" ContentType="image/jpeg"/>
  <Override PartName="/ppt/media/image63.jpeg" ContentType="image/jpeg"/>
  <Override PartName="/ppt/media/image60.png" ContentType="image/png"/>
  <Override PartName="/ppt/media/image50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0.png" ContentType="image/pn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24.png" ContentType="image/png"/>
  <Override PartName="/ppt/media/image54.png" ContentType="image/png"/>
  <Override PartName="/ppt/media/image41.jpeg" ContentType="image/jpeg"/>
  <Override PartName="/ppt/media/image14.jpeg" ContentType="image/jpeg"/>
  <Override PartName="/ppt/media/image16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3.jpeg" ContentType="image/jpeg"/>
  <Override PartName="/ppt/media/image18.jpeg" ContentType="image/jpeg"/>
  <Override PartName="/ppt/media/image15.png" ContentType="image/png"/>
  <Override PartName="/ppt/media/image22.jpeg" ContentType="image/jpeg"/>
  <Override PartName="/ppt/media/image9.png" ContentType="image/png"/>
  <Override PartName="/ppt/media/image17.jpeg" ContentType="image/jpeg"/>
  <Override PartName="/ppt/media/image3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57.png" ContentType="image/png"/>
  <Override PartName="/ppt/media/image19.jpeg" ContentType="image/jpeg"/>
  <Override PartName="/ppt/media/image11.png" ContentType="image/png"/>
  <Override PartName="/ppt/media/image48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27.jpeg" ContentType="image/jpeg"/>
  <Override PartName="/ppt/media/image10.jpeg" ContentType="image/jpeg"/>
  <Override PartName="/ppt/media/image13.jpeg" ContentType="image/jpeg"/>
  <Override PartName="/ppt/media/image44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43.jpeg" ContentType="image/jpeg"/>
  <Override PartName="/ppt/media/image45.png" ContentType="image/png"/>
  <Override PartName="/ppt/media/image46.png" ContentType="image/png"/>
  <Override PartName="/ppt/media/image47.jpeg" ContentType="image/jpeg"/>
  <Override PartName="/ppt/media/image4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E4C6-25D5-453C-AC53-D27B50B6E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649A-359C-420E-AAD9-6DBA5458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075F-6E77-4834-AD39-8599AC832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1BD7-44CD-490C-9CA9-859FADEC3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5987-2285-4739-8B79-A572FDC2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5CAA-5FD8-4ECE-8532-4A2208AA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84F9-473A-4CF1-94E0-1C6BF7A5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F6CD-0E44-4C52-A6AD-0231EDC8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790B-4EB9-4E51-B9E9-F98B6416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8DB0-B6A8-4BA5-809E-C695E67C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1AEA-6B22-408C-8399-7EA4B730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17BF-B20D-4D4A-AD24-5486CBFA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5AB8-0F23-4D30-8474-37B9C20F2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7.jpe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" Target="slide3.xml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4.png"/><Relationship Id="rId4" Type="http://schemas.openxmlformats.org/officeDocument/2006/relationships/image" Target="../media/image26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4.png"/><Relationship Id="rId4" Type="http://schemas.openxmlformats.org/officeDocument/2006/relationships/image" Target="../media/image27.jpeg"/><Relationship Id="rId5" Type="http://schemas.openxmlformats.org/officeDocument/2006/relationships/slide" Target="slide3.xml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9.jpeg"/><Relationship Id="rId4" Type="http://schemas.openxmlformats.org/officeDocument/2006/relationships/image" Target="../media/image14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" Target="slide3.xml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40.png"/><Relationship Id="rId4" Type="http://schemas.openxmlformats.org/officeDocument/2006/relationships/image" Target="../media/image41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40.png"/><Relationship Id="rId4" Type="http://schemas.openxmlformats.org/officeDocument/2006/relationships/image" Target="../media/image42.jpeg"/><Relationship Id="rId5" Type="http://schemas.openxmlformats.org/officeDocument/2006/relationships/slide" Target="slide3.xml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4.jpe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jpeg"/><Relationship Id="rId8" Type="http://schemas.openxmlformats.org/officeDocument/2006/relationships/image" Target="../media/image4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" Target="slide3.xml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21.xml"/><Relationship Id="rId9" Type="http://schemas.openxmlformats.org/officeDocument/2006/relationships/slide" Target="slide21.xml"/><Relationship Id="rId10" Type="http://schemas.openxmlformats.org/officeDocument/2006/relationships/slide" Target="slide17.xml"/><Relationship Id="rId11" Type="http://schemas.openxmlformats.org/officeDocument/2006/relationships/slide" Target="slide18.xml"/><Relationship Id="rId12" Type="http://schemas.openxmlformats.org/officeDocument/2006/relationships/slide" Target="slide27.xml"/><Relationship Id="rId13" Type="http://schemas.openxmlformats.org/officeDocument/2006/relationships/slide" Target="slide27.xml"/><Relationship Id="rId14" Type="http://schemas.openxmlformats.org/officeDocument/2006/relationships/slide" Target="slide30.xml"/><Relationship Id="rId15" Type="http://schemas.openxmlformats.org/officeDocument/2006/relationships/slide" Target="slide30.xml"/><Relationship Id="rId16" Type="http://schemas.openxmlformats.org/officeDocument/2006/relationships/slide" Target="slide41.xml"/><Relationship Id="rId17" Type="http://schemas.openxmlformats.org/officeDocument/2006/relationships/slide" Target="slide41.xml"/><Relationship Id="rId18" Type="http://schemas.openxmlformats.org/officeDocument/2006/relationships/slide" Target="slide41.xml"/><Relationship Id="rId19" Type="http://schemas.openxmlformats.org/officeDocument/2006/relationships/slide" Target="slide38.xml"/><Relationship Id="rId20" Type="http://schemas.openxmlformats.org/officeDocument/2006/relationships/slide" Target="slide38.xml"/><Relationship Id="rId21" Type="http://schemas.openxmlformats.org/officeDocument/2006/relationships/slide" Target="slide38.xml"/><Relationship Id="rId2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7.jpeg"/><Relationship Id="rId4" Type="http://schemas.openxmlformats.org/officeDocument/2006/relationships/slide" Target="slide3.xml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53.jpeg"/><Relationship Id="rId8" Type="http://schemas.openxmlformats.org/officeDocument/2006/relationships/image" Target="../media/image54.png"/><Relationship Id="rId9" Type="http://schemas.openxmlformats.org/officeDocument/2006/relationships/image" Target="../media/image55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56.jpeg"/><Relationship Id="rId8" Type="http://schemas.openxmlformats.org/officeDocument/2006/relationships/image" Target="../media/image57.png"/><Relationship Id="rId9" Type="http://schemas.openxmlformats.org/officeDocument/2006/relationships/image" Target="../media/image58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59.jpeg"/><Relationship Id="rId8" Type="http://schemas.openxmlformats.org/officeDocument/2006/relationships/image" Target="../media/image60.png"/><Relationship Id="rId9" Type="http://schemas.openxmlformats.org/officeDocument/2006/relationships/image" Target="../media/image22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" Target="slide3.xml"/><Relationship Id="rId4" Type="http://schemas.openxmlformats.org/officeDocument/2006/relationships/image" Target="../media/image62.jpeg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14.jpe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slide" Target="slide3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" Target="slide3.xml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" Target="slide3.xm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58920" y="1557360"/>
            <a:ext cx="6912000" cy="3384360"/>
          </a:xfrm>
          <a:prstGeom prst="flowChartProcess">
            <a:avLst/>
          </a:prstGeom>
          <a:solidFill>
            <a:srgbClr val="ffffcc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476360" y="1844640"/>
            <a:ext cx="648036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нтеллектуальная игра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Что? Где? Когда?"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 тему: "Литература XIX века"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71240" y="189000"/>
            <a:ext cx="846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Государственное общеобразовательное учре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Центр образования №1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60680" y="5157720"/>
            <a:ext cx="634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Учи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Солодченкова Юлия Константи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83960" y="6276960"/>
            <a:ext cx="178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Санкт-Петербур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011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3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26560" y="1628640"/>
            <a:ext cx="40089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Саки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Ринат Абдулла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900000" y="2060640"/>
            <a:ext cx="2808360" cy="40496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00720" y="3213000"/>
            <a:ext cx="4286160" cy="22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Методическая литература по исто-рии и обществозна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Недавно перечита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жон Голсуорси «Сага о Форсайтах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3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1280" y="2565360"/>
            <a:ext cx="5256000" cy="2303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43640" y="4005360"/>
            <a:ext cx="1946160" cy="2376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588000" y="4292640"/>
            <a:ext cx="1656000" cy="1871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970920" y="2781360"/>
            <a:ext cx="490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сть остров на том океане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устынный и мрачный грани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 острове том есть моги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 в ней император за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45800" y="1628640"/>
            <a:ext cx="690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вами строки из стихотвор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Ю. Лермонтова «Воздушный корабл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1280" y="4797360"/>
            <a:ext cx="554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 какой географической точке говорится? С какими реальны-ми событиями связано это сти-хотвор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8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9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0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1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2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3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4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5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6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6" dur="1633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633"/>
                            </p:stCondLst>
                            <p:childTnLst>
                              <p:par>
                                <p:cTn id="53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9" dur="1633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4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4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8266"/>
                            </p:stCondLst>
                            <p:childTnLst>
                              <p:par>
                                <p:cTn id="54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5" dur="1633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4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4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4899"/>
                            </p:stCondLst>
                            <p:childTnLst>
                              <p:par>
                                <p:cTn id="55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1" dur="1633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5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1532"/>
                            </p:stCondLst>
                            <p:childTnLst>
                              <p:par>
                                <p:cTn id="55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7" dur="1633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8165"/>
                            </p:stCondLst>
                            <p:childTnLst>
                              <p:par>
                                <p:cTn id="56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3" dur="1633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6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6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34798"/>
                            </p:stCondLst>
                            <p:childTnLst>
                              <p:par>
                                <p:cTn id="56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9" dur="1633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7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7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41431"/>
                            </p:stCondLst>
                            <p:childTnLst>
                              <p:par>
                                <p:cTn id="57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5" dur="1633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7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7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48064"/>
                            </p:stCondLst>
                            <p:childTnLst>
                              <p:par>
                                <p:cTn id="58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1" dur="1633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8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8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4697"/>
                            </p:stCondLst>
                            <p:childTnLst>
                              <p:par>
                                <p:cTn id="58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7" dur="1633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8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61330"/>
                            </p:stCondLst>
                            <p:childTnLst>
                              <p:par>
                                <p:cTn id="59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3" dur="1633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9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59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67963"/>
                            </p:stCondLst>
                            <p:childTnLst>
                              <p:par>
                                <p:cTn id="59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9" dur="1633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60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60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74596"/>
                            </p:stCondLst>
                            <p:childTnLst>
                              <p:par>
                                <p:cTn id="60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5" dur="1633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60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0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6920" y="1773360"/>
            <a:ext cx="4248360" cy="3095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940360" y="2924280"/>
            <a:ext cx="2590920" cy="3529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1773360"/>
            <a:ext cx="60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6227640" y="3068640"/>
            <a:ext cx="2038320" cy="27385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5940360" y="5805360"/>
            <a:ext cx="2757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полеон Бонапарт после отречения во дворце Фонтенбло Поль Деларо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1042920" y="1844640"/>
            <a:ext cx="3881520" cy="2233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879480" y="683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42920" y="4221000"/>
            <a:ext cx="403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сланный на остров Святой Елены, Наполеон жил там в поместье Лонгву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5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4360" y="5013360"/>
            <a:ext cx="4895640" cy="1509840"/>
          </a:xfrm>
          <a:prstGeom prst="wedgeRoundRectCallout">
            <a:avLst>
              <a:gd name="adj1" fmla="val 82231"/>
              <a:gd name="adj2" fmla="val -79023"/>
              <a:gd name="adj3" fmla="val 16667"/>
            </a:avLst>
          </a:prstGeom>
          <a:blipFill rotWithShape="0">
            <a:blip r:embed="rId6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71640" y="5013360"/>
            <a:ext cx="4464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Arial"/>
              </a:rPr>
              <a:t>Это хуже, чем железная клетка Тамерлана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Arial"/>
              </a:rPr>
              <a:t>Я предпочёл бы, чтобы меня выдали Бурбонам… Я отдался под защиту ваших законов. Прави-тельство попирает священные обычаи госте-приимства… Это равносильно подписанию смертного приговор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4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900000" y="2060640"/>
            <a:ext cx="2808360" cy="40323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4285080" y="1628640"/>
            <a:ext cx="42253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Малах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Эмма Антони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0" y="2924280"/>
            <a:ext cx="42861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ая в детстве книг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Ганс Христиан Андерсен «Снежная Королев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Философия Н.А. Бердяева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.С. Соловье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.Пелевин «Жизнь насекомых», «Омон Р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5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4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5280" y="1557360"/>
            <a:ext cx="849636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79640" y="3500280"/>
            <a:ext cx="2160720" cy="28814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219640" y="3500280"/>
            <a:ext cx="2376720" cy="28814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35280" y="1773360"/>
            <a:ext cx="5473440" cy="86364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050920" y="1916280"/>
            <a:ext cx="5113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>
                        <a:alpha val="90196"/>
                      </a:srgbClr>
                    </a:gs>
                    <a:gs pos="50000">
                      <a:srgbClr val="754600">
                        <a:alpha val="23137"/>
                      </a:srgbClr>
                    </a:gs>
                    <a:gs pos="100000">
                      <a:srgbClr val="ff9900">
                        <a:alpha val="90196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ЛИЦ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900">
                      <a:alpha val="90196"/>
                    </a:srgbClr>
                  </a:gs>
                  <a:gs pos="50000">
                    <a:srgbClr val="754600">
                      <a:alpha val="23137"/>
                    </a:srgbClr>
                  </a:gs>
                  <a:gs pos="100000">
                    <a:srgbClr val="ff9900">
                      <a:alpha val="90196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87280" y="2708280"/>
            <a:ext cx="711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ие герои романа И.С.Тургенева «Отцы и дети» охарактеризованы следующими цитат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2124000" y="3573360"/>
            <a:ext cx="1905120" cy="27147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5364000" y="3573360"/>
            <a:ext cx="20894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5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8360" y="1700280"/>
            <a:ext cx="4464000" cy="4753080"/>
          </a:xfrm>
          <a:prstGeom prst="wedgeRoundRectCallout">
            <a:avLst>
              <a:gd name="adj1" fmla="val 45912"/>
              <a:gd name="adj2" fmla="val -18703"/>
              <a:gd name="adj3" fmla="val 16667"/>
            </a:avLst>
          </a:prstGeom>
          <a:blipFill rotWithShape="0">
            <a:blip r:embed="rId3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39640" y="1700280"/>
            <a:ext cx="4392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На вид ему было лет сорок пять: его коротко остриженные седые волосы отливали темным блеском, как новое серебро; лицо его, желчное, но без морщин, не-обыкновенно правильное и чистое, словно выведенное тонким и легким резцом, яв-ляло следы красоты замеча-тельной; особенно хороши были светлые, черные, про-долговатые глаз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4"/>
          <a:stretch/>
        </p:blipFill>
        <p:spPr>
          <a:xfrm>
            <a:off x="5580000" y="1916280"/>
            <a:ext cx="2772000" cy="39812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5219640" y="5805360"/>
            <a:ext cx="340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Павел Петрович Кирсанов. Художник Е. Рудаков. 1946–19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5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6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7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8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9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1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5" dur="1633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633"/>
                            </p:stCondLst>
                            <p:childTnLst>
                              <p:par>
                                <p:cTn id="76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8" dur="1633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6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77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7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8266"/>
                            </p:stCondLst>
                            <p:childTnLst>
                              <p:par>
                                <p:cTn id="77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4" dur="1633" fill="hold"/>
                                        <p:tgtEl>
                                          <p:spTgt spid="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7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77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7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4899"/>
                            </p:stCondLst>
                            <p:childTnLst>
                              <p:par>
                                <p:cTn id="77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0" dur="1633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8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78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78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21532"/>
                            </p:stCondLst>
                            <p:childTnLst>
                              <p:par>
                                <p:cTn id="78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6" dur="1633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8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78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8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68360" y="1700280"/>
            <a:ext cx="4464000" cy="4753080"/>
          </a:xfrm>
          <a:prstGeom prst="wedgeRoundRectCallout">
            <a:avLst>
              <a:gd name="adj1" fmla="val 45912"/>
              <a:gd name="adj2" fmla="val -18703"/>
              <a:gd name="adj3" fmla="val 16667"/>
            </a:avLst>
          </a:prstGeom>
          <a:blipFill rotWithShape="0">
            <a:blip r:embed="rId3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39640" y="2060640"/>
            <a:ext cx="446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твернув воротник балахона, показал … все свое лицо. Длинное и худое, с ши-роким лбом, кверху плоским, книзу заостренным носом, большими зеленоватыми глазами и висячими бакен-бардами песочного цвету, оно оживлялось спокойной улыбкой и выражало само-уверенность и у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5508720" y="1916280"/>
            <a:ext cx="2879640" cy="39607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5219640" y="580536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База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Художник Д. Боровский. 1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6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7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8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9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0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3" dur="1633" fill="hold"/>
                                        <p:tgtEl>
                                          <p:spTgt spid="3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633"/>
                            </p:stCondLst>
                            <p:childTnLst>
                              <p:par>
                                <p:cTn id="83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6" dur="1633" fill="hold"/>
                                        <p:tgtEl>
                                          <p:spTgt spid="2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3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83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3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8266"/>
                            </p:stCondLst>
                            <p:childTnLst>
                              <p:par>
                                <p:cTn id="84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2" dur="1633" fill="hold"/>
                                        <p:tgtEl>
                                          <p:spTgt spid="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4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84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4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4899"/>
                            </p:stCondLst>
                            <p:childTnLst>
                              <p:par>
                                <p:cTn id="84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8" dur="1633" fill="hold"/>
                                        <p:tgtEl>
                                          <p:spTgt spid="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4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85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85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1532"/>
                            </p:stCondLst>
                            <p:childTnLst>
                              <p:par>
                                <p:cTn id="85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4" dur="1633" fill="hold"/>
                                        <p:tgtEl>
                                          <p:spTgt spid="3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5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85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5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2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8360" y="1700280"/>
            <a:ext cx="4464000" cy="4753080"/>
          </a:xfrm>
          <a:prstGeom prst="wedgeRoundRectCallout">
            <a:avLst>
              <a:gd name="adj1" fmla="val 45912"/>
              <a:gd name="adj2" fmla="val -18703"/>
              <a:gd name="adj3" fmla="val 16667"/>
            </a:avLst>
          </a:prstGeom>
          <a:blipFill rotWithShape="0">
            <a:blip r:embed="rId3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68360" y="1773360"/>
            <a:ext cx="446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бнаженные ее руки краси-во лежали вдоль стройного стана; красиво падали с бле-стящих волос на покатые плечи легкие ветки фуксий; спокойно и умно, именно спо-койно, а не задумчиво, гляде-ли светлые глаза из-под не-много нависшего белого лба, и губы улыбались едва заме-тною улыбкою. Какою-то ласковой и мягкой силой веяло от ее лиц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4"/>
          <a:stretch/>
        </p:blipFill>
        <p:spPr>
          <a:xfrm>
            <a:off x="5508720" y="1989000"/>
            <a:ext cx="2879640" cy="374508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5219640" y="580536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Анна Сергеевна Одинцова. Художник Д. Бор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>
            <a:hlinkClick r:id="rId5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6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7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8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9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0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0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2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1" dur="1633" fill="hold"/>
                                        <p:tgtEl>
                                          <p:spTgt spid="3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1633"/>
                            </p:stCondLst>
                            <p:childTnLst>
                              <p:par>
                                <p:cTn id="90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4" dur="1633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0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90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0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8266"/>
                            </p:stCondLst>
                            <p:childTnLst>
                              <p:par>
                                <p:cTn id="90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0" dur="1633" fill="hold"/>
                                        <p:tgtEl>
                                          <p:spTgt spid="3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9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1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4899"/>
                            </p:stCondLst>
                            <p:childTnLst>
                              <p:par>
                                <p:cTn id="91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6" dur="1633" fill="hold"/>
                                        <p:tgtEl>
                                          <p:spTgt spid="3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91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91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21532"/>
                            </p:stCondLst>
                            <p:childTnLst>
                              <p:par>
                                <p:cTn id="92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2" dur="1633" fill="hold"/>
                                        <p:tgtEl>
                                          <p:spTgt spid="3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2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92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2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5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179600" y="1628640"/>
            <a:ext cx="43855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Кондрат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Ирина Александ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ститель директора по У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971640" y="2133720"/>
            <a:ext cx="2665440" cy="388908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500720" y="3357720"/>
            <a:ext cx="4286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етективы Т. Устин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ая в детстве книг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«Хижина дяди Тома» Гарриет Бичер- Сто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0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8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0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1000"/>
                            </p:stCondLst>
                            <p:childTnLst>
                              <p:par>
                                <p:cTn id="9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5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195640" y="2708280"/>
            <a:ext cx="5182920" cy="2305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900000" y="1947960"/>
            <a:ext cx="727236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вами названия четырех сказо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Назовите лишнюю и объясните свой выбо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491200" y="2924280"/>
            <a:ext cx="4847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Медведь на воеводств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Три медвед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Маша и медвед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Сказка о медведих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5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6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7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8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9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0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1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2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3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4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5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0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8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5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2" dur="1633" fill="hold"/>
                                        <p:tgtEl>
                                          <p:spTgt spid="3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1633"/>
                            </p:stCondLst>
                            <p:childTnLst>
                              <p:par>
                                <p:cTn id="103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5" dur="1633" fill="hold"/>
                                        <p:tgtEl>
                                          <p:spTgt spid="3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3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3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3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8266"/>
                            </p:stCondLst>
                            <p:childTnLst>
                              <p:par>
                                <p:cTn id="104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1" dur="1633" fill="hold"/>
                                        <p:tgtEl>
                                          <p:spTgt spid="3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4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4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4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14899"/>
                            </p:stCondLst>
                            <p:childTnLst>
                              <p:par>
                                <p:cTn id="104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7" dur="1633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4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4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5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21532"/>
                            </p:stCondLst>
                            <p:childTnLst>
                              <p:par>
                                <p:cTn id="105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3" dur="1633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5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5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5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28165"/>
                            </p:stCondLst>
                            <p:childTnLst>
                              <p:par>
                                <p:cTn id="105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9" dur="1633" fill="hold"/>
                                        <p:tgtEl>
                                          <p:spTgt spid="3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6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6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34798"/>
                            </p:stCondLst>
                            <p:childTnLst>
                              <p:par>
                                <p:cTn id="106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5" dur="1633" fill="hold"/>
                                        <p:tgtEl>
                                          <p:spTgt spid="3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6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6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41431"/>
                            </p:stCondLst>
                            <p:childTnLst>
                              <p:par>
                                <p:cTn id="107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1" dur="1633" fill="hold"/>
                                        <p:tgtEl>
                                          <p:spTgt spid="3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7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7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7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48064"/>
                            </p:stCondLst>
                            <p:childTnLst>
                              <p:par>
                                <p:cTn id="107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7" dur="1633" fill="hold"/>
                                        <p:tgtEl>
                                          <p:spTgt spid="3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7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7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54697"/>
                            </p:stCondLst>
                            <p:childTnLst>
                              <p:par>
                                <p:cTn id="108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3" dur="1633" fill="hold"/>
                                        <p:tgtEl>
                                          <p:spTgt spid="3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8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8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8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61330"/>
                            </p:stCondLst>
                            <p:childTnLst>
                              <p:par>
                                <p:cTn id="108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9" dur="1633" fill="hold"/>
                                        <p:tgtEl>
                                          <p:spTgt spid="3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9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9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09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67963"/>
                            </p:stCondLst>
                            <p:childTnLst>
                              <p:par>
                                <p:cTn id="109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5" dur="1633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9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9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09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74596"/>
                            </p:stCondLst>
                            <p:childTnLst>
                              <p:par>
                                <p:cTn id="110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1" dur="1633" fill="hold"/>
                                        <p:tgtEl>
                                          <p:spTgt spid="3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0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10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0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16000" y="692280"/>
            <a:ext cx="6912000" cy="5545080"/>
          </a:xfrm>
          <a:prstGeom prst="flowChartProcess">
            <a:avLst/>
          </a:prstGeom>
          <a:solidFill>
            <a:srgbClr val="ffffcc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63640" y="1484280"/>
            <a:ext cx="576108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ЧЕНИКИ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отив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ЧИТЕЛЕЙ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308720" y="3357720"/>
            <a:ext cx="1293840" cy="1368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380360" y="5013360"/>
            <a:ext cx="1295280" cy="1297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635280" y="1773360"/>
            <a:ext cx="500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826920" y="2133720"/>
            <a:ext cx="3024360" cy="410364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7524720" y="5084640"/>
            <a:ext cx="1008000" cy="115272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5"/>
          <a:stretch/>
        </p:blipFill>
        <p:spPr>
          <a:xfrm>
            <a:off x="7451640" y="3500280"/>
            <a:ext cx="1081080" cy="10796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7308720" y="1700280"/>
            <a:ext cx="1295640" cy="1297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6"/>
          <a:stretch/>
        </p:blipFill>
        <p:spPr>
          <a:xfrm>
            <a:off x="7451640" y="1844640"/>
            <a:ext cx="1008000" cy="10810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3929400" y="1844640"/>
            <a:ext cx="297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«Медвед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на воеводств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216680" y="3716280"/>
            <a:ext cx="28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«Три медвед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289040" y="5157720"/>
            <a:ext cx="263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«Сказ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 медведих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>
            <a:hlinkClick r:id="rId7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0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1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137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8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6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971640" y="1989000"/>
            <a:ext cx="2663640" cy="417672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857840" y="3213000"/>
            <a:ext cx="4286160" cy="19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Историческая литерату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Э.С. Радзинский «Три смерти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.В. Веденеев «Великие тайны Сталин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603680" y="1657440"/>
            <a:ext cx="35974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Шар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Елена Вита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физ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0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5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7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2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4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6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84360" y="1916280"/>
            <a:ext cx="3671640" cy="2447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716360" y="1916280"/>
            <a:ext cx="3816360" cy="24494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26920" y="4797360"/>
            <a:ext cx="777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Соотнесите названия из левого столбца с именами русских писателей из прав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55640" y="1989000"/>
            <a:ext cx="360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москвореч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арх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лих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асское-Лутовин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сная поля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хайлов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364000" y="2060640"/>
            <a:ext cx="2692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Л.Н. Тол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.С. 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.Н. Остр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.Ю. Лермо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.С. Турген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.П.Че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4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5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6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7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8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9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0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1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2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3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4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5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9" dur="indefinite" restart="never" nodeType="tmRoot">
          <p:childTnLst>
            <p:seq>
              <p:cTn id="1220" dur="indefinite" nodeType="mainSeq">
                <p:childTnLst>
                  <p:par>
                    <p:cTn id="1221" fill="hold">
                      <p:stCondLst>
                        <p:cond delay="0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5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7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7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2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3" dur="1633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1633"/>
                            </p:stCondLst>
                            <p:childTnLst>
                              <p:par>
                                <p:cTn id="126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6" dur="1633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6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6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6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8266"/>
                            </p:stCondLst>
                            <p:childTnLst>
                              <p:par>
                                <p:cTn id="127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2" dur="1633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7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7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14899"/>
                            </p:stCondLst>
                            <p:childTnLst>
                              <p:par>
                                <p:cTn id="127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8" dur="1633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8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8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21532"/>
                            </p:stCondLst>
                            <p:childTnLst>
                              <p:par>
                                <p:cTn id="128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4" dur="1633" fill="hold"/>
                                        <p:tgtEl>
                                          <p:spTgt spid="4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8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8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8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28165"/>
                            </p:stCondLst>
                            <p:childTnLst>
                              <p:par>
                                <p:cTn id="128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0" dur="1633" fill="hold"/>
                                        <p:tgtEl>
                                          <p:spTgt spid="4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9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9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9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34798"/>
                            </p:stCondLst>
                            <p:childTnLst>
                              <p:par>
                                <p:cTn id="129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6" dur="1633" fill="hold"/>
                                        <p:tgtEl>
                                          <p:spTgt spid="4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9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9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9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41431"/>
                            </p:stCondLst>
                            <p:childTnLst>
                              <p:par>
                                <p:cTn id="130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2" dur="1633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0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0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0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48064"/>
                            </p:stCondLst>
                            <p:childTnLst>
                              <p:par>
                                <p:cTn id="130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8" dur="1633" fill="hold"/>
                                        <p:tgtEl>
                                          <p:spTgt spid="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0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1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1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54697"/>
                            </p:stCondLst>
                            <p:childTnLst>
                              <p:par>
                                <p:cTn id="131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4" dur="1633" fill="hold"/>
                                        <p:tgtEl>
                                          <p:spTgt spid="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1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1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1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61330"/>
                            </p:stCondLst>
                            <p:childTnLst>
                              <p:par>
                                <p:cTn id="131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0" dur="1633" fill="hold"/>
                                        <p:tgtEl>
                                          <p:spTgt spid="4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2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2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32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67963"/>
                            </p:stCondLst>
                            <p:childTnLst>
                              <p:par>
                                <p:cTn id="132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6" dur="1633" fill="hold"/>
                                        <p:tgtEl>
                                          <p:spTgt spid="4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2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2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32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74596"/>
                            </p:stCondLst>
                            <p:childTnLst>
                              <p:par>
                                <p:cTn id="133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2" dur="1633" fill="hold"/>
                                        <p:tgtEl>
                                          <p:spTgt spid="4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3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3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3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>
            <a:hlinkClick r:id="rId3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84360" y="1700280"/>
            <a:ext cx="3671640" cy="2305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826920" y="1628640"/>
            <a:ext cx="36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москвореч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арх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лих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асское-Лутовин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сная поля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хайлов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716360" y="1700280"/>
            <a:ext cx="3816360" cy="2305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292720" y="1700280"/>
            <a:ext cx="2692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А.Н. Остр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.Ю. Лермо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А.П.Че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И.С. Турген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Л.Н. Тол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А.С. 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4"/>
          <a:stretch/>
        </p:blipFill>
        <p:spPr>
          <a:xfrm>
            <a:off x="395280" y="4149720"/>
            <a:ext cx="1655640" cy="115236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5"/>
          <a:stretch/>
        </p:blipFill>
        <p:spPr>
          <a:xfrm>
            <a:off x="4788000" y="4581360"/>
            <a:ext cx="1439640" cy="172908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6"/>
          <a:stretch/>
        </p:blipFill>
        <p:spPr>
          <a:xfrm>
            <a:off x="6156360" y="4292640"/>
            <a:ext cx="1511280" cy="115236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7"/>
          <a:stretch/>
        </p:blipFill>
        <p:spPr>
          <a:xfrm>
            <a:off x="1042920" y="5229360"/>
            <a:ext cx="2016360" cy="115092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8"/>
          <a:stretch/>
        </p:blipFill>
        <p:spPr>
          <a:xfrm>
            <a:off x="7164360" y="5229360"/>
            <a:ext cx="1440000" cy="122400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9"/>
          <a:stretch/>
        </p:blipFill>
        <p:spPr>
          <a:xfrm>
            <a:off x="2843280" y="4221000"/>
            <a:ext cx="1871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6" dur="indefinite" restart="never" nodeType="tmRoot">
          <p:childTnLst>
            <p:seq>
              <p:cTn id="1337" dur="indefinite" nodeType="mainSeq">
                <p:childTnLst>
                  <p:par>
                    <p:cTn id="1338" fill="hold">
                      <p:stCondLst>
                        <p:cond delay="0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2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4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9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3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0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7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4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1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3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8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7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253400" y="1657440"/>
            <a:ext cx="42984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Чашк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Наталия Геннад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971640" y="2133720"/>
            <a:ext cx="2736720" cy="38890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219640" y="3141720"/>
            <a:ext cx="428616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Зарубежная литерату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Дэн Браун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оэзия Ф.И. Тютче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ссказы А.П.Чехов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М.М. Зощен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2" dur="indefinite" restart="never" nodeType="tmRoot">
          <p:childTnLst>
            <p:seq>
              <p:cTn id="1463" dur="indefinite" nodeType="mainSeq">
                <p:childTnLst>
                  <p:par>
                    <p:cTn id="1464" fill="hold">
                      <p:stCondLst>
                        <p:cond delay="0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8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0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5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7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7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258920" y="1773360"/>
            <a:ext cx="6697800" cy="100800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1763640" y="1844640"/>
            <a:ext cx="576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>
                        <a:alpha val="90196"/>
                      </a:srgbClr>
                    </a:gs>
                    <a:gs pos="50000">
                      <a:srgbClr val="754600">
                        <a:alpha val="23137"/>
                      </a:srgbClr>
                    </a:gs>
                    <a:gs pos="100000">
                      <a:srgbClr val="ff9900">
                        <a:alpha val="90196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ЕРНЫЙ ЯЩИК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900">
                      <a:alpha val="90196"/>
                    </a:srgbClr>
                  </a:gs>
                  <a:gs pos="50000">
                    <a:srgbClr val="754600">
                      <a:alpha val="23137"/>
                    </a:srgbClr>
                  </a:gs>
                  <a:gs pos="100000">
                    <a:srgbClr val="ff9900">
                      <a:alpha val="90196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411280" y="2924280"/>
            <a:ext cx="4464360" cy="3313080"/>
          </a:xfrm>
          <a:prstGeom prst="cube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84360" y="3645000"/>
            <a:ext cx="36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ужны, чтобы напо-минать человеку, что его оригинальные мысли не так уж но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 Линколь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4"/>
          <a:stretch/>
        </p:blipFill>
        <p:spPr>
          <a:xfrm>
            <a:off x="3059280" y="5229360"/>
            <a:ext cx="784080" cy="93636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5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6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7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8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9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0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1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2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1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7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2" dur="indefinite" restart="never" nodeType="tmRoot">
          <p:childTnLst>
            <p:seq>
              <p:cTn id="1503" dur="indefinite" nodeType="mainSeq">
                <p:childTnLst>
                  <p:par>
                    <p:cTn id="1504" fill="hold">
                      <p:stCondLst>
                        <p:cond delay="0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8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0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4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6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2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6" dur="1633" fill="hold"/>
                                        <p:tgtEl>
                                          <p:spTgt spid="4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1633"/>
                            </p:stCondLst>
                            <p:childTnLst>
                              <p:par>
                                <p:cTn id="154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9" dur="1633" fill="hold"/>
                                        <p:tgtEl>
                                          <p:spTgt spid="4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5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5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5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8266"/>
                            </p:stCondLst>
                            <p:childTnLst>
                              <p:par>
                                <p:cTn id="155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5" dur="1633" fill="hold"/>
                                        <p:tgtEl>
                                          <p:spTgt spid="4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5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5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5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14899"/>
                            </p:stCondLst>
                            <p:childTnLst>
                              <p:par>
                                <p:cTn id="156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1" dur="1633" fill="hold"/>
                                        <p:tgtEl>
                                          <p:spTgt spid="4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6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6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6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fill="hold">
                            <p:stCondLst>
                              <p:cond delay="21532"/>
                            </p:stCondLst>
                            <p:childTnLst>
                              <p:par>
                                <p:cTn id="156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7" dur="1633" fill="hold"/>
                                        <p:tgtEl>
                                          <p:spTgt spid="4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6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6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7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28165"/>
                            </p:stCondLst>
                            <p:childTnLst>
                              <p:par>
                                <p:cTn id="157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3" dur="1633" fill="hold"/>
                                        <p:tgtEl>
                                          <p:spTgt spid="4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7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7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7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fill="hold">
                            <p:stCondLst>
                              <p:cond delay="34798"/>
                            </p:stCondLst>
                            <p:childTnLst>
                              <p:par>
                                <p:cTn id="157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9" dur="1633" fill="hold"/>
                                        <p:tgtEl>
                                          <p:spTgt spid="4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8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8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8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41431"/>
                            </p:stCondLst>
                            <p:childTnLst>
                              <p:par>
                                <p:cTn id="158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5" dur="1633" fill="hold"/>
                                        <p:tgtEl>
                                          <p:spTgt spid="4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8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8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8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fill="hold">
                            <p:stCondLst>
                              <p:cond delay="48064"/>
                            </p:stCondLst>
                            <p:childTnLst>
                              <p:par>
                                <p:cTn id="159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1" dur="1633" fill="hold"/>
                                        <p:tgtEl>
                                          <p:spTgt spid="4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9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9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9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fill="hold">
                            <p:stCondLst>
                              <p:cond delay="54697"/>
                            </p:stCondLst>
                            <p:childTnLst>
                              <p:par>
                                <p:cTn id="159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7" dur="1633" fill="hold"/>
                                        <p:tgtEl>
                                          <p:spTgt spid="4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9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9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0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fill="hold">
                            <p:stCondLst>
                              <p:cond delay="61330"/>
                            </p:stCondLst>
                            <p:childTnLst>
                              <p:par>
                                <p:cTn id="160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3" dur="1633" fill="hold"/>
                                        <p:tgtEl>
                                          <p:spTgt spid="4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0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60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60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67963"/>
                            </p:stCondLst>
                            <p:childTnLst>
                              <p:par>
                                <p:cTn id="160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9" dur="1633" fill="hold"/>
                                        <p:tgtEl>
                                          <p:spTgt spid="4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1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61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61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fill="hold">
                            <p:stCondLst>
                              <p:cond delay="74596"/>
                            </p:stCondLst>
                            <p:childTnLst>
                              <p:par>
                                <p:cTn id="161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5" dur="1633" fill="hold"/>
                                        <p:tgtEl>
                                          <p:spTgt spid="4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1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61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1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258920" y="1773360"/>
            <a:ext cx="6697800" cy="100800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1763640" y="1844640"/>
            <a:ext cx="576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>
                        <a:alpha val="90196"/>
                      </a:srgbClr>
                    </a:gs>
                    <a:gs pos="50000">
                      <a:srgbClr val="754600">
                        <a:alpha val="23137"/>
                      </a:srgbClr>
                    </a:gs>
                    <a:gs pos="100000">
                      <a:srgbClr val="ff9900">
                        <a:alpha val="90196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ЕРНЫЙ ЯЩИК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900">
                      <a:alpha val="90196"/>
                    </a:srgbClr>
                  </a:gs>
                  <a:gs pos="50000">
                    <a:srgbClr val="754600">
                      <a:alpha val="23137"/>
                    </a:srgbClr>
                  </a:gs>
                  <a:gs pos="100000">
                    <a:srgbClr val="ff9900">
                      <a:alpha val="90196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340000" y="2924280"/>
            <a:ext cx="4464000" cy="3313080"/>
          </a:xfrm>
          <a:prstGeom prst="cube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4"/>
          <a:stretch/>
        </p:blipFill>
        <p:spPr>
          <a:xfrm>
            <a:off x="2411280" y="3789360"/>
            <a:ext cx="3600720" cy="2448000"/>
          </a:xfrm>
          <a:prstGeom prst="rect">
            <a:avLst/>
          </a:prstGeom>
          <a:ln w="0">
            <a:noFill/>
          </a:ln>
        </p:spPr>
      </p:pic>
      <p:sp>
        <p:nvSpPr>
          <p:cNvPr id="508" name="">
            <a:hlinkClick r:id="rId5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9" dur="indefinite" restart="never" nodeType="tmRoot">
          <p:childTnLst>
            <p:seq>
              <p:cTn id="1620" dur="indefinite" nodeType="mainSeq">
                <p:childTnLst>
                  <p:par>
                    <p:cTn id="1621" fill="hold">
                      <p:stCondLst>
                        <p:cond delay="0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5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0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3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5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0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2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8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502160" y="1657440"/>
            <a:ext cx="3789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Мел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Ирина Никола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ате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3"/>
          <a:stretch/>
        </p:blipFill>
        <p:spPr>
          <a:xfrm>
            <a:off x="971640" y="1916280"/>
            <a:ext cx="2592360" cy="427824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500720" y="3141720"/>
            <a:ext cx="428616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ое произведение: Антуан де Сент-Экзюпери «Маленький принц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оэзия А.С.Пушкина «Евгений Онегин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оэзия Серебряного век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ссказы А.П.Чехова («О любви», «Дама с собачкой»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ссказы И.А.Бунина («Темные аллеи», «Солнечный удар»), в домашней библиотеке представлено полное собрание сочинений данного автор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3" dur="indefinite" restart="never" nodeType="tmRoot">
          <p:childTnLst>
            <p:seq>
              <p:cTn id="1654" dur="indefinite" nodeType="mainSeq">
                <p:childTnLst>
                  <p:par>
                    <p:cTn id="1655" fill="hold">
                      <p:stCondLst>
                        <p:cond delay="0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9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9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1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6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8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39640" y="1700280"/>
            <a:ext cx="1656000" cy="1873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093080" y="3213000"/>
            <a:ext cx="1654200" cy="194472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3"/>
          <a:stretch/>
        </p:blipFill>
        <p:spPr>
          <a:xfrm>
            <a:off x="7236000" y="3357720"/>
            <a:ext cx="1368360" cy="172692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2124000" y="3357720"/>
            <a:ext cx="4896000" cy="863280"/>
          </a:xfrm>
          <a:prstGeom prst="wedgeRoundRectCallout">
            <a:avLst>
              <a:gd name="adj1" fmla="val 50875"/>
              <a:gd name="adj2" fmla="val 64523"/>
              <a:gd name="adj3" fmla="val 16667"/>
            </a:avLst>
          </a:prstGeom>
          <a:blipFill rotWithShape="0">
            <a:blip r:embed="rId4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тихах не говорю  - половина должна войти в послов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901800" y="184464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411280" y="2492280"/>
            <a:ext cx="6120000" cy="576360"/>
          </a:xfrm>
          <a:prstGeom prst="wedgeRoundRectCallout">
            <a:avLst>
              <a:gd name="adj1" fmla="val -54175"/>
              <a:gd name="adj2" fmla="val 78925"/>
              <a:gd name="adj3" fmla="val 16667"/>
            </a:avLst>
          </a:prstGeom>
          <a:blipFill rotWithShape="0">
            <a:blip r:embed="rId5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глупцов на одного здравомыслящ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484360" y="1700280"/>
            <a:ext cx="4896000" cy="576360"/>
          </a:xfrm>
          <a:prstGeom prst="wedgeRoundRectCallout">
            <a:avLst>
              <a:gd name="adj1" fmla="val -55611"/>
              <a:gd name="adj2" fmla="val 81129"/>
              <a:gd name="adj3" fmla="val 16667"/>
            </a:avLst>
          </a:prstGeom>
          <a:blipFill rotWithShape="0">
            <a:blip r:embed="rId6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не дано, наяву исполн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39640" y="4221000"/>
            <a:ext cx="1584360" cy="1872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7"/>
          <a:stretch/>
        </p:blipFill>
        <p:spPr>
          <a:xfrm>
            <a:off x="684360" y="4292640"/>
            <a:ext cx="1296720" cy="166356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2484360" y="4365720"/>
            <a:ext cx="4464000" cy="1657080"/>
          </a:xfrm>
          <a:prstGeom prst="wedgeRoundRectCallout">
            <a:avLst>
              <a:gd name="adj1" fmla="val -59638"/>
              <a:gd name="adj2" fmla="val 19828"/>
              <a:gd name="adj3" fmla="val 16667"/>
            </a:avLst>
          </a:prstGeom>
          <a:blipFill rotWithShape="0">
            <a:blip r:embed="rId8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щее достойно оценит сию комедию и поставит ее в число первых творений народ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838160" y="6093000"/>
            <a:ext cx="576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зовите произведение и его ав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9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0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1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2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3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4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5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6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7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8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9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0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21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3" dur="indefinite" restart="never" nodeType="tmRoot">
          <p:childTnLst>
            <p:seq>
              <p:cTn id="1694" dur="indefinite" nodeType="mainSeq">
                <p:childTnLst>
                  <p:par>
                    <p:cTn id="1695" fill="hold">
                      <p:stCondLst>
                        <p:cond delay="0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9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1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1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3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6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8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9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4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9" dur="1633" fill="hold"/>
                                        <p:tgtEl>
                                          <p:spTgt spid="5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fill="hold">
                            <p:stCondLst>
                              <p:cond delay="1633"/>
                            </p:stCondLst>
                            <p:childTnLst>
                              <p:par>
                                <p:cTn id="177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2" dur="1633" fill="hold"/>
                                        <p:tgtEl>
                                          <p:spTgt spid="5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7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7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7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6" fill="hold">
                            <p:stCondLst>
                              <p:cond delay="8266"/>
                            </p:stCondLst>
                            <p:childTnLst>
                              <p:par>
                                <p:cTn id="177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8" dur="1633" fill="hold"/>
                                        <p:tgtEl>
                                          <p:spTgt spid="5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7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8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8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2" fill="hold">
                            <p:stCondLst>
                              <p:cond delay="14899"/>
                            </p:stCondLst>
                            <p:childTnLst>
                              <p:par>
                                <p:cTn id="178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4" dur="1633" fill="hold"/>
                                        <p:tgtEl>
                                          <p:spTgt spid="5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8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8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8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8" fill="hold">
                            <p:stCondLst>
                              <p:cond delay="21532"/>
                            </p:stCondLst>
                            <p:childTnLst>
                              <p:par>
                                <p:cTn id="178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0" dur="1633" fill="hold"/>
                                        <p:tgtEl>
                                          <p:spTgt spid="5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9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9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9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4" fill="hold">
                            <p:stCondLst>
                              <p:cond delay="28165"/>
                            </p:stCondLst>
                            <p:childTnLst>
                              <p:par>
                                <p:cTn id="179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6" dur="1633" fill="hold"/>
                                        <p:tgtEl>
                                          <p:spTgt spid="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9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9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9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0" fill="hold">
                            <p:stCondLst>
                              <p:cond delay="34798"/>
                            </p:stCondLst>
                            <p:childTnLst>
                              <p:par>
                                <p:cTn id="180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2" dur="1633" fill="hold"/>
                                        <p:tgtEl>
                                          <p:spTgt spid="5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0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0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0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6" fill="hold">
                            <p:stCondLst>
                              <p:cond delay="41431"/>
                            </p:stCondLst>
                            <p:childTnLst>
                              <p:par>
                                <p:cTn id="180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8" dur="1633" fill="hold"/>
                                        <p:tgtEl>
                                          <p:spTgt spid="5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0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1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1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fill="hold">
                            <p:stCondLst>
                              <p:cond delay="48064"/>
                            </p:stCondLst>
                            <p:childTnLst>
                              <p:par>
                                <p:cTn id="181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4" dur="1633" fill="hold"/>
                                        <p:tgtEl>
                                          <p:spTgt spid="5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1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1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1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8" fill="hold">
                            <p:stCondLst>
                              <p:cond delay="54697"/>
                            </p:stCondLst>
                            <p:childTnLst>
                              <p:par>
                                <p:cTn id="181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0" dur="1633" fill="hold"/>
                                        <p:tgtEl>
                                          <p:spTgt spid="5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2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2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2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4" fill="hold">
                            <p:stCondLst>
                              <p:cond delay="61330"/>
                            </p:stCondLst>
                            <p:childTnLst>
                              <p:par>
                                <p:cTn id="182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6" dur="1633" fill="hold"/>
                                        <p:tgtEl>
                                          <p:spTgt spid="5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2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2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82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0" fill="hold">
                            <p:stCondLst>
                              <p:cond delay="67963"/>
                            </p:stCondLst>
                            <p:childTnLst>
                              <p:par>
                                <p:cTn id="183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2" dur="1633" fill="hold"/>
                                        <p:tgtEl>
                                          <p:spTgt spid="5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3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3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83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74596"/>
                            </p:stCondLst>
                            <p:childTnLst>
                              <p:par>
                                <p:cTn id="183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8" dur="1633" fill="hold"/>
                                        <p:tgtEl>
                                          <p:spTgt spid="5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3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4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4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84360" y="2708280"/>
            <a:ext cx="3024000" cy="3311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6000" y="2060640"/>
            <a:ext cx="2448000" cy="3600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>
            <a:hlinkClick r:id="rId3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4"/>
          <a:stretch/>
        </p:blipFill>
        <p:spPr>
          <a:xfrm>
            <a:off x="971640" y="2924280"/>
            <a:ext cx="2519280" cy="287964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5"/>
          <a:stretch/>
        </p:blipFill>
        <p:spPr>
          <a:xfrm>
            <a:off x="6084720" y="2276640"/>
            <a:ext cx="1905120" cy="316224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542880" y="1628640"/>
            <a:ext cx="326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ександр Сергееви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ибое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295240" y="5877000"/>
            <a:ext cx="33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медия «Горе от ум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2" dur="indefinite" restart="never" nodeType="tmRoot">
          <p:childTnLst>
            <p:seq>
              <p:cTn id="1843" dur="indefinite" nodeType="mainSeq">
                <p:childTnLst>
                  <p:par>
                    <p:cTn id="1844" fill="hold">
                      <p:stCondLst>
                        <p:cond delay="0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48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1" fill="hold">
                            <p:stCondLst>
                              <p:cond delay="500"/>
                            </p:stCondLst>
                            <p:childTnLst>
                              <p:par>
                                <p:cTn id="18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4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6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9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1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3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5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7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8" nodeType="with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0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2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3" fill="hold">
                            <p:stCondLst>
                              <p:cond delay="3500"/>
                            </p:stCondLst>
                            <p:childTnLst>
                              <p:par>
                                <p:cTn id="18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564000" y="2492280"/>
            <a:ext cx="2016000" cy="1873440"/>
          </a:xfrm>
          <a:prstGeom prst="flowChartConnec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067280" y="2708280"/>
            <a:ext cx="1008000" cy="136836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rId4" action="ppaction://hlinksldjump"/>
          </p:cNvPr>
          <p:cNvSpPr/>
          <p:nvPr/>
        </p:nvSpPr>
        <p:spPr>
          <a:xfrm>
            <a:off x="5580000" y="620640"/>
            <a:ext cx="1297080" cy="1224000"/>
          </a:xfrm>
          <a:custGeom>
            <a:avLst/>
            <a:gdLst>
              <a:gd name="textAreaLeft" fmla="*/ 79200 w 1297080"/>
              <a:gd name="textAreaRight" fmla="*/ 1217880 w 129708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2889" h="21600">
                <a:moveTo>
                  <a:pt x="0" y="0"/>
                </a:moveTo>
                <a:lnTo>
                  <a:pt x="22889" y="0"/>
                </a:lnTo>
                <a:lnTo>
                  <a:pt x="22889" y="21600"/>
                </a:lnTo>
                <a:lnTo>
                  <a:pt x="0" y="21600"/>
                </a:lnTo>
                <a:close/>
              </a:path>
              <a:path fill="lightenLess" w="22889" h="21600">
                <a:moveTo>
                  <a:pt x="0" y="0"/>
                </a:moveTo>
                <a:lnTo>
                  <a:pt x="22889" y="0"/>
                </a:lnTo>
                <a:lnTo>
                  <a:pt x="21489" y="1400"/>
                </a:lnTo>
                <a:lnTo>
                  <a:pt x="1400" y="1400"/>
                </a:lnTo>
                <a:close/>
              </a:path>
              <a:path fill="darken" w="22889" h="21600">
                <a:moveTo>
                  <a:pt x="22889" y="0"/>
                </a:moveTo>
                <a:lnTo>
                  <a:pt x="22889" y="21600"/>
                </a:lnTo>
                <a:lnTo>
                  <a:pt x="21489" y="20200"/>
                </a:lnTo>
                <a:lnTo>
                  <a:pt x="21489" y="1400"/>
                </a:lnTo>
                <a:close/>
              </a:path>
              <a:path fill="darkenLess" w="22889" h="21600">
                <a:moveTo>
                  <a:pt x="22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89" y="20200"/>
                </a:lnTo>
                <a:close/>
              </a:path>
              <a:path fill="lighten" w="22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5" action="ppaction://hlinksldjump"/>
          </p:cNvPr>
          <p:cNvSpPr/>
          <p:nvPr/>
        </p:nvSpPr>
        <p:spPr>
          <a:xfrm>
            <a:off x="5867280" y="76500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6" action="ppaction://hlinksldjump"/>
          </p:cNvPr>
          <p:cNvSpPr/>
          <p:nvPr/>
        </p:nvSpPr>
        <p:spPr>
          <a:xfrm>
            <a:off x="6877080" y="1413000"/>
            <a:ext cx="1225440" cy="1224000"/>
          </a:xfrm>
          <a:custGeom>
            <a:avLst/>
            <a:gdLst>
              <a:gd name="textAreaLeft" fmla="*/ 79200 w 1225440"/>
              <a:gd name="textAreaRight" fmla="*/ 1146240 w 122544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1625" h="21600">
                <a:moveTo>
                  <a:pt x="0" y="0"/>
                </a:moveTo>
                <a:lnTo>
                  <a:pt x="21625" y="0"/>
                </a:lnTo>
                <a:lnTo>
                  <a:pt x="21625" y="21600"/>
                </a:lnTo>
                <a:lnTo>
                  <a:pt x="0" y="21600"/>
                </a:lnTo>
                <a:close/>
              </a:path>
              <a:path fill="lightenLess" w="21625" h="21600">
                <a:moveTo>
                  <a:pt x="0" y="0"/>
                </a:moveTo>
                <a:lnTo>
                  <a:pt x="21625" y="0"/>
                </a:lnTo>
                <a:lnTo>
                  <a:pt x="20225" y="1400"/>
                </a:lnTo>
                <a:lnTo>
                  <a:pt x="1400" y="1400"/>
                </a:lnTo>
                <a:close/>
              </a:path>
              <a:path fill="darken" w="21625" h="21600">
                <a:moveTo>
                  <a:pt x="21625" y="0"/>
                </a:moveTo>
                <a:lnTo>
                  <a:pt x="21625" y="21600"/>
                </a:lnTo>
                <a:lnTo>
                  <a:pt x="20225" y="20200"/>
                </a:lnTo>
                <a:lnTo>
                  <a:pt x="20225" y="1400"/>
                </a:lnTo>
                <a:close/>
              </a:path>
              <a:path fill="darkenLess" w="21625" h="21600">
                <a:moveTo>
                  <a:pt x="216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5" y="20200"/>
                </a:lnTo>
                <a:close/>
              </a:path>
              <a:path fill="lighten" w="216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8" action="ppaction://hlinksldjump"/>
          </p:cNvPr>
          <p:cNvSpPr/>
          <p:nvPr/>
        </p:nvSpPr>
        <p:spPr>
          <a:xfrm>
            <a:off x="5508720" y="5229360"/>
            <a:ext cx="1296720" cy="1197000"/>
          </a:xfrm>
          <a:custGeom>
            <a:avLst/>
            <a:gdLst>
              <a:gd name="textAreaLeft" fmla="*/ 77400 w 1296720"/>
              <a:gd name="textAreaRight" fmla="*/ 1219320 w 129672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399" h="21600">
                <a:moveTo>
                  <a:pt x="0" y="0"/>
                </a:moveTo>
                <a:lnTo>
                  <a:pt x="23399" y="0"/>
                </a:lnTo>
                <a:lnTo>
                  <a:pt x="23399" y="21600"/>
                </a:lnTo>
                <a:lnTo>
                  <a:pt x="0" y="21600"/>
                </a:lnTo>
                <a:close/>
              </a:path>
              <a:path fill="lightenLess" w="23399" h="21600">
                <a:moveTo>
                  <a:pt x="0" y="0"/>
                </a:moveTo>
                <a:lnTo>
                  <a:pt x="23399" y="0"/>
                </a:lnTo>
                <a:lnTo>
                  <a:pt x="21999" y="1400"/>
                </a:lnTo>
                <a:lnTo>
                  <a:pt x="1400" y="1400"/>
                </a:lnTo>
                <a:close/>
              </a:path>
              <a:path fill="darken" w="23399" h="21600">
                <a:moveTo>
                  <a:pt x="23399" y="0"/>
                </a:moveTo>
                <a:lnTo>
                  <a:pt x="23399" y="21600"/>
                </a:lnTo>
                <a:lnTo>
                  <a:pt x="21999" y="20200"/>
                </a:lnTo>
                <a:lnTo>
                  <a:pt x="21999" y="1400"/>
                </a:lnTo>
                <a:close/>
              </a:path>
              <a:path fill="darkenLess" w="23399" h="21600">
                <a:moveTo>
                  <a:pt x="233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99" y="20200"/>
                </a:lnTo>
                <a:close/>
              </a:path>
              <a:path fill="lighten" w="233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0" action="ppaction://hlinksldjump"/>
          </p:cNvPr>
          <p:cNvSpPr/>
          <p:nvPr/>
        </p:nvSpPr>
        <p:spPr>
          <a:xfrm>
            <a:off x="6804000" y="4292640"/>
            <a:ext cx="1297080" cy="1197000"/>
          </a:xfrm>
          <a:custGeom>
            <a:avLst/>
            <a:gdLst>
              <a:gd name="textAreaLeft" fmla="*/ 77400 w 1297080"/>
              <a:gd name="textAreaRight" fmla="*/ 1219680 w 129708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405" h="21600">
                <a:moveTo>
                  <a:pt x="0" y="0"/>
                </a:moveTo>
                <a:lnTo>
                  <a:pt x="23405" y="0"/>
                </a:lnTo>
                <a:lnTo>
                  <a:pt x="23405" y="21600"/>
                </a:lnTo>
                <a:lnTo>
                  <a:pt x="0" y="21600"/>
                </a:lnTo>
                <a:close/>
              </a:path>
              <a:path fill="lightenLess" w="23405" h="21600">
                <a:moveTo>
                  <a:pt x="0" y="0"/>
                </a:moveTo>
                <a:lnTo>
                  <a:pt x="23405" y="0"/>
                </a:lnTo>
                <a:lnTo>
                  <a:pt x="22005" y="1400"/>
                </a:lnTo>
                <a:lnTo>
                  <a:pt x="1400" y="1400"/>
                </a:lnTo>
                <a:close/>
              </a:path>
              <a:path fill="darken" w="23405" h="21600">
                <a:moveTo>
                  <a:pt x="23405" y="0"/>
                </a:moveTo>
                <a:lnTo>
                  <a:pt x="23405" y="21600"/>
                </a:lnTo>
                <a:lnTo>
                  <a:pt x="22005" y="20200"/>
                </a:lnTo>
                <a:lnTo>
                  <a:pt x="22005" y="1400"/>
                </a:lnTo>
                <a:close/>
              </a:path>
              <a:path fill="darkenLess" w="23405" h="21600">
                <a:moveTo>
                  <a:pt x="23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5" y="20200"/>
                </a:lnTo>
                <a:close/>
              </a:path>
              <a:path fill="lighten" w="23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1" action="ppaction://hlinksldjump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12" action="ppaction://hlinksldjump"/>
          </p:cNvPr>
          <p:cNvSpPr/>
          <p:nvPr/>
        </p:nvSpPr>
        <p:spPr>
          <a:xfrm>
            <a:off x="2411280" y="5229360"/>
            <a:ext cx="1297080" cy="1197000"/>
          </a:xfrm>
          <a:custGeom>
            <a:avLst/>
            <a:gdLst>
              <a:gd name="textAreaLeft" fmla="*/ 77400 w 1297080"/>
              <a:gd name="textAreaRight" fmla="*/ 1219680 w 129708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405" h="21600">
                <a:moveTo>
                  <a:pt x="0" y="0"/>
                </a:moveTo>
                <a:lnTo>
                  <a:pt x="23405" y="0"/>
                </a:lnTo>
                <a:lnTo>
                  <a:pt x="23405" y="21600"/>
                </a:lnTo>
                <a:lnTo>
                  <a:pt x="0" y="21600"/>
                </a:lnTo>
                <a:close/>
              </a:path>
              <a:path fill="lightenLess" w="23405" h="21600">
                <a:moveTo>
                  <a:pt x="0" y="0"/>
                </a:moveTo>
                <a:lnTo>
                  <a:pt x="23405" y="0"/>
                </a:lnTo>
                <a:lnTo>
                  <a:pt x="22005" y="1400"/>
                </a:lnTo>
                <a:lnTo>
                  <a:pt x="1400" y="1400"/>
                </a:lnTo>
                <a:close/>
              </a:path>
              <a:path fill="darken" w="23405" h="21600">
                <a:moveTo>
                  <a:pt x="23405" y="0"/>
                </a:moveTo>
                <a:lnTo>
                  <a:pt x="23405" y="21600"/>
                </a:lnTo>
                <a:lnTo>
                  <a:pt x="22005" y="20200"/>
                </a:lnTo>
                <a:lnTo>
                  <a:pt x="22005" y="1400"/>
                </a:lnTo>
                <a:close/>
              </a:path>
              <a:path fill="darkenLess" w="23405" h="21600">
                <a:moveTo>
                  <a:pt x="23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5" y="20200"/>
                </a:lnTo>
                <a:close/>
              </a:path>
              <a:path fill="lighten" w="23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3" action="ppaction://hlinksldjump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4" action="ppaction://hlinksldjump"/>
          </p:cNvPr>
          <p:cNvSpPr/>
          <p:nvPr/>
        </p:nvSpPr>
        <p:spPr>
          <a:xfrm>
            <a:off x="1116000" y="4292640"/>
            <a:ext cx="1297080" cy="1197000"/>
          </a:xfrm>
          <a:custGeom>
            <a:avLst/>
            <a:gdLst>
              <a:gd name="textAreaLeft" fmla="*/ 77400 w 1297080"/>
              <a:gd name="textAreaRight" fmla="*/ 1219680 w 129708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405" h="21600">
                <a:moveTo>
                  <a:pt x="0" y="0"/>
                </a:moveTo>
                <a:lnTo>
                  <a:pt x="23405" y="0"/>
                </a:lnTo>
                <a:lnTo>
                  <a:pt x="23405" y="21600"/>
                </a:lnTo>
                <a:lnTo>
                  <a:pt x="0" y="21600"/>
                </a:lnTo>
                <a:close/>
              </a:path>
              <a:path fill="lightenLess" w="23405" h="21600">
                <a:moveTo>
                  <a:pt x="0" y="0"/>
                </a:moveTo>
                <a:lnTo>
                  <a:pt x="23405" y="0"/>
                </a:lnTo>
                <a:lnTo>
                  <a:pt x="22005" y="1400"/>
                </a:lnTo>
                <a:lnTo>
                  <a:pt x="1400" y="1400"/>
                </a:lnTo>
                <a:close/>
              </a:path>
              <a:path fill="darken" w="23405" h="21600">
                <a:moveTo>
                  <a:pt x="23405" y="0"/>
                </a:moveTo>
                <a:lnTo>
                  <a:pt x="23405" y="21600"/>
                </a:lnTo>
                <a:lnTo>
                  <a:pt x="22005" y="20200"/>
                </a:lnTo>
                <a:lnTo>
                  <a:pt x="22005" y="1400"/>
                </a:lnTo>
                <a:close/>
              </a:path>
              <a:path fill="darkenLess" w="23405" h="21600">
                <a:moveTo>
                  <a:pt x="23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5" y="20200"/>
                </a:lnTo>
                <a:close/>
              </a:path>
              <a:path fill="lighten" w="23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5" action="ppaction://hlinksldjump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6" action="ppaction://hlinksldjump"/>
          </p:cNvPr>
          <p:cNvSpPr/>
          <p:nvPr/>
        </p:nvSpPr>
        <p:spPr>
          <a:xfrm>
            <a:off x="2484360" y="549360"/>
            <a:ext cx="1297080" cy="1197000"/>
          </a:xfrm>
          <a:custGeom>
            <a:avLst/>
            <a:gdLst>
              <a:gd name="textAreaLeft" fmla="*/ 77400 w 1297080"/>
              <a:gd name="textAreaRight" fmla="*/ 1219680 w 129708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405" h="21600">
                <a:moveTo>
                  <a:pt x="0" y="0"/>
                </a:moveTo>
                <a:lnTo>
                  <a:pt x="23405" y="0"/>
                </a:lnTo>
                <a:lnTo>
                  <a:pt x="23405" y="21600"/>
                </a:lnTo>
                <a:lnTo>
                  <a:pt x="0" y="21600"/>
                </a:lnTo>
                <a:close/>
              </a:path>
              <a:path fill="lightenLess" w="23405" h="21600">
                <a:moveTo>
                  <a:pt x="0" y="0"/>
                </a:moveTo>
                <a:lnTo>
                  <a:pt x="23405" y="0"/>
                </a:lnTo>
                <a:lnTo>
                  <a:pt x="22005" y="1400"/>
                </a:lnTo>
                <a:lnTo>
                  <a:pt x="1400" y="1400"/>
                </a:lnTo>
                <a:close/>
              </a:path>
              <a:path fill="darken" w="23405" h="21600">
                <a:moveTo>
                  <a:pt x="23405" y="0"/>
                </a:moveTo>
                <a:lnTo>
                  <a:pt x="23405" y="21600"/>
                </a:lnTo>
                <a:lnTo>
                  <a:pt x="22005" y="20200"/>
                </a:lnTo>
                <a:lnTo>
                  <a:pt x="22005" y="1400"/>
                </a:lnTo>
                <a:close/>
              </a:path>
              <a:path fill="darkenLess" w="23405" h="21600">
                <a:moveTo>
                  <a:pt x="23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5" y="20200"/>
                </a:lnTo>
                <a:close/>
              </a:path>
              <a:path fill="lighten" w="23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7" action="ppaction://hlinksldjump"/>
              </a:rPr>
              <a:t>1</a:t>
            </a: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8" action="ppaction://hlinksldjump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19" action="ppaction://hlinksldjump"/>
          </p:cNvPr>
          <p:cNvSpPr/>
          <p:nvPr/>
        </p:nvSpPr>
        <p:spPr>
          <a:xfrm>
            <a:off x="1116000" y="1484280"/>
            <a:ext cx="1297080" cy="1197000"/>
          </a:xfrm>
          <a:custGeom>
            <a:avLst/>
            <a:gdLst>
              <a:gd name="textAreaLeft" fmla="*/ 77400 w 1297080"/>
              <a:gd name="textAreaRight" fmla="*/ 1219680 w 129708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405" h="21600">
                <a:moveTo>
                  <a:pt x="0" y="0"/>
                </a:moveTo>
                <a:lnTo>
                  <a:pt x="23405" y="0"/>
                </a:lnTo>
                <a:lnTo>
                  <a:pt x="23405" y="21600"/>
                </a:lnTo>
                <a:lnTo>
                  <a:pt x="0" y="21600"/>
                </a:lnTo>
                <a:close/>
              </a:path>
              <a:path fill="lightenLess" w="23405" h="21600">
                <a:moveTo>
                  <a:pt x="0" y="0"/>
                </a:moveTo>
                <a:lnTo>
                  <a:pt x="23405" y="0"/>
                </a:lnTo>
                <a:lnTo>
                  <a:pt x="22005" y="1400"/>
                </a:lnTo>
                <a:lnTo>
                  <a:pt x="1400" y="1400"/>
                </a:lnTo>
                <a:close/>
              </a:path>
              <a:path fill="darken" w="23405" h="21600">
                <a:moveTo>
                  <a:pt x="23405" y="0"/>
                </a:moveTo>
                <a:lnTo>
                  <a:pt x="23405" y="21600"/>
                </a:lnTo>
                <a:lnTo>
                  <a:pt x="22005" y="20200"/>
                </a:lnTo>
                <a:lnTo>
                  <a:pt x="22005" y="1400"/>
                </a:lnTo>
                <a:close/>
              </a:path>
              <a:path fill="darkenLess" w="23405" h="21600">
                <a:moveTo>
                  <a:pt x="23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5" y="20200"/>
                </a:lnTo>
                <a:close/>
              </a:path>
              <a:path fill="lighten" w="23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0" action="ppaction://hlinksldjump"/>
              </a:rPr>
              <a:t>1</a:t>
            </a: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1" action="ppaction://hlinksldjump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51280" y="0"/>
            <a:ext cx="1657440" cy="1440000"/>
          </a:xfrm>
          <a:custGeom>
            <a:avLst/>
            <a:gdLst>
              <a:gd name="textAreaLeft" fmla="*/ 378360 w 1657440"/>
              <a:gd name="textAreaRight" fmla="*/ 1279080 w 1657440"/>
              <a:gd name="textAreaTop" fmla="*/ 328680 h 1440000"/>
              <a:gd name="textAreaBottom" fmla="*/ 11113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50000">
                <a:srgbClr val="ffff00">
                  <a:alpha val="56078"/>
                </a:srgbClr>
              </a:gs>
              <a:gs pos="100000">
                <a:srgbClr val="757500"/>
              </a:gs>
            </a:gsLst>
            <a:lin ang="5400000"/>
          </a:gradFill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5640" y="2781360"/>
            <a:ext cx="1657440" cy="1439640"/>
          </a:xfrm>
          <a:custGeom>
            <a:avLst/>
            <a:gdLst>
              <a:gd name="textAreaLeft" fmla="*/ 378360 w 1657440"/>
              <a:gd name="textAreaRight" fmla="*/ 1279080 w 165744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50000">
                <a:srgbClr val="ffff00">
                  <a:alpha val="56078"/>
                </a:srgbClr>
              </a:gs>
              <a:gs pos="100000">
                <a:srgbClr val="757500"/>
              </a:gs>
            </a:gsLst>
            <a:lin ang="5400000"/>
          </a:gradFill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5418000"/>
            <a:ext cx="1657080" cy="1440000"/>
          </a:xfrm>
          <a:custGeom>
            <a:avLst/>
            <a:gdLst>
              <a:gd name="textAreaLeft" fmla="*/ 378360 w 1657080"/>
              <a:gd name="textAreaRight" fmla="*/ 1278720 w 1657080"/>
              <a:gd name="textAreaTop" fmla="*/ 328680 h 1440000"/>
              <a:gd name="textAreaBottom" fmla="*/ 11113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50000">
                <a:srgbClr val="ffff00">
                  <a:alpha val="56078"/>
                </a:srgbClr>
              </a:gs>
              <a:gs pos="100000">
                <a:srgbClr val="757500"/>
              </a:gs>
            </a:gsLst>
            <a:lin ang="5400000"/>
          </a:gradFill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720" y="2781360"/>
            <a:ext cx="1657080" cy="1439640"/>
          </a:xfrm>
          <a:custGeom>
            <a:avLst/>
            <a:gdLst>
              <a:gd name="textAreaLeft" fmla="*/ 378360 w 1657080"/>
              <a:gd name="textAreaRight" fmla="*/ 1278720 w 165708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50000">
                <a:srgbClr val="ffff00">
                  <a:alpha val="56078"/>
                </a:srgbClr>
              </a:gs>
              <a:gs pos="100000">
                <a:srgbClr val="757500"/>
              </a:gs>
            </a:gsLst>
            <a:lin ang="5400000"/>
          </a:gradFill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9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3"/>
          <a:stretch/>
        </p:blipFill>
        <p:spPr>
          <a:xfrm>
            <a:off x="900000" y="2133720"/>
            <a:ext cx="2808360" cy="374472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500720" y="3213000"/>
            <a:ext cx="428616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</a:t>
            </a: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Читайте стоящие книги, а не просто чтиво. Изучайте историю и литературу. И то и другое должен хорошо знать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интеллигентный человек. Именно они дают человеку нравственный и эстети-ческий кругозор, делают окружающий мир большим, интересным, излуча-ющим опыт и радос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.С.Лихаче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285080" y="1657440"/>
            <a:ext cx="42253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Архип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Раиса Ива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9" dur="indefinite" restart="never" nodeType="tmRoot">
          <p:childTnLst>
            <p:seq>
              <p:cTn id="1890" dur="indefinite" nodeType="mainSeq">
                <p:childTnLst>
                  <p:par>
                    <p:cTn id="1891" fill="hold">
                      <p:stCondLst>
                        <p:cond delay="0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95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5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7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0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2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fill="hold">
                      <p:stCondLst>
                        <p:cond delay="indefinite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2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4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9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64313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6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4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5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6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7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8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9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10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1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12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13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4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15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39640" y="1773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зовите классика русской литературы на основании при-ведённых фактов его биограф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39640" y="2637000"/>
            <a:ext cx="8136000" cy="3887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39640" y="2637000"/>
            <a:ext cx="80647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лосы этого поэта были тёмно-каштановыми, почти чёрными, но посредине темени была прядь светлых волос, поэтому некоторые (например, немецкий поэт Боденштедт) считали его блондин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О нашем герое его убийца отзывался следующим образом: “умственное развитие его было настолько выше других, что и параллели между ними провести невозможно... Тогда как дру-гие только всматривались в жизнь, он уже изучил её со всех сторон. Если вспомнить, как ма-ло окружающая его обстановка способствовала к серьёзным занятиям, то становится едва понятным, как он мог достигнуть тех блестящих результатов при столь малом труде и в таких ранних годах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. В своей повести «Большой свет», написанной по заказу великой княгини Марии Николаев-ны (дочери Николая I), автор — граф В.А. Соллогуб — изобразил “истинное светское значе-ние” нашего героя в образе Леонина: ничтожный человек, пробирающийся в круг петербург-ской знати. Согласно повести, единственным положительным качеством его являлась любовь к бабушке, при этом указывалось, что своими потугами к светской жизни он едва не разорил её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4. Судьбу нашего героя решил выпавший “решёткой” вверх полтинник, который он бросил по дороге из Ставрополя в крепость Георгиевску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9" dur="indefinite" restart="never" nodeType="tmRoot">
          <p:childTnLst>
            <p:seq>
              <p:cTn id="1930" dur="indefinite" nodeType="mainSeq">
                <p:childTnLst>
                  <p:par>
                    <p:cTn id="1931" fill="hold">
                      <p:stCondLst>
                        <p:cond delay="0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5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4" dur="1633" fill="hold"/>
                                        <p:tgtEl>
                                          <p:spTgt spid="6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1633"/>
                            </p:stCondLst>
                            <p:childTnLst>
                              <p:par>
                                <p:cTn id="194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7" dur="1633" fill="hold"/>
                                        <p:tgtEl>
                                          <p:spTgt spid="5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4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4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5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1" fill="hold">
                            <p:stCondLst>
                              <p:cond delay="8266"/>
                            </p:stCondLst>
                            <p:childTnLst>
                              <p:par>
                                <p:cTn id="195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3" dur="1633" fill="hold"/>
                                        <p:tgtEl>
                                          <p:spTgt spid="5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5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5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5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7" fill="hold">
                            <p:stCondLst>
                              <p:cond delay="14899"/>
                            </p:stCondLst>
                            <p:childTnLst>
                              <p:par>
                                <p:cTn id="195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9" dur="1633" fill="hold"/>
                                        <p:tgtEl>
                                          <p:spTgt spid="5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6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6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6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21532"/>
                            </p:stCondLst>
                            <p:childTnLst>
                              <p:par>
                                <p:cTn id="196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5" dur="1633" fill="hold"/>
                                        <p:tgtEl>
                                          <p:spTgt spid="5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6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6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6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28165"/>
                            </p:stCondLst>
                            <p:childTnLst>
                              <p:par>
                                <p:cTn id="197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1" dur="1633" fill="hold"/>
                                        <p:tgtEl>
                                          <p:spTgt spid="5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7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7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7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5" fill="hold">
                            <p:stCondLst>
                              <p:cond delay="34798"/>
                            </p:stCondLst>
                            <p:childTnLst>
                              <p:par>
                                <p:cTn id="197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7" dur="1633" fill="hold"/>
                                        <p:tgtEl>
                                          <p:spTgt spid="5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7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7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8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1" fill="hold">
                            <p:stCondLst>
                              <p:cond delay="41431"/>
                            </p:stCondLst>
                            <p:childTnLst>
                              <p:par>
                                <p:cTn id="198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3" dur="1633" fill="hold"/>
                                        <p:tgtEl>
                                          <p:spTgt spid="5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8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8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8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7" fill="hold">
                            <p:stCondLst>
                              <p:cond delay="48064"/>
                            </p:stCondLst>
                            <p:childTnLst>
                              <p:par>
                                <p:cTn id="198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9" dur="1633" fill="hold"/>
                                        <p:tgtEl>
                                          <p:spTgt spid="6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9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9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9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3" fill="hold">
                            <p:stCondLst>
                              <p:cond delay="54697"/>
                            </p:stCondLst>
                            <p:childTnLst>
                              <p:par>
                                <p:cTn id="199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5" dur="1633" fill="hold"/>
                                        <p:tgtEl>
                                          <p:spTgt spid="6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9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9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9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9" fill="hold">
                            <p:stCondLst>
                              <p:cond delay="61330"/>
                            </p:stCondLst>
                            <p:childTnLst>
                              <p:par>
                                <p:cTn id="200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1" dur="1633" fill="hold"/>
                                        <p:tgtEl>
                                          <p:spTgt spid="6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0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00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00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5" fill="hold">
                            <p:stCondLst>
                              <p:cond delay="67963"/>
                            </p:stCondLst>
                            <p:childTnLst>
                              <p:par>
                                <p:cTn id="200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7" dur="1633" fill="hold"/>
                                        <p:tgtEl>
                                          <p:spTgt spid="6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0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00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01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1" fill="hold">
                            <p:stCondLst>
                              <p:cond delay="74596"/>
                            </p:stCondLst>
                            <p:childTnLst>
                              <p:par>
                                <p:cTn id="201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3" dur="1633" fill="hold"/>
                                        <p:tgtEl>
                                          <p:spTgt spid="6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1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01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1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1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3" dur="5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4" fill="hold">
                            <p:stCondLst>
                              <p:cond delay="500"/>
                            </p:stCondLst>
                            <p:childTnLst>
                              <p:par>
                                <p:cTn id="20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7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8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4" dur="10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5" dur="10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10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1" dur="10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2" dur="10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10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fill="hold">
                      <p:stCondLst>
                        <p:cond delay="indefinite"/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8" dur="10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9" dur="1000" fill="hold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1000" fill="hold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5" dur="10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6" dur="1000" fill="hold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1000" fill="hold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771640" y="1773360"/>
            <a:ext cx="3816360" cy="4608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3"/>
          <a:stretch/>
        </p:blipFill>
        <p:spPr>
          <a:xfrm>
            <a:off x="3203640" y="1916280"/>
            <a:ext cx="3024000" cy="41050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637440" y="6021360"/>
            <a:ext cx="20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.Ю. Лермо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>
            <a:hlinkClick r:id="rId4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8" dur="indefinite" restart="never" nodeType="tmRoot">
          <p:childTnLst>
            <p:seq>
              <p:cTn id="2059" dur="indefinite" nodeType="mainSeq">
                <p:childTnLst>
                  <p:par>
                    <p:cTn id="2060" fill="hold">
                      <p:stCondLst>
                        <p:cond delay="0"/>
                      </p:stCondLst>
                      <p:childTnLst>
                        <p:par>
                          <p:cTn id="2061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64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fill="hold">
                      <p:stCondLst>
                        <p:cond delay="indefinite"/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4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5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6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9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1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0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165200" y="1657440"/>
            <a:ext cx="4464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Хлебни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Светлана Анато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ре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3"/>
          <a:stretch/>
        </p:blipFill>
        <p:spPr>
          <a:xfrm>
            <a:off x="900000" y="1989000"/>
            <a:ext cx="2808360" cy="410400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716360" y="3068640"/>
            <a:ext cx="3816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Специальная литература по работе, психология коллекти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Любимые в детстве авторы: Н.Н.Носов и В.Ю.Драгунс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В.В.Голяв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Детективы Т. Устинов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                         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И. Хмелев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Ричард Дэвис Б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В.О.Пелев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6" dur="indefinite" restart="never" nodeType="tmRoot">
          <p:childTnLst>
            <p:seq>
              <p:cTn id="2087" dur="indefinite" nodeType="mainSeq">
                <p:childTnLst>
                  <p:par>
                    <p:cTn id="2088" fill="hold">
                      <p:stCondLst>
                        <p:cond delay="0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92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8" fill="hold">
                      <p:stCondLst>
                        <p:cond delay="indefinite"/>
                      </p:stCondLst>
                      <p:childTnLst>
                        <p:par>
                          <p:cTn id="2099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2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4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7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9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3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9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1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5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0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95280" y="1557360"/>
            <a:ext cx="849636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835280" y="1773360"/>
            <a:ext cx="5473440" cy="86364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2050920" y="1916280"/>
            <a:ext cx="5113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>
                        <a:alpha val="90196"/>
                      </a:srgbClr>
                    </a:gs>
                    <a:gs pos="50000">
                      <a:srgbClr val="754600">
                        <a:alpha val="23137"/>
                      </a:srgbClr>
                    </a:gs>
                    <a:gs pos="100000">
                      <a:srgbClr val="ff9900">
                        <a:alpha val="90196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УПЕРБЛИЦ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900">
                      <a:alpha val="90196"/>
                    </a:srgbClr>
                  </a:gs>
                  <a:gs pos="50000">
                    <a:srgbClr val="754600">
                      <a:alpha val="23137"/>
                    </a:srgbClr>
                  </a:gs>
                  <a:gs pos="100000">
                    <a:srgbClr val="ff9900">
                      <a:alpha val="90196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187280" y="3789360"/>
            <a:ext cx="711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какого произведения каждый из афоризм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6" dur="indefinite" restart="never" nodeType="tmRoot">
          <p:childTnLst>
            <p:seq>
              <p:cTn id="2127" dur="indefinite" nodeType="mainSeq">
                <p:childTnLst>
                  <p:par>
                    <p:cTn id="2128" fill="hold">
                      <p:stCondLst>
                        <p:cond delay="0"/>
                      </p:stCondLst>
                      <p:childTnLst>
                        <p:par>
                          <p:cTn id="2129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32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8" fill="hold">
                      <p:stCondLst>
                        <p:cond delay="indefinite"/>
                      </p:stCondLst>
                      <p:childTnLst>
                        <p:par>
                          <p:cTn id="2139" fill="hold">
                            <p:stCondLst>
                              <p:cond delay="0"/>
                            </p:stCondLst>
                            <p:childTnLst>
                              <p:par>
                                <p:cTn id="2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6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7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8" fill="hold">
                      <p:stCondLst>
                        <p:cond delay="indefinite"/>
                      </p:stCondLst>
                      <p:childTnLst>
                        <p:par>
                          <p:cTn id="2149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2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3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4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771640" y="1844640"/>
            <a:ext cx="60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19640" y="5805360"/>
            <a:ext cx="340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84360" y="357336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7"/>
          <a:stretch/>
        </p:blipFill>
        <p:spPr>
          <a:xfrm>
            <a:off x="1116000" y="2852640"/>
            <a:ext cx="2448000" cy="360072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611280" y="1773360"/>
            <a:ext cx="4176720" cy="1008000"/>
          </a:xfrm>
          <a:prstGeom prst="wedgeRoundRectCallout">
            <a:avLst>
              <a:gd name="adj1" fmla="val 8037"/>
              <a:gd name="adj2" fmla="val 115671"/>
              <a:gd name="adj3" fmla="val 16667"/>
            </a:avLst>
          </a:prstGeom>
          <a:blipFill rotWithShape="0">
            <a:blip r:embed="rId8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тчего люди не лета-ют так, как птиц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9"/>
          <a:stretch/>
        </p:blipFill>
        <p:spPr>
          <a:xfrm>
            <a:off x="5435640" y="1916280"/>
            <a:ext cx="3024000" cy="439236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10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5" dur="indefinite" restart="never" nodeType="tmRoot">
          <p:childTnLst>
            <p:seq>
              <p:cTn id="2156" dur="indefinite" nodeType="mainSeq">
                <p:childTnLst>
                  <p:par>
                    <p:cTn id="2157" fill="hold">
                      <p:stCondLst>
                        <p:cond delay="0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1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fill="hold">
                      <p:stCondLst>
                        <p:cond delay="indefinite"/>
                      </p:stCondLst>
                      <p:childTnLst>
                        <p:par>
                          <p:cTn id="2163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5" dur="1633" fill="hold"/>
                                        <p:tgtEl>
                                          <p:spTgt spid="6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6" fill="hold">
                            <p:stCondLst>
                              <p:cond delay="1633"/>
                            </p:stCondLst>
                            <p:childTnLst>
                              <p:par>
                                <p:cTn id="216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8" dur="1633" fill="hold"/>
                                        <p:tgtEl>
                                          <p:spTgt spid="6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6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170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7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fill="hold">
                            <p:stCondLst>
                              <p:cond delay="8266"/>
                            </p:stCondLst>
                            <p:childTnLst>
                              <p:par>
                                <p:cTn id="217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4" dur="1633" fill="hold"/>
                                        <p:tgtEl>
                                          <p:spTgt spid="6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7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17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7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8" fill="hold">
                            <p:stCondLst>
                              <p:cond delay="14899"/>
                            </p:stCondLst>
                            <p:childTnLst>
                              <p:par>
                                <p:cTn id="217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0" dur="1633" fill="hold"/>
                                        <p:tgtEl>
                                          <p:spTgt spid="6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8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18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18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4" fill="hold">
                            <p:stCondLst>
                              <p:cond delay="21532"/>
                            </p:stCondLst>
                            <p:childTnLst>
                              <p:par>
                                <p:cTn id="218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6" dur="1633" fill="hold"/>
                                        <p:tgtEl>
                                          <p:spTgt spid="6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8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18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8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fill="hold">
                      <p:stCondLst>
                        <p:cond delay="indefinite"/>
                      </p:stCondLst>
                      <p:childTnLst>
                        <p:par>
                          <p:cTn id="2191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94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0" fill="hold">
                      <p:stCondLst>
                        <p:cond delay="indefinite"/>
                      </p:stCondLst>
                      <p:childTnLst>
                        <p:par>
                          <p:cTn id="2201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4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7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1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2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3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6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7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8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76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771640" y="1773360"/>
            <a:ext cx="60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219640" y="5805360"/>
            <a:ext cx="340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7"/>
          <a:stretch/>
        </p:blipFill>
        <p:spPr>
          <a:xfrm>
            <a:off x="611280" y="3141720"/>
            <a:ext cx="4032000" cy="3311640"/>
          </a:xfrm>
          <a:prstGeom prst="rect">
            <a:avLst/>
          </a:prstGeom>
          <a:ln w="0">
            <a:noFill/>
          </a:ln>
        </p:spPr>
      </p:pic>
      <p:sp>
        <p:nvSpPr>
          <p:cNvPr id="683" name=""/>
          <p:cNvSpPr/>
          <p:nvPr/>
        </p:nvSpPr>
        <p:spPr>
          <a:xfrm>
            <a:off x="611280" y="1844640"/>
            <a:ext cx="4105080" cy="1152720"/>
          </a:xfrm>
          <a:prstGeom prst="wedgeRoundRectCallout">
            <a:avLst>
              <a:gd name="adj1" fmla="val 7925"/>
              <a:gd name="adj2" fmla="val 187601"/>
              <a:gd name="adj3" fmla="val 16667"/>
            </a:avLst>
          </a:prstGeom>
          <a:blipFill rotWithShape="0">
            <a:blip r:embed="rId8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84360" y="1844640"/>
            <a:ext cx="44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е хочу учить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 хочу женитьс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9"/>
          <a:stretch/>
        </p:blipFill>
        <p:spPr>
          <a:xfrm>
            <a:off x="5435640" y="1989000"/>
            <a:ext cx="3024000" cy="424836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10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9" dur="indefinite" restart="never" nodeType="tmRoot">
          <p:childTnLst>
            <p:seq>
              <p:cTn id="2220" dur="indefinite" nodeType="mainSeq">
                <p:childTnLst>
                  <p:par>
                    <p:cTn id="2221" fill="hold">
                      <p:stCondLst>
                        <p:cond delay="0"/>
                      </p:stCondLst>
                      <p:childTnLst>
                        <p:par>
                          <p:cTn id="2222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9" dur="1633" fill="hold"/>
                                        <p:tgtEl>
                                          <p:spTgt spid="6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0" fill="hold">
                            <p:stCondLst>
                              <p:cond delay="1633"/>
                            </p:stCondLst>
                            <p:childTnLst>
                              <p:par>
                                <p:cTn id="223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2" dur="1633" fill="hold"/>
                                        <p:tgtEl>
                                          <p:spTgt spid="6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3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234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35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6" fill="hold">
                            <p:stCondLst>
                              <p:cond delay="8266"/>
                            </p:stCondLst>
                            <p:childTnLst>
                              <p:par>
                                <p:cTn id="223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8" dur="1633" fill="hold"/>
                                        <p:tgtEl>
                                          <p:spTgt spid="6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3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24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4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2" fill="hold">
                            <p:stCondLst>
                              <p:cond delay="14899"/>
                            </p:stCondLst>
                            <p:childTnLst>
                              <p:par>
                                <p:cTn id="224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44" dur="1633" fill="hold"/>
                                        <p:tgtEl>
                                          <p:spTgt spid="6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4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24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24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8" fill="hold">
                            <p:stCondLst>
                              <p:cond delay="21532"/>
                            </p:stCondLst>
                            <p:childTnLst>
                              <p:par>
                                <p:cTn id="224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0" dur="1633" fill="hold"/>
                                        <p:tgtEl>
                                          <p:spTgt spid="6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5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25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53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4" fill="hold">
                      <p:stCondLst>
                        <p:cond delay="indefinite"/>
                      </p:stCondLst>
                      <p:childTnLst>
                        <p:par>
                          <p:cTn id="2255" fill="hold">
                            <p:stCondLst>
                              <p:cond delay="0"/>
                            </p:stCondLst>
                            <p:childTnLst>
                              <p:par>
                                <p:cTn id="22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58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2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3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4" fill="hold">
                      <p:stCondLst>
                        <p:cond delay="indefinite"/>
                      </p:stCondLst>
                      <p:childTnLst>
                        <p:par>
                          <p:cTn id="2265" fill="hold">
                            <p:stCondLst>
                              <p:cond delay="0"/>
                            </p:stCondLst>
                            <p:childTnLst>
                              <p:par>
                                <p:cTn id="22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8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9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0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1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5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6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7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0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1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2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" descr=""/>
          <p:cNvPicPr/>
          <p:nvPr/>
        </p:nvPicPr>
        <p:blipFill>
          <a:blip r:embed="rId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771640" y="1773360"/>
            <a:ext cx="60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7"/>
          <a:stretch/>
        </p:blipFill>
        <p:spPr>
          <a:xfrm>
            <a:off x="1476360" y="2924280"/>
            <a:ext cx="2665440" cy="352908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>
            <a:off x="468360" y="1700280"/>
            <a:ext cx="4103640" cy="1152360"/>
          </a:xfrm>
          <a:prstGeom prst="wedgeRoundRectCallout">
            <a:avLst>
              <a:gd name="adj1" fmla="val -5435"/>
              <a:gd name="adj2" fmla="val 110606"/>
              <a:gd name="adj3" fmla="val 16667"/>
            </a:avLst>
          </a:prstGeom>
          <a:blipFill rotWithShape="0">
            <a:blip r:embed="rId8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39640" y="1628640"/>
            <a:ext cx="44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рядочный химик в двадцать раз полезнее всякого поэ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9"/>
          <a:stretch/>
        </p:blipFill>
        <p:spPr>
          <a:xfrm>
            <a:off x="5435640" y="1989000"/>
            <a:ext cx="3024000" cy="4248360"/>
          </a:xfrm>
          <a:prstGeom prst="rect">
            <a:avLst/>
          </a:prstGeom>
          <a:ln w="0">
            <a:noFill/>
          </a:ln>
        </p:spPr>
      </p:pic>
      <p:sp>
        <p:nvSpPr>
          <p:cNvPr id="708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0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710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3" dur="indefinite" restart="never" nodeType="tmRoot">
          <p:childTnLst>
            <p:seq>
              <p:cTn id="2284" dur="indefinite" nodeType="mainSeq">
                <p:childTnLst>
                  <p:par>
                    <p:cTn id="2285" fill="hold">
                      <p:stCondLst>
                        <p:cond delay="0"/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9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2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3" fill="hold">
                      <p:stCondLst>
                        <p:cond delay="indefinite"/>
                      </p:stCondLst>
                      <p:childTnLst>
                        <p:par>
                          <p:cTn id="2294" fill="hold">
                            <p:stCondLst>
                              <p:cond delay="0"/>
                            </p:stCondLst>
                            <p:childTnLst>
                              <p:par>
                                <p:cTn id="22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96" dur="1633" fill="hold"/>
                                        <p:tgtEl>
                                          <p:spTgt spid="7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7" fill="hold">
                            <p:stCondLst>
                              <p:cond delay="1633"/>
                            </p:stCondLst>
                            <p:childTnLst>
                              <p:par>
                                <p:cTn id="229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99" dur="1633" fill="hold"/>
                                        <p:tgtEl>
                                          <p:spTgt spid="6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0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301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02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fill="hold">
                            <p:stCondLst>
                              <p:cond delay="8266"/>
                            </p:stCondLst>
                            <p:childTnLst>
                              <p:par>
                                <p:cTn id="230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5" dur="1633" fill="hold"/>
                                        <p:tgtEl>
                                          <p:spTgt spid="6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0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30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0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9" fill="hold">
                            <p:stCondLst>
                              <p:cond delay="14899"/>
                            </p:stCondLst>
                            <p:childTnLst>
                              <p:par>
                                <p:cTn id="231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1" dur="1633" fill="hold"/>
                                        <p:tgtEl>
                                          <p:spTgt spid="6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1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31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31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5" fill="hold">
                            <p:stCondLst>
                              <p:cond delay="21532"/>
                            </p:stCondLst>
                            <p:childTnLst>
                              <p:par>
                                <p:cTn id="231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7" dur="1633" fill="hold"/>
                                        <p:tgtEl>
                                          <p:spTgt spid="7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1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31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2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1" fill="hold">
                      <p:stCondLst>
                        <p:cond delay="indefinite"/>
                      </p:stCondLst>
                      <p:childTnLst>
                        <p:par>
                          <p:cTn id="2322" fill="hold">
                            <p:stCondLst>
                              <p:cond delay="0"/>
                            </p:stCondLst>
                            <p:childTnLst>
                              <p:par>
                                <p:cTn id="23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25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8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9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1" fill="hold">
                      <p:stCondLst>
                        <p:cond delay="indefinite"/>
                      </p:stCondLst>
                      <p:childTnLst>
                        <p:par>
                          <p:cTn id="2332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5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6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7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8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2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3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4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7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9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1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1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178520" y="1657440"/>
            <a:ext cx="44402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Костик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Антонина Марья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ститель директора по 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3"/>
          <a:stretch/>
        </p:blipFill>
        <p:spPr>
          <a:xfrm>
            <a:off x="900000" y="1916280"/>
            <a:ext cx="2847960" cy="431460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/>
          <p:nvPr/>
        </p:nvSpPr>
        <p:spPr>
          <a:xfrm>
            <a:off x="3995640" y="2421000"/>
            <a:ext cx="4680000" cy="4608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572000" y="2924280"/>
            <a:ext cx="4286160" cy="37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Книги позитивных и успешных людей (Наполеон Хилл, Луиза Хей, Бодо Шефер, Роберт Кийосаки, Ренди Гейдж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Какой тип людей самый порочный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Человек без цели. Потому что именно этот дефект человеческой личности лежит в осно-ве всех тех злодеяний, которые вы упомянули в своем вопросе. … Человек без цели – это че-ловек, который находится во власти случай-ных чувств и прихотей и способен на любое зло, потому что совершенно не контролирует собственную жиз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0" dur="indefinite" restart="never" nodeType="tmRoot">
          <p:childTnLst>
            <p:seq>
              <p:cTn id="2351" dur="indefinite" nodeType="mainSeq">
                <p:childTnLst>
                  <p:par>
                    <p:cTn id="2352" fill="hold">
                      <p:stCondLst>
                        <p:cond delay="0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56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0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1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2" fill="hold">
                      <p:stCondLst>
                        <p:cond delay="indefinite"/>
                      </p:stCondLst>
                      <p:childTnLst>
                        <p:par>
                          <p:cTn id="2363" fill="hold">
                            <p:stCondLst>
                              <p:cond delay="0"/>
                            </p:stCondLst>
                            <p:childTnLst>
                              <p:par>
                                <p:cTn id="23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6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7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8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1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2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3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6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7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9" fill="hold">
                      <p:stCondLst>
                        <p:cond delay="indefinite"/>
                      </p:stCondLst>
                      <p:childTnLst>
                        <p:par>
                          <p:cTn id="2380" fill="hold">
                            <p:stCondLst>
                              <p:cond delay="0"/>
                            </p:stCondLst>
                            <p:childTnLst>
                              <p:par>
                                <p:cTn id="2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3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4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5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9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1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979640" y="2349360"/>
            <a:ext cx="5688000" cy="1295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755640" y="4365720"/>
            <a:ext cx="77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сстановите цитату по «перевертышу». Назовите автора и о ком он так написа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129760" y="2421000"/>
            <a:ext cx="54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рову на лету обгони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з тлеющего дворца выйд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30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" descr=""/>
          <p:cNvPicPr/>
          <p:nvPr/>
        </p:nvPicPr>
        <p:blipFill>
          <a:blip r:embed="rId4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" descr=""/>
          <p:cNvPicPr/>
          <p:nvPr/>
        </p:nvPicPr>
        <p:blipFill>
          <a:blip r:embed="rId5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6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36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" descr=""/>
          <p:cNvPicPr/>
          <p:nvPr/>
        </p:nvPicPr>
        <p:blipFill>
          <a:blip r:embed="rId7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8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40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9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" descr=""/>
          <p:cNvPicPr/>
          <p:nvPr/>
        </p:nvPicPr>
        <p:blipFill>
          <a:blip r:embed="rId10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11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12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748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13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50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14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15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0" dur="indefinite" restart="never" nodeType="tmRoot">
          <p:childTnLst>
            <p:seq>
              <p:cTn id="2391" dur="indefinite" nodeType="mainSeq">
                <p:childTnLst>
                  <p:par>
                    <p:cTn id="2392" fill="hold">
                      <p:stCondLst>
                        <p:cond delay="0"/>
                      </p:stCondLst>
                      <p:childTnLst>
                        <p:par>
                          <p:cTn id="2393" fill="hold">
                            <p:stCondLst>
                              <p:cond delay="0"/>
                            </p:stCondLst>
                            <p:childTnLst>
                              <p:par>
                                <p:cTn id="239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96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9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1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6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7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8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1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2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3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4" fill="hold">
                      <p:stCondLst>
                        <p:cond delay="indefinite"/>
                      </p:stCondLst>
                      <p:childTnLst>
                        <p:par>
                          <p:cTn id="2415" fill="hold">
                            <p:stCondLst>
                              <p:cond delay="0"/>
                            </p:stCondLst>
                            <p:childTnLst>
                              <p:par>
                                <p:cTn id="24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8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9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0" dur="5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1" fill="hold">
                      <p:stCondLst>
                        <p:cond delay="indefinite"/>
                      </p:stCondLst>
                      <p:childTnLst>
                        <p:par>
                          <p:cTn id="2422" fill="hold">
                            <p:stCondLst>
                              <p:cond delay="0"/>
                            </p:stCondLst>
                            <p:childTnLst>
                              <p:par>
                                <p:cTn id="24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4" dur="1633" fill="hold"/>
                                        <p:tgtEl>
                                          <p:spTgt spid="7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5" fill="hold">
                            <p:stCondLst>
                              <p:cond delay="1633"/>
                            </p:stCondLst>
                            <p:childTnLst>
                              <p:par>
                                <p:cTn id="242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7" dur="1633" fill="hold"/>
                                        <p:tgtEl>
                                          <p:spTgt spid="7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2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2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30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1" fill="hold">
                            <p:stCondLst>
                              <p:cond delay="8266"/>
                            </p:stCondLst>
                            <p:childTnLst>
                              <p:par>
                                <p:cTn id="243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3" dur="1633" fill="hold"/>
                                        <p:tgtEl>
                                          <p:spTgt spid="7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3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3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36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7" fill="hold">
                            <p:stCondLst>
                              <p:cond delay="14899"/>
                            </p:stCondLst>
                            <p:childTnLst>
                              <p:par>
                                <p:cTn id="243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9" dur="1633" fill="hold"/>
                                        <p:tgtEl>
                                          <p:spTgt spid="7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4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4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42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3" fill="hold">
                            <p:stCondLst>
                              <p:cond delay="21532"/>
                            </p:stCondLst>
                            <p:childTnLst>
                              <p:par>
                                <p:cTn id="244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5" dur="1633" fill="hold"/>
                                        <p:tgtEl>
                                          <p:spTgt spid="7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4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4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48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9" fill="hold">
                            <p:stCondLst>
                              <p:cond delay="28165"/>
                            </p:stCondLst>
                            <p:childTnLst>
                              <p:par>
                                <p:cTn id="245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1" dur="1633" fill="hold"/>
                                        <p:tgtEl>
                                          <p:spTgt spid="7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5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53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5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5" fill="hold">
                            <p:stCondLst>
                              <p:cond delay="34798"/>
                            </p:stCondLst>
                            <p:childTnLst>
                              <p:par>
                                <p:cTn id="245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7" dur="1633" fill="hold"/>
                                        <p:tgtEl>
                                          <p:spTgt spid="7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5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59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60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1" fill="hold">
                            <p:stCondLst>
                              <p:cond delay="41431"/>
                            </p:stCondLst>
                            <p:childTnLst>
                              <p:par>
                                <p:cTn id="246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3" dur="1633" fill="hold"/>
                                        <p:tgtEl>
                                          <p:spTgt spid="7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6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65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66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7" fill="hold">
                            <p:stCondLst>
                              <p:cond delay="48064"/>
                            </p:stCondLst>
                            <p:childTnLst>
                              <p:par>
                                <p:cTn id="246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9" dur="1633" fill="hold"/>
                                        <p:tgtEl>
                                          <p:spTgt spid="7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7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71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72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3" fill="hold">
                            <p:stCondLst>
                              <p:cond delay="54697"/>
                            </p:stCondLst>
                            <p:childTnLst>
                              <p:par>
                                <p:cTn id="247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75" dur="1633" fill="hold"/>
                                        <p:tgtEl>
                                          <p:spTgt spid="7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7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7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7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9" fill="hold">
                            <p:stCondLst>
                              <p:cond delay="61330"/>
                            </p:stCondLst>
                            <p:childTnLst>
                              <p:par>
                                <p:cTn id="248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1" dur="1633" fill="hold"/>
                                        <p:tgtEl>
                                          <p:spTgt spid="7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8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83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484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5" fill="hold">
                            <p:stCondLst>
                              <p:cond delay="67963"/>
                            </p:stCondLst>
                            <p:childTnLst>
                              <p:par>
                                <p:cTn id="248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7" dur="1633" fill="hold"/>
                                        <p:tgtEl>
                                          <p:spTgt spid="7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8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89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490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1" fill="hold">
                            <p:stCondLst>
                              <p:cond delay="74596"/>
                            </p:stCondLst>
                            <p:childTnLst>
                              <p:par>
                                <p:cTn id="249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3" dur="1633" fill="hold"/>
                                        <p:tgtEl>
                                          <p:spTgt spid="7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9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9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9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900000" y="1916280"/>
            <a:ext cx="2748240" cy="43592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172400" y="1628640"/>
            <a:ext cx="44510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Солодчен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Юлия Константи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00720" y="2997360"/>
            <a:ext cx="4286160" cy="29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ые произведения детства: стихи С.Я. Маршака, А.Л. Барто, «Телефон»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К.И. Чуковского, русские народные сказки и сказки А.С.Пушкин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Недавно перечитала: М. Дрюон «Про-клятые короли» и «Сильные мира сего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ая книга «Охотники за удачей» Гарольда Роббинс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57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39640" y="1773360"/>
            <a:ext cx="6264360" cy="2232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>
            <a:hlinkClick r:id="rId3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903240" y="1916280"/>
            <a:ext cx="5815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игре ее конный не слов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беде — не сробеет, — спас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оня на скаку останов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В горящую избу войд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804000" y="4221000"/>
            <a:ext cx="1871640" cy="2303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" descr=""/>
          <p:cNvPicPr/>
          <p:nvPr/>
        </p:nvPicPr>
        <p:blipFill>
          <a:blip r:embed="rId4"/>
          <a:stretch/>
        </p:blipFill>
        <p:spPr>
          <a:xfrm>
            <a:off x="6877080" y="4292640"/>
            <a:ext cx="1657440" cy="2016000"/>
          </a:xfrm>
          <a:prstGeom prst="rect">
            <a:avLst/>
          </a:prstGeom>
          <a:ln w="0">
            <a:noFill/>
          </a:ln>
        </p:spPr>
      </p:pic>
      <p:sp>
        <p:nvSpPr>
          <p:cNvPr id="765" name=""/>
          <p:cNvSpPr/>
          <p:nvPr/>
        </p:nvSpPr>
        <p:spPr>
          <a:xfrm>
            <a:off x="6950520" y="616572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. А. Некра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053080" y="5178600"/>
            <a:ext cx="394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ороз, Красный нос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7" dur="indefinite" restart="never" nodeType="tmRoot">
          <p:childTnLst>
            <p:seq>
              <p:cTn id="2498" dur="indefinite" nodeType="mainSeq">
                <p:childTnLst>
                  <p:par>
                    <p:cTn id="2499" fill="hold">
                      <p:stCondLst>
                        <p:cond delay="0"/>
                      </p:stCondLst>
                      <p:childTnLst>
                        <p:par>
                          <p:cTn id="2500" fill="hold">
                            <p:stCondLst>
                              <p:cond delay="0"/>
                            </p:stCondLst>
                            <p:childTnLst>
                              <p:par>
                                <p:cTn id="25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3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8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9" fill="hold">
                      <p:stCondLst>
                        <p:cond delay="indefinite"/>
                      </p:stCondLst>
                      <p:childTnLst>
                        <p:par>
                          <p:cTn id="2510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3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4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5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8" dur="10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9" dur="10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0" dur="10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3" dur="1000" fill="hold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4" dur="1000" fill="hold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5" dur="1000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7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9" dur="1000" fill="hold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0" dur="1000" fill="hold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1" dur="1000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2" nodeType="with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4" dur="1000" fill="hold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5" dur="1000" fill="hold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6" dur="1000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7" fill="hold">
                            <p:stCondLst>
                              <p:cond delay="4000"/>
                            </p:stCondLst>
                            <p:childTnLst>
                              <p:par>
                                <p:cTn id="2538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0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1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2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5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6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7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0" dur="500" fill="hold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1" dur="500" fill="hold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2" fill="hold">
                            <p:stCondLst>
                              <p:cond delay="7000"/>
                            </p:stCondLst>
                            <p:childTnLst>
                              <p:par>
                                <p:cTn id="25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5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6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7" dur="500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69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2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300200" y="1657440"/>
            <a:ext cx="42012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Кулаг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Татьяна Геннад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хи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643280" y="3357720"/>
            <a:ext cx="4286520" cy="16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ый литературный герой: Герасим («Муму» И.С.Тургене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Таблица Д.И. Менделе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3"/>
          <a:stretch/>
        </p:blipFill>
        <p:spPr>
          <a:xfrm>
            <a:off x="900000" y="1989000"/>
            <a:ext cx="2808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8" dur="indefinite" restart="never" nodeType="tmRoot">
          <p:childTnLst>
            <p:seq>
              <p:cTn id="2559" dur="indefinite" nodeType="mainSeq">
                <p:childTnLst>
                  <p:par>
                    <p:cTn id="2560" fill="hold">
                      <p:stCondLst>
                        <p:cond delay="0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4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9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0" fill="hold">
                      <p:stCondLst>
                        <p:cond delay="indefinite"/>
                      </p:stCondLst>
                      <p:childTnLst>
                        <p:par>
                          <p:cTn id="2571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4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5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6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9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0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1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4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5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6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7" fill="hold">
                      <p:stCondLst>
                        <p:cond delay="indefinite"/>
                      </p:stCondLst>
                      <p:childTnLst>
                        <p:par>
                          <p:cTn id="2588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1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2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3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7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79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2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83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4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5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787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6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89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7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91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8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9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95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" descr=""/>
          <p:cNvPicPr/>
          <p:nvPr/>
        </p:nvPicPr>
        <p:blipFill>
          <a:blip r:embed="rId10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97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11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99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12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13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" descr=""/>
          <p:cNvPicPr/>
          <p:nvPr/>
        </p:nvPicPr>
        <p:blipFill>
          <a:blip r:embed="rId14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805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826920" y="1844640"/>
            <a:ext cx="7561440" cy="3313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970200" y="1916280"/>
            <a:ext cx="6198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рузья мои, прекрасен наш союз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 как душа неразделим и вечен 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колебим, свободен и беспеч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растался он под сенью дружных му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уда бы нас ни бросила судьби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счастие куда б ни повел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ё те же мы: нам целый мир чужби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ечество нам 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" descr=""/>
          <p:cNvPicPr/>
          <p:nvPr/>
        </p:nvPicPr>
        <p:blipFill>
          <a:blip r:embed="rId15"/>
          <a:stretch/>
        </p:blipFill>
        <p:spPr>
          <a:xfrm>
            <a:off x="7093080" y="1844640"/>
            <a:ext cx="1295280" cy="1584360"/>
          </a:xfrm>
          <a:prstGeom prst="rect">
            <a:avLst/>
          </a:prstGeom>
          <a:ln w="0">
            <a:noFill/>
          </a:ln>
        </p:spPr>
      </p:pic>
      <p:sp>
        <p:nvSpPr>
          <p:cNvPr id="809" name=""/>
          <p:cNvSpPr/>
          <p:nvPr/>
        </p:nvSpPr>
        <p:spPr>
          <a:xfrm>
            <a:off x="684360" y="522936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кончите строфу стихотворения А.С.Пушкина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«19 октября»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Какова связь этого окончания с названием стихотвор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" descr=""/>
          <p:cNvPicPr/>
          <p:nvPr/>
        </p:nvPicPr>
        <p:blipFill>
          <a:blip r:embed="rId16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811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8" dur="indefinite" restart="never" nodeType="tmRoot">
          <p:childTnLst>
            <p:seq>
              <p:cTn id="2599" dur="indefinite" nodeType="mainSeq">
                <p:childTnLst>
                  <p:par>
                    <p:cTn id="2600" fill="hold">
                      <p:stCondLst>
                        <p:cond delay="0"/>
                      </p:stCondLst>
                      <p:childTnLst>
                        <p:par>
                          <p:cTn id="2601" fill="hold">
                            <p:stCondLst>
                              <p:cond delay="0"/>
                            </p:stCondLst>
                            <p:childTnLst>
                              <p:par>
                                <p:cTn id="26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4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7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8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9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0" fill="hold">
                      <p:stCondLst>
                        <p:cond delay="indefinite"/>
                      </p:stCondLst>
                      <p:childTnLst>
                        <p:par>
                          <p:cTn id="2611" fill="hold">
                            <p:stCondLst>
                              <p:cond delay="0"/>
                            </p:stCondLst>
                            <p:childTnLst>
                              <p:par>
                                <p:cTn id="26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4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5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6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9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0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1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4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5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6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7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8" fill="hold">
                      <p:stCondLst>
                        <p:cond delay="indefinite"/>
                      </p:stCondLst>
                      <p:childTnLst>
                        <p:par>
                          <p:cTn id="2629" fill="hold">
                            <p:stCondLst>
                              <p:cond delay="0"/>
                            </p:stCondLst>
                            <p:childTnLst>
                              <p:par>
                                <p:cTn id="26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3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4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5" fill="hold">
                      <p:stCondLst>
                        <p:cond delay="indefinite"/>
                      </p:stCondLst>
                      <p:childTnLst>
                        <p:par>
                          <p:cTn id="2636" fill="hold">
                            <p:stCondLst>
                              <p:cond delay="0"/>
                            </p:stCondLst>
                            <p:childTnLst>
                              <p:par>
                                <p:cTn id="26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38" dur="1633" fill="hold"/>
                                        <p:tgtEl>
                                          <p:spTgt spid="8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9" fill="hold">
                            <p:stCondLst>
                              <p:cond delay="1633"/>
                            </p:stCondLst>
                            <p:childTnLst>
                              <p:par>
                                <p:cTn id="264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1" dur="1633" fill="hold"/>
                                        <p:tgtEl>
                                          <p:spTgt spid="7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4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43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44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5" fill="hold">
                            <p:stCondLst>
                              <p:cond delay="8266"/>
                            </p:stCondLst>
                            <p:childTnLst>
                              <p:par>
                                <p:cTn id="264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7" dur="1633" fill="hold"/>
                                        <p:tgtEl>
                                          <p:spTgt spid="7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4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49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50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1" fill="hold">
                            <p:stCondLst>
                              <p:cond delay="14899"/>
                            </p:stCondLst>
                            <p:childTnLst>
                              <p:par>
                                <p:cTn id="265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3" dur="1633" fill="hold"/>
                                        <p:tgtEl>
                                          <p:spTgt spid="7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5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55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56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7" fill="hold">
                            <p:stCondLst>
                              <p:cond delay="21532"/>
                            </p:stCondLst>
                            <p:childTnLst>
                              <p:par>
                                <p:cTn id="265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9" dur="1633" fill="hold"/>
                                        <p:tgtEl>
                                          <p:spTgt spid="7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6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61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6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3" fill="hold">
                            <p:stCondLst>
                              <p:cond delay="28165"/>
                            </p:stCondLst>
                            <p:childTnLst>
                              <p:par>
                                <p:cTn id="266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65" dur="1633" fill="hold"/>
                                        <p:tgtEl>
                                          <p:spTgt spid="7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6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67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6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9" fill="hold">
                            <p:stCondLst>
                              <p:cond delay="34798"/>
                            </p:stCondLst>
                            <p:childTnLst>
                              <p:par>
                                <p:cTn id="267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1" dur="1633" fill="hold"/>
                                        <p:tgtEl>
                                          <p:spTgt spid="7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7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73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74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5" fill="hold">
                            <p:stCondLst>
                              <p:cond delay="41431"/>
                            </p:stCondLst>
                            <p:childTnLst>
                              <p:par>
                                <p:cTn id="267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7" dur="1633" fill="hold"/>
                                        <p:tgtEl>
                                          <p:spTgt spid="7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7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79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80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1" fill="hold">
                            <p:stCondLst>
                              <p:cond delay="48064"/>
                            </p:stCondLst>
                            <p:childTnLst>
                              <p:par>
                                <p:cTn id="268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3" dur="1633" fill="hold"/>
                                        <p:tgtEl>
                                          <p:spTgt spid="7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8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85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86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7" fill="hold">
                            <p:stCondLst>
                              <p:cond delay="54697"/>
                            </p:stCondLst>
                            <p:childTnLst>
                              <p:par>
                                <p:cTn id="268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9" dur="1633" fill="hold"/>
                                        <p:tgtEl>
                                          <p:spTgt spid="7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9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91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92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3" fill="hold">
                            <p:stCondLst>
                              <p:cond delay="61330"/>
                            </p:stCondLst>
                            <p:childTnLst>
                              <p:par>
                                <p:cTn id="269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5" dur="1633" fill="hold"/>
                                        <p:tgtEl>
                                          <p:spTgt spid="8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9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97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69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9" fill="hold">
                            <p:stCondLst>
                              <p:cond delay="67963"/>
                            </p:stCondLst>
                            <p:childTnLst>
                              <p:par>
                                <p:cTn id="270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1" dur="1633" fill="hold"/>
                                        <p:tgtEl>
                                          <p:spTgt spid="8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0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703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704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5" fill="hold">
                            <p:stCondLst>
                              <p:cond delay="74596"/>
                            </p:stCondLst>
                            <p:childTnLst>
                              <p:par>
                                <p:cTn id="270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7" dur="1633" fill="hold"/>
                                        <p:tgtEl>
                                          <p:spTgt spid="8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0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709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10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814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39640" y="1773360"/>
            <a:ext cx="4824360" cy="2663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690120" y="1916280"/>
            <a:ext cx="4687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узья мои, прекрасен наш сою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 как душа неразделим и вечен 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колебим, свободен и беспеч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растался он под сенью дружных му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уда бы нас ни бросила судьби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счастие куда б ни повел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ё те же мы: нам целый мир чужби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ечество н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" descr=""/>
          <p:cNvPicPr/>
          <p:nvPr/>
        </p:nvPicPr>
        <p:blipFill>
          <a:blip r:embed="rId3"/>
          <a:stretch/>
        </p:blipFill>
        <p:spPr>
          <a:xfrm>
            <a:off x="5724360" y="1773360"/>
            <a:ext cx="2735280" cy="2663640"/>
          </a:xfrm>
          <a:prstGeom prst="rect">
            <a:avLst/>
          </a:prstGeom>
          <a:ln w="0">
            <a:noFill/>
          </a:ln>
        </p:spPr>
      </p:pic>
      <p:pic>
        <p:nvPicPr>
          <p:cNvPr id="820" name="" descr=""/>
          <p:cNvPicPr/>
          <p:nvPr/>
        </p:nvPicPr>
        <p:blipFill>
          <a:blip r:embed="rId4"/>
          <a:stretch/>
        </p:blipFill>
        <p:spPr>
          <a:xfrm>
            <a:off x="1187280" y="4581360"/>
            <a:ext cx="3313440" cy="1872000"/>
          </a:xfrm>
          <a:prstGeom prst="rect">
            <a:avLst/>
          </a:prstGeom>
          <a:ln w="0">
            <a:noFill/>
          </a:ln>
        </p:spPr>
      </p:pic>
      <p:sp>
        <p:nvSpPr>
          <p:cNvPr id="821" name=""/>
          <p:cNvSpPr/>
          <p:nvPr/>
        </p:nvSpPr>
        <p:spPr>
          <a:xfrm>
            <a:off x="5523840" y="5013360"/>
            <a:ext cx="3231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арскосель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ц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открыт 19 октября 1811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>
            <a:hlinkClick r:id="rId5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484360" y="378936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Царское Се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1" dur="indefinite" restart="never" nodeType="tmRoot">
          <p:childTnLst>
            <p:seq>
              <p:cTn id="2712" dur="indefinite" nodeType="mainSeq">
                <p:childTnLst>
                  <p:par>
                    <p:cTn id="2713" fill="hold">
                      <p:stCondLst>
                        <p:cond delay="0"/>
                      </p:stCondLst>
                      <p:childTnLst>
                        <p:par>
                          <p:cTn id="2714" fill="hold">
                            <p:stCondLst>
                              <p:cond delay="0"/>
                            </p:stCondLst>
                            <p:childTnLst>
                              <p:par>
                                <p:cTn id="27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17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0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1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2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3" fill="hold">
                      <p:stCondLst>
                        <p:cond delay="indefinite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7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8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9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2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3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4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5" fill="hold">
                      <p:stCondLst>
                        <p:cond delay="indefinite"/>
                      </p:stCondLst>
                      <p:childTnLst>
                        <p:par>
                          <p:cTn id="2736" fill="hold">
                            <p:stCondLst>
                              <p:cond delay="0"/>
                            </p:stCondLst>
                            <p:childTnLst>
                              <p:par>
                                <p:cTn id="27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9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0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1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2" fill="hold">
                            <p:stCondLst>
                              <p:cond delay="500"/>
                            </p:stCondLst>
                            <p:childTnLst>
                              <p:par>
                                <p:cTn id="27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5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6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7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8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1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2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3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4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8" dur="1000" fill="hold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9" dur="1000" fill="hold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0" dur="1000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3" dur="1000" fill="hold"/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4" dur="1000" fill="hold"/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5" dur="1000"/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6" fill="hold">
                      <p:stCondLst>
                        <p:cond delay="indefinite"/>
                      </p:stCondLst>
                      <p:childTnLst>
                        <p:par>
                          <p:cTn id="2767" fill="hold">
                            <p:stCondLst>
                              <p:cond delay="0"/>
                            </p:stCondLst>
                            <p:childTnLst>
                              <p:par>
                                <p:cTn id="27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0" dur="1000" fill="hold"/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1" dur="1000" fill="hold"/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2" dur="1000"/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64313"/>
                </a:srgbClr>
              </a:gs>
              <a:gs pos="100000">
                <a:srgbClr val="fefef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900000" y="1989000"/>
            <a:ext cx="2808360" cy="4176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948360" y="4437000"/>
            <a:ext cx="1441440" cy="194472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7020000" y="4508640"/>
            <a:ext cx="1266840" cy="1782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140360" y="1773360"/>
            <a:ext cx="467964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вами изображение предмета, некогда принад-лежавшего Льву Николае-вичу Толсто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Что это за предмет и как его использовал писате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9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0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1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2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7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1633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633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1633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8266"/>
                            </p:stCondLst>
                            <p:childTnLst>
                              <p:par>
                                <p:cTn id="12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1633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4899"/>
                            </p:stCondLst>
                            <p:childTnLst>
                              <p:par>
                                <p:cTn id="12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633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1532"/>
                            </p:stCondLst>
                            <p:childTnLst>
                              <p:par>
                                <p:cTn id="13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1633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8165"/>
                            </p:stCondLst>
                            <p:childTnLst>
                              <p:par>
                                <p:cTn id="13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1633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4798"/>
                            </p:stCondLst>
                            <p:childTnLst>
                              <p:par>
                                <p:cTn id="14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1633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1431"/>
                            </p:stCondLst>
                            <p:childTnLst>
                              <p:par>
                                <p:cTn id="15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" dur="1633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8064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1633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4697"/>
                            </p:stCondLst>
                            <p:childTnLst>
                              <p:par>
                                <p:cTn id="16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1633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1330"/>
                            </p:stCondLst>
                            <p:childTnLst>
                              <p:par>
                                <p:cTn id="16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1633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67963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1633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74596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1633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100000">
                <a:srgbClr val="fefef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1773360"/>
            <a:ext cx="1871640" cy="2447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900000" y="1989000"/>
            <a:ext cx="1511280" cy="2087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732720" y="4221000"/>
            <a:ext cx="1871640" cy="2232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71640" y="1773360"/>
            <a:ext cx="604836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ка-сту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тель любил гулять в окрестностях Ясной Поляны, часто совершал длитель-ные путешествия пешком. В 1881г. ходил в Оптину Пустынь; в 1886, 1888 и1889 гг. – из Москвы в Ясную Поля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6877080" y="4365720"/>
            <a:ext cx="1582560" cy="19684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332000" y="4365720"/>
            <a:ext cx="4895640" cy="1942920"/>
          </a:xfrm>
          <a:prstGeom prst="wedgeRoundRectCallout">
            <a:avLst>
              <a:gd name="adj1" fmla="val 69194"/>
              <a:gd name="adj2" fmla="val 38643"/>
              <a:gd name="adj3" fmla="val 16667"/>
            </a:avLst>
          </a:prstGeom>
          <a:blipFill rotWithShape="0">
            <a:blip r:embed="rId5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тавать и даже очень сильно на воздухе или на пахоте есть положительное благо во всех отношениях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rId6" action="ppaction://hlinksldjump"/>
          </p:cNvPr>
          <p:cNvSpPr/>
          <p:nvPr/>
        </p:nvSpPr>
        <p:spPr>
          <a:xfrm>
            <a:off x="324000" y="6237360"/>
            <a:ext cx="287280" cy="3934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93480"/>
              <a:gd name="textAreaBottom" fmla="*/ 375120 h 393480"/>
            </a:gdLst>
            <a:ahLst/>
            <a:rect l="textAreaLeft" t="textAreaTop" r="textAreaRight" b="textAreaBottom"/>
            <a:pathLst>
              <a:path w="21600" h="29575">
                <a:moveTo>
                  <a:pt x="0" y="0"/>
                </a:moveTo>
                <a:lnTo>
                  <a:pt x="21600" y="0"/>
                </a:lnTo>
                <a:lnTo>
                  <a:pt x="21600" y="29575"/>
                </a:lnTo>
                <a:lnTo>
                  <a:pt x="0" y="29575"/>
                </a:lnTo>
                <a:close/>
              </a:path>
              <a:path fill="lightenLess" w="21600" h="295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575">
                <a:moveTo>
                  <a:pt x="21600" y="0"/>
                </a:moveTo>
                <a:lnTo>
                  <a:pt x="21600" y="29575"/>
                </a:lnTo>
                <a:lnTo>
                  <a:pt x="20200" y="28175"/>
                </a:lnTo>
                <a:lnTo>
                  <a:pt x="20200" y="1400"/>
                </a:lnTo>
                <a:close/>
              </a:path>
              <a:path fill="darkenLess" w="21600" h="29575">
                <a:moveTo>
                  <a:pt x="21600" y="29575"/>
                </a:moveTo>
                <a:lnTo>
                  <a:pt x="0" y="29575"/>
                </a:lnTo>
                <a:lnTo>
                  <a:pt x="1400" y="28175"/>
                </a:lnTo>
                <a:lnTo>
                  <a:pt x="20200" y="28175"/>
                </a:lnTo>
                <a:close/>
              </a:path>
              <a:path fill="lighten" w="21600" h="29575">
                <a:moveTo>
                  <a:pt x="0" y="295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8175"/>
                </a:lnTo>
                <a:close/>
              </a:path>
              <a:path fill="darken" w="21600" h="29575">
                <a:moveTo>
                  <a:pt x="7301" y="14787"/>
                </a:moveTo>
                <a:lnTo>
                  <a:pt x="17806" y="7781"/>
                </a:lnTo>
                <a:lnTo>
                  <a:pt x="17806" y="21794"/>
                </a:lnTo>
                <a:close/>
              </a:path>
              <a:path fill="darken" w="21600" h="29575">
                <a:moveTo>
                  <a:pt x="3794" y="7781"/>
                </a:moveTo>
                <a:lnTo>
                  <a:pt x="5456" y="7781"/>
                </a:lnTo>
                <a:lnTo>
                  <a:pt x="5456" y="21794"/>
                </a:lnTo>
                <a:lnTo>
                  <a:pt x="3794" y="2179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2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82640" y="1657440"/>
            <a:ext cx="40287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Поз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Маргарита Юр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ате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042920" y="1916280"/>
            <a:ext cx="2592360" cy="43131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00720" y="2997360"/>
            <a:ext cx="42861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ые литературные герои: герои произве-дений Н.В.Гоголя и героиня романа С. Моэма «Театр» Джулия Лэмбер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рочитала «Войну и мир» Л.Н.Толст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.Д.  Довлатов «Иностран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Б. Акунин «Алмазная колесниц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. Лукьяненко «Ночной дозор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етективы: Рекс Стаут, Стивен Кин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 домашней библиотеке полные собрания сочинений как русских, так и зарубежных авто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2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100000">
                <a:srgbClr val="fefef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32720" y="4221000"/>
            <a:ext cx="1942920" cy="2232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95640" y="1773360"/>
            <a:ext cx="482436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вами одна из иллю-страций А.С.Пушкина к ро-ману «Евгений Онегин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Кого изобразил писате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900000" y="1989000"/>
            <a:ext cx="2808360" cy="4176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6877080" y="4437000"/>
            <a:ext cx="1584360" cy="1827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8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9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0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1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2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7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1633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633"/>
                            </p:stCondLst>
                            <p:childTnLst>
                              <p:par>
                                <p:cTn id="32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7" dur="1633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8266"/>
                            </p:stCondLst>
                            <p:childTnLst>
                              <p:par>
                                <p:cTn id="33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3" dur="1633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4899"/>
                            </p:stCondLst>
                            <p:childTnLst>
                              <p:par>
                                <p:cTn id="33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9" dur="1633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1532"/>
                            </p:stCondLst>
                            <p:childTnLst>
                              <p:par>
                                <p:cTn id="34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5" dur="1633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8165"/>
                            </p:stCondLst>
                            <p:childTnLst>
                              <p:par>
                                <p:cTn id="35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1" dur="1633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5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34798"/>
                            </p:stCondLst>
                            <p:childTnLst>
                              <p:par>
                                <p:cTn id="35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7" dur="1633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5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41431"/>
                            </p:stCondLst>
                            <p:childTnLst>
                              <p:par>
                                <p:cTn id="36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3" dur="1633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6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6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48064"/>
                            </p:stCondLst>
                            <p:childTnLst>
                              <p:par>
                                <p:cTn id="36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9" dur="1633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4697"/>
                            </p:stCondLst>
                            <p:childTnLst>
                              <p:par>
                                <p:cTn id="37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5" dur="1633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61330"/>
                            </p:stCondLst>
                            <p:childTnLst>
                              <p:par>
                                <p:cTn id="38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1" dur="1633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3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67963"/>
                            </p:stCondLst>
                            <p:childTnLst>
                              <p:par>
                                <p:cTn id="38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7" dur="1633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8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39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74596"/>
                            </p:stCondLst>
                            <p:childTnLst>
                              <p:par>
                                <p:cTn id="39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3" dur="1633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100000">
                <a:srgbClr val="fefef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4360" y="1773360"/>
            <a:ext cx="2808000" cy="33112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32720" y="4221000"/>
            <a:ext cx="1871640" cy="2232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35280" y="1773360"/>
            <a:ext cx="500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душою, полной сожал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опершися на грани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ял задумчив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вген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описал себя пи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 было тихо; лишь ноч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кликались часов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 дрожек отдаленный ст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Мильонной раздавался вдруг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шь лодка, веслами мах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ыла по дремлющей рек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леняли вдале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жок и песня удалая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826920" y="1916280"/>
            <a:ext cx="2449800" cy="30254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6877080" y="4365720"/>
            <a:ext cx="1584360" cy="1827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332000" y="5084640"/>
            <a:ext cx="4895640" cy="1297080"/>
          </a:xfrm>
          <a:prstGeom prst="wedgeRoundRectCallout">
            <a:avLst>
              <a:gd name="adj1" fmla="val 69194"/>
              <a:gd name="adj2" fmla="val 27356"/>
              <a:gd name="adj3" fmla="val 16667"/>
            </a:avLst>
          </a:prstGeom>
          <a:blipFill rotWithShape="0">
            <a:blip r:embed="rId5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.. Сам Александр Сергеич Пушкин с мосье Онегиным сто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6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22:58:47Z</dcterms:created>
  <dc:creator>солодченкова</dc:creator>
  <dc:description/>
  <dc:language>en-US</dc:language>
  <cp:lastModifiedBy>солодченкова</cp:lastModifiedBy>
  <dcterms:modified xsi:type="dcterms:W3CDTF">2011-06-19T22:55:14Z</dcterms:modified>
  <cp:revision>2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6170000000000010243100207f6000400038000</vt:lpwstr>
  </property>
</Properties>
</file>