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90F8-B2EC-4CC1-A575-881852B22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ADD7-44FD-4815-A3A5-4F3238D4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AD07-E940-4F15-9A10-083B75CAE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6C68-06B3-4A05-9814-E1010CB63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95CC-435D-4D79-88FE-FCC2D011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4162-A9B0-40E2-BD42-5C9E57DD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06D5-7033-44BB-86B3-ACFF1347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22A3-6E10-408C-B2C4-690DCDEB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C420-9D3C-466A-9EAB-7D84139A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7D4D-7BA7-4D43-AA74-EC8D765C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BFE7-2ECD-4993-8D9B-7605A1A7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8AA7-36D0-4C39-B5F7-448DEAF8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2B76-7C39-4F07-88E1-860AC7BF2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0"/>
            <a:ext cx="8532720" cy="6858000"/>
          </a:xfrm>
          <a:custGeom>
            <a:avLst/>
            <a:gdLst>
              <a:gd name="textAreaLeft" fmla="*/ 1947960 w 8532720"/>
              <a:gd name="textAreaRight" fmla="*/ 6584760 w 8532720"/>
              <a:gd name="textAreaTop" fmla="*/ 1565640 h 6858000"/>
              <a:gd name="textAreaBottom" fmla="*/ 5292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>
              <a:alphaModFix amt="96000"/>
            </a:blip>
            <a:srcRect/>
            <a:stretch/>
          </a:blip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843280" y="162864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66ff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Республика</a:t>
            </a:r>
            <a:endParaRPr b="0" lang="en-US" sz="1800" spc="1" strike="noStrike">
              <a:ln w="25560">
                <a:solidFill>
                  <a:srgbClr val="0066ff"/>
                </a:solidFill>
                <a:miter/>
              </a:ln>
              <a:solidFill>
                <a:srgbClr val="00ccff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340000" y="2637000"/>
            <a:ext cx="4753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latin typeface="Monotype Corsiva"/>
              </a:rPr>
              <a:t>Саха (Якутия)</a:t>
            </a:r>
            <a:endParaRPr b="0" lang="en-US" sz="4000" spc="1" strike="noStrike">
              <a:ln w="25560">
                <a:solidFill>
                  <a:srgbClr val="0000ff"/>
                </a:solidFill>
                <a:miter/>
              </a:ln>
              <a:solidFill>
                <a:srgbClr val="00ccff"/>
              </a:solidFill>
              <a:latin typeface="Monotype Corsiva"/>
              <a:ea typeface="Monotype Corsiva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270828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24360" y="285264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43640" y="357336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24360" y="3645000"/>
            <a:ext cx="216000" cy="21564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5640"/>
              <a:gd name="textAreaBottom" fmla="*/ 126720 h 21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95640" y="3429000"/>
            <a:ext cx="215640" cy="216000"/>
          </a:xfrm>
          <a:custGeom>
            <a:avLst/>
            <a:gdLst>
              <a:gd name="textAreaLeft" fmla="*/ 88920 w 215640"/>
              <a:gd name="textAreaRight" fmla="*/ 126720 w 21564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04000" y="270828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2781360"/>
            <a:ext cx="215640" cy="216000"/>
          </a:xfrm>
          <a:custGeom>
            <a:avLst/>
            <a:gdLst>
              <a:gd name="textAreaLeft" fmla="*/ 88920 w 215640"/>
              <a:gd name="textAreaRight" fmla="*/ 126720 w 21564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9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53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4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57" dur="10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8" dur="10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" dur="10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1" dur="10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2" dur="10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3" dur="10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5" dur="10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6" dur="10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7" dur="10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9" dur="10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0" dur="10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1" dur="10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73" dur="10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4" dur="10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5" dur="10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77" dur="10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8" dur="10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9" dur="10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53272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лезные ископаемые: алмазы, золото, олово, слюда, вольфрам, полиметаллические и железные руды, уголь, природный газ, минеральные источники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 величине разведанных запасов алмазов (45 %) Республика Саха заняла первое место в ми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веданные запасы угля в Якутии (9617,8 млн. т) могут обеспечить добычу в объеме 150 млн. т в год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19280" y="3284640"/>
            <a:ext cx="5113440" cy="2662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605800" cy="27370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916360" y="189000"/>
            <a:ext cx="3166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Население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836280"/>
            <a:ext cx="61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селение Якутии составляет 950,7 тыс. чел. Удельный вес городского населения – 64,2 %, плотность населения - 0,3 чел./км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6624720" cy="2890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042920" y="2565360"/>
            <a:ext cx="5848560" cy="2533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68360" y="2421000"/>
            <a:ext cx="7950240" cy="37735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3" dur="25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44" dur="25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5" dur="25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7" dur="100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348" dur="100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349" dur="100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000"/>
                            </p:stCondLst>
                            <p:childTnLst>
                              <p:par>
                                <p:cTn id="3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348000" y="0"/>
            <a:ext cx="1727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Якуты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524320" cy="2808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806560" y="726480"/>
            <a:ext cx="6337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ренное население Якутии (365 тыс. человек), Якутский язык относится к северо-восточной ветви тюркской группы алтайских языков. Верующие — православ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куты сформировались в результате поглощения южными тюркоязычными переселенцами местных племен среднего течения Лены. В расовом отношении якуты являются представителями центрально азиатского антропологического типа североазиатской расы. В традиционном хозяйстве и материальной культуре якутов много черт, сходных с культурой скотоводов Центральной Азии. Включение якутов в состав Русского государства (1620-30-е гг.) ускорило их социально-экономическое и культурное развитие. В 17-19 веках главным занятием якутов было, скотоводство со второй половины 19 века значительная часть стала заниматься земледелием; охота и рыболовство играли подсобную роль. Основным типом жилища был бревенчатый балаган (юрта), летним — разборная ураса. Одежду шили из шкур и меха. Во второй половине 18 века большая часть якутов была обращена в христианство, однако сохранялось и шаман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387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388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0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91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2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4000"/>
                            </p:stCondLst>
                            <p:childTnLst>
                              <p:par>
                                <p:cTn id="3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9640" y="457200"/>
            <a:ext cx="7632720" cy="57038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050920" y="260280"/>
            <a:ext cx="453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Промышленность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98136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отрасль промышленности — горнодобывающая: алмазы («Алмазы России-Саха» — Алроса), золото («Золото Якутии», «Алданзолото»), олово («Депутатсколово»), слюда, сурьма, уголь («Якутуголь»). Развиты добыча газа («Якутгазпром»), лесная и деревообрабатывающая промышленность («Якутлес»), производство стройматериалов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а энергетики — Вилюйская ГЭС, Чульманская, Якутская ГРЭ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3212640"/>
            <a:ext cx="829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Республике открыта Ленно-Вилюйская нефтегазоносная провинция, имеющая большие перспекти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005360"/>
            <a:ext cx="882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числу перспективных проектов развития топливно-энергетического комплекса Республики Саха следует отнести разработку Чаяндинского месторождения природного газа с передачей его в намечаемый к строительству в будущем магистральный газопровод Восточная Сибирь-Китай-Южная Корея, а так же строительство каскада Электростанций на реках Учур и Тимптон суммарной мощностью 5 млн. кВт 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7848720" cy="51501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10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422" dur="10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23" dur="10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10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426" dur="10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27" dur="10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484360" y="333360"/>
            <a:ext cx="4305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Сельское хозяйство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112536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льское хозяйство специализируется на животноводстве (мясомолочное скотоводство, мясо-табунное коневодство), на севере — оленеводство. Развиты звероводство, охотничий и рыбный промыслы. Посевы зерновых (пшеница и др.) и кормовых культу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27079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ство зерна, сои, картофеля и овощей, расположены преимущественно на юге Республ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00000" y="326880"/>
            <a:ext cx="7488360" cy="60883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5" dur="25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456" dur="25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57" dur="25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шая часть грузопотока приходиться на водный транспорт. Развивается автомобильная сеть республики. К 2008 году планируется ликвидировать грунтовые разрывы на автодороге федерального значения «Колыма» (Якутск – Магадан). К 2015 году планируется связать дорогу республиканского значения «Вилюй» с Усть-Кутом Иркутской области и придать ей федеральный статус (Якутск – Мирный – Ленск – Усть-Кут – Тулун). В перспективе планируется выход автодороги «Амага» (Якутск – Амага – Усть-Мая) к порту Аян в Хабаровском крае. Также планируется строительство круглогодично действующих трасс «Яна» (Хандыга – Батагай – Усть-Куйга) и «Анабар» (Мирный – Удачный – Оленек – Юрюнг-Хая). В то же время автодорога федерального значения «Лена», которая связывает Якутск с общероссийской автомобильной сетью, требует очень серьезного ремо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 воздушный транспорт. В республике действует 32 аэропо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олжается строительство Амуро-Якутской железной магистрали до Якутска. Действует участок Беркакит – Алдан – Томм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492360" y="189000"/>
            <a:ext cx="2238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Транспорт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</p:spTree>
  </p:cSld>
  <p:transition spd="slow">
    <p:diamond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9" dur="100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480" dur="100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81" dur="100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000"/>
                            </p:stCondLst>
                            <p:childTnLst>
                              <p:par>
                                <p:cTn id="4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4000"/>
                            </p:stCondLst>
                            <p:childTnLst>
                              <p:par>
                                <p:cTn id="4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050920" y="404640"/>
            <a:ext cx="5505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Экологические проблемы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432920" cy="52372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8" dur="100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509" dur="100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510" dur="100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Республика Саха (Якутия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егион с благоприятным инвестиционным климатом. Это обусловлено рядом факторов, среди которых: выгодное географическое положение, близость рынков сбыта стран АТР; значительные запасы сырьевых (в первую очередь – алмазы, золото) и энергетических ресурсов; готовность органов государственной власти и органов местного самоуправления вести конструктивный диалог с инвесторами о форме их участия в развитии отраслей экономики и о гарантиях возврата капиталовло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132000" y="333360"/>
            <a:ext cx="2610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Заключение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</p:spTree>
  </p:cSld>
  <p:transition spd="slow">
    <p:diamond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5" dur="100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526" dur="100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527" dur="100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52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3500"/>
                            </p:stCondLst>
                            <p:childTnLst>
                              <p:par>
                                <p:cTn id="5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7620120" cy="4400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71640" y="260280"/>
            <a:ext cx="2087640" cy="19447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932360" y="476280"/>
            <a:ext cx="2160720" cy="1177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2360" y="234864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ощадь 3103,2 тыс. км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6880" y="2851920"/>
            <a:ext cx="26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 района, 13 горо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3280" y="342828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олица — Якутс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155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1155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115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115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15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1155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115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5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0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спублика Саха расположена в северо-восточной части Сибири. Якутия – самый крупный субъект РФ – самая крупная административно-территориальная единица в ми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спублика Саха граничит на западе с Красноярским краем, на юго-западе – с Иркутской областью, на юге – с Амурской и Читинской областями, на юго-востоке – с Хабаровским краем, на востоке – с Магаданской областью и Чукотским автономным округом, на севере её составные рубежи образуют моря Лаптевых и Восточно-Сибирско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780000" y="404640"/>
            <a:ext cx="1512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ЭГП</a:t>
            </a:r>
            <a:endParaRPr b="0" i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p:transition spd="slow">
    <p:diamond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135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36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140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41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145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46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8000"/>
                            </p:stCondLst>
                            <p:childTnLst>
                              <p:par>
                                <p:cTn id="1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187280" y="2133720"/>
            <a:ext cx="691380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Природные условия и ресурсы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</p:spTree>
  </p:cSld>
  <p:transition spd="slow">
    <p:diamond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10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170" dur="10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71" dur="10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189000"/>
            <a:ext cx="81356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западе — Среднесибирское плоскогорье, на востоке — хреб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хоянского, Черского расположенное между ними Яно-Оймяконское нагорье, на юге-Алданское нагорье и пограничный Становый хребет.В северной части Северо- Сибирская Яно-Индигирская и Колымскач низменности. На северо-востоке — Юкагирское плоскогор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9640" y="3067200"/>
            <a:ext cx="7775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кутия – один из наиболее речных (700 тыс. рек и речек) и озерных (свыше 800 тыс.) районов России. Общая протяжность всех ее рек составляет 2 млн. км, а их потенциальные гидроэнергоресурсы оцениваются почти в 700 млрд. кВт. Крупнейшие судоходные реки: Лена (4400 км), Вилюй (2650), Алдан (2273), Колыма (2129), Индигирка (1726), Олекма (1436), Анабар (939) и Яна (872 к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6840" y="403920"/>
            <a:ext cx="64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мывается морями Лаптевых и Восточно-Сибирск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чти вся континентальная территория Якутии представляет собой зону сплошной многовековой мерзлоты, которая только на крайнем юго-западе переходит в зону ее прерывистого распространения. Средняя мощность мерзлого слоя достигает 300-400 м., а в бассейне реки Вилюй – 1500м.: это максимальное промерзание горных пород на земном шаре. В горах Восточной Якутии 485 ледников общей площадью 413 кв. км. И с запасом пресной воды около 2 тыс. куб. 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имат резко континентальный, отличается продолжительностью зимним и коротким летним периодами. Максимальная амплитуда средних температур самого холодного месяца – января и самого теплого – июля составляет 70-750С. По абсолютной величине минимальной температуры (в восточных горных системах – котловинах, впадинах и других понижениях до минус 700С) и по ее суммарной продолжительности (от 6,5 до 9 месяцев в год) республика не имеет аналогов в Северном полуша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ая часть территории Якутии расположена в зоне средн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йги, которая к северу сменяется зонами лесотундры и тунд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чвы преимущественно мерзлотно-таежные, дерново-лесны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лювиально-луговые, горно-лесные и тундрово-глеевые. Ле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даурская лиственница, сосна, кедровый стланик, ель, пих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реза и др.) занимают около 4/5 территории. В долинах рек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асах распространены луга. На побережье и вершинах гор 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старниковая, травянистая растительность и лишайн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хранились песец, соболь, заяц-беляк, горностай, лисица, ондатр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верный олень, изюбрь, кабарга, снежный баран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зовая чайка, белый журавль-стерх и др. В морях — омуль, муксу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льма, чир. В реках — сиг, щука, окун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етр, налим, таймень, ленок. Олекминский заповедник, Уст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нский заповед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7000"/>
                            </p:stCondLst>
                            <p:childTnLst>
                              <p:par>
                                <p:cTn id="2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900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1:21:31Z</dcterms:created>
  <dc:creator>Лилия</dc:creator>
  <dc:description/>
  <dc:language>en-US</dc:language>
  <cp:lastModifiedBy>Лилия</cp:lastModifiedBy>
  <dcterms:modified xsi:type="dcterms:W3CDTF">2010-05-08T14:37:42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a09000000000001023620</vt:lpwstr>
  </property>
</Properties>
</file>