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8.jpeg" ContentType="image/jpeg"/>
  <Override PartName="/ppt/media/image10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1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6ECD-F531-41A3-A94A-4C3E63402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7DE0-C025-4FC5-B0C7-38661DA24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C335-4149-4B20-8BD7-1AEE6AFD3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956A-864B-4C76-971D-3CAAA7D15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9EAE-FB95-43A3-967C-C1CD75E89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C7B1-F707-43A3-8BC7-2508E31DC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FF12-B8C2-42B6-8565-A454E0808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6C22-0164-4570-AA1F-C96559534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8F94-14F3-44C3-89F5-D526BC00E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B84D-A7CB-45B1-AD2D-7066BA5F5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292F-221F-4973-9FBF-1968B922D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9B80-A79E-4D6A-B27A-1D98D5F4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17E01-4974-462C-9675-8B3B374B30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0"/>
            <a:ext cx="8532720" cy="6858000"/>
          </a:xfrm>
          <a:custGeom>
            <a:avLst/>
            <a:gdLst>
              <a:gd name="textAreaLeft" fmla="*/ 1947960 w 8532720"/>
              <a:gd name="textAreaRight" fmla="*/ 6584760 w 8532720"/>
              <a:gd name="textAreaTop" fmla="*/ 1565640 h 6858000"/>
              <a:gd name="textAreaBottom" fmla="*/ 5292360 h 685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1">
              <a:alphaModFix amt="96000"/>
            </a:blip>
            <a:srcRect/>
            <a:stretch/>
          </a:blip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843280" y="1628640"/>
            <a:ext cx="381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66ff"/>
                  </a:solidFill>
                  <a:miter/>
                </a:ln>
                <a:solidFill>
                  <a:srgbClr val="00ccff"/>
                </a:solidFill>
                <a:latin typeface="Arial"/>
              </a:rPr>
              <a:t>Республика</a:t>
            </a:r>
            <a:endParaRPr b="0" lang="en-US" sz="1800" spc="1" strike="noStrike">
              <a:ln w="25560">
                <a:solidFill>
                  <a:srgbClr val="0066ff"/>
                </a:solidFill>
                <a:miter/>
              </a:ln>
              <a:solidFill>
                <a:srgbClr val="00ccff"/>
              </a:solidFill>
              <a:latin typeface="Arial"/>
              <a:ea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340000" y="2637000"/>
            <a:ext cx="4753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25560">
                  <a:solidFill>
                    <a:srgbClr val="0000ff"/>
                  </a:solidFill>
                  <a:miter/>
                </a:ln>
                <a:solidFill>
                  <a:srgbClr val="00ccff"/>
                </a:solidFill>
                <a:latin typeface="Monotype Corsiva"/>
              </a:rPr>
              <a:t>Саха (Якутия)</a:t>
            </a:r>
            <a:endParaRPr b="0" lang="en-US" sz="4000" spc="1" strike="noStrike">
              <a:ln w="25560">
                <a:solidFill>
                  <a:srgbClr val="0000ff"/>
                </a:solidFill>
                <a:miter/>
              </a:ln>
              <a:solidFill>
                <a:srgbClr val="00ccff"/>
              </a:solidFill>
              <a:latin typeface="Monotype Corsiva"/>
              <a:ea typeface="Monotype Corsiva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2708280"/>
            <a:ext cx="216000" cy="216000"/>
          </a:xfrm>
          <a:custGeom>
            <a:avLst/>
            <a:gdLst>
              <a:gd name="textAreaLeft" fmla="*/ 88920 w 216000"/>
              <a:gd name="textAreaRight" fmla="*/ 127080 w 216000"/>
              <a:gd name="textAreaTop" fmla="*/ 88920 h 216000"/>
              <a:gd name="textAreaBottom" fmla="*/ 1270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724360" y="2852640"/>
            <a:ext cx="216000" cy="216000"/>
          </a:xfrm>
          <a:custGeom>
            <a:avLst/>
            <a:gdLst>
              <a:gd name="textAreaLeft" fmla="*/ 88920 w 216000"/>
              <a:gd name="textAreaRight" fmla="*/ 127080 w 216000"/>
              <a:gd name="textAreaTop" fmla="*/ 88920 h 216000"/>
              <a:gd name="textAreaBottom" fmla="*/ 1270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43640" y="3573360"/>
            <a:ext cx="216000" cy="216000"/>
          </a:xfrm>
          <a:custGeom>
            <a:avLst/>
            <a:gdLst>
              <a:gd name="textAreaLeft" fmla="*/ 88920 w 216000"/>
              <a:gd name="textAreaRight" fmla="*/ 127080 w 216000"/>
              <a:gd name="textAreaTop" fmla="*/ 88920 h 216000"/>
              <a:gd name="textAreaBottom" fmla="*/ 1270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24360" y="3645000"/>
            <a:ext cx="216000" cy="215640"/>
          </a:xfrm>
          <a:custGeom>
            <a:avLst/>
            <a:gdLst>
              <a:gd name="textAreaLeft" fmla="*/ 88920 w 216000"/>
              <a:gd name="textAreaRight" fmla="*/ 127080 w 216000"/>
              <a:gd name="textAreaTop" fmla="*/ 88920 h 215640"/>
              <a:gd name="textAreaBottom" fmla="*/ 126720 h 21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95640" y="3429000"/>
            <a:ext cx="215640" cy="216000"/>
          </a:xfrm>
          <a:custGeom>
            <a:avLst/>
            <a:gdLst>
              <a:gd name="textAreaLeft" fmla="*/ 88920 w 215640"/>
              <a:gd name="textAreaRight" fmla="*/ 126720 w 215640"/>
              <a:gd name="textAreaTop" fmla="*/ 88920 h 216000"/>
              <a:gd name="textAreaBottom" fmla="*/ 1270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04000" y="2708280"/>
            <a:ext cx="216000" cy="216000"/>
          </a:xfrm>
          <a:custGeom>
            <a:avLst/>
            <a:gdLst>
              <a:gd name="textAreaLeft" fmla="*/ 88920 w 216000"/>
              <a:gd name="textAreaRight" fmla="*/ 127080 w 216000"/>
              <a:gd name="textAreaTop" fmla="*/ 88920 h 216000"/>
              <a:gd name="textAreaBottom" fmla="*/ 1270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2781360"/>
            <a:ext cx="215640" cy="216000"/>
          </a:xfrm>
          <a:custGeom>
            <a:avLst/>
            <a:gdLst>
              <a:gd name="textAreaLeft" fmla="*/ 88920 w 215640"/>
              <a:gd name="textAreaRight" fmla="*/ 126720 w 215640"/>
              <a:gd name="textAreaTop" fmla="*/ 88920 h 216000"/>
              <a:gd name="textAreaBottom" fmla="*/ 1270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" dur="1000" autoRev="1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4" dur="1000" autoRev="1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" dur="1000" autoRev="1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8000"/>
                            </p:stCondLst>
                            <p:childTnLst>
                              <p:par>
                                <p:cTn id="2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1000" autoRev="1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9" dur="1000" autoRev="1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" dur="1000" autoRev="1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53" dur="1000" autoRev="1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4" dur="1000" autoRev="1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5" dur="1000" autoRev="1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57" dur="1000" autoRev="1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8" dur="1000" autoRev="1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9" dur="1000" autoRev="1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61" dur="1000" autoRev="1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2" dur="1000" autoRev="1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3" dur="1000" autoRev="1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65" dur="1000" autoRev="1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6" dur="1000" autoRev="1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7" dur="1000" autoRev="1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69" dur="1000" autoRev="1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0" dur="1000" autoRev="1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1" dur="1000" autoRev="1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73" dur="1000" autoRev="1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4" dur="1000" autoRev="1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5" dur="1000" autoRev="1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77" dur="1000" autoRev="1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8" dur="1000" autoRev="1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9" dur="1000" autoRev="1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611280" y="476280"/>
            <a:ext cx="853272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лезные ископаемые: алмазы, золото, олово, слюда, вольфрам, полиметаллические и железные руды, уголь, природный газ, минеральные источники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 величине разведанных запасов алмазов (45 %) Республика Саха заняла первое место в ми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зведанные запасы угля в Якутии (9617,8 млн. т) могут обеспечить добычу в объеме 150 млн. т в год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619280" y="3284640"/>
            <a:ext cx="5113440" cy="26622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8605800" cy="27370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2916360" y="189000"/>
            <a:ext cx="31669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Население</a:t>
            </a:r>
            <a:endParaRPr b="0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836280"/>
            <a:ext cx="619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селение Якутии составляет 950,7 тыс. чел. Удельный вес городского населения – 64,2 %, плотность населения - 0,3 чел./км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6624720" cy="28908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042920" y="2565360"/>
            <a:ext cx="5848560" cy="25336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468360" y="2421000"/>
            <a:ext cx="7950240" cy="37735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3" dur="250" autoRev="1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44" dur="250" autoRev="1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45" dur="250" autoRev="1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7" dur="1000" autoRev="1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animClr clrSpc="rgb">
                                      <p:cBhvr>
                                        <p:cTn id="348" dur="1000" autoRev="1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349" dur="1000" autoRev="1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000"/>
                            </p:stCondLst>
                            <p:childTnLst>
                              <p:par>
                                <p:cTn id="3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4000"/>
                            </p:stCondLst>
                            <p:childTnLst>
                              <p:par>
                                <p:cTn id="3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348000" y="0"/>
            <a:ext cx="1727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Якуты</a:t>
            </a:r>
            <a:endParaRPr b="0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2524320" cy="2808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806560" y="726480"/>
            <a:ext cx="63374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ренное население Якутии (365 тыс. человек), Якутский язык относится к северо-восточной ветви тюркской группы алтайских языков. Верующие — православ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куты сформировались в результате поглощения южными тюркоязычными переселенцами местных племен среднего течения Лены. В расовом отношении якуты являются представителями центрально азиатского антропологического типа североазиатской расы. В традиционном хозяйстве и материальной культуре якутов много черт, сходных с культурой скотоводов Центральной Азии. Включение якутов в состав Русского государства (1620-30-е гг.) ускорило их социально-экономическое и культурное развитие. В 17-19 веках главным занятием якутов было, скотоводство со второй половины 19 века значительная часть стала заниматься земледелием; охота и рыболовство играли подсобную роль. Основным типом жилища был бревенчатый балаган (юрта), летним — разборная ураса. Одежду шили из шкур и меха. Во второй половине 18 века большая часть якутов была обращена в христианство, однако сохранялось и шаман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1000" autoRev="1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animClr clrSpc="rgb">
                                      <p:cBhvr>
                                        <p:cTn id="387" dur="1000" autoRev="1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388" dur="1000" autoRev="1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0" dur="1000" autoRev="1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91" dur="1000" autoRev="1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92" dur="1000" autoRev="1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4000"/>
                            </p:stCondLst>
                            <p:childTnLst>
                              <p:par>
                                <p:cTn id="3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9640" y="457200"/>
            <a:ext cx="7632720" cy="57038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2050920" y="260280"/>
            <a:ext cx="4537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Промышленность</a:t>
            </a:r>
            <a:endParaRPr b="0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5280" y="981360"/>
            <a:ext cx="806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ая отрасль промышленности — горнодобывающая: алмазы («Алмазы России-Саха» — Алроса), золото («Золото Якутии», «Алданзолото»), олово («Депутатсколово»), слюда, сурьма, уголь («Якутуголь»). Развиты добыча газа («Якутгазпром»), лесная и деревообрабатывающая промышленность («Якутлес»), производство стройматериалов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а энергетики — Вилюйская ГЭС, Чульманская, Якутская ГРЭ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0920" y="3212640"/>
            <a:ext cx="829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Республике открыта Ленно-Вилюйская нефтегазоносная провинция, имеющая большие перспектив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4005360"/>
            <a:ext cx="8821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 числу перспективных проектов развития топливно-энергетического комплекса Республики Саха следует отнести разработку Чаяндинского месторождения природного газа с передачей его в намечаемый к строительству в будущем магистральный газопровод Восточная Сибирь-Китай-Южная Корея, а так же строительство каскада Электростанций на реках Учур и Тимптон суммарной мощностью 5 млн. кВт ч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55640" y="907920"/>
            <a:ext cx="7848720" cy="51501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1" dur="1000" autoRev="1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animClr clrSpc="rgb">
                                      <p:cBhvr>
                                        <p:cTn id="422" dur="1000" autoRev="1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423" dur="1000" autoRev="1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1000" autoRev="1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animClr clrSpc="rgb">
                                      <p:cBhvr>
                                        <p:cTn id="426" dur="1000" autoRev="1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427" dur="1000" autoRev="1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2000"/>
                            </p:stCondLst>
                            <p:childTnLst>
                              <p:par>
                                <p:cTn id="4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500"/>
                            </p:stCondLst>
                            <p:childTnLst>
                              <p:par>
                                <p:cTn id="4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3000"/>
                            </p:stCondLst>
                            <p:childTnLst>
                              <p:par>
                                <p:cTn id="4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4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2484360" y="333360"/>
            <a:ext cx="4305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Сельское хозяйство</a:t>
            </a:r>
            <a:endParaRPr b="0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0920" y="1125360"/>
            <a:ext cx="763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ельское хозяйство специализируется на животноводстве (мясомолочное скотоводство, мясо-табунное коневодство), на севере — оленеводство. Развиты звероводство, охотничий и рыбный промыслы. Посевы зерновых (пшеница и др.) и кормовых культу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27079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изводство зерна, сои, картофеля и овощей, расположены преимущественно на юге Республ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900000" y="326880"/>
            <a:ext cx="7488360" cy="60883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5" dur="250" autoRev="1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animClr clrSpc="rgb">
                                      <p:cBhvr>
                                        <p:cTn id="456" dur="250" autoRev="1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457" dur="250" autoRev="1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500"/>
                            </p:stCondLst>
                            <p:childTnLst>
                              <p:par>
                                <p:cTn id="46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836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ьшая часть грузопотока приходиться на водный транспорт. Развивается автомобильная сеть республики. К 2008 году планируется ликвидировать грунтовые разрывы на автодороге федерального значения «Колыма» (Якутск – Магадан). К 2015 году планируется связать дорогу республиканского значения «Вилюй» с Усть-Кутом Иркутской области и придать ей федеральный статус (Якутск – Мирный – Ленск – Усть-Кут – Тулун). В перспективе планируется выход автодороги «Амага» (Якутск – Амага – Усть-Мая) к порту Аян в Хабаровском крае. Также планируется строительство круглогодично действующих трасс «Яна» (Хандыга – Батагай – Усть-Куйга) и «Анабар» (Мирный – Удачный – Оленек – Юрюнг-Хая). В то же время автодорога федерального значения «Лена», которая связывает Якутск с общероссийской автомобильной сетью, требует очень серьезного ремо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 воздушный транспорт. В республике действует 32 аэропор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должается строительство Амуро-Якутской железной магистрали до Якутска. Действует участок Беркакит – Алдан – Томмо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492360" y="189000"/>
            <a:ext cx="22384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Транспорт</a:t>
            </a:r>
            <a:endParaRPr b="0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</p:spTree>
  </p:cSld>
  <p:transition spd="slow">
    <p:diamond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9" dur="1000" autoRev="1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animClr clrSpc="rgb">
                                      <p:cBhvr>
                                        <p:cTn id="480" dur="1000" autoRev="1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481" dur="1000" autoRev="1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3000"/>
                            </p:stCondLst>
                            <p:childTnLst>
                              <p:par>
                                <p:cTn id="4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4000"/>
                            </p:stCondLst>
                            <p:childTnLst>
                              <p:par>
                                <p:cTn id="4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2050920" y="404640"/>
            <a:ext cx="5505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Экологические проблемы</a:t>
            </a:r>
            <a:endParaRPr b="0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900000" y="981000"/>
            <a:ext cx="7432920" cy="52372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8" dur="1000" autoRev="1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animClr clrSpc="rgb">
                                      <p:cBhvr>
                                        <p:cTn id="509" dur="1000" autoRev="1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510" dur="1000" autoRev="1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Республика Саха (Якутия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регион с благоприятным инвестиционным климатом. Это обусловлено рядом факторов, среди которых: выгодное географическое положение, близость рынков сбыта стран АТР; значительные запасы сырьевых (в первую очередь – алмазы, золото) и энергетических ресурсов; готовность органов государственной власти и органов местного самоуправления вести конструктивный диалог с инвесторами о форме их участия в развитии отраслей экономики и о гарантиях возврата капиталовлож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132000" y="333360"/>
            <a:ext cx="2610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Заключение</a:t>
            </a:r>
            <a:endParaRPr b="0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</p:spTree>
  </p:cSld>
  <p:transition spd="slow">
    <p:diamond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0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5" dur="1000" autoRev="1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animClr clrSpc="rgb">
                                      <p:cBhvr>
                                        <p:cTn id="526" dur="1000" autoRev="1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527" dur="1000" autoRev="1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2500"/>
                            </p:stCondLst>
                            <p:childTnLst>
                              <p:par>
                                <p:cTn id="52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3500"/>
                            </p:stCondLst>
                            <p:childTnLst>
                              <p:par>
                                <p:cTn id="53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26920" y="1916280"/>
            <a:ext cx="7620120" cy="4400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71640" y="260280"/>
            <a:ext cx="2087640" cy="19447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932360" y="476280"/>
            <a:ext cx="2160720" cy="1177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52360" y="2348640"/>
            <a:ext cx="29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лощадь 3103,2 тыс. км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6880" y="2851920"/>
            <a:ext cx="26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 района, 13 город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3280" y="3428280"/>
            <a:ext cx="22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олица — Якутс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155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" dur="1155" fill="hold"/>
                                        <p:tgtEl>
                                          <p:spTgt spid="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4" dur="1155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6" dur="1155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0"/>
                            </p:stCondLst>
                            <p:childTnLst>
                              <p:par>
                                <p:cTn id="9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155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" dur="1155" fill="hold"/>
                                        <p:tgtEl>
                                          <p:spTgt spid="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4" dur="1155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8000"/>
                            </p:stCondLst>
                            <p:childTnLst>
                              <p:par>
                                <p:cTn id="1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8500"/>
                            </p:stCondLst>
                            <p:childTnLst>
                              <p:par>
                                <p:cTn id="1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000"/>
                            </p:stCondLst>
                            <p:childTnLst>
                              <p:par>
                                <p:cTn id="1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еспублика Саха расположена в северо-восточной части Сибири. Якутия – самый крупный субъект РФ – самая крупная административно-территориальная единица в ми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еспублика Саха граничит на западе с Красноярским краем, на юго-западе – с Иркутской областью, на юге – с Амурской и Читинской областями, на юго-востоке – с Хабаровским краем, на востоке – с Магаданской областью и Чукотским автономным округом, на севере её составные рубежи образуют моря Лаптевых и Восточно-Сибирско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780000" y="404640"/>
            <a:ext cx="15127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ЭГП</a:t>
            </a:r>
            <a:endParaRPr b="0" i="1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</p:spTree>
  </p:cSld>
  <p:transition spd="slow">
    <p:diamond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100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animClr clrSpc="rgb">
                                      <p:cBhvr>
                                        <p:cTn id="135" dur="100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136" dur="100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" dur="100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animClr clrSpc="rgb">
                                      <p:cBhvr>
                                        <p:cTn id="140" dur="100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141" dur="100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6000"/>
                            </p:stCondLst>
                            <p:childTnLst>
                              <p:par>
                                <p:cTn id="14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100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animClr clrSpc="rgb">
                                      <p:cBhvr>
                                        <p:cTn id="145" dur="100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146" dur="100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8000"/>
                            </p:stCondLst>
                            <p:childTnLst>
                              <p:par>
                                <p:cTn id="1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9000"/>
                            </p:stCondLst>
                            <p:childTnLst>
                              <p:par>
                                <p:cTn id="1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1187280" y="2133720"/>
            <a:ext cx="691380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Природные условия и ресурсы</a:t>
            </a:r>
            <a:endParaRPr b="0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</p:spTree>
  </p:cSld>
  <p:transition spd="slow">
    <p:diamond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9" dur="1000" autoRev="1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animClr clrSpc="rgb">
                                      <p:cBhvr>
                                        <p:cTn id="170" dur="1000" autoRev="1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171" dur="1000" autoRev="1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24000" y="189000"/>
            <a:ext cx="813564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западе — Среднесибирское плоскогорье, на востоке — хреб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рхоянского, Черского расположенное между ними Яно-Оймяконское нагорье, на юге-Алданское нагорье и пограничный Становый хребет.В северной части Северо- Сибирская Яно-Индигирская и Колымскач низменности. На северо-востоке — Юкагирское плоскогорь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39640" y="3067200"/>
            <a:ext cx="7775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кутия – один из наиболее речных (700 тыс. рек и речек) и озерных (свыше 800 тыс.) районов России. Общая протяжность всех ее рек составляет 2 млн. км, а их потенциальные гидроэнергоресурсы оцениваются почти в 700 млрд. кВт. Крупнейшие судоходные реки: Лена (4400 км), Вилюй (2650), Алдан (2273), Колыма (2129), Индигирка (1726), Олекма (1436), Анабар (939) и Яна (872 к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46840" y="403920"/>
            <a:ext cx="647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мывается морями Лаптевых и Восточно-Сибирск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5092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чти вся континентальная территория Якутии представляет собой зону сплошной многовековой мерзлоты, которая только на крайнем юго-западе переходит в зону ее прерывистого распространения. Средняя мощность мерзлого слоя достигает 300-400 м., а в бассейне реки Вилюй – 1500м.: это максимальное промерзание горных пород на земном шаре. В горах Восточной Якутии 485 ледников общей площадью 413 кв. км. И с запасом пресной воды около 2 тыс. куб. 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лимат резко континентальный, отличается продолжительностью зимним и коротким летним периодами. Максимальная амплитуда средних температур самого холодного месяца – января и самого теплого – июля составляет 70-750С. По абсолютной величине минимальной температуры (в восточных горных системах – котловинах, впадинах и других понижениях до минус 700С) и по ее суммарной продолжительности (от 6,5 до 9 месяцев в год) республика не имеет аналогов в Северном полушар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ьшая часть территории Якутии расположена в зоне средн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йги, которая к северу сменяется зонами лесотундры и тундр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чвы преимущественно мерзлотно-таежные, дерново-лесны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ллювиально-луговые, горно-лесные и тундрово-глеевые. Ле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даурская лиственница, сосна, кедровый стланик, ель, пихт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реза и др.) занимают около 4/5 территории. В долинах рек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ласах распространены луга. На побережье и вершинах гор 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старниковая, травянистая растительность и лишайни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хранились песец, соболь, заяц-беляк, горностай, лисица, ондатр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верный олень, изюбрь, кабарга, снежный баран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зовая чайка, белый журавль-стерх и др. В морях — омуль, муксун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льма, чир. В реках — сиг, щука, окун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етр, налим, таймень, ленок. Олекминский заповедник, Усть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нский заповедн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3000"/>
                            </p:stCondLst>
                            <p:childTnLst>
                              <p:par>
                                <p:cTn id="2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4000"/>
                            </p:stCondLst>
                            <p:childTnLst>
                              <p:par>
                                <p:cTn id="2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6000"/>
                            </p:stCondLst>
                            <p:childTnLst>
                              <p:par>
                                <p:cTn id="2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7000"/>
                            </p:stCondLst>
                            <p:childTnLst>
                              <p:par>
                                <p:cTn id="2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8000"/>
                            </p:stCondLst>
                            <p:childTnLst>
                              <p:par>
                                <p:cTn id="2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9000"/>
                            </p:stCondLst>
                            <p:childTnLst>
                              <p:par>
                                <p:cTn id="2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1000"/>
                            </p:stCondLst>
                            <p:childTnLst>
                              <p:par>
                                <p:cTn id="2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3000"/>
                            </p:stCondLst>
                            <p:childTnLst>
                              <p:par>
                                <p:cTn id="2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11:21:31Z</dcterms:created>
  <dc:creator>Лилия</dc:creator>
  <dc:description/>
  <dc:language>en-US</dc:language>
  <cp:lastModifiedBy>Лилия</cp:lastModifiedBy>
  <dcterms:modified xsi:type="dcterms:W3CDTF">2010-05-08T14:37:42Z</dcterms:modified>
  <cp:revision>1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a09000000000001023620</vt:lpwstr>
  </property>
</Properties>
</file>