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E17-5179-48FB-964C-A0A4902E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6CA-35C7-498B-82D9-4896704C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520-C884-448C-AC43-E11B98AB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861-A795-43FF-874D-DEFAEC91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5AC-B14F-40ED-8601-C2D547D5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4A4-2767-4261-93DB-6E3CA0AB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F4C-EDC3-4105-A2B4-7A773C52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0F8-2321-42E0-A72F-79A7570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EB4-63C6-4115-88DA-4A1553A6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97D-958E-4767-B816-783ADDF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0FF-1ABF-4822-9097-82BCF46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447-06D5-4152-B8FF-62CFE4A3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35E2-62A7-4C1C-B3B4-4C31FA6F5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0"/>
            <a:ext cx="8532720" cy="6858000"/>
          </a:xfrm>
          <a:custGeom>
            <a:avLst/>
            <a:gdLst>
              <a:gd name="textAreaLeft" fmla="*/ 1947960 w 8532720"/>
              <a:gd name="textAreaRight" fmla="*/ 6584760 w 8532720"/>
              <a:gd name="textAreaTop" fmla="*/ 1565640 h 6858000"/>
              <a:gd name="textAreaBottom" fmla="*/ 5292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162864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Республика</a:t>
            </a:r>
            <a:endParaRPr b="0" lang="en-US" sz="1800" spc="1" strike="noStrike">
              <a:ln w="25560">
                <a:solidFill>
                  <a:srgbClr val="0066ff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637000"/>
            <a:ext cx="47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Саха (Якутия)</a:t>
            </a:r>
            <a:endParaRPr b="0" lang="en-US" sz="4000" spc="1" strike="noStrike">
              <a:ln w="255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852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357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64500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5640" y="342900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270828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781360"/>
            <a:ext cx="215640" cy="216000"/>
          </a:xfrm>
          <a:custGeom>
            <a:avLst/>
            <a:gdLst>
              <a:gd name="textAreaLeft" fmla="*/ 88920 w 215640"/>
              <a:gd name="textAreaRight" fmla="*/ 126720 w 21564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1000" autoRev="1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3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6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7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5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5327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езные ископаемые: алмазы, золото, олово, слюда, вольфрам, полиметаллические и железные руды, уголь, природный газ, минеральные источни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 величине разведанных запасов алмазов (45 %) Республика Саха заняла первое место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еданные запасы угля в Якутии (9617,8 млн. т) могут обеспечить добычу в объеме 150 млн. т в год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511344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60580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16360" y="189000"/>
            <a:ext cx="3166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асел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836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еление Якутии составляет 950,7 тыс. чел. Удельный вес городского населения – 64,2 %, плотность населения - 0,3 чел./к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624720" cy="2890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848560" cy="25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795024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48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49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348000" y="0"/>
            <a:ext cx="172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Якут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52432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806560" y="726480"/>
            <a:ext cx="6337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ренное население Якутии (365 тыс. человек), Якутский язык относится к северо-восточной ветви тюркской группы алтайских языков. Верующие — православ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куты сформировались в результате поглощения южными тюркоязычными переселенцами местных племен среднего течения Лены. В расовом отношении якуты являются представителями центрально азиатского антропологического типа североазиатской расы. В традиционном хозяйстве и материальной культуре якутов много черт, сходных с культурой скотоводов Центральной Азии. Включение якутов в состав Русского государства (1620-30-е гг.) ускорило их социально-экономическое и культурное развитие. В 17-19 веках главным занятием якутов было, скотоводство со второй половины 19 века значительная часть стала заниматься земледелием; охота и рыболовство играли подсобную роль. Основным типом жилища был бревенчатый балаган (юрта), летним — разборная ураса. Одежду шили из шкур и меха. Во второй половине 18 века большая часть якутов была обращена в христианство, однако сохранялось и шам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387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388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1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10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457200"/>
            <a:ext cx="763272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050920" y="26028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омышленность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981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трасль промышленности — горнодобывающая: алмазы («Алмазы России-Саха» — Алроса), золото («Золото Якутии», «Алданзолото»), олово («Депутатсколово»), слюда, сурьма, уголь («Якутуголь»). Развиты добыча газа («Якутгазпром»), лесная и деревообрабатывающая промышленность («Якутлес»), производство стройматериалов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энергетики — Вилюйская ГЭС, Чульманская, Якутская ГР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212640"/>
            <a:ext cx="82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еспублике открыта Ленно-Вилюйская нефтегазоносная провинция, имеющая большие перспекти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005360"/>
            <a:ext cx="882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перспективных проектов развития топливно-энергетического комплекса Республики Саха следует отнести разработку Чаяндинского месторождения природного газа с передачей его в намечаемый к строительству в будущем магистральный газопровод Восточная Сибирь-Китай-Южная Корея, а так же строительство каскада Электростанций на реках Учур и Тимптон суммарной мощностью 5 млн. кВт 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848720" cy="5150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2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26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27" dur="10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84360" y="333360"/>
            <a:ext cx="43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Сельское хозяйство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125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 хозяйство специализируется на животноводстве (мясомолочное скотоводство, мясо-табунное коневодство), на севере — оленеводство. Развиты звероводство, охотничий и рыбный промыслы. Посевы зерновых (пшеница и др.) и кормовых культ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7079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 зерна, сои, картофеля и овощей, расположены преимущественно на юге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326880"/>
            <a:ext cx="7488360" cy="6088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57" dur="250" autoRev="1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грузопотока приходиться на водный транспорт. Развивается автомобильная сеть республики. К 2008 году планируется ликвидировать грунтовые разрывы на автодороге федерального значения «Колыма» (Якутск – Магадан). К 2015 году планируется связать дорогу республиканского значения «Вилюй» с Усть-Кутом Иркутской области и придать ей федеральный статус (Якутск – Мирный – Ленск – Усть-Кут – Тулун). В перспективе планируется выход автодороги «Амага» (Якутск – Амага – Усть-Мая) к порту Аян в Хабаровском крае. Также планируется строительство круглогодично действующих трасс «Яна» (Хандыга – Батагай – Усть-Куйга) и «Анабар» (Мирный – Удачный – Оленек – Юрюнг-Хая). В то же время автодорога федерального значения «Лена», которая связывает Якутск с общероссийской автомобильной сетью, требует очень серьезного рем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 воздушный транспорт. В республике действует 32 аэро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олжается строительство Амуро-Якутской железной магистрали до Якутска. Действует участок Беркакит – Алдан – Томм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92360" y="189000"/>
            <a:ext cx="22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Транспорт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480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481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050920" y="404640"/>
            <a:ext cx="550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Экологические проблем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329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8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09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10" dur="10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Республика Саха (Якутия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егион с благоприятным инвестиционным климатом. Это обусловлено рядом факторов, среди которых: выгодное географическое положение, близость рынков сбыта стран АТР; значительные запасы сырьевых (в первую очередь – алмазы, золото) и энергетических ресурсов; готовность органов государственной власти и органов местного самоуправления вести конструктивный диалог с инвесторами о форме их участия в развитии отраслей экономики и о гарантиях возврата капиталов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32000" y="33336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526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527" dur="10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20120" cy="440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1640" y="260280"/>
            <a:ext cx="2087640" cy="194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932360" y="476280"/>
            <a:ext cx="2160720" cy="117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2360" y="234864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ь 3103,2 тыс. км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6880" y="285192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 района, 13 гор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280" y="342828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лица — Якутс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15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1155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1155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15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115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115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расположена в северо-восточной части Сибири. Якутия – самый крупный субъект РФ – самая крупная административно-территориальная единица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спублика Саха граничит на западе с Красноярским краем, на юго-западе – с Иркутской областью, на юге – с Амурской и Читинской областями, на юго-востоке – с Хабаровским краем, на востоке – с Магаданской областью и Чукотским автономным округом, на севере её составные рубежи образуют моря Лаптевых и Восточно-Сибирско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80000" y="404640"/>
            <a:ext cx="151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ЭГП</a:t>
            </a:r>
            <a:endParaRPr b="0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3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3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1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187280" y="2133720"/>
            <a:ext cx="6913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Природные условия и ресурсы</a:t>
            </a:r>
            <a:endParaRPr b="0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</p:spTree>
  </p:cSld>
  <p:transition spd="slow">
    <p:diamond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0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1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189000"/>
            <a:ext cx="8135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— Среднесибирское плоскогорье, на востоке — хреб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рхоянского, Черского расположенное между ними Яно-Оймяконское нагорье, на юге-Алданское нагорье и пограничный Становый хребет.В северной части Северо- Сибирская Яно-Индигирская и Колымскач низменности. На северо-востоке — Юкагирское плоскогор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306720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кутия – один из наиболее речных (700 тыс. рек и речек) и озерных (свыше 800 тыс.) районов России. Общая протяжность всех ее рек составляет 2 млн. км, а их потенциальные гидроэнергоресурсы оцениваются почти в 700 млрд. кВт. Крупнейшие судоходные реки: Лена (4400 км), Вилюй (2650), Алдан (2273), Колыма (2129), Индигирка (1726), Олекма (1436), Анабар (939) и Яна (872 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6840" y="403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мывается морями Лаптевых и Восточно-Сибирск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вся континентальная территория Якутии представляет собой зону сплошной многовековой мерзлоты, которая только на крайнем юго-западе переходит в зону ее прерывистого распространения. Средняя мощность мерзлого слоя достигает 300-400 м., а в бассейне реки Вилюй – 1500м.: это максимальное промерзание горных пород на земном шаре. В горах Восточной Якутии 485 ледников общей площадью 413 кв. км. И с запасом пресной воды около 2 тыс. куб. 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имат резко континентальный, отличается продолжительностью зимним и коротким летним периодами. Максимальная амплитуда средних температур самого холодного месяца – января и самого теплого – июля составляет 70-750С. По абсолютной величине минимальной температуры (в восточных горных системах – котловинах, впадинах и других понижениях до минус 700С) и по ее суммарной продолжительности (от 6,5 до 9 месяцев в год) республика не имеет аналогов в Север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ая часть территории Якутии расположена в зоне сред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йги, которая к северу сменяется зонами лесотундры и тунд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вы преимущественно мерзлотно-таежные, дерново-лес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ювиально-луговые, горно-лесные и тундрово-глеевые. Л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аурская лиственница, сосна, кедровый стланик, ель, пих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за и др.) занимают около 4/5 территории. В долинах ре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асах распространены луга. На побережье и вершинах гор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тарниковая, травянистая растительность и лишай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хранились песец, соболь, заяц-беляк, горностай, лисица, ондат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ый олень, изюбрь, кабарга, снежный ба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зовая чайка, белый журавль-стерх и др. В морях — омуль, муксу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ма, чир. В реках — сиг, щука, оку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тр, налим, таймень, ленок. Олекминский заповедник, Ус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нский запове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1:21:31Z</dcterms:created>
  <dc:creator>Лилия</dc:creator>
  <dc:description/>
  <dc:language>en-US</dc:language>
  <cp:lastModifiedBy>Лилия</cp:lastModifiedBy>
  <dcterms:modified xsi:type="dcterms:W3CDTF">2010-05-08T14:37:4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9000000000001023620</vt:lpwstr>
  </property>
</Properties>
</file>