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8D9-658B-40DE-94BD-72742E45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F060-AD86-4B0C-A61F-ED1618E9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099-8B6D-4130-AC0C-99AC2229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F6D-F37D-4F79-9163-ABA93B41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57DA-C231-463F-AF1E-257BAD77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D1BC-4AC4-467A-AFBB-B60C525F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BEF7-53F6-4252-9995-94A754F8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58B7-31BA-4C21-A015-996743F7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CA46-85B3-47CD-A5CE-6A331EAD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265D-47E4-4673-AD55-80DBEFA2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510C-BE54-4183-B5A5-429B853F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D83-DFB7-4400-B4D8-4C675062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9FCA-54D3-4AF2-912B-B89E6447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F2DB-D681-45A3-8788-A5C7F856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A9BE-0B3E-4186-9276-166E99FB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2F23-8DA9-4EEF-87AF-22222771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B729-666F-45F1-82DF-2545DDE6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904DB-0AC8-4DBF-BAB1-7CB49C23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335E3-1379-4966-9DDB-31D63EFE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62B53-65AE-482D-9F50-154F4FAB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33BBA-9EB0-4F20-9D92-D990470D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8F4C9-607A-442F-AB07-479997DC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25A-59BC-4FCE-846F-73E7C251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82934-FE09-4B72-8C96-042B66BD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51317-53DF-429F-9FCB-FADB990C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0EECD-036D-4CAD-9316-C4996750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B83DE-4A58-4E81-A8DE-B1FDB046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7B93A-A8E4-44C2-B7C9-16F7C676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6BEDD-6819-4634-BE95-20A69D28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66105-71A1-443E-B3C6-16D8812B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2F8-0175-4489-B4D5-EF10FE9C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7DB-71E1-4B63-A47A-019AE6B8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CD3-B4CB-46C2-A5C5-CA5C596E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35B-ED24-47BE-9B50-7B87B4B4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BAA-4FD4-4315-92A4-EB7A7469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996-579C-4063-8A56-D2E17F94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BF8E9-AC8E-4861-BBD3-025EF90DAA92}" type="slidenum"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6880" cy="6849720"/>
            <a:chOff x="1440" y="0"/>
            <a:chExt cx="9146880" cy="6849720"/>
          </a:xfrm>
        </p:grpSpPr>
        <p:sp>
          <p:nvSpPr>
            <p:cNvPr id="42" name=""/>
            <p:cNvSpPr/>
            <p:nvPr/>
          </p:nvSpPr>
          <p:spPr>
            <a:xfrm>
              <a:off x="8007120" y="4167720"/>
              <a:ext cx="114120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4856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5120" y="6688440"/>
              <a:ext cx="13320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6840" y="0"/>
              <a:ext cx="8089200" cy="6848640"/>
              <a:chOff x="456840" y="0"/>
              <a:chExt cx="8089200" cy="6848640"/>
            </a:xfrm>
          </p:grpSpPr>
          <p:sp>
            <p:nvSpPr>
              <p:cNvPr id="46" name=""/>
              <p:cNvSpPr/>
              <p:nvPr/>
            </p:nvSpPr>
            <p:spPr>
              <a:xfrm>
                <a:off x="4425480" y="0"/>
                <a:ext cx="11376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1400" y="0"/>
                <a:ext cx="27576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28000" y="0"/>
                <a:ext cx="53460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272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1120" y="0"/>
                <a:ext cx="88488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7400" y="0"/>
                <a:ext cx="109440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516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628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0840" y="0"/>
                <a:ext cx="47592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47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8956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38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684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000" y="4604400"/>
              <a:ext cx="96192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000" y="6174000"/>
              <a:ext cx="36180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0160" y="0"/>
              <a:ext cx="156168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064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4560" y="0"/>
              <a:ext cx="64728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00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0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0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080"/>
              <a:ext cx="9137520" cy="2492640"/>
              <a:chOff x="1440" y="622080"/>
              <a:chExt cx="9137520" cy="249264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344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328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8976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660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080"/>
                <a:ext cx="913752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8EC7886-2803-4EA7-923E-54C2C1F6EF0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6880" cy="6849720"/>
            <a:chOff x="0" y="0"/>
            <a:chExt cx="9146880" cy="6849720"/>
          </a:xfrm>
        </p:grpSpPr>
        <p:sp>
          <p:nvSpPr>
            <p:cNvPr id="120" name=""/>
            <p:cNvSpPr/>
            <p:nvPr/>
          </p:nvSpPr>
          <p:spPr>
            <a:xfrm>
              <a:off x="8006040" y="4167720"/>
              <a:ext cx="114084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712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4040" y="6688440"/>
              <a:ext cx="13284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89560" cy="6848640"/>
              <a:chOff x="455400" y="0"/>
              <a:chExt cx="8089560" cy="684864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4040" y="0"/>
                <a:ext cx="11412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99960" y="0"/>
                <a:ext cx="27612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6920" y="0"/>
                <a:ext cx="53496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164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0040" y="0"/>
                <a:ext cx="88560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5960" y="0"/>
                <a:ext cx="109476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408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520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19760" y="0"/>
                <a:ext cx="47556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29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12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0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4400"/>
              <a:ext cx="96156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4000"/>
              <a:ext cx="36144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78720" y="0"/>
              <a:ext cx="156204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9956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3120" y="0"/>
              <a:ext cx="64764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080"/>
              <a:ext cx="9137880" cy="2492640"/>
              <a:chOff x="0" y="622080"/>
              <a:chExt cx="9137880" cy="249264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344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328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8976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660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080"/>
                <a:ext cx="913788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D8215E-80D6-4581-8F9B-AAD5A7D3AC1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7200" spc="-1" strike="noStrike" u="sng">
                <a:solidFill>
                  <a:srgbClr val="ffff00"/>
                </a:solidFill>
                <a:uFillTx/>
                <a:latin typeface="Arial"/>
              </a:rPr>
              <a:t>Новая Зеланд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4475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фера обслужи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4038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вается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В сфере обслуживания работ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7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003640" y="414360"/>
            <a:ext cx="4011840" cy="3009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233880" y="3749760"/>
            <a:ext cx="4182840" cy="287316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12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Транспор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3848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железнодорож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путей 42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шоссей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дорог 93 3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Паромные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маршруты  Веллингтон – о.Южн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еждународные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аэропорты: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кленд,   Крайстчерч, Веллингто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орской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анспор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796000" y="998640"/>
            <a:ext cx="3173400" cy="2570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749840" y="3665520"/>
            <a:ext cx="3203640" cy="24051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8085240" y="6308640"/>
            <a:ext cx="374400" cy="289080"/>
          </a:xfrm>
          <a:custGeom>
            <a:avLst/>
            <a:gdLst>
              <a:gd name="textAreaLeft" fmla="*/ 18720 w 374400"/>
              <a:gd name="textAreaRight" fmla="*/ 355680 w 3744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7967" h="21600">
                <a:moveTo>
                  <a:pt x="0" y="0"/>
                </a:moveTo>
                <a:lnTo>
                  <a:pt x="27967" y="0"/>
                </a:lnTo>
                <a:lnTo>
                  <a:pt x="27967" y="21600"/>
                </a:lnTo>
                <a:lnTo>
                  <a:pt x="0" y="21600"/>
                </a:lnTo>
                <a:close/>
              </a:path>
              <a:path fill="lightenLess" w="27967" h="21600">
                <a:moveTo>
                  <a:pt x="0" y="0"/>
                </a:moveTo>
                <a:lnTo>
                  <a:pt x="27967" y="0"/>
                </a:lnTo>
                <a:lnTo>
                  <a:pt x="26567" y="1400"/>
                </a:lnTo>
                <a:lnTo>
                  <a:pt x="1400" y="1400"/>
                </a:lnTo>
                <a:close/>
              </a:path>
              <a:path fill="darken" w="27967" h="21600">
                <a:moveTo>
                  <a:pt x="27967" y="0"/>
                </a:moveTo>
                <a:lnTo>
                  <a:pt x="27967" y="21600"/>
                </a:lnTo>
                <a:lnTo>
                  <a:pt x="26567" y="20200"/>
                </a:lnTo>
                <a:lnTo>
                  <a:pt x="26567" y="1400"/>
                </a:lnTo>
                <a:close/>
              </a:path>
              <a:path fill="darkenLess" w="27967" h="21600">
                <a:moveTo>
                  <a:pt x="279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7" y="20200"/>
                </a:lnTo>
                <a:close/>
              </a:path>
              <a:path fill="lighten" w="279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7" h="21600">
                <a:moveTo>
                  <a:pt x="6977" y="10800"/>
                </a:moveTo>
                <a:lnTo>
                  <a:pt x="20990" y="3794"/>
                </a:lnTo>
                <a:lnTo>
                  <a:pt x="2099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-95760"/>
            <a:ext cx="62751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Столица – Веллингтон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ород расположен на северном берегу пролива Кука, в бухте Потр – Никольсон.    Площадь125 кв. км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селение 158 тыс. чел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809880" cy="3028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477120" y="620640"/>
            <a:ext cx="2143080" cy="2592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427640" y="3500280"/>
            <a:ext cx="43923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В сентябре 1839 года группа белых переселенцев приобрела у местного племени маори участок, на котором был построен город, названный в честь фельдмаршала </a:t>
            </a: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Веллингтона,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командовавшего английскими войсками в сражении при Ватерл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8039160" y="6237360"/>
            <a:ext cx="349200" cy="288720"/>
          </a:xfrm>
          <a:custGeom>
            <a:avLst/>
            <a:gdLst>
              <a:gd name="textAreaLeft" fmla="*/ 18720 w 349200"/>
              <a:gd name="textAreaRight" fmla="*/ 330480 w 3492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75600" y="57848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-149400"/>
            <a:ext cx="8218440" cy="27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клад в цивилизацию. </a:t>
            </a:r>
            <a:br>
              <a:rPr sz="18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Эрнст Резерфорд</a:t>
            </a:r>
            <a:br>
              <a:rPr sz="36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1871 – 1937</a:t>
            </a:r>
            <a:r>
              <a:rPr b="0" i="1" lang="en-US" sz="3600" spc="-1" strike="noStrike">
                <a:solidFill>
                  <a:srgbClr val="ccecff"/>
                </a:solidFill>
                <a:latin typeface="Arial"/>
              </a:rPr>
              <a:t>) </a:t>
            </a:r>
            <a:br>
              <a:rPr sz="36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873520" cy="4525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106800" y="2562120"/>
            <a:ext cx="58626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еличайший физик – экспериментатор двадцатого столе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Центральная фигура в познании радиоактивности, заложил основы ядерной физики. Его открытия получили широкий спектр применения, включая ядерное оружие, атомные электростанции, радиоактивные исчисления, исследования рад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17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8153280" y="6308640"/>
            <a:ext cx="379440" cy="289080"/>
          </a:xfrm>
          <a:custGeom>
            <a:avLst/>
            <a:gdLst>
              <a:gd name="textAreaLeft" fmla="*/ 18720 w 379440"/>
              <a:gd name="textAreaRight" fmla="*/ 360720 w 37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343" h="21600">
                <a:moveTo>
                  <a:pt x="0" y="0"/>
                </a:moveTo>
                <a:lnTo>
                  <a:pt x="28343" y="0"/>
                </a:lnTo>
                <a:lnTo>
                  <a:pt x="28343" y="21600"/>
                </a:lnTo>
                <a:lnTo>
                  <a:pt x="0" y="21600"/>
                </a:lnTo>
                <a:close/>
              </a:path>
              <a:path fill="lightenLess" w="28343" h="21600">
                <a:moveTo>
                  <a:pt x="0" y="0"/>
                </a:moveTo>
                <a:lnTo>
                  <a:pt x="28343" y="0"/>
                </a:lnTo>
                <a:lnTo>
                  <a:pt x="26943" y="1400"/>
                </a:lnTo>
                <a:lnTo>
                  <a:pt x="1400" y="1400"/>
                </a:lnTo>
                <a:close/>
              </a:path>
              <a:path fill="darken" w="28343" h="21600">
                <a:moveTo>
                  <a:pt x="28343" y="0"/>
                </a:moveTo>
                <a:lnTo>
                  <a:pt x="28343" y="21600"/>
                </a:lnTo>
                <a:lnTo>
                  <a:pt x="26943" y="20200"/>
                </a:lnTo>
                <a:lnTo>
                  <a:pt x="26943" y="1400"/>
                </a:lnTo>
                <a:close/>
              </a:path>
              <a:path fill="darkenLess" w="28343" h="21600">
                <a:moveTo>
                  <a:pt x="28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43" y="20200"/>
                </a:lnTo>
                <a:close/>
              </a:path>
              <a:path fill="lighten" w="28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43" h="21600">
                <a:moveTo>
                  <a:pt x="7165" y="10800"/>
                </a:moveTo>
                <a:lnTo>
                  <a:pt x="21178" y="3794"/>
                </a:lnTo>
                <a:lnTo>
                  <a:pt x="21178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6000" y="248760"/>
            <a:ext cx="87202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Культура. </a:t>
            </a:r>
            <a:br>
              <a:rPr sz="36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ражены элементы европейских, полинезийских, азиатских культурных традиций, привнесенных выходцами из многих стран мира, поселившимися здес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37960" y="2585880"/>
            <a:ext cx="2246400" cy="32194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308720" y="2732040"/>
            <a:ext cx="1457280" cy="1704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743200" y="3503520"/>
            <a:ext cx="4343400" cy="29480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7983360" y="6308640"/>
            <a:ext cx="335160" cy="289080"/>
          </a:xfrm>
          <a:custGeom>
            <a:avLst/>
            <a:gdLst>
              <a:gd name="textAreaLeft" fmla="*/ 18720 w 335160"/>
              <a:gd name="textAreaRight" fmla="*/ 316440 w 3351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5039" h="21600">
                <a:moveTo>
                  <a:pt x="0" y="0"/>
                </a:moveTo>
                <a:lnTo>
                  <a:pt x="25039" y="0"/>
                </a:lnTo>
                <a:lnTo>
                  <a:pt x="25039" y="21600"/>
                </a:lnTo>
                <a:lnTo>
                  <a:pt x="0" y="21600"/>
                </a:lnTo>
                <a:close/>
              </a:path>
              <a:path fill="lightenLess" w="25039" h="21600">
                <a:moveTo>
                  <a:pt x="0" y="0"/>
                </a:moveTo>
                <a:lnTo>
                  <a:pt x="25039" y="0"/>
                </a:lnTo>
                <a:lnTo>
                  <a:pt x="23639" y="1400"/>
                </a:lnTo>
                <a:lnTo>
                  <a:pt x="1400" y="1400"/>
                </a:lnTo>
                <a:close/>
              </a:path>
              <a:path fill="darken" w="25039" h="21600">
                <a:moveTo>
                  <a:pt x="25039" y="0"/>
                </a:moveTo>
                <a:lnTo>
                  <a:pt x="25039" y="21600"/>
                </a:lnTo>
                <a:lnTo>
                  <a:pt x="23639" y="20200"/>
                </a:lnTo>
                <a:lnTo>
                  <a:pt x="23639" y="1400"/>
                </a:lnTo>
                <a:close/>
              </a:path>
              <a:path fill="darkenLess" w="25039" h="21600">
                <a:moveTo>
                  <a:pt x="25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9" y="20200"/>
                </a:lnTo>
                <a:close/>
              </a:path>
              <a:path fill="lighten" w="25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9" h="21600">
                <a:moveTo>
                  <a:pt x="5513" y="10800"/>
                </a:moveTo>
                <a:lnTo>
                  <a:pt x="19526" y="3794"/>
                </a:lnTo>
                <a:lnTo>
                  <a:pt x="195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798360" y="271080"/>
            <a:ext cx="517068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ровне высочайших стандартов поддерживается архитектура, симфоническая и современная музыка, театр и кино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Рассел Кроу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пулярный актер, ставший кумиром киноманов после получения «Оскара» за исполнение главной роли в фильме «Гладиатор»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240000" cy="458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насе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Форма прав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Географическое положе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рельеф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лима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толиц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Вклад в цивилизацию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0" y="1989000"/>
            <a:ext cx="4248000" cy="322272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752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07544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5757840" cy="64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Площадь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269 675 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Население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3 620 000 че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лотность населения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12 чел/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родолжительность жизни: 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ужчины – 75 лет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енщины – 80 л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Состав: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европейцы – 88%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аори – 9%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ители островов Тихого океана – 3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27640" y="0"/>
            <a:ext cx="3816360" cy="229068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00884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04352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Форма правлен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конституционная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онарх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лава государства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королева Великобритании, представленная генерал – губернато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осударственный язык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англий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Религ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христианст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38800" y="1031760"/>
            <a:ext cx="3279600" cy="36212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еографическое положен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Оке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рупнейшие остров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верный и Ю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7086600" y="6308640"/>
            <a:ext cx="353880" cy="289080"/>
          </a:xfrm>
          <a:custGeom>
            <a:avLst/>
            <a:gdLst>
              <a:gd name="textAreaLeft" fmla="*/ 18720 w 353880"/>
              <a:gd name="textAreaRight" fmla="*/ 335160 w 3538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436" h="21600">
                <a:moveTo>
                  <a:pt x="0" y="0"/>
                </a:moveTo>
                <a:lnTo>
                  <a:pt x="26436" y="0"/>
                </a:lnTo>
                <a:lnTo>
                  <a:pt x="26436" y="21600"/>
                </a:lnTo>
                <a:lnTo>
                  <a:pt x="0" y="21600"/>
                </a:lnTo>
                <a:close/>
              </a:path>
              <a:path fill="lightenLess" w="26436" h="21600">
                <a:moveTo>
                  <a:pt x="0" y="0"/>
                </a:moveTo>
                <a:lnTo>
                  <a:pt x="26436" y="0"/>
                </a:lnTo>
                <a:lnTo>
                  <a:pt x="25036" y="1400"/>
                </a:lnTo>
                <a:lnTo>
                  <a:pt x="1400" y="1400"/>
                </a:lnTo>
                <a:close/>
              </a:path>
              <a:path fill="darken" w="26436" h="21600">
                <a:moveTo>
                  <a:pt x="26436" y="0"/>
                </a:moveTo>
                <a:lnTo>
                  <a:pt x="26436" y="21600"/>
                </a:lnTo>
                <a:lnTo>
                  <a:pt x="25036" y="20200"/>
                </a:lnTo>
                <a:lnTo>
                  <a:pt x="25036" y="1400"/>
                </a:lnTo>
                <a:close/>
              </a:path>
              <a:path fill="darkenLess" w="26436" h="21600">
                <a:moveTo>
                  <a:pt x="26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36" y="20200"/>
                </a:lnTo>
                <a:close/>
              </a:path>
              <a:path fill="lighten" w="26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36" h="21600">
                <a:moveTo>
                  <a:pt x="6211" y="10800"/>
                </a:moveTo>
                <a:lnTo>
                  <a:pt x="20224" y="3794"/>
                </a:lnTo>
                <a:lnTo>
                  <a:pt x="20224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59280" y="2521080"/>
            <a:ext cx="5184720" cy="38890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Особенности рельеф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истые остро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Сейсмическая актив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Действующие вулка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ейзе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ячие минеральные источни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2556000" y="60357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8870" y="3837"/>
                </a:moveTo>
                <a:lnTo>
                  <a:pt x="21446" y="6448"/>
                </a:ln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lnTo>
                  <a:pt x="25833" y="10800"/>
                </a:lnTo>
                <a:lnTo>
                  <a:pt x="24179" y="10800"/>
                </a:lnTo>
                <a:lnTo>
                  <a:pt x="24179" y="17989"/>
                </a:lnTo>
                <a:lnTo>
                  <a:pt x="13560" y="17989"/>
                </a:lnTo>
                <a:lnTo>
                  <a:pt x="13560" y="10800"/>
                </a:lnTo>
                <a:lnTo>
                  <a:pt x="11907" y="10800"/>
                </a:lnTo>
                <a:close/>
              </a:path>
              <a:path fill="darkenLess" w="37739" h="21600">
                <a:moveTo>
                  <a:pt x="21446" y="6448"/>
                </a:move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close/>
              </a:path>
              <a:path fill="darkenLess" w="37739" h="21600">
                <a:moveTo>
                  <a:pt x="17947" y="14299"/>
                </a:moveTo>
                <a:lnTo>
                  <a:pt x="19792" y="14299"/>
                </a:lnTo>
                <a:lnTo>
                  <a:pt x="19792" y="17989"/>
                </a:lnTo>
                <a:lnTo>
                  <a:pt x="24179" y="17989"/>
                </a:lnTo>
                <a:lnTo>
                  <a:pt x="24179" y="10800"/>
                </a:lnTo>
                <a:lnTo>
                  <a:pt x="13560" y="10800"/>
                </a:lnTo>
                <a:lnTo>
                  <a:pt x="13560" y="17989"/>
                </a:lnTo>
                <a:lnTo>
                  <a:pt x="17947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2843280" y="6407280"/>
            <a:ext cx="360360" cy="282600"/>
          </a:xfrm>
          <a:custGeom>
            <a:avLst/>
            <a:gdLst>
              <a:gd name="textAreaLeft" fmla="*/ 18000 w 360360"/>
              <a:gd name="textAreaRight" fmla="*/ 342360 w 36036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7536" h="21600">
                <a:moveTo>
                  <a:pt x="0" y="0"/>
                </a:moveTo>
                <a:lnTo>
                  <a:pt x="27536" y="0"/>
                </a:lnTo>
                <a:lnTo>
                  <a:pt x="27536" y="21600"/>
                </a:lnTo>
                <a:lnTo>
                  <a:pt x="0" y="21600"/>
                </a:lnTo>
                <a:close/>
              </a:path>
              <a:path fill="lightenLess" w="27536" h="21600">
                <a:moveTo>
                  <a:pt x="0" y="0"/>
                </a:moveTo>
                <a:lnTo>
                  <a:pt x="27536" y="0"/>
                </a:lnTo>
                <a:lnTo>
                  <a:pt x="26136" y="1400"/>
                </a:lnTo>
                <a:lnTo>
                  <a:pt x="1400" y="1400"/>
                </a:lnTo>
                <a:close/>
              </a:path>
              <a:path fill="darken" w="27536" h="21600">
                <a:moveTo>
                  <a:pt x="27536" y="0"/>
                </a:moveTo>
                <a:lnTo>
                  <a:pt x="27536" y="21600"/>
                </a:lnTo>
                <a:lnTo>
                  <a:pt x="26136" y="20200"/>
                </a:lnTo>
                <a:lnTo>
                  <a:pt x="26136" y="1400"/>
                </a:lnTo>
                <a:close/>
              </a:path>
              <a:path fill="darkenLess" w="27536" h="21600">
                <a:moveTo>
                  <a:pt x="27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36" y="20200"/>
                </a:lnTo>
                <a:close/>
              </a:path>
              <a:path fill="lighten" w="27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36" h="21600">
                <a:moveTo>
                  <a:pt x="6761" y="3794"/>
                </a:moveTo>
                <a:lnTo>
                  <a:pt x="20774" y="10800"/>
                </a:lnTo>
                <a:lnTo>
                  <a:pt x="676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2392200" y="6396120"/>
            <a:ext cx="379440" cy="282600"/>
          </a:xfrm>
          <a:custGeom>
            <a:avLst/>
            <a:gdLst>
              <a:gd name="textAreaLeft" fmla="*/ 18000 w 379440"/>
              <a:gd name="textAreaRight" fmla="*/ 361440 w 37944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8992" h="21600">
                <a:moveTo>
                  <a:pt x="0" y="0"/>
                </a:moveTo>
                <a:lnTo>
                  <a:pt x="28992" y="0"/>
                </a:lnTo>
                <a:lnTo>
                  <a:pt x="28992" y="21600"/>
                </a:lnTo>
                <a:lnTo>
                  <a:pt x="0" y="21600"/>
                </a:lnTo>
                <a:close/>
              </a:path>
              <a:path fill="lightenLess" w="28992" h="21600">
                <a:moveTo>
                  <a:pt x="0" y="0"/>
                </a:moveTo>
                <a:lnTo>
                  <a:pt x="28992" y="0"/>
                </a:lnTo>
                <a:lnTo>
                  <a:pt x="27592" y="1400"/>
                </a:lnTo>
                <a:lnTo>
                  <a:pt x="1400" y="1400"/>
                </a:lnTo>
                <a:close/>
              </a:path>
              <a:path fill="darken" w="28992" h="21600">
                <a:moveTo>
                  <a:pt x="28992" y="0"/>
                </a:moveTo>
                <a:lnTo>
                  <a:pt x="28992" y="21600"/>
                </a:lnTo>
                <a:lnTo>
                  <a:pt x="27592" y="20200"/>
                </a:lnTo>
                <a:lnTo>
                  <a:pt x="27592" y="1400"/>
                </a:lnTo>
                <a:close/>
              </a:path>
              <a:path fill="darkenLess" w="28992" h="21600">
                <a:moveTo>
                  <a:pt x="28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2" y="20200"/>
                </a:lnTo>
                <a:close/>
              </a:path>
              <a:path fill="lighten" w="28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92" h="21600">
                <a:moveTo>
                  <a:pt x="7490" y="10800"/>
                </a:moveTo>
                <a:lnTo>
                  <a:pt x="21503" y="3794"/>
                </a:lnTo>
                <a:lnTo>
                  <a:pt x="2150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Климат: субтропический морско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июля 5 – 12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января 14 – 19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садки: 400 -600 мм в г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464000" cy="423396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2124000" y="5805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15133" y="3837"/>
                </a:moveTo>
                <a:lnTo>
                  <a:pt x="17709" y="6448"/>
                </a:ln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lnTo>
                  <a:pt x="22096" y="10800"/>
                </a:lnTo>
                <a:lnTo>
                  <a:pt x="20442" y="10800"/>
                </a:lnTo>
                <a:lnTo>
                  <a:pt x="20442" y="17989"/>
                </a:lnTo>
                <a:lnTo>
                  <a:pt x="9824" y="17989"/>
                </a:lnTo>
                <a:lnTo>
                  <a:pt x="9824" y="10800"/>
                </a:lnTo>
                <a:lnTo>
                  <a:pt x="8170" y="10800"/>
                </a:lnTo>
                <a:close/>
              </a:path>
              <a:path fill="darkenLess" w="30266" h="21600">
                <a:moveTo>
                  <a:pt x="17709" y="6448"/>
                </a:move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close/>
              </a:path>
              <a:path fill="darkenLess" w="30266" h="21600">
                <a:moveTo>
                  <a:pt x="14210" y="14299"/>
                </a:moveTo>
                <a:lnTo>
                  <a:pt x="16056" y="14299"/>
                </a:lnTo>
                <a:lnTo>
                  <a:pt x="16056" y="17989"/>
                </a:lnTo>
                <a:lnTo>
                  <a:pt x="20442" y="17989"/>
                </a:lnTo>
                <a:lnTo>
                  <a:pt x="20442" y="10800"/>
                </a:lnTo>
                <a:lnTo>
                  <a:pt x="9824" y="10800"/>
                </a:lnTo>
                <a:lnTo>
                  <a:pt x="9824" y="17989"/>
                </a:lnTo>
                <a:lnTo>
                  <a:pt x="1421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241128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1908000" y="623736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10800"/>
                </a:moveTo>
                <a:lnTo>
                  <a:pt x="23159" y="3794"/>
                </a:lnTo>
                <a:lnTo>
                  <a:pt x="23159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Промышлен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74560"/>
            <a:ext cx="430524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Занято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19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удоспособного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3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В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ашиностроительные,  металлургические и текстильные предприятия сосредоточены в крупных портовых город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943520" y="2336760"/>
            <a:ext cx="4038480" cy="303372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ельское хозяйство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000" y="1576080"/>
            <a:ext cx="4622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46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сего экспорта приходится на сельскохозяйственную продукцию: </a:t>
            </a:r>
            <a:br>
              <a:rPr sz="2400"/>
            </a:b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ясо, масло, сыр, шер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ты лесное хозяйство, лесозаготовки, деревообрабатывающая, целлюлозно – бумажная отрас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32320" y="1440000"/>
            <a:ext cx="3613320" cy="2336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783400" y="3843360"/>
            <a:ext cx="2755800" cy="18032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7386480" y="646740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6962760" y="6467400"/>
            <a:ext cx="352440" cy="289080"/>
          </a:xfrm>
          <a:custGeom>
            <a:avLst/>
            <a:gdLst>
              <a:gd name="textAreaLeft" fmla="*/ 18720 w 352440"/>
              <a:gd name="textAreaRight" fmla="*/ 333720 w 352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328" h="21600">
                <a:moveTo>
                  <a:pt x="0" y="0"/>
                </a:moveTo>
                <a:lnTo>
                  <a:pt x="26328" y="0"/>
                </a:lnTo>
                <a:lnTo>
                  <a:pt x="26328" y="21600"/>
                </a:lnTo>
                <a:lnTo>
                  <a:pt x="0" y="21600"/>
                </a:lnTo>
                <a:close/>
              </a:path>
              <a:path fill="lightenLess" w="26328" h="21600">
                <a:moveTo>
                  <a:pt x="0" y="0"/>
                </a:moveTo>
                <a:lnTo>
                  <a:pt x="26328" y="0"/>
                </a:lnTo>
                <a:lnTo>
                  <a:pt x="24928" y="1400"/>
                </a:lnTo>
                <a:lnTo>
                  <a:pt x="1400" y="1400"/>
                </a:lnTo>
                <a:close/>
              </a:path>
              <a:path fill="darken" w="26328" h="21600">
                <a:moveTo>
                  <a:pt x="26328" y="0"/>
                </a:moveTo>
                <a:lnTo>
                  <a:pt x="26328" y="21600"/>
                </a:lnTo>
                <a:lnTo>
                  <a:pt x="24928" y="20200"/>
                </a:lnTo>
                <a:lnTo>
                  <a:pt x="24928" y="1400"/>
                </a:lnTo>
                <a:close/>
              </a:path>
              <a:path fill="darkenLess" w="26328" h="21600">
                <a:moveTo>
                  <a:pt x="26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28" y="20200"/>
                </a:lnTo>
                <a:close/>
              </a:path>
              <a:path fill="lighten" w="26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28" h="21600">
                <a:moveTo>
                  <a:pt x="6158" y="10800"/>
                </a:moveTo>
                <a:lnTo>
                  <a:pt x="20171" y="3794"/>
                </a:lnTo>
                <a:lnTo>
                  <a:pt x="2017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7054920" y="60357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ванова Н.В. Школа №458</dc:creator>
  <dc:description/>
  <dc:language>en-US</dc:language>
  <cp:lastModifiedBy>Галя</cp:lastModifiedBy>
  <dcterms:modified xsi:type="dcterms:W3CDTF">2010-10-07T12:21:46Z</dcterms:modified>
  <cp:revision>3</cp:revision>
  <dc:subject>География</dc:subject>
  <dc:title>Новая Зеландия</dc:title>
</cp:coreProperties>
</file>