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D38-69D1-4574-B132-21F4E7DF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256-FCEA-4F40-86F3-914A0F61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E19-5303-49F6-BF18-EC779E2D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8C6-66D5-4F44-B5FA-A646E84C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9210-D302-47F0-BED6-F30D9680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321C-0F54-409A-89C5-274447DF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9938-F186-460D-ACBC-E50F0B80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5217-8485-428E-922A-02F52B99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B9D4-1AE4-41D3-8AB5-BE088736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4151-5A73-4677-A19A-F2CD0805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D110-971C-4EC7-88F8-785841FF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244-9CF0-4697-A053-AD69C333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A310-4BE0-4D66-9333-F0190A87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FBA5-19A5-4400-B049-6D3C53CD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AF73-ED93-4558-BADE-8EF87916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6D07-CE00-4873-81F2-D2A290EA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1355-E234-4BFF-A7DA-F226F5EA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A123A-6C35-4220-BCC0-82C3370A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BD8F-E637-4799-88C7-9C2F08A1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F82B-EE08-4754-A4B0-AB9351F8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C0EA-889F-41CF-883F-D2BCDED1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4EB6-23F1-479B-AFBB-F9CE6314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FC0-49CD-4422-AA2F-3B210752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A0E4B-C6BA-4BC0-B0D4-6D42DE29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D06F-A750-4C10-A544-8868CF30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3771-9F50-40D2-B594-661F993B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559C-60C7-4157-8D53-8554427F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6861C-82D2-432B-94ED-31CC2E10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9FC2A-C3B2-4BDC-9BD2-C92835A6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6A991-9FCD-438B-95E3-F45BAFBB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185-22AC-479E-B220-F8C72B8D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55B-17EB-4BBE-9A67-D7D8BF20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501-7C4C-478A-9116-45EC7D93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E78-6134-485E-BC07-493FA53D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812-7C9F-4FCD-8E67-3C1CC725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757-4573-4B4C-9463-DCE82EA2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6D4C9-CF25-41A4-963D-89AA5EBB36C2}" type="slidenum"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42" name="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46" name="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080"/>
              <a:ext cx="9137520" cy="2492640"/>
              <a:chOff x="1440" y="622080"/>
              <a:chExt cx="9137520" cy="249264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344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328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8976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660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2DAA64-7BAA-41C1-95B4-EAD43650F7A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120" name="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080"/>
              <a:ext cx="9137880" cy="2492640"/>
              <a:chOff x="0" y="622080"/>
              <a:chExt cx="9137880" cy="24926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344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328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8976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660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7AA69BF-C80F-4065-B52A-D224B336647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7200" spc="-1" strike="noStrike" u="sng">
                <a:solidFill>
                  <a:srgbClr val="ffff00"/>
                </a:solidFill>
                <a:uFillTx/>
                <a:latin typeface="Arial"/>
              </a:rPr>
              <a:t>Новая Зеланд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4475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фера обслуж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4038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вается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В сфере обслуживания работ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7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03640" y="414360"/>
            <a:ext cx="4011840" cy="3009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233880" y="3749760"/>
            <a:ext cx="4182840" cy="2873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12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Транспор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3848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железнодорож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путей 42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шоссей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дорог 93 3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Паромные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маршруты  Веллингтон – о.Юж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еждународные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аэропорты: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кленд,   Крайстчерч, Веллингт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орской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анспор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96000" y="998640"/>
            <a:ext cx="3173400" cy="2570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749840" y="3665520"/>
            <a:ext cx="3203640" cy="2405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8085240" y="6308640"/>
            <a:ext cx="374400" cy="289080"/>
          </a:xfrm>
          <a:custGeom>
            <a:avLst/>
            <a:gdLst>
              <a:gd name="textAreaLeft" fmla="*/ 18720 w 374400"/>
              <a:gd name="textAreaRight" fmla="*/ 355680 w 3744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7967" h="21600">
                <a:moveTo>
                  <a:pt x="0" y="0"/>
                </a:moveTo>
                <a:lnTo>
                  <a:pt x="27967" y="0"/>
                </a:lnTo>
                <a:lnTo>
                  <a:pt x="27967" y="21600"/>
                </a:lnTo>
                <a:lnTo>
                  <a:pt x="0" y="21600"/>
                </a:lnTo>
                <a:close/>
              </a:path>
              <a:path fill="lightenLess" w="27967" h="21600">
                <a:moveTo>
                  <a:pt x="0" y="0"/>
                </a:moveTo>
                <a:lnTo>
                  <a:pt x="27967" y="0"/>
                </a:lnTo>
                <a:lnTo>
                  <a:pt x="26567" y="1400"/>
                </a:lnTo>
                <a:lnTo>
                  <a:pt x="1400" y="1400"/>
                </a:lnTo>
                <a:close/>
              </a:path>
              <a:path fill="darken" w="27967" h="21600">
                <a:moveTo>
                  <a:pt x="27967" y="0"/>
                </a:moveTo>
                <a:lnTo>
                  <a:pt x="27967" y="21600"/>
                </a:lnTo>
                <a:lnTo>
                  <a:pt x="26567" y="20200"/>
                </a:lnTo>
                <a:lnTo>
                  <a:pt x="26567" y="1400"/>
                </a:lnTo>
                <a:close/>
              </a:path>
              <a:path fill="darkenLess" w="27967" h="21600">
                <a:moveTo>
                  <a:pt x="279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7" y="20200"/>
                </a:lnTo>
                <a:close/>
              </a:path>
              <a:path fill="lighten" w="279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7" h="21600">
                <a:moveTo>
                  <a:pt x="6977" y="10800"/>
                </a:moveTo>
                <a:lnTo>
                  <a:pt x="20990" y="3794"/>
                </a:lnTo>
                <a:lnTo>
                  <a:pt x="2099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-95760"/>
            <a:ext cx="62751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Столица – Веллингтон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ород расположен на северном берегу пролива Кука, в бухте Потр – Никольсон.    Площадь125 кв. км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еление 158 тыс. чел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09880" cy="30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477120" y="62064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427640" y="3500280"/>
            <a:ext cx="43923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В сентябре 1839 года группа белых переселенцев приобрела у местного племени маори участок, на котором был построен город, названный в честь фельдмаршала </a:t>
            </a: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Веллингтона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командовавшего английскими войсками в сражении при Ватерл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8039160" y="6237360"/>
            <a:ext cx="349200" cy="288720"/>
          </a:xfrm>
          <a:custGeom>
            <a:avLst/>
            <a:gdLst>
              <a:gd name="textAreaLeft" fmla="*/ 18720 w 349200"/>
              <a:gd name="textAreaRight" fmla="*/ 330480 w 3492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5600" y="57848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-149400"/>
            <a:ext cx="8218440" cy="27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клад в цивилизацию. </a:t>
            </a:r>
            <a:br>
              <a:rPr sz="18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Эрнст Резерфорд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1871 – 1937</a:t>
            </a: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7352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106800" y="2562120"/>
            <a:ext cx="58626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личайший физик – экспериментатор двадцатого столе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ентральная фигура в познании радиоактивности, заложил основы ядерной физики. Его открытия получили широкий спектр применения, включая ядерное оружие, атомные электростанции, радиоактивные исчисления, исследования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17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8153280" y="6308640"/>
            <a:ext cx="379440" cy="289080"/>
          </a:xfrm>
          <a:custGeom>
            <a:avLst/>
            <a:gdLst>
              <a:gd name="textAreaLeft" fmla="*/ 18720 w 379440"/>
              <a:gd name="textAreaRight" fmla="*/ 360720 w 37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343" h="21600">
                <a:moveTo>
                  <a:pt x="0" y="0"/>
                </a:moveTo>
                <a:lnTo>
                  <a:pt x="28343" y="0"/>
                </a:lnTo>
                <a:lnTo>
                  <a:pt x="28343" y="21600"/>
                </a:lnTo>
                <a:lnTo>
                  <a:pt x="0" y="21600"/>
                </a:lnTo>
                <a:close/>
              </a:path>
              <a:path fill="lightenLess" w="28343" h="21600">
                <a:moveTo>
                  <a:pt x="0" y="0"/>
                </a:moveTo>
                <a:lnTo>
                  <a:pt x="28343" y="0"/>
                </a:lnTo>
                <a:lnTo>
                  <a:pt x="26943" y="1400"/>
                </a:lnTo>
                <a:lnTo>
                  <a:pt x="1400" y="1400"/>
                </a:lnTo>
                <a:close/>
              </a:path>
              <a:path fill="darken" w="28343" h="21600">
                <a:moveTo>
                  <a:pt x="28343" y="0"/>
                </a:moveTo>
                <a:lnTo>
                  <a:pt x="28343" y="21600"/>
                </a:lnTo>
                <a:lnTo>
                  <a:pt x="26943" y="20200"/>
                </a:lnTo>
                <a:lnTo>
                  <a:pt x="26943" y="1400"/>
                </a:lnTo>
                <a:close/>
              </a:path>
              <a:path fill="darkenLess" w="28343" h="21600">
                <a:moveTo>
                  <a:pt x="28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43" y="20200"/>
                </a:lnTo>
                <a:close/>
              </a:path>
              <a:path fill="lighten" w="28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43" h="21600">
                <a:moveTo>
                  <a:pt x="7165" y="10800"/>
                </a:moveTo>
                <a:lnTo>
                  <a:pt x="21178" y="3794"/>
                </a:lnTo>
                <a:lnTo>
                  <a:pt x="21178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6000" y="248760"/>
            <a:ext cx="87202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Культура. </a:t>
            </a:r>
            <a:br>
              <a:rPr sz="36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ражены элементы европейских, полинезийских, азиатских культурных традиций, привнесенных выходцами из многих стран мира, поселившимися здес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7960" y="2585880"/>
            <a:ext cx="2246400" cy="3219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308720" y="2732040"/>
            <a:ext cx="1457280" cy="1704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743200" y="3503520"/>
            <a:ext cx="4343400" cy="29480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983360" y="6308640"/>
            <a:ext cx="335160" cy="289080"/>
          </a:xfrm>
          <a:custGeom>
            <a:avLst/>
            <a:gdLst>
              <a:gd name="textAreaLeft" fmla="*/ 18720 w 335160"/>
              <a:gd name="textAreaRight" fmla="*/ 316440 w 3351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5039" h="21600">
                <a:moveTo>
                  <a:pt x="0" y="0"/>
                </a:moveTo>
                <a:lnTo>
                  <a:pt x="25039" y="0"/>
                </a:lnTo>
                <a:lnTo>
                  <a:pt x="25039" y="21600"/>
                </a:lnTo>
                <a:lnTo>
                  <a:pt x="0" y="21600"/>
                </a:lnTo>
                <a:close/>
              </a:path>
              <a:path fill="lightenLess" w="25039" h="21600">
                <a:moveTo>
                  <a:pt x="0" y="0"/>
                </a:moveTo>
                <a:lnTo>
                  <a:pt x="25039" y="0"/>
                </a:lnTo>
                <a:lnTo>
                  <a:pt x="23639" y="1400"/>
                </a:lnTo>
                <a:lnTo>
                  <a:pt x="1400" y="1400"/>
                </a:lnTo>
                <a:close/>
              </a:path>
              <a:path fill="darken" w="25039" h="21600">
                <a:moveTo>
                  <a:pt x="25039" y="0"/>
                </a:moveTo>
                <a:lnTo>
                  <a:pt x="25039" y="21600"/>
                </a:lnTo>
                <a:lnTo>
                  <a:pt x="23639" y="20200"/>
                </a:lnTo>
                <a:lnTo>
                  <a:pt x="23639" y="1400"/>
                </a:lnTo>
                <a:close/>
              </a:path>
              <a:path fill="darkenLess" w="25039" h="21600">
                <a:moveTo>
                  <a:pt x="2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9" y="20200"/>
                </a:lnTo>
                <a:close/>
              </a:path>
              <a:path fill="lighten" w="2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9" h="21600">
                <a:moveTo>
                  <a:pt x="5513" y="10800"/>
                </a:moveTo>
                <a:lnTo>
                  <a:pt x="19526" y="3794"/>
                </a:lnTo>
                <a:lnTo>
                  <a:pt x="195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98360" y="271080"/>
            <a:ext cx="517068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ровне высочайших стандартов поддерживается архитектура, симфоническая и современная музыка, театр и кин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Рассел Кроу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пулярный актер, ставший кумиром киноманов после получения «Оскара» за исполнение главной роли в фильме «Гладиатор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240000" cy="458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насе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Форма прав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Географическое поло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рельеф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лима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Вклад в цивилизаци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4248000" cy="32227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52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07544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5757840" cy="64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Площадь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269 675 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Население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3 620 000 че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лотность населения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2 чел/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родолжительность жизни: 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ужчины – 75 лет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енщины – 80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Состав: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европейцы – 88%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аори – 9%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ители островов Тихого океана – 3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27640" y="0"/>
            <a:ext cx="3816360" cy="229068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00884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Форма правлен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конституционная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онарх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лава государства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королева Великобритании, представленная генерал – губернато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осударственный язык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англий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Религ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8800" y="1031760"/>
            <a:ext cx="3279600" cy="36212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Оке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упнейшие остр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верный и 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7086600" y="6308640"/>
            <a:ext cx="353880" cy="289080"/>
          </a:xfrm>
          <a:custGeom>
            <a:avLst/>
            <a:gdLst>
              <a:gd name="textAreaLeft" fmla="*/ 18720 w 353880"/>
              <a:gd name="textAreaRight" fmla="*/ 335160 w 353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436" h="21600">
                <a:moveTo>
                  <a:pt x="0" y="0"/>
                </a:moveTo>
                <a:lnTo>
                  <a:pt x="26436" y="0"/>
                </a:lnTo>
                <a:lnTo>
                  <a:pt x="26436" y="21600"/>
                </a:lnTo>
                <a:lnTo>
                  <a:pt x="0" y="21600"/>
                </a:lnTo>
                <a:close/>
              </a:path>
              <a:path fill="lightenLess" w="26436" h="21600">
                <a:moveTo>
                  <a:pt x="0" y="0"/>
                </a:moveTo>
                <a:lnTo>
                  <a:pt x="26436" y="0"/>
                </a:lnTo>
                <a:lnTo>
                  <a:pt x="25036" y="1400"/>
                </a:lnTo>
                <a:lnTo>
                  <a:pt x="1400" y="1400"/>
                </a:lnTo>
                <a:close/>
              </a:path>
              <a:path fill="darken" w="26436" h="21600">
                <a:moveTo>
                  <a:pt x="26436" y="0"/>
                </a:moveTo>
                <a:lnTo>
                  <a:pt x="26436" y="21600"/>
                </a:lnTo>
                <a:lnTo>
                  <a:pt x="25036" y="20200"/>
                </a:lnTo>
                <a:lnTo>
                  <a:pt x="25036" y="1400"/>
                </a:lnTo>
                <a:close/>
              </a:path>
              <a:path fill="darkenLess" w="26436" h="21600">
                <a:moveTo>
                  <a:pt x="2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36" y="20200"/>
                </a:lnTo>
                <a:close/>
              </a:path>
              <a:path fill="lighten" w="2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36" h="21600">
                <a:moveTo>
                  <a:pt x="6211" y="10800"/>
                </a:moveTo>
                <a:lnTo>
                  <a:pt x="20224" y="3794"/>
                </a:lnTo>
                <a:lnTo>
                  <a:pt x="20224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9280" y="2521080"/>
            <a:ext cx="5184720" cy="38890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Особенности рельеф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истые остро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ейсмическая актив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Действующие вулка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ейз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ячие минеральные источн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556000" y="60357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8870" y="3837"/>
                </a:moveTo>
                <a:lnTo>
                  <a:pt x="21446" y="6448"/>
                </a:ln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lnTo>
                  <a:pt x="25833" y="10800"/>
                </a:lnTo>
                <a:lnTo>
                  <a:pt x="24179" y="10800"/>
                </a:lnTo>
                <a:lnTo>
                  <a:pt x="24179" y="17989"/>
                </a:lnTo>
                <a:lnTo>
                  <a:pt x="13560" y="17989"/>
                </a:lnTo>
                <a:lnTo>
                  <a:pt x="13560" y="10800"/>
                </a:lnTo>
                <a:lnTo>
                  <a:pt x="11907" y="10800"/>
                </a:lnTo>
                <a:close/>
              </a:path>
              <a:path fill="darkenLess" w="37739" h="21600">
                <a:moveTo>
                  <a:pt x="21446" y="6448"/>
                </a:move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close/>
              </a:path>
              <a:path fill="darkenLess" w="37739" h="21600">
                <a:moveTo>
                  <a:pt x="17947" y="14299"/>
                </a:moveTo>
                <a:lnTo>
                  <a:pt x="19792" y="14299"/>
                </a:lnTo>
                <a:lnTo>
                  <a:pt x="19792" y="17989"/>
                </a:lnTo>
                <a:lnTo>
                  <a:pt x="24179" y="17989"/>
                </a:lnTo>
                <a:lnTo>
                  <a:pt x="24179" y="10800"/>
                </a:lnTo>
                <a:lnTo>
                  <a:pt x="13560" y="10800"/>
                </a:lnTo>
                <a:lnTo>
                  <a:pt x="13560" y="17989"/>
                </a:lnTo>
                <a:lnTo>
                  <a:pt x="17947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843280" y="6407280"/>
            <a:ext cx="360360" cy="282600"/>
          </a:xfrm>
          <a:custGeom>
            <a:avLst/>
            <a:gdLst>
              <a:gd name="textAreaLeft" fmla="*/ 18000 w 360360"/>
              <a:gd name="textAreaRight" fmla="*/ 342360 w 36036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7536" h="21600">
                <a:moveTo>
                  <a:pt x="0" y="0"/>
                </a:moveTo>
                <a:lnTo>
                  <a:pt x="27536" y="0"/>
                </a:lnTo>
                <a:lnTo>
                  <a:pt x="27536" y="21600"/>
                </a:lnTo>
                <a:lnTo>
                  <a:pt x="0" y="21600"/>
                </a:lnTo>
                <a:close/>
              </a:path>
              <a:path fill="lightenLess" w="27536" h="21600">
                <a:moveTo>
                  <a:pt x="0" y="0"/>
                </a:moveTo>
                <a:lnTo>
                  <a:pt x="27536" y="0"/>
                </a:lnTo>
                <a:lnTo>
                  <a:pt x="26136" y="1400"/>
                </a:lnTo>
                <a:lnTo>
                  <a:pt x="1400" y="1400"/>
                </a:lnTo>
                <a:close/>
              </a:path>
              <a:path fill="darken" w="27536" h="21600">
                <a:moveTo>
                  <a:pt x="27536" y="0"/>
                </a:moveTo>
                <a:lnTo>
                  <a:pt x="27536" y="21600"/>
                </a:lnTo>
                <a:lnTo>
                  <a:pt x="26136" y="20200"/>
                </a:lnTo>
                <a:lnTo>
                  <a:pt x="26136" y="1400"/>
                </a:lnTo>
                <a:close/>
              </a:path>
              <a:path fill="darkenLess" w="27536" h="21600">
                <a:moveTo>
                  <a:pt x="27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36" y="20200"/>
                </a:lnTo>
                <a:close/>
              </a:path>
              <a:path fill="lighten" w="27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36" h="21600">
                <a:moveTo>
                  <a:pt x="6761" y="3794"/>
                </a:moveTo>
                <a:lnTo>
                  <a:pt x="20774" y="10800"/>
                </a:lnTo>
                <a:lnTo>
                  <a:pt x="676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2392200" y="6396120"/>
            <a:ext cx="379440" cy="282600"/>
          </a:xfrm>
          <a:custGeom>
            <a:avLst/>
            <a:gdLst>
              <a:gd name="textAreaLeft" fmla="*/ 18000 w 379440"/>
              <a:gd name="textAreaRight" fmla="*/ 361440 w 37944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8992" h="21600">
                <a:moveTo>
                  <a:pt x="0" y="0"/>
                </a:moveTo>
                <a:lnTo>
                  <a:pt x="28992" y="0"/>
                </a:lnTo>
                <a:lnTo>
                  <a:pt x="28992" y="21600"/>
                </a:lnTo>
                <a:lnTo>
                  <a:pt x="0" y="21600"/>
                </a:lnTo>
                <a:close/>
              </a:path>
              <a:path fill="lightenLess" w="28992" h="21600">
                <a:moveTo>
                  <a:pt x="0" y="0"/>
                </a:moveTo>
                <a:lnTo>
                  <a:pt x="28992" y="0"/>
                </a:lnTo>
                <a:lnTo>
                  <a:pt x="27592" y="1400"/>
                </a:lnTo>
                <a:lnTo>
                  <a:pt x="1400" y="1400"/>
                </a:lnTo>
                <a:close/>
              </a:path>
              <a:path fill="darken" w="28992" h="21600">
                <a:moveTo>
                  <a:pt x="28992" y="0"/>
                </a:moveTo>
                <a:lnTo>
                  <a:pt x="28992" y="21600"/>
                </a:lnTo>
                <a:lnTo>
                  <a:pt x="27592" y="20200"/>
                </a:lnTo>
                <a:lnTo>
                  <a:pt x="27592" y="1400"/>
                </a:lnTo>
                <a:close/>
              </a:path>
              <a:path fill="darkenLess" w="28992" h="21600">
                <a:moveTo>
                  <a:pt x="28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2" y="20200"/>
                </a:lnTo>
                <a:close/>
              </a:path>
              <a:path fill="lighten" w="28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92" h="21600">
                <a:moveTo>
                  <a:pt x="7490" y="10800"/>
                </a:moveTo>
                <a:lnTo>
                  <a:pt x="21503" y="3794"/>
                </a:lnTo>
                <a:lnTo>
                  <a:pt x="2150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Климат: субтропический морско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июля 5 – 12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января 14 – 19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садки: 400 -600 мм в г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64000" cy="42339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124000" y="5805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15133" y="3837"/>
                </a:moveTo>
                <a:lnTo>
                  <a:pt x="17709" y="6448"/>
                </a:ln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lnTo>
                  <a:pt x="22096" y="10800"/>
                </a:lnTo>
                <a:lnTo>
                  <a:pt x="20442" y="10800"/>
                </a:lnTo>
                <a:lnTo>
                  <a:pt x="20442" y="17989"/>
                </a:lnTo>
                <a:lnTo>
                  <a:pt x="9824" y="17989"/>
                </a:lnTo>
                <a:lnTo>
                  <a:pt x="9824" y="10800"/>
                </a:lnTo>
                <a:lnTo>
                  <a:pt x="8170" y="10800"/>
                </a:lnTo>
                <a:close/>
              </a:path>
              <a:path fill="darkenLess" w="30266" h="21600">
                <a:moveTo>
                  <a:pt x="17709" y="6448"/>
                </a:move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close/>
              </a:path>
              <a:path fill="darkenLess" w="30266" h="21600">
                <a:moveTo>
                  <a:pt x="14210" y="14299"/>
                </a:moveTo>
                <a:lnTo>
                  <a:pt x="16056" y="14299"/>
                </a:lnTo>
                <a:lnTo>
                  <a:pt x="16056" y="17989"/>
                </a:lnTo>
                <a:lnTo>
                  <a:pt x="20442" y="17989"/>
                </a:lnTo>
                <a:lnTo>
                  <a:pt x="20442" y="10800"/>
                </a:lnTo>
                <a:lnTo>
                  <a:pt x="9824" y="10800"/>
                </a:lnTo>
                <a:lnTo>
                  <a:pt x="9824" y="17989"/>
                </a:lnTo>
                <a:lnTo>
                  <a:pt x="1421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4112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1908000" y="623736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10800"/>
                </a:moveTo>
                <a:lnTo>
                  <a:pt x="23159" y="3794"/>
                </a:lnTo>
                <a:lnTo>
                  <a:pt x="23159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Промышлен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74560"/>
            <a:ext cx="43052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Занято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19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удоспособного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3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В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ашиностроительные,  металлургические и текстильные предприятия сосредоточены в крупных портовых город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43520" y="233676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ельское 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1576080"/>
            <a:ext cx="4622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46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сего экспорта приходится на сельскохозяйственную продукцию: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ясо, масло, сыр, шер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ты лесное хозяйство, лесозаготовки, деревообрабатывающая, целлюлозно – бумажная отрас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2320" y="1440000"/>
            <a:ext cx="3613320" cy="2336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83400" y="3843360"/>
            <a:ext cx="2755800" cy="18032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7386480" y="646740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962760" y="6467400"/>
            <a:ext cx="352440" cy="289080"/>
          </a:xfrm>
          <a:custGeom>
            <a:avLst/>
            <a:gdLst>
              <a:gd name="textAreaLeft" fmla="*/ 18720 w 352440"/>
              <a:gd name="textAreaRight" fmla="*/ 333720 w 352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328" h="21600">
                <a:moveTo>
                  <a:pt x="0" y="0"/>
                </a:moveTo>
                <a:lnTo>
                  <a:pt x="26328" y="0"/>
                </a:lnTo>
                <a:lnTo>
                  <a:pt x="26328" y="21600"/>
                </a:lnTo>
                <a:lnTo>
                  <a:pt x="0" y="21600"/>
                </a:lnTo>
                <a:close/>
              </a:path>
              <a:path fill="lightenLess" w="26328" h="21600">
                <a:moveTo>
                  <a:pt x="0" y="0"/>
                </a:moveTo>
                <a:lnTo>
                  <a:pt x="26328" y="0"/>
                </a:lnTo>
                <a:lnTo>
                  <a:pt x="24928" y="1400"/>
                </a:lnTo>
                <a:lnTo>
                  <a:pt x="1400" y="1400"/>
                </a:lnTo>
                <a:close/>
              </a:path>
              <a:path fill="darken" w="26328" h="21600">
                <a:moveTo>
                  <a:pt x="26328" y="0"/>
                </a:moveTo>
                <a:lnTo>
                  <a:pt x="26328" y="21600"/>
                </a:lnTo>
                <a:lnTo>
                  <a:pt x="24928" y="20200"/>
                </a:lnTo>
                <a:lnTo>
                  <a:pt x="24928" y="1400"/>
                </a:lnTo>
                <a:close/>
              </a:path>
              <a:path fill="darkenLess" w="26328" h="21600">
                <a:moveTo>
                  <a:pt x="2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8" y="20200"/>
                </a:lnTo>
                <a:close/>
              </a:path>
              <a:path fill="lighten" w="2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8" h="21600">
                <a:moveTo>
                  <a:pt x="6158" y="10800"/>
                </a:moveTo>
                <a:lnTo>
                  <a:pt x="20171" y="3794"/>
                </a:lnTo>
                <a:lnTo>
                  <a:pt x="2017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054920" y="60357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ова Н.В. Школа №458</dc:creator>
  <dc:description/>
  <dc:language>en-US</dc:language>
  <cp:lastModifiedBy>Галя</cp:lastModifiedBy>
  <dcterms:modified xsi:type="dcterms:W3CDTF">2010-10-07T12:21:46Z</dcterms:modified>
  <cp:revision>3</cp:revision>
  <dc:subject>География</dc:subject>
  <dc:title>Новая Зеландия</dc:title>
</cp:coreProperties>
</file>