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3.png" ContentType="image/pn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36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2.jpeg" ContentType="image/jpeg"/>
  <Override PartName="/ppt/media/image43.jpeg" ContentType="image/jpeg"/>
  <Override PartName="/ppt/media/image37.png" ContentType="image/png"/>
  <Override PartName="/ppt/media/image39.jpeg" ContentType="image/jpeg"/>
  <Override PartName="/ppt/media/image8.png" ContentType="image/pn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4DC-1903-498E-A974-64D6A48E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55DC-BB2D-4DD3-9918-192C4C20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4E4-423B-45A4-BC17-17755AB6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1B75-AA0E-4815-A9DE-517C9C0F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0C8-CB26-4FF9-8433-B25AE7B2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387-DB66-470D-9E89-7ABCDDAE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011-6EE3-4533-BEA5-86766800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3DC-0DDF-4F1C-BF7C-24F9EAA9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5E64-2083-4037-9255-B8F7498C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31C-07D4-47F8-AE24-67273081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A6D-7DB7-4337-BA99-DC4A2612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5E4-91C4-42C4-91AF-1AC05685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E423-09BC-4891-839E-F66DC0043B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3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Русская литература </a:t>
            </a: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начала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73408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20px-Bryullov_portrait_of_Zhukovsky"/>
          <p:cNvPicPr/>
          <p:nvPr/>
        </p:nvPicPr>
        <p:blipFill>
          <a:blip r:embed="rId1"/>
          <a:stretch/>
        </p:blipFill>
        <p:spPr>
          <a:xfrm>
            <a:off x="250920" y="189000"/>
            <a:ext cx="143964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501px-Batushkov_by_Utkin"/>
          <p:cNvPicPr/>
          <p:nvPr/>
        </p:nvPicPr>
        <p:blipFill>
          <a:blip r:embed="rId2"/>
          <a:stretch/>
        </p:blipFill>
        <p:spPr>
          <a:xfrm>
            <a:off x="324000" y="2637000"/>
            <a:ext cx="1368360" cy="1704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блок"/>
          <p:cNvPicPr/>
          <p:nvPr/>
        </p:nvPicPr>
        <p:blipFill>
          <a:blip r:embed="rId3"/>
          <a:stretch/>
        </p:blipFill>
        <p:spPr>
          <a:xfrm>
            <a:off x="3851280" y="3789360"/>
            <a:ext cx="1479600" cy="201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горький"/>
          <p:cNvPicPr/>
          <p:nvPr/>
        </p:nvPicPr>
        <p:blipFill>
          <a:blip r:embed="rId4"/>
          <a:stretch/>
        </p:blipFill>
        <p:spPr>
          <a:xfrm>
            <a:off x="7451640" y="2637000"/>
            <a:ext cx="1511280" cy="18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есенин"/>
          <p:cNvPicPr/>
          <p:nvPr/>
        </p:nvPicPr>
        <p:blipFill>
          <a:blip r:embed="rId5"/>
          <a:stretch/>
        </p:blipFill>
        <p:spPr>
          <a:xfrm>
            <a:off x="7431120" y="189000"/>
            <a:ext cx="1461960" cy="17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маяковский"/>
          <p:cNvPicPr/>
          <p:nvPr/>
        </p:nvPicPr>
        <p:blipFill>
          <a:blip r:embed="rId6"/>
          <a:stretch/>
        </p:blipFill>
        <p:spPr>
          <a:xfrm>
            <a:off x="7093080" y="4797360"/>
            <a:ext cx="1439640" cy="165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северянин"/>
          <p:cNvPicPr/>
          <p:nvPr/>
        </p:nvPicPr>
        <p:blipFill>
          <a:blip r:embed="rId7"/>
          <a:stretch/>
        </p:blipFill>
        <p:spPr>
          <a:xfrm>
            <a:off x="611280" y="4724280"/>
            <a:ext cx="1384200" cy="1871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1"/>
          <p:cNvSpPr/>
          <p:nvPr/>
        </p:nvSpPr>
        <p:spPr>
          <a:xfrm>
            <a:off x="2411280" y="189000"/>
            <a:ext cx="5040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Учитель русского языка и литературы ГУ СОШ №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г. Сем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Бектина Лилия Алтынбек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гумилев"/>
          <p:cNvPicPr/>
          <p:nvPr/>
        </p:nvPicPr>
        <p:blipFill>
          <a:blip r:embed="rId1"/>
          <a:stretch/>
        </p:blipFill>
        <p:spPr>
          <a:xfrm>
            <a:off x="6948360" y="4365720"/>
            <a:ext cx="1800360" cy="201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мандельштам"/>
          <p:cNvPicPr/>
          <p:nvPr/>
        </p:nvPicPr>
        <p:blipFill>
          <a:blip r:embed="rId2"/>
          <a:stretch/>
        </p:blipFill>
        <p:spPr>
          <a:xfrm>
            <a:off x="179280" y="189000"/>
            <a:ext cx="2024280" cy="208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Admin\Рабочий стол\К УРОКАМ\40630.jpg"/>
          <p:cNvPicPr/>
          <p:nvPr/>
        </p:nvPicPr>
        <p:blipFill>
          <a:blip r:embed="rId3"/>
          <a:stretch/>
        </p:blipFill>
        <p:spPr>
          <a:xfrm>
            <a:off x="468360" y="4221000"/>
            <a:ext cx="1755720" cy="2265480"/>
          </a:xfrm>
          <a:prstGeom prst="rect">
            <a:avLst/>
          </a:prstGeom>
          <a:ln w="0">
            <a:noFill/>
          </a:ln>
        </p:spPr>
      </p:pic>
      <p:sp>
        <p:nvSpPr>
          <p:cNvPr id="95" name="WordArt 8"/>
          <p:cNvSpPr txBox="1"/>
          <p:nvPr/>
        </p:nvSpPr>
        <p:spPr>
          <a:xfrm>
            <a:off x="1476360" y="2781360"/>
            <a:ext cx="6481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m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высшая степень чего-либ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лся из символизма. Критикует туманность языка символи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оведует точность, ясность поэтического языка, логичность в замысле, в постройке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должен найти лад с собой и с ми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 и русской класс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-469800" y="-189000"/>
            <a:ext cx="9064440" cy="185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395280" y="119700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рекрасная ясность», логичность, чёткость, контрастно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емление заново открыть жизнь в её простоте, основа – память, опора на разнообразные культурные трад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метный мир значителен сам по себе, а не только как символ чего-то высшего. Стремление освоить яркий земной мир. Деятельность самог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сность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сшее предназначение поэта – открыть мир, его крас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Admin\Рабочий стол\К УРОКАМ\i_195.jpg"/>
          <p:cNvPicPr/>
          <p:nvPr/>
        </p:nvPicPr>
        <p:blipFill>
          <a:blip r:embed="rId1"/>
          <a:stretch/>
        </p:blipFill>
        <p:spPr>
          <a:xfrm>
            <a:off x="2428920" y="252360"/>
            <a:ext cx="6715080" cy="660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1" name="Прямоугольник 3" descr=""/>
          <p:cNvPicPr/>
          <p:nvPr/>
        </p:nvPicPr>
        <p:blipFill>
          <a:blip r:embed="rId2"/>
          <a:stretch/>
        </p:blipFill>
        <p:spPr>
          <a:xfrm>
            <a:off x="-743040" y="2530440"/>
            <a:ext cx="5716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826920" y="2205000"/>
            <a:ext cx="7632720" cy="21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5" descr="imgB"/>
          <p:cNvPicPr/>
          <p:nvPr/>
        </p:nvPicPr>
        <p:blipFill>
          <a:blip r:embed="rId1"/>
          <a:stretch/>
        </p:blipFill>
        <p:spPr>
          <a:xfrm>
            <a:off x="6300720" y="4221000"/>
            <a:ext cx="1720800" cy="2346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4" name="Picture 6" descr="Асеев Н. Н."/>
          <p:cNvPicPr/>
          <p:nvPr/>
        </p:nvPicPr>
        <p:blipFill>
          <a:blip r:embed="rId2"/>
          <a:stretch/>
        </p:blipFill>
        <p:spPr>
          <a:xfrm>
            <a:off x="395280" y="404640"/>
            <a:ext cx="1944720" cy="22323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5" name="Picture 7" descr="Игорь-Северянин (Лотарев Игорь Васильевич). 1900 год. "/>
          <p:cNvPicPr/>
          <p:nvPr/>
        </p:nvPicPr>
        <p:blipFill>
          <a:blip r:embed="rId3"/>
          <a:stretch/>
        </p:blipFill>
        <p:spPr>
          <a:xfrm>
            <a:off x="1619280" y="4365720"/>
            <a:ext cx="1706400" cy="22651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6" name="Picture 8" descr="маяковский"/>
          <p:cNvPicPr/>
          <p:nvPr/>
        </p:nvPicPr>
        <p:blipFill>
          <a:blip r:embed="rId4"/>
          <a:stretch/>
        </p:blipFill>
        <p:spPr>
          <a:xfrm>
            <a:off x="4716360" y="333360"/>
            <a:ext cx="1800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буду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щущение грядущих перемен. Стремление осознать через искусство будущее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тво как продолжение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аз от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существующей системы жан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атывается тонический стих. Неогранич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творчество. Сложная композиционная струк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900000" y="274680"/>
            <a:ext cx="75596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j-lt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549000"/>
            <a:ext cx="40402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Горьк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ак бы смешны и крикливы ни были наши футуристы, но им нужно широко раскрывать двери, ибо это молодые голоса, зовущие к молодой новой жизн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3284280"/>
            <a:ext cx="40402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Брю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должен признать значительность работы, исполненной футурист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88000" y="1196640"/>
            <a:ext cx="3898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нин И.А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его только не проделывали мы за последние годы с нашей литературой? И дошли до самого плоского хулиганства, называемого нелепым словом «футуриз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800000"/>
                </a:solidFill>
                <a:latin typeface="Monotype Corsiva"/>
              </a:rPr>
              <a:t>Эстетические принципы футур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824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предшествующим и иным культурам, эпохам и традициям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декларативный «разрыв» с предшествующей традицией; революционное новаторство в поэзии; разрушение старых н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реальности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революционное преобр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призвание поэт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эт-бунтарь, революционер, сотворец новой ре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исторический процесс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есный прогресс, отрицание прошлого во имя настоящего и настоящего – во имя буду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зкий род искусств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соотношения «имени» и «вещи»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талкивание называния м показа вещи, метафоризация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 rot="20256000">
            <a:off x="5076720" y="1773000"/>
            <a:ext cx="2695680" cy="1739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5724360" y="4437000"/>
            <a:ext cx="2068560" cy="2232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 rot="918000">
            <a:off x="7236000" y="2852640"/>
            <a:ext cx="1225440" cy="1600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8" name="Picture 8" descr=""/>
          <p:cNvPicPr/>
          <p:nvPr/>
        </p:nvPicPr>
        <p:blipFill>
          <a:blip r:embed="rId4"/>
          <a:stretch/>
        </p:blipFill>
        <p:spPr>
          <a:xfrm rot="19892400">
            <a:off x="5866920" y="3357360"/>
            <a:ext cx="1106640" cy="15238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038480" y="1905120"/>
            <a:ext cx="46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, переводчик, прозаик. Родился 29 января в Москве в семье известного художника. Его первые сборники стихов ("Близнец в тучах". 1914; "Поверх барьеров", 1917) отмечены влиянием символизма и футуризма. Вместе с Н.Асеевым он организовал группу новых или «умеренных» футуристов – «Центрифуг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916200" y="5638680"/>
            <a:ext cx="290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Борис 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0-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218960" y="228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«Центрифуг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imgB"/>
          <p:cNvPicPr/>
          <p:nvPr/>
        </p:nvPicPr>
        <p:blipFill>
          <a:blip r:embed="rId1"/>
          <a:stretch/>
        </p:blipFill>
        <p:spPr>
          <a:xfrm>
            <a:off x="762120" y="1371600"/>
            <a:ext cx="286848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3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Асеев Н. Н."/>
          <p:cNvPicPr/>
          <p:nvPr/>
        </p:nvPicPr>
        <p:blipFill>
          <a:blip r:embed="rId1"/>
          <a:stretch/>
        </p:blipFill>
        <p:spPr>
          <a:xfrm>
            <a:off x="609480" y="1143000"/>
            <a:ext cx="302436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5" name="Rectangle 3"/>
          <p:cNvSpPr/>
          <p:nvPr/>
        </p:nvSpPr>
        <p:spPr>
          <a:xfrm>
            <a:off x="3886200" y="990720"/>
            <a:ext cx="4952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ий поэт. Родился 28 июня (10 июля) 1889 в Льгове Курской губ. Сын страхового агента. Окончил Курское реальное училище (1907), учился в Московском коммерческом институте (1908–1910), был вольнослушателем Московского университета. 1914г. – Асеев – один из организаторов литературной группы «Лирен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инициативе Асеева во Владивостоке было создано литературно-художественное общество «Балаганчик», ставшее основой возникшей в 1920 футуристической группы «Творчеств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41320" y="5410080"/>
            <a:ext cx="246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Николай Ас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9-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Русская литература Серебряного века явила блестящее созвездие ярких индивидуальносте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 Даже представители одного течения заметно отличались друг от друга  не только стилистически, но и по мироощущению, художественным вку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684360" y="404640"/>
            <a:ext cx="770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Серебрянный ве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148280" y="1066680"/>
            <a:ext cx="4995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7 июля 1893 в селе Багдади в семье лесничего. Маяковский учился в московской гимназии. Трижды подвергался арестам, в 1909 был заключён в одиночную камеру Бутырской тюрьмы. Выйдя из тюрьмы, где он начал писать стихи, Маяковский решает "делать социалистическое искусство": "Я прервал партийную работу. Я сел учиться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11 Маяковский поступил в Московское училище живописи, ваяния и зод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1912 относятся первые поэтические опыты, связанные с теорией и практикой группы кубофутури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-304920" y="5638680"/>
            <a:ext cx="49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Владимир Мая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3-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0948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Куб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bio-vm1911"/>
          <p:cNvPicPr/>
          <p:nvPr/>
        </p:nvPicPr>
        <p:blipFill>
          <a:blip r:embed="rId1"/>
          <a:stretch/>
        </p:blipFill>
        <p:spPr>
          <a:xfrm>
            <a:off x="685800" y="1523880"/>
            <a:ext cx="3019320" cy="390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2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657240" y="91440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ейший представитель русского авангарда, поэт, прозаик, драматург, философ. Родился 9 ноября 1885 года в Астраханской губернии. В 1908 году переехал в Петербург, поступил на 3-й курс естественного отделения физико-математического факультета. С осени 1909 г. перешел на факультет восточных языков по разряду санскритской словесности, вслед за этим перешел на 1-й курс славяно-русского отделения историко-филологического факуль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лебников стал главным теоретиком футуризма, который предложил отказаться от термина «футуризм», заменив его на «будетлянство», подчеркивая тем самым самобытный характер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Велимир Хлебников"/>
          <p:cNvPicPr/>
          <p:nvPr/>
        </p:nvPicPr>
        <p:blipFill>
          <a:blip r:embed="rId1"/>
          <a:stretch/>
        </p:blipFill>
        <p:spPr>
          <a:xfrm>
            <a:off x="685800" y="1219320"/>
            <a:ext cx="2782800" cy="4038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5" name="Rectangle 4"/>
          <p:cNvSpPr/>
          <p:nvPr/>
        </p:nvSpPr>
        <p:spPr>
          <a:xfrm>
            <a:off x="153360" y="5486400"/>
            <a:ext cx="395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Хлебников Вели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Виктор Владимиро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5-19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Игорь-Северянин (Лотарев Игорь Васильевич). 1900 год. "/>
          <p:cNvPicPr/>
          <p:nvPr/>
        </p:nvPicPr>
        <p:blipFill>
          <a:blip r:embed="rId1"/>
          <a:stretch/>
        </p:blipFill>
        <p:spPr>
          <a:xfrm>
            <a:off x="1066680" y="1447920"/>
            <a:ext cx="2513160" cy="3886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8" name="Rectangle 3"/>
          <p:cNvSpPr/>
          <p:nvPr/>
        </p:nvSpPr>
        <p:spPr>
          <a:xfrm>
            <a:off x="228960" y="54864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Игорь Север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Лотарев Игорь Василь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7-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Эг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66720" y="1219320"/>
            <a:ext cx="44960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в Петербурге в семье офицера (по материнской линии – потомок Карамзина и дальний родственник Фета). Стихи сочинял с детства, первое стихотворение о русско-японской войне появилось в печати в 1905 в журнале «для солдат и нижних чинов» «Досуг и дел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ически он остался единственным из эгофутуристов, вошедших в историю русской поэзии. В 1911 г. назвал себя футуристом, прибавив к этому слову другое – «эго», получилось – эгофутурист («Я-будущее» или «я в будущем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SC_2309"/>
          <p:cNvPicPr/>
          <p:nvPr/>
        </p:nvPicPr>
        <p:blipFill>
          <a:blip r:embed="rId1"/>
          <a:stretch/>
        </p:blipFill>
        <p:spPr>
          <a:xfrm rot="382200">
            <a:off x="6858000" y="4876920"/>
            <a:ext cx="2125800" cy="15681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3" name="Picture 3" descr="image48"/>
          <p:cNvPicPr/>
          <p:nvPr/>
        </p:nvPicPr>
        <p:blipFill>
          <a:blip r:embed="rId2"/>
          <a:stretch/>
        </p:blipFill>
        <p:spPr>
          <a:xfrm rot="780000">
            <a:off x="7391520" y="457200"/>
            <a:ext cx="1320840" cy="20574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4" name="Picture 4" descr="682009"/>
          <p:cNvPicPr/>
          <p:nvPr/>
        </p:nvPicPr>
        <p:blipFill>
          <a:blip r:embed="rId3"/>
          <a:stretch/>
        </p:blipFill>
        <p:spPr>
          <a:xfrm rot="21030000">
            <a:off x="304920" y="5257440"/>
            <a:ext cx="1184040" cy="129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чале 1920-х  большинство представителей футуризма вошло в ЛЕФ (Левый Фронт Искусств – литературная группа, возникшая в конце 1922 в Москве и существовавшая до 1929). Возглавлял ЛЕФ В.Мая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тенденции футуризма были подхвачены новыми литературными групп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futurizm"/>
          <p:cNvPicPr/>
          <p:nvPr/>
        </p:nvPicPr>
        <p:blipFill>
          <a:blip r:embed="rId4"/>
          <a:stretch/>
        </p:blipFill>
        <p:spPr>
          <a:xfrm rot="962400">
            <a:off x="1227240" y="5493960"/>
            <a:ext cx="769680" cy="10666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7" name="Picture 7" descr="sd560_27_02_01"/>
          <p:cNvPicPr/>
          <p:nvPr/>
        </p:nvPicPr>
        <p:blipFill>
          <a:blip r:embed="rId5"/>
          <a:stretch/>
        </p:blipFill>
        <p:spPr>
          <a:xfrm rot="21144600">
            <a:off x="838080" y="380880"/>
            <a:ext cx="1044720" cy="14162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8" name="Rectangle 8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4"/>
          <p:cNvSpPr txBox="1"/>
          <p:nvPr/>
        </p:nvSpPr>
        <p:spPr>
          <a:xfrm rot="20928600">
            <a:off x="826560" y="2565360"/>
            <a:ext cx="72741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S Reference Sans Serif"/>
              </a:rPr>
              <a:t>ИМАЖИН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S Reference Sans Serif"/>
              <a:ea typeface="MS Reference Sans Serif"/>
            </a:endParaRPr>
          </a:p>
        </p:txBody>
      </p:sp>
      <p:pic>
        <p:nvPicPr>
          <p:cNvPr id="152" name="Picture 5" descr="есенин"/>
          <p:cNvPicPr/>
          <p:nvPr/>
        </p:nvPicPr>
        <p:blipFill>
          <a:blip r:embed="rId1"/>
          <a:stretch/>
        </p:blipFill>
        <p:spPr>
          <a:xfrm>
            <a:off x="6227640" y="4149720"/>
            <a:ext cx="2232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англ. и фр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озглашал самоценность поэтического образа как тако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едание образом смы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ив политизации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свободный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А. Есенин, В. Шершневи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Мариенго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539640" y="26028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МАЖИНИЗ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многом повлияли на развитие течения теоретические работы и поэтическое творчество С.А.Есенина, который входил в костяк объединения. В теоретическом сочинен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0) Есенин выстраивает свою поэтику образа: «Образ от плоти можно назва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ставоч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браз от дух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рабель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третий образ от разума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гелическ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Как и другие имажинистские декларац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емичны: «Вслед Клюеву свернул себе шею и подглуповатый футуризм». Народная мифология была одним из главных источников образности Есенина, а мифологическая параллель «природа – человек» стала основополагающей для его поэтического мироощущения. В издательстве «Имажинисты» вышли его сборни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еряд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дун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обра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се – 1921) и драматическая поэм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угач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стр. 8-18, ответить на вопросы на стр. 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презентации по групп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стихотворение одного из модернистских поэ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 время реалистическая эпоха русской культуры сменяется  модернистск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empus Sans ITC"/>
              </a:rPr>
              <a:t>Модернизм – общее название разных направлений в искусстве  конца 19 – начала 20 века., провозгласивших разрыв с реализмом, отказ от старых форм и поиск новых эстетических принцип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модернистские направления очень разные, имеют разные идеалы, преследуют разные цели, но сходятся они в одном: работать над ритмом, словом, довести игру звуков до соверш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258920" y="3152880"/>
            <a:ext cx="70581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Picture 5" descr="Валерий Брюсов"/>
          <p:cNvPicPr/>
          <p:nvPr/>
        </p:nvPicPr>
        <p:blipFill>
          <a:blip r:embed="rId1"/>
          <a:stretch/>
        </p:blipFill>
        <p:spPr>
          <a:xfrm rot="21099600">
            <a:off x="420840" y="473040"/>
            <a:ext cx="18716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мережковский"/>
          <p:cNvPicPr/>
          <p:nvPr/>
        </p:nvPicPr>
        <p:blipFill>
          <a:blip r:embed="rId2"/>
          <a:stretch/>
        </p:blipFill>
        <p:spPr>
          <a:xfrm rot="1525200">
            <a:off x="6740640" y="841320"/>
            <a:ext cx="147960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Владимир Соловьёв"/>
          <p:cNvPicPr/>
          <p:nvPr/>
        </p:nvPicPr>
        <p:blipFill>
          <a:blip r:embed="rId3"/>
          <a:stretch/>
        </p:blipFill>
        <p:spPr>
          <a:xfrm rot="21033000">
            <a:off x="684360" y="4365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блок"/>
          <p:cNvPicPr/>
          <p:nvPr/>
        </p:nvPicPr>
        <p:blipFill>
          <a:blip r:embed="rId4"/>
          <a:stretch/>
        </p:blipFill>
        <p:spPr>
          <a:xfrm rot="1167000">
            <a:off x="6732720" y="4437000"/>
            <a:ext cx="176508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белый"/>
          <p:cNvPicPr/>
          <p:nvPr/>
        </p:nvPicPr>
        <p:blipFill>
          <a:blip r:embed="rId5"/>
          <a:stretch/>
        </p:blipFill>
        <p:spPr>
          <a:xfrm>
            <a:off x="3564000" y="476280"/>
            <a:ext cx="1655640" cy="201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гиппиус"/>
          <p:cNvPicPr/>
          <p:nvPr/>
        </p:nvPicPr>
        <p:blipFill>
          <a:blip r:embed="rId6"/>
          <a:stretch/>
        </p:blipFill>
        <p:spPr>
          <a:xfrm>
            <a:off x="3851280" y="4508640"/>
            <a:ext cx="1527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знак, симв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элемента: мистическое  содержание, символы, расширение художественной впечатл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 к отечественной класс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уитивное постижение мира, ведущее к п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ала. Ощущение ха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ая роль твор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 - про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457200" y="274680"/>
            <a:ext cx="8229600" cy="993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j-lt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075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оявился в России в 80-90 гг. </a:t>
            </a:r>
            <a:r>
              <a:rPr b="1" lang="en-US" sz="2800" spc="-1" strike="noStrike">
                <a:solidFill>
                  <a:srgbClr val="000000"/>
                </a:solidFill>
                <a:latin typeface="Cooper Black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Стал значительным фактором русской культурной и духовн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литерату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Я. Брюсов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Д. Бальмонт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.К. Сологуб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.Ф. Анн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живопис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ну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Сомов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М. Вру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Андрей Белый"/>
          <p:cNvPicPr/>
          <p:nvPr/>
        </p:nvPicPr>
        <p:blipFill>
          <a:blip r:embed="rId1"/>
          <a:stretch/>
        </p:blipFill>
        <p:spPr>
          <a:xfrm>
            <a:off x="2124000" y="2708280"/>
            <a:ext cx="971640" cy="108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Валерий Брюсов"/>
          <p:cNvPicPr/>
          <p:nvPr/>
        </p:nvPicPr>
        <p:blipFill>
          <a:blip r:embed="rId2"/>
          <a:stretch/>
        </p:blipFill>
        <p:spPr>
          <a:xfrm>
            <a:off x="305928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Бенуа людовик кормит рыб"/>
          <p:cNvPicPr/>
          <p:nvPr/>
        </p:nvPicPr>
        <p:blipFill>
          <a:blip r:embed="rId3"/>
          <a:stretch/>
        </p:blipFill>
        <p:spPr>
          <a:xfrm>
            <a:off x="1042920" y="465300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Константин Бальмонт"/>
          <p:cNvPicPr/>
          <p:nvPr/>
        </p:nvPicPr>
        <p:blipFill>
          <a:blip r:embed="rId4"/>
          <a:stretch/>
        </p:blipFill>
        <p:spPr>
          <a:xfrm>
            <a:off x="723600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сологуб фёдор кузьмич"/>
          <p:cNvPicPr/>
          <p:nvPr/>
        </p:nvPicPr>
        <p:blipFill>
          <a:blip r:embed="rId5"/>
          <a:stretch/>
        </p:blipFill>
        <p:spPr>
          <a:xfrm>
            <a:off x="6443640" y="2781360"/>
            <a:ext cx="949320" cy="1057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Сомов Дама в голубом"/>
          <p:cNvPicPr/>
          <p:nvPr/>
        </p:nvPicPr>
        <p:blipFill>
          <a:blip r:embed="rId6"/>
          <a:stretch/>
        </p:blipFill>
        <p:spPr>
          <a:xfrm>
            <a:off x="3203640" y="522936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врубель жемчужина 1904"/>
          <p:cNvPicPr/>
          <p:nvPr/>
        </p:nvPicPr>
        <p:blipFill>
          <a:blip r:embed="rId7"/>
          <a:stretch/>
        </p:blipFill>
        <p:spPr>
          <a:xfrm>
            <a:off x="6732720" y="4869000"/>
            <a:ext cx="11001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612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Особенности русского символиз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Повышенное внимание к истории, проблеме личности и её внутреннему ми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Героико-трагические переживания социальных и духовных конфликтов рубежа ве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Сочетание противоречивых тенд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Открытия в поэ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обновление жанров ли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новые принципы цик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смысловая полиф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дея самоценности искус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(независимость от вс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Уход от социальных задач, искусство – чисто художественное я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179280" y="6237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0" y="61657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900000" y="189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Старшие символи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720720" y="134136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11280" y="1125360"/>
            <a:ext cx="792144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В.Брю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Ю.Балтрушай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К.Бальмо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1903  Брюсов «Ключи тайн»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Цель искусства – выражение «движения души» поэта, выражения тайн человеческого 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ущность мира непознаваема рассудком, но познаваема интуи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Искусство есть постижение мира иными. Не рассудочными пу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Задача искусства – запечатлеть мгновения прозрения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вдох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оздания искусства – это приотворённые двери в В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Валерий Брюсов"/>
          <p:cNvPicPr/>
          <p:nvPr/>
        </p:nvPicPr>
        <p:blipFill>
          <a:blip r:embed="rId2"/>
          <a:stretch/>
        </p:blipFill>
        <p:spPr>
          <a:xfrm>
            <a:off x="2627280" y="907920"/>
            <a:ext cx="1079640" cy="1202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Константин Бальмонт"/>
          <p:cNvPicPr/>
          <p:nvPr/>
        </p:nvPicPr>
        <p:blipFill>
          <a:blip r:embed="rId3"/>
          <a:stretch/>
        </p:blipFill>
        <p:spPr>
          <a:xfrm>
            <a:off x="4356000" y="1125360"/>
            <a:ext cx="1584360" cy="15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 </a:t>
            </a: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Младосимволист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1900гг.-рубеж 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4360" y="17733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Иванов   А.Белый  А.А.Блок   Л.Л. Элл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003640" y="170028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илософия Соловь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Александр Блок"/>
          <p:cNvPicPr/>
          <p:nvPr/>
        </p:nvPicPr>
        <p:blipFill>
          <a:blip r:embed="rId1"/>
          <a:stretch/>
        </p:blipFill>
        <p:spPr>
          <a:xfrm>
            <a:off x="755640" y="2565360"/>
            <a:ext cx="1359000" cy="1513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Владимир Соловьёв"/>
          <p:cNvPicPr/>
          <p:nvPr/>
        </p:nvPicPr>
        <p:blipFill>
          <a:blip r:embed="rId2"/>
          <a:stretch/>
        </p:blipFill>
        <p:spPr>
          <a:xfrm>
            <a:off x="4716360" y="2133720"/>
            <a:ext cx="1230480" cy="1368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2268360" y="2924280"/>
            <a:ext cx="2590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Мы подошли -и воды си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Как две расплеснутых ст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вот в дали белеет ски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дали мутные видны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900000" y="4508640"/>
            <a:ext cx="75596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Противопоставление мира идей и мира действительности, рационального и интуитивного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Мотив ожидания грядущих зорь, предвещающих начало новой э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Эклектичность , противоре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В центре внимания – вопросы о судьбах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213372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940360" y="2060640"/>
            <a:ext cx="2592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божественное единство Всел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Душа мира – Вечная Женств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Общество построено на духовных начал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7:59:50Z</dcterms:created>
  <dc:creator>123</dc:creator>
  <dc:description/>
  <dc:language>en-US</dc:language>
  <cp:lastModifiedBy>Олег</cp:lastModifiedBy>
  <dcterms:modified xsi:type="dcterms:W3CDTF">2011-04-17T19:17:49Z</dcterms:modified>
  <cp:revision>9</cp:revision>
  <dc:subject/>
  <dc:title>Русская литература  20 века</dc:title>
</cp:coreProperties>
</file>