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B62-11CB-4D20-8CD7-451B7E95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862-21A2-4581-99FD-E3760503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DBC-EDCF-4578-BC3E-D375C0F9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B6F-E6C3-4B0B-BBF4-596ABD34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AAE-56D8-4622-BEC0-9C598E2C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734-5A96-468D-A8E4-43B0358A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76B-758D-42FB-A2CF-F5726A8D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103-486A-46AF-9E99-8E6F7E2F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5C7-ABB0-44A8-8E37-74E8ACE4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C70-D89E-4F21-9AA0-BB7D4740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1D9-4576-4FE4-BA56-8DB2D1A3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34B-AAC1-4869-861D-1AF57FB9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ED7E-A0A8-41CC-BEFC-1A680F35B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87280" y="1125360"/>
            <a:ext cx="64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Работа выполнена в рамках проекта: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КТ – </a:t>
            </a:r>
            <a:r>
              <a:rPr b="1" i="1" lang="ru-RU" sz="2800" spc="-1" strike="noStrike">
                <a:solidFill>
                  <a:srgbClr val="3c94e4"/>
                </a:solidFill>
                <a:latin typeface="Arial"/>
              </a:rPr>
              <a:t>«Повышение квалификации различных категорий работников образования и формирование у них базовой педагогической компетентности»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по программе: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1"/>
          <p:cNvGrpSpPr/>
          <p:nvPr/>
        </p:nvGrpSpPr>
        <p:grpSpPr>
          <a:xfrm>
            <a:off x="2471040" y="981000"/>
            <a:ext cx="5125320" cy="4515480"/>
            <a:chOff x="2471040" y="981000"/>
            <a:chExt cx="5125320" cy="4515480"/>
          </a:xfrm>
        </p:grpSpPr>
        <p:sp>
          <p:nvSpPr>
            <p:cNvPr id="81" name="Line 4"/>
            <p:cNvSpPr/>
            <p:nvPr/>
          </p:nvSpPr>
          <p:spPr>
            <a:xfrm flipV="1">
              <a:off x="4427640" y="981000"/>
              <a:ext cx="0" cy="37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132000" y="3573360"/>
              <a:ext cx="446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2471040" y="2612520"/>
              <a:ext cx="2960280" cy="28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9384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1656000" cy="34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 rot="18900000">
            <a:off x="2556000" y="4149360"/>
            <a:ext cx="15048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4500720" y="3645000"/>
            <a:ext cx="31896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5"/>
          <a:stretch/>
        </p:blipFill>
        <p:spPr>
          <a:xfrm>
            <a:off x="2700360" y="5373720"/>
            <a:ext cx="32220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6"/>
          <a:stretch/>
        </p:blipFill>
        <p:spPr>
          <a:xfrm>
            <a:off x="7091280" y="3716280"/>
            <a:ext cx="325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/>
          <p:cNvPicPr/>
          <p:nvPr/>
        </p:nvPicPr>
        <p:blipFill>
          <a:blip r:embed="rId7"/>
          <a:stretch/>
        </p:blipFill>
        <p:spPr>
          <a:xfrm>
            <a:off x="4572000" y="1125360"/>
            <a:ext cx="2541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Три плоскости, проходящие через оси координат Ох и Оу, Оу и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и Ох, называются координатными плоскостями: Оху, Оу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, О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 прямоугольной системе координат каждой точке М пространства сопоставляется тройка чисел – её коорди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М (х,у,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)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, где х – абсцис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у – ордината, 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z 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- апплик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38520" cy="47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788000" y="5291280"/>
            <a:ext cx="20476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rcRect l="54642" t="15775" r="13622" b="45834"/>
          <a:stretch/>
        </p:blipFill>
        <p:spPr>
          <a:xfrm>
            <a:off x="324000" y="18900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rcRect l="54428" t="15539" r="15301" b="46075"/>
          <a:stretch/>
        </p:blipFill>
        <p:spPr>
          <a:xfrm>
            <a:off x="5435640" y="18900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rcRect l="54428" t="18512" r="15301" b="46075"/>
          <a:stretch/>
        </p:blipFill>
        <p:spPr>
          <a:xfrm>
            <a:off x="395280" y="378936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rcRect l="53697" t="16538" r="17513" b="46075"/>
          <a:stretch/>
        </p:blipFill>
        <p:spPr>
          <a:xfrm>
            <a:off x="5292720" y="371628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1763640" y="3003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ы точки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826920" y="1052640"/>
            <a:ext cx="7398000" cy="4032000"/>
            <a:chOff x="826920" y="1052640"/>
            <a:chExt cx="7398000" cy="4032000"/>
          </a:xfrm>
        </p:grpSpPr>
        <p:sp>
          <p:nvSpPr>
            <p:cNvPr id="101" name="Rectangle 5"/>
            <p:cNvSpPr/>
            <p:nvPr/>
          </p:nvSpPr>
          <p:spPr>
            <a:xfrm>
              <a:off x="3342240" y="1052640"/>
              <a:ext cx="26632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очка леж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566720" y="2673360"/>
              <a:ext cx="177552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о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4821840" y="2673360"/>
              <a:ext cx="34030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 координатной плоск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826920" y="4089960"/>
              <a:ext cx="887400" cy="99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х,0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1942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0,0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496980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y,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5348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,y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337160" y="4080240"/>
              <a:ext cx="887400" cy="10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z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x,0,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2750040" y="1688760"/>
              <a:ext cx="147924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4969800" y="1668960"/>
              <a:ext cx="1775520" cy="10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7044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2454480" y="327636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24544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541368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597360" y="3276360"/>
              <a:ext cx="118368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0"/>
          <p:cNvSpPr/>
          <p:nvPr/>
        </p:nvSpPr>
        <p:spPr>
          <a:xfrm>
            <a:off x="2050920" y="4076640"/>
            <a:ext cx="901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0,у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588000" y="3284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844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979640" y="60213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-3;0);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;0;5); 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0;-3;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50920" y="5877000"/>
            <a:ext cx="178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№40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380120" cy="422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6093000"/>
            <a:ext cx="792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(0;1;1);  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0;1);  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;11);  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;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79480" y="53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50920" y="5373720"/>
            <a:ext cx="201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71640" y="-243000"/>
            <a:ext cx="676908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 урока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87280" y="1814400"/>
            <a:ext cx="85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 уроке познакомились с прямоугольной системой координат, научились строить точку по заданным ее координатам и находить координаты точки, изображенной в заданной системе координат. Декартова система координат не единственная. К следующему уроку найти в Интернете другие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87280" y="1125360"/>
            <a:ext cx="741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Работу 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ошкарева Галина Фёд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Учитель высшей квалификационной катег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МОУ – средняя общеобразовательная школа №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Города Искитима, Новосиби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712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Прямоугольная система координат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2791080" y="3429000"/>
            <a:ext cx="3796560" cy="2954880"/>
            <a:chOff x="2791080" y="3429000"/>
            <a:chExt cx="3796560" cy="2954880"/>
          </a:xfrm>
        </p:grpSpPr>
        <p:grpSp>
          <p:nvGrpSpPr>
            <p:cNvPr id="47" name="Group 6"/>
            <p:cNvGrpSpPr/>
            <p:nvPr/>
          </p:nvGrpSpPr>
          <p:grpSpPr>
            <a:xfrm>
              <a:off x="2853000" y="3429000"/>
              <a:ext cx="3734640" cy="2804400"/>
              <a:chOff x="2853000" y="3429000"/>
              <a:chExt cx="3734640" cy="2804400"/>
            </a:xfrm>
          </p:grpSpPr>
          <p:sp>
            <p:nvSpPr>
              <p:cNvPr id="48" name="Line 7"/>
              <p:cNvSpPr/>
              <p:nvPr/>
            </p:nvSpPr>
            <p:spPr>
              <a:xfrm flipV="1">
                <a:off x="4143600" y="3429000"/>
                <a:ext cx="0" cy="23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8"/>
              <p:cNvSpPr/>
              <p:nvPr/>
            </p:nvSpPr>
            <p:spPr>
              <a:xfrm>
                <a:off x="3144600" y="5040360"/>
                <a:ext cx="34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9"/>
              <p:cNvSpPr/>
              <p:nvPr/>
            </p:nvSpPr>
            <p:spPr>
              <a:xfrm flipH="1">
                <a:off x="2853000" y="4446000"/>
                <a:ext cx="1845720" cy="178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Picture 10" descr=""/>
            <p:cNvPicPr/>
            <p:nvPr/>
          </p:nvPicPr>
          <p:blipFill>
            <a:blip r:embed="rId1"/>
            <a:stretch/>
          </p:blipFill>
          <p:spPr>
            <a:xfrm>
              <a:off x="3810960" y="3787200"/>
              <a:ext cx="30348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2"/>
            <a:stretch/>
          </p:blipFill>
          <p:spPr>
            <a:xfrm>
              <a:off x="4588200" y="4772160"/>
              <a:ext cx="1277280" cy="2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3"/>
            <a:stretch/>
          </p:blipFill>
          <p:spPr>
            <a:xfrm rot="18900000">
              <a:off x="2700000" y="5398920"/>
              <a:ext cx="116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4"/>
            <a:stretch/>
          </p:blipFill>
          <p:spPr>
            <a:xfrm>
              <a:off x="4200120" y="5085000"/>
              <a:ext cx="246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5"/>
            <a:stretch/>
          </p:blipFill>
          <p:spPr>
            <a:xfrm>
              <a:off x="2811960" y="6159960"/>
              <a:ext cx="2484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6"/>
            <a:stretch/>
          </p:blipFill>
          <p:spPr>
            <a:xfrm>
              <a:off x="6198480" y="5129280"/>
              <a:ext cx="250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7"/>
            <a:stretch/>
          </p:blipFill>
          <p:spPr>
            <a:xfrm>
              <a:off x="4255560" y="3518640"/>
              <a:ext cx="195480" cy="17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Высь, ширь, глубь. Лишь три координ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Мимо них где путь? Засов закры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С Пифагором слушай сфер сонат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Атомам дли счёт, как Демокр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Monotype Corsiva"/>
              </a:rPr>
              <a:t>                                         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В. Брюсов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p_094"/>
          <p:cNvPicPr/>
          <p:nvPr/>
        </p:nvPicPr>
        <p:blipFill>
          <a:blip r:embed="rId1"/>
          <a:stretch/>
        </p:blipFill>
        <p:spPr>
          <a:xfrm>
            <a:off x="6948360" y="5493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75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Цель урока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вести понятие прямоугольной системы координат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Умения и навыки: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выработать умения строить точку по заданным её координатам и находить координаты точки, изображённой в заданной системе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335112"/>
          <p:cNvPicPr/>
          <p:nvPr/>
        </p:nvPicPr>
        <p:blipFill>
          <a:blip r:embed="rId1"/>
          <a:stretch/>
        </p:blipFill>
        <p:spPr>
          <a:xfrm>
            <a:off x="250920" y="1484280"/>
            <a:ext cx="359568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80000" y="620640"/>
            <a:ext cx="536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дея координат зародилась в науке Вавилон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реции в связи с потребностью географии, астр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и мореплавания. Во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греческий учёный Гиппа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редложил определять положение точки на зем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поверхности с помощью географических координа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широты и долготы, выражаемых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5899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IIV 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. француз Оресм  перенёс эту идею в</a:t>
            </a: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математику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в. французский учёный Рене Декарт перенёс                                                                                          эту идею в математику, предложив покрывать плоскость    прямоугольной сеткой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 Работа М.Эшера отражает идею введения прямоугольной системы координат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d_010"/>
          <p:cNvPicPr/>
          <p:nvPr/>
        </p:nvPicPr>
        <p:blipFill>
          <a:blip r:embed="rId1"/>
          <a:stretch/>
        </p:blipFill>
        <p:spPr>
          <a:xfrm>
            <a:off x="7020000" y="981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28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Если через точку простр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оведены три попарно перпендикулярные прямые, на каждой из 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ыбрано направление и выбрана един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змерения отрезков, то говоря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задана система координат в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853"/>
          <p:cNvPicPr/>
          <p:nvPr/>
        </p:nvPicPr>
        <p:blipFill>
          <a:blip r:embed="rId1"/>
          <a:stretch/>
        </p:blipFill>
        <p:spPr>
          <a:xfrm>
            <a:off x="179280" y="1844640"/>
            <a:ext cx="3181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ые с выбранными на них направлениями называются осями координат, а их общая точка – началом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х – ось абсцис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у – ось 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ось апплик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5477040" y="3645000"/>
            <a:ext cx="2119320" cy="1956600"/>
            <a:chOff x="5477040" y="3645000"/>
            <a:chExt cx="2119320" cy="1956600"/>
          </a:xfrm>
        </p:grpSpPr>
        <p:grpSp>
          <p:nvGrpSpPr>
            <p:cNvPr id="69" name="Group 16"/>
            <p:cNvGrpSpPr/>
            <p:nvPr/>
          </p:nvGrpSpPr>
          <p:grpSpPr>
            <a:xfrm>
              <a:off x="5477040" y="3645000"/>
              <a:ext cx="2119320" cy="1857960"/>
              <a:chOff x="5477040" y="3645000"/>
              <a:chExt cx="2119320" cy="185796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6283800" y="3645000"/>
                <a:ext cx="0" cy="154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8"/>
              <p:cNvSpPr/>
              <p:nvPr/>
            </p:nvSpPr>
            <p:spPr>
              <a:xfrm>
                <a:off x="5747400" y="4712040"/>
                <a:ext cx="184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>
                <a:off x="5477040" y="4316040"/>
                <a:ext cx="1218600" cy="118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0" descr=""/>
            <p:cNvPicPr/>
            <p:nvPr/>
          </p:nvPicPr>
          <p:blipFill>
            <a:blip r:embed="rId1"/>
            <a:stretch/>
          </p:blipFill>
          <p:spPr>
            <a:xfrm>
              <a:off x="6104880" y="3882240"/>
              <a:ext cx="16308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2"/>
            <a:stretch/>
          </p:blipFill>
          <p:spPr>
            <a:xfrm>
              <a:off x="6522480" y="4534200"/>
              <a:ext cx="685800" cy="1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2" descr=""/>
            <p:cNvPicPr/>
            <p:nvPr/>
          </p:nvPicPr>
          <p:blipFill>
            <a:blip r:embed="rId3"/>
            <a:stretch/>
          </p:blipFill>
          <p:spPr>
            <a:xfrm rot="18900000">
              <a:off x="5508720" y="4948920"/>
              <a:ext cx="62316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4"/>
            <a:stretch/>
          </p:blipFill>
          <p:spPr>
            <a:xfrm>
              <a:off x="6314040" y="4741560"/>
              <a:ext cx="1321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5"/>
            <a:stretch/>
          </p:blipFill>
          <p:spPr>
            <a:xfrm>
              <a:off x="5568480" y="5453280"/>
              <a:ext cx="13320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6"/>
            <a:stretch/>
          </p:blipFill>
          <p:spPr>
            <a:xfrm>
              <a:off x="7387200" y="4771080"/>
              <a:ext cx="134640" cy="1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7"/>
            <a:stretch/>
          </p:blipFill>
          <p:spPr>
            <a:xfrm>
              <a:off x="6343920" y="3704400"/>
              <a:ext cx="105120" cy="1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6:16:24Z</dcterms:created>
  <dc:creator>user</dc:creator>
  <dc:description/>
  <dc:language>en-US</dc:language>
  <cp:lastModifiedBy>Owner</cp:lastModifiedBy>
  <dcterms:modified xsi:type="dcterms:W3CDTF">2011-07-09T10:38:45Z</dcterms:modified>
  <cp:revision>28</cp:revision>
  <dc:subject/>
  <dc:title>Прямоугольная система координат в пространстве</dc:title>
</cp:coreProperties>
</file>