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D7395-88D5-4CA7-8F73-70B6568C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558E4-1025-44DA-B455-2FA115F0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E8993-A58F-4D40-B80C-48909BD75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4A606-B42A-419F-9F63-53C771E4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D9324-8FB0-45D8-A2C5-32B8E7DB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F62F-1985-40DE-89FD-3D095CD4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1A49-173A-4E9D-AF60-F2E96C70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2C3B-A03F-4CA9-8233-7AA977EFA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09343-F76C-4A2A-AD58-06E5FF01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C1019-A26B-4004-9713-922C8D1E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F6AA-3C06-4686-B86F-7EA18A37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8EEFD-C177-40CA-9B5B-6A186F33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4648-819A-4FDA-9A2D-F73AD6F3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7AC3-C758-4FC6-883F-17257464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79F0-542D-48EA-875E-9276FFA6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28A78-B86D-4684-B1A2-E13CF199E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23DD-D23D-4787-9AD8-2C11B29C4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66972-082A-4921-9AC9-8DDA1B01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2C97F-B52A-479B-A400-4A4DA9BE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B6BBD-F428-46E0-9203-126D9799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716DF-C323-476D-91F4-4B87763A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3DD88-C966-4F60-A0F1-85B7868C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07A1A-AAF0-4E65-8D1C-8FC56C2D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9BFEE-0648-4607-B76A-41A07577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F528-85C6-452B-BBC3-86019B56F5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6546-96C0-41E5-A9F9-408F68ECF2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7"/>
          <p:cNvSpPr/>
          <p:nvPr/>
        </p:nvSpPr>
        <p:spPr>
          <a:xfrm>
            <a:off x="3124080" y="6027840"/>
            <a:ext cx="2895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6553080" y="6027840"/>
            <a:ext cx="2133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2BA9-B495-4277-9B34-16A6F952257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763640"/>
            <a:ext cx="6019920" cy="21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ffff"/>
                </a:solidFill>
                <a:latin typeface="Arial"/>
              </a:rPr>
              <a:t>Законы и правила математической логик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115880"/>
            <a:ext cx="6019920" cy="16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3399"/>
                </a:solidFill>
                <a:latin typeface="Arial"/>
              </a:rPr>
              <a:t>Упрощение сложных высказывани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Скругленный прямоугольник 6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96EA-7DA4-48DF-91FD-9AB003C1AC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9328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11280" y="836640"/>
          <a:ext cx="8208720" cy="5626080"/>
        </p:xfrm>
        <a:graphic>
          <a:graphicData uri="http://schemas.openxmlformats.org/drawingml/2006/table">
            <a:tbl>
              <a:tblPr/>
              <a:tblGrid>
                <a:gridCol w="939600"/>
                <a:gridCol w="1954440"/>
                <a:gridCol w="2109600"/>
                <a:gridCol w="320508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≡ 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≡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тожд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Ā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А 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непротивореч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=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исключающего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ть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двойного отриц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0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&amp;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∙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1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 ∙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Ā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Морга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&amp;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)=A∙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 v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→B=Ā+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&amp;(A v 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(A+B)=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9999"/>
                      </a:solidFill>
                    </a:lnL>
                    <a:lnR w="5760">
                      <a:solidFill>
                        <a:srgbClr val="009999"/>
                      </a:solidFill>
                    </a:lnR>
                    <a:lnT w="5760">
                      <a:solidFill>
                        <a:srgbClr val="009999"/>
                      </a:solidFill>
                    </a:lnT>
                    <a:lnB w="5760">
                      <a:solidFill>
                        <a:srgbClr val="0099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F712-55FD-4C08-B98A-C4EFF03BF99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826920" y="189000"/>
            <a:ext cx="779328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законы алгебры лог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11280" y="981000"/>
          <a:ext cx="8064360" cy="5184720"/>
        </p:xfrm>
        <a:graphic>
          <a:graphicData uri="http://schemas.openxmlformats.org/drawingml/2006/table">
            <a:tbl>
              <a:tblPr/>
              <a:tblGrid>
                <a:gridCol w="647640"/>
                <a:gridCol w="3349440"/>
                <a:gridCol w="2033640"/>
                <a:gridCol w="20336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A&amp;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∙B =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кон поглощ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&amp;(AvB) = Ā&amp;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Ā∙(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 = Ā∙B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Ā&amp;B = Av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Ā∙B = A+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vB) vC =Av(B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&amp;C = A&amp;(B&amp;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+B)+C=A+(B+C)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∙C = A∙(B∙C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ассоциа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B) v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&amp;C)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(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A∙B) +(A∙C) = A∙(B+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дистрибутивност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vA = AA&amp;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A = AA∙A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идемпотент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v B=B v AA&amp;B=B&amp;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+B=B+AA∙B=B∙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авило коммутатив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≡B = A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amp;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 A&amp;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= (Ā+B) &amp;(A+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2E1B-3BE8-43FA-9C1E-40B76D830C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456840"/>
            <a:ext cx="649296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МОРГАН Огастес 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6699"/>
                </a:solidFill>
                <a:latin typeface="Monotype Corsiva"/>
              </a:rPr>
              <a:t>(Morgan Augustus 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МОРГАН Огастес  де (Morgan Augustus de)"/>
          <p:cNvPicPr/>
          <p:nvPr/>
        </p:nvPicPr>
        <p:blipFill>
          <a:blip r:embed="rId1"/>
          <a:stretch/>
        </p:blipFill>
        <p:spPr>
          <a:xfrm>
            <a:off x="7020000" y="260280"/>
            <a:ext cx="1752480" cy="2087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755640" y="2469240"/>
            <a:ext cx="79218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рган Огастес (Августус) де (27.6.1806-18.3. 1871)-шотландский математик и логик. Секретарь Королевcкого астрономического общества (1847г.), член Лондонского королевского общества. Первый президент Лондонского математического общества. Родился в Мадуре (Индия). Учился в Тринити-колледж (в Кембридже). Профессор математики в университетском колледже в Лондоне. Основные труды по алгебре, математическому анализу и математической логике. В теории рядов описал логарифмическую шкалу для критериев сходимости; занимался теорией расходящихся рядов. Один из основателей формальной алгебры. Продолжая работы Дж. Пикока, Морган в 1841-1847гг. опубликовал ряд работ по основам алгебры. В трактате "Формальная логика или исчисление выводов необходимых и возможных" (1847г.), Морган некоторыми своими положениями опередил Дж. Буля. Позднее Морган успешно изучал логику отношений - область, не охваченную исследованиями предшественников. В книге "Тригонометрия и двойная алгебра" (1849г.) развил мысль У. Гамильтона о распространении идей символической алгебры на исчисление комплексных величин. Благодаря этому комплексные величины были строго обоснованы не только геометрически, но и алгебраически. Написал много исторических работ, в частности книгу "Бюджет парадоксов" (1872г.). Большой вклад внес также в дедуктивную логику вообще и математическую в частности. Лондонское математическое общество учредило медаль им. О. Морган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3252-4DE5-4596-A0D9-FE28A65A59D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1. Упростить выражение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∙ Y V X ∙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спользуемся распределительным законо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99"/>
                </a:solidFill>
                <a:latin typeface="Times New Roman"/>
              </a:rPr>
              <a:t>Х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 </a:t>
            </a:r>
            <a:r>
              <a:rPr b="0" lang="ru-RU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( 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Y V Z ) =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Y V X </a:t>
            </a:r>
            <a:r>
              <a:rPr b="0" lang="en-US" sz="1600" spc="-1" strike="noStrike">
                <a:solidFill>
                  <a:srgbClr val="666699"/>
                </a:solidFill>
                <a:latin typeface="Arial"/>
              </a:rPr>
              <a:t>∙</a:t>
            </a:r>
            <a:r>
              <a:rPr b="0" lang="en-US" sz="2400" spc="-1" strike="noStrike">
                <a:solidFill>
                  <a:srgbClr val="666699"/>
                </a:solidFill>
                <a:latin typeface="Times New Roman"/>
                <a:ea typeface="Times New Roman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ли вынесем общий множитель за скобк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932360" y="4508640"/>
            <a:ext cx="576360" cy="576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939560" y="51577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cce6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6666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53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1979640" y="3860640"/>
            <a:ext cx="360360" cy="0"/>
          </a:xfrm>
          <a:prstGeom prst="line">
            <a:avLst/>
          </a:prstGeom>
          <a:ln w="572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">
            <a:hlinkClick r:id="" action="ppaction://hlinkshowjump?jump=nextslide"/>
          </p:cNvPr>
          <p:cNvSpPr/>
          <p:nvPr/>
        </p:nvSpPr>
        <p:spPr>
          <a:xfrm>
            <a:off x="8388360" y="6021360"/>
            <a:ext cx="431640" cy="50328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3280"/>
              <a:gd name="textAreaBottom" fmla="*/ 475560 h 503280"/>
            </a:gdLst>
            <a:ahLst/>
            <a:rect l="textAreaLeft" t="textAreaTop" r="textAreaRight" b="textAreaBottom"/>
            <a:pathLst>
              <a:path w="21600" h="25182">
                <a:moveTo>
                  <a:pt x="0" y="0"/>
                </a:moveTo>
                <a:lnTo>
                  <a:pt x="21600" y="0"/>
                </a:lnTo>
                <a:lnTo>
                  <a:pt x="21600" y="25182"/>
                </a:lnTo>
                <a:lnTo>
                  <a:pt x="0" y="25182"/>
                </a:lnTo>
                <a:close/>
              </a:path>
              <a:path fill="lightenLess" w="21600" h="2518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2">
                <a:moveTo>
                  <a:pt x="21600" y="0"/>
                </a:moveTo>
                <a:lnTo>
                  <a:pt x="21600" y="25182"/>
                </a:lnTo>
                <a:lnTo>
                  <a:pt x="20200" y="23782"/>
                </a:lnTo>
                <a:lnTo>
                  <a:pt x="20200" y="1400"/>
                </a:lnTo>
                <a:close/>
              </a:path>
              <a:path fill="darkenLess" w="21600" h="25182">
                <a:moveTo>
                  <a:pt x="21600" y="25182"/>
                </a:moveTo>
                <a:lnTo>
                  <a:pt x="0" y="25182"/>
                </a:lnTo>
                <a:lnTo>
                  <a:pt x="1400" y="23782"/>
                </a:lnTo>
                <a:lnTo>
                  <a:pt x="20200" y="23782"/>
                </a:lnTo>
                <a:close/>
              </a:path>
              <a:path fill="lighten" w="21600" h="25182">
                <a:moveTo>
                  <a:pt x="0" y="2518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2"/>
                </a:lnTo>
                <a:close/>
              </a:path>
              <a:path fill="darken" w="21600" h="25182">
                <a:moveTo>
                  <a:pt x="3794" y="5585"/>
                </a:moveTo>
                <a:lnTo>
                  <a:pt x="17806" y="12591"/>
                </a:lnTo>
                <a:lnTo>
                  <a:pt x="3794" y="1959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468360" y="328464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 Y V X ∙ Y =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780000" y="3284640"/>
            <a:ext cx="2881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X ∙(Y V Y 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5986800" y="4869000"/>
            <a:ext cx="21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= Х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∙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1 = 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501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2302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7803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9303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803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1803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4904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6404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200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B15A-2C2B-49BF-ACBB-3441CE8DB35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68360" y="33336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Задание 2. Упростите логическое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                     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=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 v B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→ (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B v C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50920" y="2060640"/>
            <a:ext cx="8713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бавимся от импликации и отрицания. Воспользуемся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Arial"/>
              </a:rPr>
              <a:t>¬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→B)=A&amp; ¬ 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тся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двойного отрицания, получи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) =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) 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правило дистрибу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∙B) +(A∙C) = A∙(B+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Получим: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&amp;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v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)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vB)&amp;Bv(AvB)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закон коммутативности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A&amp;B=B&amp;A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дистрибутивности (16). Получ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vB)&amp;Bv(AvB)&amp;C = A&amp;BvB&amp;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и получим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&amp;BvA&amp;CvB&amp;C= A&amp;BvBvA&amp;CvB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(A&amp;B) v(A&amp;C) = A&amp;(BvC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, т.е. вынесем за скобки 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amp;BvBvA&amp;CvB&amp;C= B&amp; (Av1)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&amp; (Av1) vA&amp;CvB&amp;C= BvA&amp;CvB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тавим местами слагаемые, сгруппируем и вынесем  В за скобки. Получим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vA&amp;CvB&amp;C = B&amp; (1vC)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меним (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v 1</a:t>
            </a:r>
            <a:r>
              <a:rPr b="0" lang="ru-RU" sz="1800" spc="-1" strike="noStrike">
                <a:solidFill>
                  <a:srgbClr val="ff505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) и получим ответ: </a:t>
            </a:r>
            <a:r>
              <a:rPr b="1" lang="en-US" sz="1800" spc="-1" strike="noStrike">
                <a:solidFill>
                  <a:srgbClr val="993300"/>
                </a:solidFill>
                <a:latin typeface="Arial"/>
              </a:rPr>
              <a:t>B&amp;(1vC)vA&amp;C=BvA&amp;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0080-5CD1-4CE4-9AEB-2C54FDE851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539640" y="692280"/>
            <a:ext cx="799308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IV</a:t>
            </a:r>
            <a:r>
              <a:rPr b="1" lang="ru-RU" sz="2800" spc="-1" strike="noStrike">
                <a:solidFill>
                  <a:srgbClr val="00cc66"/>
                </a:solidFill>
                <a:latin typeface="Arial"/>
              </a:rPr>
              <a:t>. Закрепление изуч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¬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 ¬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(A→B) v (B→A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 A&amp;CvĀ&amp;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vAvBv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492360" y="4149720"/>
            <a:ext cx="504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¬ (A&amp;B) v ¬ (BvC)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 (A→B) v (B→A) =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A&amp;CvĀ&amp;C=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AvBvC=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EF62-9D19-4B03-8CB5-AD1055234F8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68360" y="620640"/>
            <a:ext cx="475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стите 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¬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&amp;¬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vZ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987640" y="3860640"/>
            <a:ext cx="504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веты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¬(X&amp;Yv ¬(X&amp;Y))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¬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XvZ) &amp; (Xv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 =X&amp;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v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имкина Л.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755B1-C687-4A07-A31B-618517992A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71640" y="333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66"/>
                </a:solidFill>
                <a:latin typeface="Arial"/>
              </a:rPr>
              <a:t>Домашняя раб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826920" y="8366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остите логические выраж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amp; (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AvB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A) &amp;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v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 = (1V (AvB)) V ((AvC) &amp;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"/>
          <p:cNvGrpSpPr/>
          <p:nvPr/>
        </p:nvGrpSpPr>
        <p:grpSpPr>
          <a:xfrm>
            <a:off x="611280" y="3500280"/>
            <a:ext cx="3543120" cy="2554560"/>
            <a:chOff x="611280" y="3500280"/>
            <a:chExt cx="3543120" cy="2554560"/>
          </a:xfrm>
        </p:grpSpPr>
        <p:sp>
          <p:nvSpPr>
            <p:cNvPr id="153" name="AutoShape 7"/>
            <p:cNvSpPr/>
            <p:nvPr/>
          </p:nvSpPr>
          <p:spPr>
            <a:xfrm>
              <a:off x="611280" y="3500280"/>
              <a:ext cx="3543120" cy="25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8"/>
            <p:cNvSpPr/>
            <p:nvPr/>
          </p:nvSpPr>
          <p:spPr>
            <a:xfrm>
              <a:off x="1089360" y="381024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9"/>
            <p:cNvSpPr/>
            <p:nvPr/>
          </p:nvSpPr>
          <p:spPr>
            <a:xfrm>
              <a:off x="1854000" y="3504600"/>
              <a:ext cx="38268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0"/>
            <p:cNvSpPr/>
            <p:nvPr/>
          </p:nvSpPr>
          <p:spPr>
            <a:xfrm>
              <a:off x="1854000" y="431964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1"/>
            <p:cNvSpPr/>
            <p:nvPr/>
          </p:nvSpPr>
          <p:spPr>
            <a:xfrm>
              <a:off x="2715120" y="3911760"/>
              <a:ext cx="38232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"/>
            <p:cNvSpPr/>
            <p:nvPr/>
          </p:nvSpPr>
          <p:spPr>
            <a:xfrm>
              <a:off x="1184760" y="4930560"/>
              <a:ext cx="3826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3"/>
            <p:cNvSpPr/>
            <p:nvPr/>
          </p:nvSpPr>
          <p:spPr>
            <a:xfrm>
              <a:off x="1184760" y="5643360"/>
              <a:ext cx="382680" cy="40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4"/>
            <p:cNvSpPr/>
            <p:nvPr/>
          </p:nvSpPr>
          <p:spPr>
            <a:xfrm>
              <a:off x="1950120" y="5236200"/>
              <a:ext cx="381960" cy="509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5"/>
            <p:cNvSpPr/>
            <p:nvPr/>
          </p:nvSpPr>
          <p:spPr>
            <a:xfrm>
              <a:off x="3575880" y="4625280"/>
              <a:ext cx="381960" cy="40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6"/>
            <p:cNvSpPr/>
            <p:nvPr/>
          </p:nvSpPr>
          <p:spPr>
            <a:xfrm>
              <a:off x="802800" y="3606120"/>
              <a:ext cx="1051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7"/>
            <p:cNvSpPr/>
            <p:nvPr/>
          </p:nvSpPr>
          <p:spPr>
            <a:xfrm>
              <a:off x="802800" y="3911760"/>
              <a:ext cx="286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8"/>
            <p:cNvSpPr/>
            <p:nvPr/>
          </p:nvSpPr>
          <p:spPr>
            <a:xfrm>
              <a:off x="898200" y="3606120"/>
              <a:ext cx="0" cy="15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9"/>
            <p:cNvSpPr/>
            <p:nvPr/>
          </p:nvSpPr>
          <p:spPr>
            <a:xfrm>
              <a:off x="898200" y="5133960"/>
              <a:ext cx="2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0"/>
            <p:cNvSpPr/>
            <p:nvPr/>
          </p:nvSpPr>
          <p:spPr>
            <a:xfrm>
              <a:off x="993960" y="3911760"/>
              <a:ext cx="360" cy="193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1"/>
            <p:cNvSpPr/>
            <p:nvPr/>
          </p:nvSpPr>
          <p:spPr>
            <a:xfrm>
              <a:off x="993960" y="58474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2"/>
            <p:cNvSpPr/>
            <p:nvPr/>
          </p:nvSpPr>
          <p:spPr>
            <a:xfrm>
              <a:off x="802800" y="4421160"/>
              <a:ext cx="1050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3"/>
            <p:cNvSpPr/>
            <p:nvPr/>
          </p:nvSpPr>
          <p:spPr>
            <a:xfrm>
              <a:off x="993960" y="4522680"/>
              <a:ext cx="86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"/>
            <p:cNvSpPr/>
            <p:nvPr/>
          </p:nvSpPr>
          <p:spPr>
            <a:xfrm>
              <a:off x="1472040" y="3810240"/>
              <a:ext cx="3819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5"/>
            <p:cNvSpPr/>
            <p:nvPr/>
          </p:nvSpPr>
          <p:spPr>
            <a:xfrm>
              <a:off x="1567440" y="533772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26"/>
            <p:cNvSpPr/>
            <p:nvPr/>
          </p:nvSpPr>
          <p:spPr>
            <a:xfrm>
              <a:off x="1567440" y="5643360"/>
              <a:ext cx="3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>
              <a:off x="2332080" y="5439240"/>
              <a:ext cx="95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8"/>
            <p:cNvSpPr/>
            <p:nvPr/>
          </p:nvSpPr>
          <p:spPr>
            <a:xfrm>
              <a:off x="2236680" y="381024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9"/>
            <p:cNvSpPr/>
            <p:nvPr/>
          </p:nvSpPr>
          <p:spPr>
            <a:xfrm>
              <a:off x="2523960" y="3810240"/>
              <a:ext cx="0" cy="20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30"/>
            <p:cNvSpPr/>
            <p:nvPr/>
          </p:nvSpPr>
          <p:spPr>
            <a:xfrm>
              <a:off x="2523960" y="40132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31"/>
            <p:cNvSpPr/>
            <p:nvPr/>
          </p:nvSpPr>
          <p:spPr>
            <a:xfrm>
              <a:off x="2236680" y="4522680"/>
              <a:ext cx="286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32"/>
            <p:cNvSpPr/>
            <p:nvPr/>
          </p:nvSpPr>
          <p:spPr>
            <a:xfrm flipV="1">
              <a:off x="2523960" y="4217040"/>
              <a:ext cx="0" cy="30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3"/>
            <p:cNvSpPr/>
            <p:nvPr/>
          </p:nvSpPr>
          <p:spPr>
            <a:xfrm>
              <a:off x="2523960" y="421704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4"/>
            <p:cNvSpPr/>
            <p:nvPr/>
          </p:nvSpPr>
          <p:spPr>
            <a:xfrm flipV="1">
              <a:off x="3288600" y="4930200"/>
              <a:ext cx="0" cy="50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5"/>
            <p:cNvSpPr/>
            <p:nvPr/>
          </p:nvSpPr>
          <p:spPr>
            <a:xfrm>
              <a:off x="3288600" y="493056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6"/>
            <p:cNvSpPr/>
            <p:nvPr/>
          </p:nvSpPr>
          <p:spPr>
            <a:xfrm>
              <a:off x="3097800" y="411552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37"/>
            <p:cNvSpPr/>
            <p:nvPr/>
          </p:nvSpPr>
          <p:spPr>
            <a:xfrm>
              <a:off x="3288600" y="4115520"/>
              <a:ext cx="0" cy="61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38"/>
            <p:cNvSpPr/>
            <p:nvPr/>
          </p:nvSpPr>
          <p:spPr>
            <a:xfrm>
              <a:off x="3288600" y="472680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9"/>
            <p:cNvSpPr/>
            <p:nvPr/>
          </p:nvSpPr>
          <p:spPr>
            <a:xfrm>
              <a:off x="1184760" y="3911760"/>
              <a:ext cx="19152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0"/>
            <p:cNvSpPr/>
            <p:nvPr/>
          </p:nvSpPr>
          <p:spPr>
            <a:xfrm>
              <a:off x="1950120" y="3606120"/>
              <a:ext cx="19224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41"/>
            <p:cNvSpPr/>
            <p:nvPr/>
          </p:nvSpPr>
          <p:spPr>
            <a:xfrm>
              <a:off x="1950120" y="442116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42"/>
            <p:cNvSpPr/>
            <p:nvPr/>
          </p:nvSpPr>
          <p:spPr>
            <a:xfrm>
              <a:off x="2045880" y="5439240"/>
              <a:ext cx="19296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43"/>
            <p:cNvSpPr/>
            <p:nvPr/>
          </p:nvSpPr>
          <p:spPr>
            <a:xfrm>
              <a:off x="1280520" y="5032080"/>
              <a:ext cx="19296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44"/>
            <p:cNvSpPr/>
            <p:nvPr/>
          </p:nvSpPr>
          <p:spPr>
            <a:xfrm>
              <a:off x="1280520" y="5745600"/>
              <a:ext cx="19296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 Box 45"/>
            <p:cNvSpPr/>
            <p:nvPr/>
          </p:nvSpPr>
          <p:spPr>
            <a:xfrm>
              <a:off x="2810520" y="4013280"/>
              <a:ext cx="192600" cy="203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46"/>
            <p:cNvSpPr/>
            <p:nvPr/>
          </p:nvSpPr>
          <p:spPr>
            <a:xfrm>
              <a:off x="3671280" y="4726800"/>
              <a:ext cx="192960" cy="27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47"/>
            <p:cNvSpPr/>
            <p:nvPr/>
          </p:nvSpPr>
          <p:spPr>
            <a:xfrm>
              <a:off x="611280" y="350460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48"/>
            <p:cNvSpPr/>
            <p:nvPr/>
          </p:nvSpPr>
          <p:spPr>
            <a:xfrm>
              <a:off x="611280" y="38102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49"/>
            <p:cNvSpPr/>
            <p:nvPr/>
          </p:nvSpPr>
          <p:spPr>
            <a:xfrm>
              <a:off x="611280" y="4319640"/>
              <a:ext cx="19368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160" rIns="6516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50"/>
            <p:cNvSpPr/>
            <p:nvPr/>
          </p:nvSpPr>
          <p:spPr>
            <a:xfrm>
              <a:off x="3957840" y="4828320"/>
              <a:ext cx="1915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51"/>
          <p:cNvSpPr/>
          <p:nvPr/>
        </p:nvSpPr>
        <p:spPr>
          <a:xfrm>
            <a:off x="611280" y="2708280"/>
            <a:ext cx="75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</a:rPr>
              <a:t>II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а следующая логическая схема. Упростите ее, используя минимальное количество вент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2"/>
          <p:cNvSpPr/>
          <p:nvPr/>
        </p:nvSpPr>
        <p:spPr>
          <a:xfrm>
            <a:off x="4859280" y="3860640"/>
            <a:ext cx="410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3300"/>
                </a:solidFill>
                <a:latin typeface="Arial"/>
              </a:rPr>
              <a:t>III</a:t>
            </a:r>
            <a:r>
              <a:rPr b="0" i="1" lang="en-US" sz="18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 составить распис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составлении расписания учителя высказали следующие пожелания: учитель физики хочет иметь первый и второй урок; учитель химии - первый или третий; учитель информатики — второй или третий. Предложите возможные варианты распис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3T17:50:47Z</dcterms:created>
  <dc:creator>Лида</dc:creator>
  <dc:description/>
  <dc:language>en-US</dc:language>
  <cp:lastModifiedBy>Owner</cp:lastModifiedBy>
  <dcterms:modified xsi:type="dcterms:W3CDTF">2011-03-28T22:03:27Z</dcterms:modified>
  <cp:revision>9</cp:revision>
  <dc:subject/>
  <dc:title>Законы и правила математической логики</dc:title>
</cp:coreProperties>
</file>