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B5848-7D2E-4FC8-AD00-C1A001B23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4A266-9B85-4B72-85B3-599E77425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28B3C-7594-42A0-B35B-CF41815D1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84926-4F70-4CFC-AE4F-B12CEC7CA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CFD15-F1F0-49E7-A2A9-0D3E9CC15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9DFA8-DCB0-4017-AFD9-5D2965E84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DDEFF-E58D-428D-991B-295504E82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0CB35-9857-4EDC-9499-4CE8A6D28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C08DB-B358-429D-B064-C2A60AAAC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F7A72-DCEA-4B3B-B396-0317CA231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1FB67-4F44-47DE-8855-53B10C767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940CA-3ED3-49CD-B5CB-A4EDEAB5B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7DD32-DB09-4870-9AE4-187E10D0A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96407-F466-4792-9BF1-73A874C02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63C4E-7F8F-4F70-B371-86324735C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27E88-CA40-41FE-8A42-3426AD8A1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AC51C-A39E-4829-8021-367554906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3ADB3-72C7-46C4-8604-758D33B12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D0256-BB12-42B5-8C71-0D9AB3DE9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CD95C-CD5E-496C-A50D-8680C3030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71A9C-F66C-4964-9609-C7C422A07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783AC-D5CD-4BD6-A55C-C899F6C3C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633AD-6242-429C-ADFD-66E7934EE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D9B3D-8312-4F33-A834-15D7F5E9C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99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тимкина Л.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9E731-1321-4BD7-8BDA-E1044CA7545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99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тимкина Л.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EAA5E-79FE-47B2-A642-E4A4B1E8A69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7"/>
          <p:cNvSpPr/>
          <p:nvPr/>
        </p:nvSpPr>
        <p:spPr>
          <a:xfrm>
            <a:off x="3124080" y="6027840"/>
            <a:ext cx="28958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имкина Л.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8"/>
          <p:cNvSpPr/>
          <p:nvPr/>
        </p:nvSpPr>
        <p:spPr>
          <a:xfrm>
            <a:off x="6553080" y="6027840"/>
            <a:ext cx="213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5962C-456C-4F4E-96D7-7A52353E508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763640"/>
            <a:ext cx="6019920" cy="213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Законы и правила математической логики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115880"/>
            <a:ext cx="6019920" cy="16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3399"/>
                </a:solidFill>
                <a:latin typeface="Arial"/>
              </a:rPr>
              <a:t>Упрощение сложных высказываний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Скругленный прямоугольник 6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имкина Л.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F3B7C-5DAF-4EF2-8613-7063E9AD4D1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ные законы алгебры лог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11280" y="836640"/>
          <a:ext cx="8208720" cy="5626080"/>
        </p:xfrm>
        <a:graphic>
          <a:graphicData uri="http://schemas.openxmlformats.org/drawingml/2006/table">
            <a:tbl>
              <a:tblPr/>
              <a:tblGrid>
                <a:gridCol w="939600"/>
                <a:gridCol w="1954440"/>
                <a:gridCol w="2109600"/>
                <a:gridCol w="320508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≡ 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А≡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он тожде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&amp;Ā=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А ∙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Ā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он непротивореч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 Ā=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+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Ā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он исключающего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еть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Ā=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он двойного отриц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&amp;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v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∙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0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&amp;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 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∙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 A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 A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 ∙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A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 Ā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Ā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он Морга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_____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→B)=A&amp;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____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→B)=A∙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→B=Ā v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→B=Ā+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&amp;(A v B)=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∙(A+B)=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он поглощ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имкина Л.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B297A-1D2E-4161-A5CD-DAA2FBD1306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826920" y="189000"/>
            <a:ext cx="779328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ные законы алгебры лог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11280" y="981000"/>
          <a:ext cx="8064360" cy="5184720"/>
        </p:xfrm>
        <a:graphic>
          <a:graphicData uri="http://schemas.openxmlformats.org/drawingml/2006/table">
            <a:tbl>
              <a:tblPr/>
              <a:tblGrid>
                <a:gridCol w="647640"/>
                <a:gridCol w="3349440"/>
                <a:gridCol w="2033640"/>
                <a:gridCol w="203364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 v A&amp;B =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∙B =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он поглощ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Ā&amp;(AvB) = Ā&amp;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Ā∙(A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) = Ā∙B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vĀ&amp;B = Av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+Ā∙B = A+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vB) vC =Av(BvC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&amp;B)&amp;C = A&amp;(B&amp;C)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+B)+C=A+(B+C)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∙B)∙C = A∙(B∙C)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авило ассоциативности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&amp;B) v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&amp;C) = A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(B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C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∙B) +(A∙C) = A∙(B+C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авило дистрибутивности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vA = AA&amp;A = A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+A = AA∙A = A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авило идемпотент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 v B=B v AA&amp;B=B&amp;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+B=B+AA∙B=B∙A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авило коммутатив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__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≡B = A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 A&amp;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(Ā+B) &amp;(A+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имкина Л.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940D4-6C6A-4E93-A5F8-68E316E17CB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456840"/>
            <a:ext cx="6492960" cy="10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99"/>
                </a:solidFill>
                <a:latin typeface="Monotype Corsiva"/>
              </a:rPr>
              <a:t>МОРГАН Огастес д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99"/>
                </a:solidFill>
                <a:latin typeface="Monotype Corsiva"/>
              </a:rPr>
              <a:t>(Morgan Augustus d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3" descr="МОРГАН Огастес  де (Morgan Augustus de)"/>
          <p:cNvPicPr/>
          <p:nvPr/>
        </p:nvPicPr>
        <p:blipFill>
          <a:blip r:embed="rId1"/>
          <a:stretch/>
        </p:blipFill>
        <p:spPr>
          <a:xfrm>
            <a:off x="7020000" y="260280"/>
            <a:ext cx="1752480" cy="208764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4"/>
          <p:cNvSpPr/>
          <p:nvPr/>
        </p:nvSpPr>
        <p:spPr>
          <a:xfrm>
            <a:off x="755640" y="2469240"/>
            <a:ext cx="79218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орган Огастес (Августус) де (27.6.1806-18.3. 1871)-шотландский математик и логик. Секретарь Королевcкого астрономического общества (1847г.), член Лондонского королевского общества. Первый президент Лондонского математического общества. Родился в Мадуре (Индия). Учился в Тринити-колледж (в Кембридже). Профессор математики в университетском колледже в Лондоне. Основные труды по алгебре, математическому анализу и математической логике. В теории рядов описал логарифмическую шкалу для критериев сходимости; занимался теорией расходящихся рядов. Один из основателей формальной алгебры. Продолжая работы Дж. Пикока, Морган в 1841-1847гг. опубликовал ряд работ по основам алгебры. В трактате "Формальная логика или исчисление выводов необходимых и возможных" (1847г.), Морган некоторыми своими положениями опередил Дж. Буля. Позднее Морган успешно изучал логику отношений - область, не охваченную исследованиями предшественников. В книге "Тригонометрия и двойная алгебра" (1849г.) развил мысль У. Гамильтона о распространении идей символической алгебры на исчисление комплексных величин. Благодаря этому комплексные величины были строго обоснованы не только геометрически, но и алгебраически. Написал много исторических работ, в частности книгу "Бюджет парадоксов" (1872г.). Большой вклад внес также в дедуктивную логику вообще и математическую в частности. Лондонское математическое общество учредило медаль им. О. Морган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имкина Л.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71D99-8AF3-4B1E-8F28-E8E9FA64774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ние 1. Упростить выражение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∙ Y V X ∙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спользуемся распределительным законом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99"/>
                </a:solidFill>
                <a:latin typeface="Times New Roman"/>
              </a:rPr>
              <a:t>Х </a:t>
            </a:r>
            <a:r>
              <a:rPr b="0" lang="en-US" sz="1600" spc="-1" strike="noStrike">
                <a:solidFill>
                  <a:srgbClr val="666699"/>
                </a:solidFill>
                <a:latin typeface="Arial"/>
              </a:rPr>
              <a:t>∙ </a:t>
            </a:r>
            <a:r>
              <a:rPr b="0" lang="ru-RU" sz="24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( </a:t>
            </a:r>
            <a:r>
              <a:rPr b="0" lang="en-US" sz="24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Y V Z ) = X </a:t>
            </a:r>
            <a:r>
              <a:rPr b="0" lang="en-US" sz="1600" spc="-1" strike="noStrike">
                <a:solidFill>
                  <a:srgbClr val="666699"/>
                </a:solidFill>
                <a:latin typeface="Arial"/>
              </a:rPr>
              <a:t>∙</a:t>
            </a:r>
            <a:r>
              <a:rPr b="0" lang="en-US" sz="24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 Y V X </a:t>
            </a:r>
            <a:r>
              <a:rPr b="0" lang="en-US" sz="1600" spc="-1" strike="noStrike">
                <a:solidFill>
                  <a:srgbClr val="666699"/>
                </a:solidFill>
                <a:latin typeface="Arial"/>
              </a:rPr>
              <a:t>∙</a:t>
            </a:r>
            <a:r>
              <a:rPr b="0" lang="en-US" sz="24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 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или вынесем общий множитель за скобк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4932360" y="4508640"/>
            <a:ext cx="576360" cy="576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4939560" y="5157720"/>
            <a:ext cx="5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cce6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666699"/>
                </a:solidFill>
                <a:latin typeface="Tahoma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6"/>
          <p:cNvSpPr/>
          <p:nvPr/>
        </p:nvSpPr>
        <p:spPr>
          <a:xfrm>
            <a:off x="539640" y="3860640"/>
            <a:ext cx="360360" cy="0"/>
          </a:xfrm>
          <a:prstGeom prst="line">
            <a:avLst/>
          </a:prstGeom>
          <a:ln w="572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7"/>
          <p:cNvSpPr/>
          <p:nvPr/>
        </p:nvSpPr>
        <p:spPr>
          <a:xfrm>
            <a:off x="1979640" y="3860640"/>
            <a:ext cx="360360" cy="0"/>
          </a:xfrm>
          <a:prstGeom prst="line">
            <a:avLst/>
          </a:prstGeom>
          <a:ln w="572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8">
            <a:hlinkClick r:id="" action="ppaction://hlinkshowjump?jump=nextslide"/>
          </p:cNvPr>
          <p:cNvSpPr/>
          <p:nvPr/>
        </p:nvSpPr>
        <p:spPr>
          <a:xfrm>
            <a:off x="8388360" y="6021360"/>
            <a:ext cx="431640" cy="503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3280"/>
              <a:gd name="textAreaBottom" fmla="*/ 475560 h 503280"/>
            </a:gdLst>
            <a:ahLst/>
            <a:rect l="textAreaLeft" t="textAreaTop" r="textAreaRight" b="textAreaBottom"/>
            <a:pathLst>
              <a:path w="21600" h="25182">
                <a:moveTo>
                  <a:pt x="0" y="0"/>
                </a:moveTo>
                <a:lnTo>
                  <a:pt x="21600" y="0"/>
                </a:lnTo>
                <a:lnTo>
                  <a:pt x="21600" y="25182"/>
                </a:lnTo>
                <a:lnTo>
                  <a:pt x="0" y="25182"/>
                </a:lnTo>
                <a:close/>
              </a:path>
              <a:path fill="lightenLess" w="21600" h="2518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2">
                <a:moveTo>
                  <a:pt x="21600" y="0"/>
                </a:moveTo>
                <a:lnTo>
                  <a:pt x="21600" y="25182"/>
                </a:lnTo>
                <a:lnTo>
                  <a:pt x="20200" y="23782"/>
                </a:lnTo>
                <a:lnTo>
                  <a:pt x="20200" y="1400"/>
                </a:lnTo>
                <a:close/>
              </a:path>
              <a:path fill="darkenLess" w="21600" h="25182">
                <a:moveTo>
                  <a:pt x="21600" y="25182"/>
                </a:moveTo>
                <a:lnTo>
                  <a:pt x="0" y="25182"/>
                </a:lnTo>
                <a:lnTo>
                  <a:pt x="1400" y="23782"/>
                </a:lnTo>
                <a:lnTo>
                  <a:pt x="20200" y="23782"/>
                </a:lnTo>
                <a:close/>
              </a:path>
              <a:path fill="lighten" w="21600" h="25182">
                <a:moveTo>
                  <a:pt x="0" y="2518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2"/>
                </a:lnTo>
                <a:close/>
              </a:path>
              <a:path fill="darken" w="21600" h="25182">
                <a:moveTo>
                  <a:pt x="3794" y="5585"/>
                </a:moveTo>
                <a:lnTo>
                  <a:pt x="17806" y="12591"/>
                </a:lnTo>
                <a:lnTo>
                  <a:pt x="3794" y="1959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468360" y="3284640"/>
            <a:ext cx="324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 ∙ Y V X ∙ Y =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3780000" y="3284640"/>
            <a:ext cx="288108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 ∙(Y V Y )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1"/>
          <p:cNvSpPr/>
          <p:nvPr/>
        </p:nvSpPr>
        <p:spPr>
          <a:xfrm>
            <a:off x="5986800" y="4869000"/>
            <a:ext cx="213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= Х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∙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1 = 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500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7501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2302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7803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9303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803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1803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1500"/>
                                  </p:stCondLst>
                                  <p:iterate type="lt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4904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6404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2000"/>
                                  </p:stCondLst>
                                  <p:iterate type="lt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имкина Л.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AA47B-B27A-40AE-9F8C-8FE33D87BD3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468360" y="333360"/>
            <a:ext cx="820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Задание 2. Упростите логическое выра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                      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F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= (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A v B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)→ (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B v C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250920" y="2060640"/>
            <a:ext cx="8713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бавимся от импликации и отрицания. Воспользуемся (</a:t>
            </a:r>
            <a:r>
              <a:rPr b="0" lang="en-US" sz="1800" spc="-1" strike="noStrike">
                <a:solidFill>
                  <a:srgbClr val="ff5050"/>
                </a:solidFill>
                <a:latin typeface="Arial"/>
                <a:ea typeface="Arial"/>
              </a:rPr>
              <a:t>¬</a:t>
            </a:r>
            <a:r>
              <a:rPr b="0" lang="ru-RU" sz="1800" spc="-1" strike="noStrike">
                <a:solidFill>
                  <a:srgbClr val="ff505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A→B)=A&amp; ¬ 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. Получится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¬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→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¬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v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)=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&amp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¬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¬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v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им закон двойного отрицания, получим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) &amp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¬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¬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)) =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) &amp;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им правило дистрибутивности (</a:t>
            </a: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(A∙B) +(A∙C) = A∙(B+C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. Получим: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&amp;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)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vB)&amp;Bv(AvB)&amp;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им закон коммутативности (</a:t>
            </a: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A&amp;B=B&amp;A</a:t>
            </a:r>
            <a:r>
              <a:rPr b="0" lang="ru-RU" sz="18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и дистрибутивности (16). Получ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vB)&amp;Bv(AvB)&amp;C = A&amp;BvB&amp;BvA&amp;CvB&amp;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им (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 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и получим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&amp;BvB&amp;BvA&amp;CvB&amp;C= A&amp;BvBvA&amp;CvB&amp;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им (</a:t>
            </a: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(A&amp;B) v(A&amp;C) = A&amp;(BvC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), т.е. вынесем за скобки В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учим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&amp;BvBvA&amp;CvB&amp;C= B&amp; (Av1)vA&amp;CvB&amp;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им (</a:t>
            </a:r>
            <a:r>
              <a:rPr b="0" lang="ru-RU" sz="1800" spc="-1" strike="noStrike">
                <a:solidFill>
                  <a:srgbClr val="ff5050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v 1</a:t>
            </a:r>
            <a:r>
              <a:rPr b="0" lang="ru-RU" sz="1800" spc="-1" strike="noStrike">
                <a:solidFill>
                  <a:srgbClr val="ff505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). Получим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&amp; (Av1) vA&amp;CvB&amp;C= BvA&amp;CvB&amp;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ставим местами слагаемые, сгруппируем и вынесем  В за скобки. Получим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vA&amp;CvB&amp;C = B&amp; (1vC)vA&amp;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им (</a:t>
            </a:r>
            <a:r>
              <a:rPr b="0" lang="ru-RU" sz="1800" spc="-1" strike="noStrike">
                <a:solidFill>
                  <a:srgbClr val="ff5050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v 1</a:t>
            </a:r>
            <a:r>
              <a:rPr b="0" lang="ru-RU" sz="1800" spc="-1" strike="noStrike">
                <a:solidFill>
                  <a:srgbClr val="ff505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) и получим ответ: 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B&amp;(1vC)vA&amp;C=BvA&amp;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имкина Л.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5C162-D57A-4062-8C84-B86A76F0FB3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539640" y="692280"/>
            <a:ext cx="7993080" cy="33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66"/>
                </a:solidFill>
                <a:latin typeface="Arial"/>
              </a:rPr>
              <a:t>IV</a:t>
            </a:r>
            <a:r>
              <a:rPr b="1" lang="ru-RU" sz="2800" spc="-1" strike="noStrike">
                <a:solidFill>
                  <a:srgbClr val="00cc66"/>
                </a:solidFill>
                <a:latin typeface="Arial"/>
              </a:rPr>
              <a:t>. Закрепление изучен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простите выраж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 ¬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 ¬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v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 = (A→B) v (B→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 = A&amp;CvĀ&amp;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 =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v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vAvBvC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3492360" y="4149720"/>
            <a:ext cx="504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тветы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 ¬ (A&amp;B) v ¬ (BvC) 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= (A→B) v (B→A) =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 A&amp;CvĀ&amp;C=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v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vAvBvC=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имкина Л.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BDEC2-8D88-4C33-B9D9-7F61223517C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468360" y="620640"/>
            <a:ext cx="4751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остите выраж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¬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v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¬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&amp;¬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v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 (XvZ) &amp; (Xv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) &amp;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vZ)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2987640" y="3860640"/>
            <a:ext cx="5040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тветы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= ¬(X&amp;Yv ¬(X&amp;Y)) = 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amp;¬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v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= (XvZ) &amp; (Xv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) &amp;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vZ) =X&amp;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vZ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имкина Л.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DFC66-DA8B-4341-A52D-25DC5431FD4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971640" y="33336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66"/>
                </a:solidFill>
                <a:latin typeface="Arial"/>
              </a:rPr>
              <a:t>Домашняя раб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826920" y="836640"/>
            <a:ext cx="7632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I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простите логические выраже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amp; (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= (AvB) &amp;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vA) &amp;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vB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= (1V (AvB)) V ((AvC) &amp;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6"/>
          <p:cNvGrpSpPr/>
          <p:nvPr/>
        </p:nvGrpSpPr>
        <p:grpSpPr>
          <a:xfrm>
            <a:off x="611280" y="3500280"/>
            <a:ext cx="3543120" cy="2554560"/>
            <a:chOff x="611280" y="3500280"/>
            <a:chExt cx="3543120" cy="2554560"/>
          </a:xfrm>
        </p:grpSpPr>
        <p:sp>
          <p:nvSpPr>
            <p:cNvPr id="153" name="AutoShape 7"/>
            <p:cNvSpPr/>
            <p:nvPr/>
          </p:nvSpPr>
          <p:spPr>
            <a:xfrm>
              <a:off x="611280" y="3500280"/>
              <a:ext cx="3543120" cy="25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8"/>
            <p:cNvSpPr/>
            <p:nvPr/>
          </p:nvSpPr>
          <p:spPr>
            <a:xfrm>
              <a:off x="1089360" y="3810240"/>
              <a:ext cx="382320" cy="406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9"/>
            <p:cNvSpPr/>
            <p:nvPr/>
          </p:nvSpPr>
          <p:spPr>
            <a:xfrm>
              <a:off x="1854000" y="3504600"/>
              <a:ext cx="382680" cy="40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10"/>
            <p:cNvSpPr/>
            <p:nvPr/>
          </p:nvSpPr>
          <p:spPr>
            <a:xfrm>
              <a:off x="1854000" y="4319640"/>
              <a:ext cx="382680" cy="40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11"/>
            <p:cNvSpPr/>
            <p:nvPr/>
          </p:nvSpPr>
          <p:spPr>
            <a:xfrm>
              <a:off x="2715120" y="3911760"/>
              <a:ext cx="382320" cy="406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2"/>
            <p:cNvSpPr/>
            <p:nvPr/>
          </p:nvSpPr>
          <p:spPr>
            <a:xfrm>
              <a:off x="1184760" y="4930560"/>
              <a:ext cx="382680" cy="40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3"/>
            <p:cNvSpPr/>
            <p:nvPr/>
          </p:nvSpPr>
          <p:spPr>
            <a:xfrm>
              <a:off x="1184760" y="5643360"/>
              <a:ext cx="382680" cy="40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4"/>
            <p:cNvSpPr/>
            <p:nvPr/>
          </p:nvSpPr>
          <p:spPr>
            <a:xfrm>
              <a:off x="1950120" y="5236200"/>
              <a:ext cx="381960" cy="509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5"/>
            <p:cNvSpPr/>
            <p:nvPr/>
          </p:nvSpPr>
          <p:spPr>
            <a:xfrm>
              <a:off x="3575880" y="4625280"/>
              <a:ext cx="381960" cy="40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16"/>
            <p:cNvSpPr/>
            <p:nvPr/>
          </p:nvSpPr>
          <p:spPr>
            <a:xfrm>
              <a:off x="802800" y="3606120"/>
              <a:ext cx="10512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17"/>
            <p:cNvSpPr/>
            <p:nvPr/>
          </p:nvSpPr>
          <p:spPr>
            <a:xfrm>
              <a:off x="802800" y="3911760"/>
              <a:ext cx="28656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18"/>
            <p:cNvSpPr/>
            <p:nvPr/>
          </p:nvSpPr>
          <p:spPr>
            <a:xfrm>
              <a:off x="898200" y="3606120"/>
              <a:ext cx="0" cy="152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19"/>
            <p:cNvSpPr/>
            <p:nvPr/>
          </p:nvSpPr>
          <p:spPr>
            <a:xfrm>
              <a:off x="898200" y="5133960"/>
              <a:ext cx="28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0"/>
            <p:cNvSpPr/>
            <p:nvPr/>
          </p:nvSpPr>
          <p:spPr>
            <a:xfrm>
              <a:off x="993960" y="3911760"/>
              <a:ext cx="360" cy="193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1"/>
            <p:cNvSpPr/>
            <p:nvPr/>
          </p:nvSpPr>
          <p:spPr>
            <a:xfrm>
              <a:off x="993960" y="5847480"/>
              <a:ext cx="19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2"/>
            <p:cNvSpPr/>
            <p:nvPr/>
          </p:nvSpPr>
          <p:spPr>
            <a:xfrm>
              <a:off x="802800" y="4421160"/>
              <a:ext cx="105048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3"/>
            <p:cNvSpPr/>
            <p:nvPr/>
          </p:nvSpPr>
          <p:spPr>
            <a:xfrm>
              <a:off x="993960" y="4522680"/>
              <a:ext cx="860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4"/>
            <p:cNvSpPr/>
            <p:nvPr/>
          </p:nvSpPr>
          <p:spPr>
            <a:xfrm>
              <a:off x="1472040" y="3810240"/>
              <a:ext cx="38196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5"/>
            <p:cNvSpPr/>
            <p:nvPr/>
          </p:nvSpPr>
          <p:spPr>
            <a:xfrm>
              <a:off x="1567440" y="5337720"/>
              <a:ext cx="38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26"/>
            <p:cNvSpPr/>
            <p:nvPr/>
          </p:nvSpPr>
          <p:spPr>
            <a:xfrm>
              <a:off x="1567440" y="5643360"/>
              <a:ext cx="38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27"/>
            <p:cNvSpPr/>
            <p:nvPr/>
          </p:nvSpPr>
          <p:spPr>
            <a:xfrm>
              <a:off x="2332080" y="5439240"/>
              <a:ext cx="95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28"/>
            <p:cNvSpPr/>
            <p:nvPr/>
          </p:nvSpPr>
          <p:spPr>
            <a:xfrm>
              <a:off x="2236680" y="3810240"/>
              <a:ext cx="28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29"/>
            <p:cNvSpPr/>
            <p:nvPr/>
          </p:nvSpPr>
          <p:spPr>
            <a:xfrm>
              <a:off x="2523960" y="381024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30"/>
            <p:cNvSpPr/>
            <p:nvPr/>
          </p:nvSpPr>
          <p:spPr>
            <a:xfrm>
              <a:off x="2523960" y="4013280"/>
              <a:ext cx="19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31"/>
            <p:cNvSpPr/>
            <p:nvPr/>
          </p:nvSpPr>
          <p:spPr>
            <a:xfrm>
              <a:off x="2236680" y="4522680"/>
              <a:ext cx="2869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32"/>
            <p:cNvSpPr/>
            <p:nvPr/>
          </p:nvSpPr>
          <p:spPr>
            <a:xfrm flipV="1">
              <a:off x="2523960" y="4217040"/>
              <a:ext cx="0" cy="30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33"/>
            <p:cNvSpPr/>
            <p:nvPr/>
          </p:nvSpPr>
          <p:spPr>
            <a:xfrm>
              <a:off x="2523960" y="4217040"/>
              <a:ext cx="19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34"/>
            <p:cNvSpPr/>
            <p:nvPr/>
          </p:nvSpPr>
          <p:spPr>
            <a:xfrm flipV="1">
              <a:off x="3288600" y="4930200"/>
              <a:ext cx="0" cy="50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35"/>
            <p:cNvSpPr/>
            <p:nvPr/>
          </p:nvSpPr>
          <p:spPr>
            <a:xfrm>
              <a:off x="3288600" y="4930560"/>
              <a:ext cx="28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36"/>
            <p:cNvSpPr/>
            <p:nvPr/>
          </p:nvSpPr>
          <p:spPr>
            <a:xfrm>
              <a:off x="3097800" y="4115520"/>
              <a:ext cx="19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37"/>
            <p:cNvSpPr/>
            <p:nvPr/>
          </p:nvSpPr>
          <p:spPr>
            <a:xfrm>
              <a:off x="3288600" y="4115520"/>
              <a:ext cx="0" cy="61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38"/>
            <p:cNvSpPr/>
            <p:nvPr/>
          </p:nvSpPr>
          <p:spPr>
            <a:xfrm>
              <a:off x="3288600" y="4726800"/>
              <a:ext cx="28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39"/>
            <p:cNvSpPr/>
            <p:nvPr/>
          </p:nvSpPr>
          <p:spPr>
            <a:xfrm>
              <a:off x="1184760" y="3911760"/>
              <a:ext cx="191520" cy="20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40"/>
            <p:cNvSpPr/>
            <p:nvPr/>
          </p:nvSpPr>
          <p:spPr>
            <a:xfrm>
              <a:off x="1950120" y="3606120"/>
              <a:ext cx="192240" cy="20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&amp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41"/>
            <p:cNvSpPr/>
            <p:nvPr/>
          </p:nvSpPr>
          <p:spPr>
            <a:xfrm>
              <a:off x="1950120" y="4421160"/>
              <a:ext cx="192960" cy="20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&amp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42"/>
            <p:cNvSpPr/>
            <p:nvPr/>
          </p:nvSpPr>
          <p:spPr>
            <a:xfrm>
              <a:off x="2045880" y="5439240"/>
              <a:ext cx="192960" cy="20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&amp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43"/>
            <p:cNvSpPr/>
            <p:nvPr/>
          </p:nvSpPr>
          <p:spPr>
            <a:xfrm>
              <a:off x="1280520" y="5032080"/>
              <a:ext cx="192960" cy="20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44"/>
            <p:cNvSpPr/>
            <p:nvPr/>
          </p:nvSpPr>
          <p:spPr>
            <a:xfrm>
              <a:off x="1280520" y="5745600"/>
              <a:ext cx="19296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45"/>
            <p:cNvSpPr/>
            <p:nvPr/>
          </p:nvSpPr>
          <p:spPr>
            <a:xfrm>
              <a:off x="2810520" y="4013280"/>
              <a:ext cx="192600" cy="20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46"/>
            <p:cNvSpPr/>
            <p:nvPr/>
          </p:nvSpPr>
          <p:spPr>
            <a:xfrm>
              <a:off x="3671280" y="4726800"/>
              <a:ext cx="192960" cy="27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47"/>
            <p:cNvSpPr/>
            <p:nvPr/>
          </p:nvSpPr>
          <p:spPr>
            <a:xfrm>
              <a:off x="611280" y="3504600"/>
              <a:ext cx="19368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48"/>
            <p:cNvSpPr/>
            <p:nvPr/>
          </p:nvSpPr>
          <p:spPr>
            <a:xfrm>
              <a:off x="611280" y="3810240"/>
              <a:ext cx="19368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49"/>
            <p:cNvSpPr/>
            <p:nvPr/>
          </p:nvSpPr>
          <p:spPr>
            <a:xfrm>
              <a:off x="611280" y="4319640"/>
              <a:ext cx="19368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50"/>
            <p:cNvSpPr/>
            <p:nvPr/>
          </p:nvSpPr>
          <p:spPr>
            <a:xfrm>
              <a:off x="3957840" y="4828320"/>
              <a:ext cx="1915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Text Box 51"/>
          <p:cNvSpPr/>
          <p:nvPr/>
        </p:nvSpPr>
        <p:spPr>
          <a:xfrm>
            <a:off x="611280" y="2708280"/>
            <a:ext cx="756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II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а следующая логическая схема. Упростите ее, используя минимальное количество венти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52"/>
          <p:cNvSpPr/>
          <p:nvPr/>
        </p:nvSpPr>
        <p:spPr>
          <a:xfrm>
            <a:off x="4859280" y="3860640"/>
            <a:ext cx="4105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III</a:t>
            </a:r>
            <a:r>
              <a:rPr b="0" i="1" lang="en-US" sz="1800" spc="-1" strike="noStrike">
                <a:solidFill>
                  <a:srgbClr val="993300"/>
                </a:solidFill>
                <a:latin typeface="Arial"/>
              </a:rPr>
              <a:t>.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 составить распис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составлении расписания учителя высказали следующие пожелания: учитель физики хочет иметь первый и второй урок; учитель химии - первый или третий; учитель информатики — второй или третий. Предложите возможные варианты распис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3T17:50:47Z</dcterms:created>
  <dc:creator>Лида</dc:creator>
  <dc:description/>
  <dc:language>en-US</dc:language>
  <cp:lastModifiedBy>Owner</cp:lastModifiedBy>
  <dcterms:modified xsi:type="dcterms:W3CDTF">2011-03-28T22:03:27Z</dcterms:modified>
  <cp:revision>9</cp:revision>
  <dc:subject/>
  <dc:title>Законы и правила математической логики</dc:title>
</cp:coreProperties>
</file>