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320B9-7B1A-4770-9477-AEF5D2E8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3F203-BFDB-4EE3-9303-D822A2C0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86713-76F6-48FD-A4E8-C2356D30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8133A-D9F1-4D17-A6A1-CA57F8EF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3AD6-B8D2-42F0-B635-70A62636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13D2-A83D-48CE-8312-F2734CBD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051B-8ABC-4A09-B1E4-1B61F40E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567C-9BF6-42D0-9B21-B914B92D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B7E8-B1EF-4522-A57B-128F1667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7AE3-3830-4FD8-8C4B-F75388DE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7675-B296-46EF-B124-18DD945F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9C275-E43A-4686-9845-48AEAB80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6F81-EE34-4789-9DED-5B11BE7E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C81C-FE00-47A0-B939-E440F900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33B1-B885-43B7-A736-6105D98D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DBBA-5507-4746-8AAA-798DD068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164E-A050-4D37-8E56-23FC247C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8C4B0-5386-4AAA-8195-8D5958BA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3682F-77FA-44C6-A1E3-1548226A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A56E3-0554-4ACE-AE99-DD10BE23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C8E11-9968-4098-B0D0-DB4B08C9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0E8A0-B5DE-4FCF-AA92-8A217216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81D8E-BDDE-4FFC-B36A-88A8FD82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8358-59E6-4160-97F3-95A1FF07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58D5-C99D-441F-B0AA-B63B2A44E4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B959-F95E-4340-AF6D-933357A913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7"/>
          <p:cNvSpPr/>
          <p:nvPr/>
        </p:nvSpPr>
        <p:spPr>
          <a:xfrm>
            <a:off x="3124080" y="6027840"/>
            <a:ext cx="2895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6553080" y="6027840"/>
            <a:ext cx="213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BED2-53B2-40D0-8AE4-57FE99D220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763640"/>
            <a:ext cx="6019920" cy="21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Законы и правила математической логик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115880"/>
            <a:ext cx="6019920" cy="16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99"/>
                </a:solidFill>
                <a:latin typeface="Arial"/>
              </a:rPr>
              <a:t>Упрощение сложных высказыва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6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CE48-34F3-4C37-B138-33B03CEC82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коны алгебр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836640"/>
          <a:ext cx="8208720" cy="5626080"/>
        </p:xfrm>
        <a:graphic>
          <a:graphicData uri="http://schemas.openxmlformats.org/drawingml/2006/table">
            <a:tbl>
              <a:tblPr/>
              <a:tblGrid>
                <a:gridCol w="939600"/>
                <a:gridCol w="1954440"/>
                <a:gridCol w="2109600"/>
                <a:gridCol w="32050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≡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≡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тожд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amp;Ā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 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непротиворе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Ā=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исключающег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ь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двойного отриц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&amp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&amp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∙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Морг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)=A&amp;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)=A∙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=Ā 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=Ā+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amp;(A v B)=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∙(A+B)=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погло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24DA-8317-4296-9542-18DA5853BE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189000"/>
            <a:ext cx="7793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коны алгебр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11280" y="981000"/>
          <a:ext cx="8064360" cy="5184720"/>
        </p:xfrm>
        <a:graphic>
          <a:graphicData uri="http://schemas.openxmlformats.org/drawingml/2006/table">
            <a:tbl>
              <a:tblPr/>
              <a:tblGrid>
                <a:gridCol w="647640"/>
                <a:gridCol w="3349440"/>
                <a:gridCol w="2033640"/>
                <a:gridCol w="20336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v A&amp;B =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∙B =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погло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&amp;(AvB) = Ā&amp;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∙(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 = Ā∙B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Ā&amp;B = Av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Ā∙B = A+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vB) vC =Av(Bv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B)&amp;C = A&amp;(B&amp;C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B)+C=A+(B+C)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∙B)∙C = A∙(B∙C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ассоциативност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B) 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C)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(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∙B) +(A∙C) = A∙(B+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дистрибутивност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 = AA&amp;A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A = AA∙A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идемпотен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v B=B v AA&amp;B=B&amp;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B=B+AA∙B=B∙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коммутати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≡B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A&amp;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(Ā+B) &amp;(A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4EFF-9847-4166-8D6E-558D418288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456840"/>
            <a:ext cx="649296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Monotype Corsiva"/>
              </a:rPr>
              <a:t>МОРГАН Огастес 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Monotype Corsiva"/>
              </a:rPr>
              <a:t>(Morgan Augustus 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МОРГАН Огастес  де (Morgan Augustus de)"/>
          <p:cNvPicPr/>
          <p:nvPr/>
        </p:nvPicPr>
        <p:blipFill>
          <a:blip r:embed="rId1"/>
          <a:stretch/>
        </p:blipFill>
        <p:spPr>
          <a:xfrm>
            <a:off x="7020000" y="260280"/>
            <a:ext cx="1752480" cy="2087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755640" y="2469240"/>
            <a:ext cx="7921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рган Огастес (Августус) де (27.6.1806-18.3. 1871)-шотландский математик и логик. Секретарь Королевcкого астрономического общества (1847г.), член Лондонского королевского общества. Первый президент Лондонского математического общества. Родился в Мадуре (Индия). Учился в Тринити-колледж (в Кембридже). Профессор математики в университетском колледже в Лондоне. Основные труды по алгебре, математическому анализу и математической логике. В теории рядов описал логарифмическую шкалу для критериев сходимости; занимался теорией расходящихся рядов. Один из основателей формальной алгебры. Продолжая работы Дж. Пикока, Морган в 1841-1847гг. опубликовал ряд работ по основам алгебры. В трактате "Формальная логика или исчисление выводов необходимых и возможных" (1847г.), Морган некоторыми своими положениями опередил Дж. Буля. Позднее Морган успешно изучал логику отношений - область, не охваченную исследованиями предшественников. В книге "Тригонометрия и двойная алгебра" (1849г.) развил мысль У. Гамильтона о распространении идей символической алгебры на исчисление комплексных величин. Благодаря этому комплексные величины были строго обоснованы не только геометрически, но и алгебраически. Написал много исторических работ, в частности книгу "Бюджет парадоксов" (1872г.). Большой вклад внес также в дедуктивную логику вообще и математическую в частности. Лондонское математическое общество учредило медаль им. О. Морг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152E-516B-4BD1-8B81-B187CCBC58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1. Упростить выражение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∙ Y V X ∙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ользуемся распределительным закон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Times New Roman"/>
              </a:rPr>
              <a:t>Х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 </a:t>
            </a:r>
            <a:r>
              <a:rPr b="0" lang="ru-RU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(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Y V Z ) = X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Y V X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ли вынесем общий множитель за скоб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932360" y="4508640"/>
            <a:ext cx="57636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939560" y="51577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cce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6666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539640" y="3860640"/>
            <a:ext cx="36036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1979640" y="3860640"/>
            <a:ext cx="36036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>
            <a:hlinkClick r:id="" action="ppaction://hlinkshowjump?jump=nextslide"/>
          </p:cNvPr>
          <p:cNvSpPr/>
          <p:nvPr/>
        </p:nvSpPr>
        <p:spPr>
          <a:xfrm>
            <a:off x="8388360" y="602136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5585"/>
                </a:moveTo>
                <a:lnTo>
                  <a:pt x="17806" y="12591"/>
                </a:lnTo>
                <a:lnTo>
                  <a:pt x="3794" y="195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68360" y="328464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∙ Y V X ∙ Y =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780000" y="3284640"/>
            <a:ext cx="2881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∙(Y V Y 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986800" y="4869000"/>
            <a:ext cx="21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 Х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1 =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501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2302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7803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9303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803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1803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4904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6404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5BDE-F192-48F4-AF7C-EDD56525C3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68360" y="33336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адание 2. Упростите логическое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=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 v B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→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 v C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0920" y="206064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бавимся от импликации и отрицания. Воспользуемся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Arial"/>
              </a:rPr>
              <a:t>¬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→B)=A&amp; ¬ 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олучитс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)=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закон двойного отрицания, получим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) =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&amp;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правило дистрибутивности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(A∙B) +(A∙C) = A∙(B+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олучим: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&amp;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vB)&amp;Bv(AvB)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закон коммутативности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&amp;B=B&amp;A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дистрибутивности (16). Получ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vB)&amp;Bv(AvB)&amp;C = A&amp;BvB&amp;B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получи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BvB&amp;BvA&amp;CvB&amp;C= A&amp;BvBvA&amp;CvB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(A&amp;B) v(A&amp;C) = A&amp;(Bv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, т.е. вынесем за скобки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BvBvA&amp;CvB&amp;C= B&amp; (Av1)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 1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. 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 (Av1) vA&amp;CvB&amp;C= B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тавим местами слагаемые, сгруппируем и вынесем  В за скобки. 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A&amp;CvB&amp;C = B&amp; (1vC)vA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 1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 и получим ответ: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B&amp;(1vC)vA&amp;C=BvA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7D39-0215-4A95-A0EE-BB02B45081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39640" y="692280"/>
            <a:ext cx="799308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. Закрепление изуч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¬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¬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(A→B) v (B→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A&amp;CvĀ&amp;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AvBv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492360" y="4149720"/>
            <a:ext cx="50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¬ (A&amp;B) v ¬ (BvC)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 (A→B) v (B→A)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A&amp;CvĀ&amp;C=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AvBvC=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458A-8EF6-49BD-B2E7-EB589822E0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620640"/>
            <a:ext cx="475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стите вы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¬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¬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amp;¬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(XvZ) &amp; (X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) &amp;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Z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987640" y="3860640"/>
            <a:ext cx="50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¬(X&amp;Yv ¬(X&amp;Y))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¬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XvZ) &amp; (X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Z) =X&amp;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AA22-11E8-4C04-AE01-8ECA36A8C8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164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Arial"/>
              </a:rPr>
              <a:t>Домашня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826920" y="8366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остите логические вы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vB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A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v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1V (AvB)) V ((AvC) &amp;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"/>
          <p:cNvGrpSpPr/>
          <p:nvPr/>
        </p:nvGrpSpPr>
        <p:grpSpPr>
          <a:xfrm>
            <a:off x="611280" y="3500280"/>
            <a:ext cx="3543120" cy="2554560"/>
            <a:chOff x="611280" y="3500280"/>
            <a:chExt cx="3543120" cy="2554560"/>
          </a:xfrm>
        </p:grpSpPr>
        <p:sp>
          <p:nvSpPr>
            <p:cNvPr id="153" name="AutoShape 7"/>
            <p:cNvSpPr/>
            <p:nvPr/>
          </p:nvSpPr>
          <p:spPr>
            <a:xfrm>
              <a:off x="611280" y="3500280"/>
              <a:ext cx="3543120" cy="25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1089360" y="3810240"/>
              <a:ext cx="38232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1854000" y="3504600"/>
              <a:ext cx="38268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1854000" y="4319640"/>
              <a:ext cx="3826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2715120" y="3911760"/>
              <a:ext cx="38232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1184760" y="4930560"/>
              <a:ext cx="3826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1184760" y="5643360"/>
              <a:ext cx="382680" cy="40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1950120" y="5236200"/>
              <a:ext cx="38196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3575880" y="4625280"/>
              <a:ext cx="38196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>
              <a:off x="802800" y="3606120"/>
              <a:ext cx="1051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>
              <a:off x="802800" y="3911760"/>
              <a:ext cx="286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898200" y="3606120"/>
              <a:ext cx="0" cy="15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>
              <a:off x="898200" y="5133960"/>
              <a:ext cx="2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>
              <a:off x="993960" y="3911760"/>
              <a:ext cx="360" cy="19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993960" y="58474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>
              <a:off x="802800" y="4421160"/>
              <a:ext cx="1050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>
              <a:off x="993960" y="4522680"/>
              <a:ext cx="86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>
              <a:off x="1472040" y="3810240"/>
              <a:ext cx="381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>
              <a:off x="1567440" y="533772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>
              <a:off x="1567440" y="564336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>
              <a:off x="2332080" y="5439240"/>
              <a:ext cx="95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>
              <a:off x="2236680" y="381024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>
              <a:off x="2523960" y="38102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>
              <a:off x="2523960" y="40132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>
              <a:off x="2236680" y="4522680"/>
              <a:ext cx="286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2"/>
            <p:cNvSpPr/>
            <p:nvPr/>
          </p:nvSpPr>
          <p:spPr>
            <a:xfrm flipV="1">
              <a:off x="2523960" y="4217040"/>
              <a:ext cx="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3"/>
            <p:cNvSpPr/>
            <p:nvPr/>
          </p:nvSpPr>
          <p:spPr>
            <a:xfrm>
              <a:off x="2523960" y="421704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4"/>
            <p:cNvSpPr/>
            <p:nvPr/>
          </p:nvSpPr>
          <p:spPr>
            <a:xfrm flipV="1">
              <a:off x="3288600" y="4930200"/>
              <a:ext cx="0" cy="50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5"/>
            <p:cNvSpPr/>
            <p:nvPr/>
          </p:nvSpPr>
          <p:spPr>
            <a:xfrm>
              <a:off x="3288600" y="493056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6"/>
            <p:cNvSpPr/>
            <p:nvPr/>
          </p:nvSpPr>
          <p:spPr>
            <a:xfrm>
              <a:off x="3097800" y="411552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7"/>
            <p:cNvSpPr/>
            <p:nvPr/>
          </p:nvSpPr>
          <p:spPr>
            <a:xfrm>
              <a:off x="3288600" y="411552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8"/>
            <p:cNvSpPr/>
            <p:nvPr/>
          </p:nvSpPr>
          <p:spPr>
            <a:xfrm>
              <a:off x="3288600" y="472680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9"/>
            <p:cNvSpPr/>
            <p:nvPr/>
          </p:nvSpPr>
          <p:spPr>
            <a:xfrm>
              <a:off x="1184760" y="3911760"/>
              <a:ext cx="19152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0"/>
            <p:cNvSpPr/>
            <p:nvPr/>
          </p:nvSpPr>
          <p:spPr>
            <a:xfrm>
              <a:off x="1950120" y="3606120"/>
              <a:ext cx="19224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41"/>
            <p:cNvSpPr/>
            <p:nvPr/>
          </p:nvSpPr>
          <p:spPr>
            <a:xfrm>
              <a:off x="1950120" y="4421160"/>
              <a:ext cx="19296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42"/>
            <p:cNvSpPr/>
            <p:nvPr/>
          </p:nvSpPr>
          <p:spPr>
            <a:xfrm>
              <a:off x="2045880" y="5439240"/>
              <a:ext cx="19296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43"/>
            <p:cNvSpPr/>
            <p:nvPr/>
          </p:nvSpPr>
          <p:spPr>
            <a:xfrm>
              <a:off x="1280520" y="5032080"/>
              <a:ext cx="19296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4"/>
            <p:cNvSpPr/>
            <p:nvPr/>
          </p:nvSpPr>
          <p:spPr>
            <a:xfrm>
              <a:off x="1280520" y="5745600"/>
              <a:ext cx="19296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45"/>
            <p:cNvSpPr/>
            <p:nvPr/>
          </p:nvSpPr>
          <p:spPr>
            <a:xfrm>
              <a:off x="2810520" y="4013280"/>
              <a:ext cx="19260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6"/>
            <p:cNvSpPr/>
            <p:nvPr/>
          </p:nvSpPr>
          <p:spPr>
            <a:xfrm>
              <a:off x="3671280" y="4726800"/>
              <a:ext cx="192960" cy="27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47"/>
            <p:cNvSpPr/>
            <p:nvPr/>
          </p:nvSpPr>
          <p:spPr>
            <a:xfrm>
              <a:off x="611280" y="350460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48"/>
            <p:cNvSpPr/>
            <p:nvPr/>
          </p:nvSpPr>
          <p:spPr>
            <a:xfrm>
              <a:off x="611280" y="381024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49"/>
            <p:cNvSpPr/>
            <p:nvPr/>
          </p:nvSpPr>
          <p:spPr>
            <a:xfrm>
              <a:off x="611280" y="431964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>
              <a:off x="3957840" y="4828320"/>
              <a:ext cx="1915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51"/>
          <p:cNvSpPr/>
          <p:nvPr/>
        </p:nvSpPr>
        <p:spPr>
          <a:xfrm>
            <a:off x="611280" y="270828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а следующая логическая схема. Упростите ее, используя минимальное количество вент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4859280" y="3860640"/>
            <a:ext cx="410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II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 составить распис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оставлении расписания учителя высказали следующие пожелания: учитель физики хочет иметь первый и второй урок; учитель химии - первый или третий; учитель информатики — второй или третий. Предложите возможные варианты распис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3T17:50:47Z</dcterms:created>
  <dc:creator>Лида</dc:creator>
  <dc:description/>
  <dc:language>en-US</dc:language>
  <cp:lastModifiedBy>Owner</cp:lastModifiedBy>
  <dcterms:modified xsi:type="dcterms:W3CDTF">2011-03-28T22:03:27Z</dcterms:modified>
  <cp:revision>9</cp:revision>
  <dc:subject/>
  <dc:title>Законы и правила математической логики</dc:title>
</cp:coreProperties>
</file>