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488F9-5AE7-4DAB-A9E2-54BCACFD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7E086-E49D-413A-B6EE-3D535AA1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40920-CB24-448E-B17B-57324DF3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AE5D9-CAB8-4730-9A54-ED1DA79B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D089-EB98-446A-B156-D657EFC2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7990-2C16-4B37-A0E8-02C315AB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B80E-0A16-444C-B0D5-729ABD19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E641-C516-4E73-89D1-1EEC13DC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56C3-B27B-4204-BF62-73D379F8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3AF9-D710-4D47-AB98-F668E569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C161-5E7C-4BA1-9E2A-AF37511B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4F4B1-3A63-4589-B8B3-96A30FD8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B479-4945-49FF-8B32-E3A3BE90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0266-2CA5-4941-B38C-910980CA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85A4-BCD5-438A-99B8-7CA2709C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DC97-C1F0-4C14-B04F-9E195D95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CDD8-2AE4-470B-BE75-26B43E0C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71C96-C1BF-40E9-B419-91E321EB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98895-5E21-4ECA-B6BB-5549BCE2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061CD-8578-4A2F-93C6-3104C2DC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85A44-184D-4B05-9085-B88BA6CB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8C70E-1D2B-4F67-B9AF-A12B1932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846E2-73D8-4E71-BE11-96D3D1CF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CE0F0-121A-4EB8-B809-9F47D180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452F-DCB5-4FD8-A8D5-C59B9605EFE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33BA-1DDB-4BE7-B039-943727D049D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7"/>
          <p:cNvSpPr/>
          <p:nvPr/>
        </p:nvSpPr>
        <p:spPr>
          <a:xfrm>
            <a:off x="3124080" y="6027840"/>
            <a:ext cx="2895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6553080" y="6027840"/>
            <a:ext cx="213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2A27-8E57-47B1-ADE8-D74016820E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763640"/>
            <a:ext cx="6019920" cy="21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Законы и правила математической логик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115880"/>
            <a:ext cx="6019920" cy="16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3399"/>
                </a:solidFill>
                <a:latin typeface="Arial"/>
              </a:rPr>
              <a:t>Упрощение сложных высказыван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6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22EC-73A5-4089-95E3-A22D6F0C89C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законы алгебры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11280" y="836640"/>
          <a:ext cx="8208720" cy="5626080"/>
        </p:xfrm>
        <a:graphic>
          <a:graphicData uri="http://schemas.openxmlformats.org/drawingml/2006/table">
            <a:tbl>
              <a:tblPr/>
              <a:tblGrid>
                <a:gridCol w="939600"/>
                <a:gridCol w="1954440"/>
                <a:gridCol w="2109600"/>
                <a:gridCol w="320508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≡ 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А≡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тожд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amp;Ā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А 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непротивореч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Ā=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+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исключающего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ть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двойного отриц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&amp;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&amp;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 ∙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Морг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)=A&amp;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)=A∙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=Ā 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=Ā+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amp;(A v B)=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∙(A+B)=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погло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2637-4D2D-44D5-B61D-6FF70A2FAEA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26920" y="189000"/>
            <a:ext cx="7793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законы алгебры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11280" y="981000"/>
          <a:ext cx="8064360" cy="5184720"/>
        </p:xfrm>
        <a:graphic>
          <a:graphicData uri="http://schemas.openxmlformats.org/drawingml/2006/table">
            <a:tbl>
              <a:tblPr/>
              <a:tblGrid>
                <a:gridCol w="647640"/>
                <a:gridCol w="3349440"/>
                <a:gridCol w="2033640"/>
                <a:gridCol w="20336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v A&amp;B =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∙B =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погло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&amp;(AvB) = Ā&amp;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∙(A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 = Ā∙B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Ā&amp;B = Av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Ā∙B = A+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vB) vC =Av(Bv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B)&amp;C = A&amp;(B&amp;C)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+B)+C=A+(B+C)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∙B)∙C = A∙(B∙C)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ассоциативност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B) 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C)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(B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∙B) +(A∙C) = A∙(B+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дистрибутивност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 = AA&amp;A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A = AA∙A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идемпотент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v B=B v AA&amp;B=B&amp;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B=B+AA∙B=B∙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коммутатив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≡B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A&amp;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(Ā+B) &amp;(A+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A9FF-0F95-49D8-86D1-B8102AE3360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456840"/>
            <a:ext cx="649296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Monotype Corsiva"/>
              </a:rPr>
              <a:t>МОРГАН Огастес 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Monotype Corsiva"/>
              </a:rPr>
              <a:t>(Morgan Augustus 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МОРГАН Огастес  де (Morgan Augustus de)"/>
          <p:cNvPicPr/>
          <p:nvPr/>
        </p:nvPicPr>
        <p:blipFill>
          <a:blip r:embed="rId1"/>
          <a:stretch/>
        </p:blipFill>
        <p:spPr>
          <a:xfrm>
            <a:off x="7020000" y="260280"/>
            <a:ext cx="1752480" cy="2087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755640" y="2469240"/>
            <a:ext cx="79218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рган Огастес (Августус) де (27.6.1806-18.3. 1871)-шотландский математик и логик. Секретарь Королевcкого астрономического общества (1847г.), член Лондонского королевского общества. Первый президент Лондонского математического общества. Родился в Мадуре (Индия). Учился в Тринити-колледж (в Кембридже). Профессор математики в университетском колледже в Лондоне. Основные труды по алгебре, математическому анализу и математической логике. В теории рядов описал логарифмическую шкалу для критериев сходимости; занимался теорией расходящихся рядов. Один из основателей формальной алгебры. Продолжая работы Дж. Пикока, Морган в 1841-1847гг. опубликовал ряд работ по основам алгебры. В трактате "Формальная логика или исчисление выводов необходимых и возможных" (1847г.), Морган некоторыми своими положениями опередил Дж. Буля. Позднее Морган успешно изучал логику отношений - область, не охваченную исследованиями предшественников. В книге "Тригонометрия и двойная алгебра" (1849г.) развил мысль У. Гамильтона о распространении идей символической алгебры на исчисление комплексных величин. Благодаря этому комплексные величины были строго обоснованы не только геометрически, но и алгебраически. Написал много исторических работ, в частности книгу "Бюджет парадоксов" (1872г.). Большой вклад внес также в дедуктивную логику вообще и математическую в частности. Лондонское математическое общество учредило медаль им. О. Морга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26C1-D9DA-4AE2-AA96-9367CC8D36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 1. Упростить выражение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∙ Y V X ∙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ользуемся распределительным закон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Times New Roman"/>
              </a:rPr>
              <a:t>Х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 </a:t>
            </a:r>
            <a:r>
              <a:rPr b="0" lang="ru-RU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(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Y V Z ) = X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Y V X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ли вынесем общий множитель за скоб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932360" y="4508640"/>
            <a:ext cx="57636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939560" y="515772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cce6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6666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539640" y="3860640"/>
            <a:ext cx="360360" cy="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1979640" y="3860640"/>
            <a:ext cx="360360" cy="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>
            <a:hlinkClick r:id="" action="ppaction://hlinkshowjump?jump=nextslide"/>
          </p:cNvPr>
          <p:cNvSpPr/>
          <p:nvPr/>
        </p:nvSpPr>
        <p:spPr>
          <a:xfrm>
            <a:off x="8388360" y="602136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3794" y="5585"/>
                </a:moveTo>
                <a:lnTo>
                  <a:pt x="17806" y="12591"/>
                </a:lnTo>
                <a:lnTo>
                  <a:pt x="3794" y="195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68360" y="3284640"/>
            <a:ext cx="32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∙ Y V X ∙ Y =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780000" y="3284640"/>
            <a:ext cx="28810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∙(Y V Y 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5986800" y="4869000"/>
            <a:ext cx="21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 Х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1 = 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501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2302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7803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9303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803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1803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4904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6404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26EC-CE3A-4484-8450-9BEFAD03863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68360" y="333360"/>
            <a:ext cx="82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Задание 2. Упростите логическое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= (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 v B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)→ (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 v C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50920" y="2060640"/>
            <a:ext cx="871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бавимся от импликации и отрицания. Воспользуемся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Arial"/>
              </a:rPr>
              <a:t>¬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A→B)=A&amp; ¬ 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Получитс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)=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&amp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закон двойного отрицания, получим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) &amp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) =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) &amp;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правило дистрибутивности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(A∙B) +(A∙C) = A∙(B+C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Получим: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&amp;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vB)&amp;Bv(AvB)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закон коммутативности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A&amp;B=B&amp;A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и дистрибутивности (16). Получ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vB)&amp;Bv(AvB)&amp;C = A&amp;BvB&amp;B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и получим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&amp;BvB&amp;BvA&amp;CvB&amp;C= A&amp;BvBvA&amp;CvB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(A&amp;B) v(A&amp;C) = A&amp;(BvC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, т.е. вынесем за скобки 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&amp;BvBvA&amp;CvB&amp;C= B&amp; (Av1)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v 1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. 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&amp; (Av1) vA&amp;CvB&amp;C= B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тавим местами слагаемые, сгруппируем и вынесем  В за скобки. 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A&amp;CvB&amp;C = B&amp; (1vC)vA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v 1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 и получим ответ: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B&amp;(1vC)vA&amp;C=BvA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EEC1-DABA-4852-819C-E935B9BF031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539640" y="692280"/>
            <a:ext cx="799308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IV</a:t>
            </a: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. Закрепление изуч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¬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 ¬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(A→B) v (B→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A&amp;CvĀ&amp;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AvBv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492360" y="4149720"/>
            <a:ext cx="50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вет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¬ (A&amp;B) v ¬ (BvC) 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= (A→B) v (B→A)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A&amp;CvĀ&amp;C=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vAvBvC=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7E73-3D02-4B8A-A0AA-2FC2B5B420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620640"/>
            <a:ext cx="475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остите выра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¬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¬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&amp;¬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(XvZ) &amp; (X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) &amp;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Z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987640" y="3860640"/>
            <a:ext cx="50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веты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¬(X&amp;Yv ¬(X&amp;Y))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¬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XvZ) &amp; (X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Z) =X&amp;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CFBC-4C71-4D65-A46C-F4B8932A4EA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7164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Arial"/>
              </a:rPr>
              <a:t>Домашня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826920" y="83664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остите логические вы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AvB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vA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v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1V (AvB)) V ((AvC) &amp;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6"/>
          <p:cNvGrpSpPr/>
          <p:nvPr/>
        </p:nvGrpSpPr>
        <p:grpSpPr>
          <a:xfrm>
            <a:off x="611280" y="3500280"/>
            <a:ext cx="3543120" cy="2554560"/>
            <a:chOff x="611280" y="3500280"/>
            <a:chExt cx="3543120" cy="2554560"/>
          </a:xfrm>
        </p:grpSpPr>
        <p:sp>
          <p:nvSpPr>
            <p:cNvPr id="153" name="AutoShape 7"/>
            <p:cNvSpPr/>
            <p:nvPr/>
          </p:nvSpPr>
          <p:spPr>
            <a:xfrm>
              <a:off x="611280" y="3500280"/>
              <a:ext cx="3543120" cy="25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8"/>
            <p:cNvSpPr/>
            <p:nvPr/>
          </p:nvSpPr>
          <p:spPr>
            <a:xfrm>
              <a:off x="1089360" y="3810240"/>
              <a:ext cx="38232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1854000" y="3504600"/>
              <a:ext cx="382680" cy="40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0"/>
            <p:cNvSpPr/>
            <p:nvPr/>
          </p:nvSpPr>
          <p:spPr>
            <a:xfrm>
              <a:off x="1854000" y="4319640"/>
              <a:ext cx="3826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1"/>
            <p:cNvSpPr/>
            <p:nvPr/>
          </p:nvSpPr>
          <p:spPr>
            <a:xfrm>
              <a:off x="2715120" y="3911760"/>
              <a:ext cx="38232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2"/>
            <p:cNvSpPr/>
            <p:nvPr/>
          </p:nvSpPr>
          <p:spPr>
            <a:xfrm>
              <a:off x="1184760" y="4930560"/>
              <a:ext cx="3826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3"/>
            <p:cNvSpPr/>
            <p:nvPr/>
          </p:nvSpPr>
          <p:spPr>
            <a:xfrm>
              <a:off x="1184760" y="5643360"/>
              <a:ext cx="382680" cy="40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1950120" y="5236200"/>
              <a:ext cx="381960" cy="50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5"/>
            <p:cNvSpPr/>
            <p:nvPr/>
          </p:nvSpPr>
          <p:spPr>
            <a:xfrm>
              <a:off x="3575880" y="4625280"/>
              <a:ext cx="381960" cy="40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6"/>
            <p:cNvSpPr/>
            <p:nvPr/>
          </p:nvSpPr>
          <p:spPr>
            <a:xfrm>
              <a:off x="802800" y="3606120"/>
              <a:ext cx="10512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7"/>
            <p:cNvSpPr/>
            <p:nvPr/>
          </p:nvSpPr>
          <p:spPr>
            <a:xfrm>
              <a:off x="802800" y="3911760"/>
              <a:ext cx="286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>
              <a:off x="898200" y="3606120"/>
              <a:ext cx="0" cy="15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9"/>
            <p:cNvSpPr/>
            <p:nvPr/>
          </p:nvSpPr>
          <p:spPr>
            <a:xfrm>
              <a:off x="898200" y="5133960"/>
              <a:ext cx="2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0"/>
            <p:cNvSpPr/>
            <p:nvPr/>
          </p:nvSpPr>
          <p:spPr>
            <a:xfrm>
              <a:off x="993960" y="3911760"/>
              <a:ext cx="360" cy="193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993960" y="584748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2"/>
            <p:cNvSpPr/>
            <p:nvPr/>
          </p:nvSpPr>
          <p:spPr>
            <a:xfrm>
              <a:off x="802800" y="4421160"/>
              <a:ext cx="10504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3"/>
            <p:cNvSpPr/>
            <p:nvPr/>
          </p:nvSpPr>
          <p:spPr>
            <a:xfrm>
              <a:off x="993960" y="4522680"/>
              <a:ext cx="86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4"/>
            <p:cNvSpPr/>
            <p:nvPr/>
          </p:nvSpPr>
          <p:spPr>
            <a:xfrm>
              <a:off x="1472040" y="3810240"/>
              <a:ext cx="3819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5"/>
            <p:cNvSpPr/>
            <p:nvPr/>
          </p:nvSpPr>
          <p:spPr>
            <a:xfrm>
              <a:off x="1567440" y="5337720"/>
              <a:ext cx="3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6"/>
            <p:cNvSpPr/>
            <p:nvPr/>
          </p:nvSpPr>
          <p:spPr>
            <a:xfrm>
              <a:off x="1567440" y="5643360"/>
              <a:ext cx="3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>
              <a:off x="2332080" y="5439240"/>
              <a:ext cx="95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8"/>
            <p:cNvSpPr/>
            <p:nvPr/>
          </p:nvSpPr>
          <p:spPr>
            <a:xfrm>
              <a:off x="2236680" y="381024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9"/>
            <p:cNvSpPr/>
            <p:nvPr/>
          </p:nvSpPr>
          <p:spPr>
            <a:xfrm>
              <a:off x="2523960" y="38102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0"/>
            <p:cNvSpPr/>
            <p:nvPr/>
          </p:nvSpPr>
          <p:spPr>
            <a:xfrm>
              <a:off x="2523960" y="401328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1"/>
            <p:cNvSpPr/>
            <p:nvPr/>
          </p:nvSpPr>
          <p:spPr>
            <a:xfrm>
              <a:off x="2236680" y="4522680"/>
              <a:ext cx="2869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32"/>
            <p:cNvSpPr/>
            <p:nvPr/>
          </p:nvSpPr>
          <p:spPr>
            <a:xfrm flipV="1">
              <a:off x="2523960" y="4217040"/>
              <a:ext cx="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3"/>
            <p:cNvSpPr/>
            <p:nvPr/>
          </p:nvSpPr>
          <p:spPr>
            <a:xfrm>
              <a:off x="2523960" y="421704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4"/>
            <p:cNvSpPr/>
            <p:nvPr/>
          </p:nvSpPr>
          <p:spPr>
            <a:xfrm flipV="1">
              <a:off x="3288600" y="4930200"/>
              <a:ext cx="0" cy="50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5"/>
            <p:cNvSpPr/>
            <p:nvPr/>
          </p:nvSpPr>
          <p:spPr>
            <a:xfrm>
              <a:off x="3288600" y="493056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6"/>
            <p:cNvSpPr/>
            <p:nvPr/>
          </p:nvSpPr>
          <p:spPr>
            <a:xfrm>
              <a:off x="3097800" y="411552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7"/>
            <p:cNvSpPr/>
            <p:nvPr/>
          </p:nvSpPr>
          <p:spPr>
            <a:xfrm>
              <a:off x="3288600" y="411552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8"/>
            <p:cNvSpPr/>
            <p:nvPr/>
          </p:nvSpPr>
          <p:spPr>
            <a:xfrm>
              <a:off x="3288600" y="472680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9"/>
            <p:cNvSpPr/>
            <p:nvPr/>
          </p:nvSpPr>
          <p:spPr>
            <a:xfrm>
              <a:off x="1184760" y="3911760"/>
              <a:ext cx="19152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0"/>
            <p:cNvSpPr/>
            <p:nvPr/>
          </p:nvSpPr>
          <p:spPr>
            <a:xfrm>
              <a:off x="1950120" y="3606120"/>
              <a:ext cx="19224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41"/>
            <p:cNvSpPr/>
            <p:nvPr/>
          </p:nvSpPr>
          <p:spPr>
            <a:xfrm>
              <a:off x="1950120" y="4421160"/>
              <a:ext cx="19296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42"/>
            <p:cNvSpPr/>
            <p:nvPr/>
          </p:nvSpPr>
          <p:spPr>
            <a:xfrm>
              <a:off x="2045880" y="5439240"/>
              <a:ext cx="192960" cy="20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43"/>
            <p:cNvSpPr/>
            <p:nvPr/>
          </p:nvSpPr>
          <p:spPr>
            <a:xfrm>
              <a:off x="1280520" y="5032080"/>
              <a:ext cx="19296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44"/>
            <p:cNvSpPr/>
            <p:nvPr/>
          </p:nvSpPr>
          <p:spPr>
            <a:xfrm>
              <a:off x="1280520" y="5745600"/>
              <a:ext cx="19296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45"/>
            <p:cNvSpPr/>
            <p:nvPr/>
          </p:nvSpPr>
          <p:spPr>
            <a:xfrm>
              <a:off x="2810520" y="4013280"/>
              <a:ext cx="19260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6"/>
            <p:cNvSpPr/>
            <p:nvPr/>
          </p:nvSpPr>
          <p:spPr>
            <a:xfrm>
              <a:off x="3671280" y="4726800"/>
              <a:ext cx="192960" cy="27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47"/>
            <p:cNvSpPr/>
            <p:nvPr/>
          </p:nvSpPr>
          <p:spPr>
            <a:xfrm>
              <a:off x="611280" y="350460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48"/>
            <p:cNvSpPr/>
            <p:nvPr/>
          </p:nvSpPr>
          <p:spPr>
            <a:xfrm>
              <a:off x="611280" y="381024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49"/>
            <p:cNvSpPr/>
            <p:nvPr/>
          </p:nvSpPr>
          <p:spPr>
            <a:xfrm>
              <a:off x="611280" y="431964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50"/>
            <p:cNvSpPr/>
            <p:nvPr/>
          </p:nvSpPr>
          <p:spPr>
            <a:xfrm>
              <a:off x="3957840" y="4828320"/>
              <a:ext cx="1915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 Box 51"/>
          <p:cNvSpPr/>
          <p:nvPr/>
        </p:nvSpPr>
        <p:spPr>
          <a:xfrm>
            <a:off x="611280" y="2708280"/>
            <a:ext cx="75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а следующая логическая схема. Упростите ее, используя минимальное количество вент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2"/>
          <p:cNvSpPr/>
          <p:nvPr/>
        </p:nvSpPr>
        <p:spPr>
          <a:xfrm>
            <a:off x="4859280" y="3860640"/>
            <a:ext cx="410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III</a:t>
            </a:r>
            <a:r>
              <a:rPr b="0" i="1" lang="en-US" sz="1800" spc="-1" strike="noStrike">
                <a:solidFill>
                  <a:srgbClr val="9933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 составить распис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оставлении расписания учителя высказали следующие пожелания: учитель физики хочет иметь первый и второй урок; учитель химии - первый или третий; учитель информатики — второй или третий. Предложите возможные варианты распис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3T17:50:47Z</dcterms:created>
  <dc:creator>Лида</dc:creator>
  <dc:description/>
  <dc:language>en-US</dc:language>
  <cp:lastModifiedBy>Owner</cp:lastModifiedBy>
  <dcterms:modified xsi:type="dcterms:W3CDTF">2011-03-28T22:03:27Z</dcterms:modified>
  <cp:revision>9</cp:revision>
  <dc:subject/>
  <dc:title>Законы и правила математической логики</dc:title>
</cp:coreProperties>
</file>