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A8E0-EAEF-43D9-B784-635DE1D6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D2AF0-C574-45F6-9DCF-323864CE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42F5-ED3C-4151-97B0-B76752AF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5F63-370D-44EC-9BB4-E4E30EDD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3533-F8FB-4D41-9732-60F2CC42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CB76-1FF3-4369-962B-B60049C3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F463-258A-4C16-94F6-243D6531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2929-B03C-4E2F-A9EC-508E0C0C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5219-C7F4-4C75-8626-AD31FF0C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BDCE-801B-4B2F-9826-6A13B3D2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A19A-0464-468D-92E8-5AC569D5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78A3-857D-4F2C-9247-AE703319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2797-C5CE-4577-9AC8-26D3E067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0866-ED33-41CF-8292-30757133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0EEF-B212-4C1B-BA89-E064FDCD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516C-DDD2-4A52-90D0-DFC7E811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2363-CBFA-441C-B336-CB3D4C7E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691E9-933C-4C9B-A610-50F11379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0A195-04C4-44DD-AB43-EA6DA7A7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EFFA-D6DE-4F2D-94D3-CFA8C56D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3745-F12B-4D17-BD45-CD987F0C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1C2B-D4BF-4214-8B60-4F04046B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26C5B-4D40-4806-BBA5-E0A288FF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8249-FF69-4A84-A3CA-65617B2A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65D5-9DF2-428E-BD7E-DB21BA68D7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5A05-8251-43CD-855A-6F1478445E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7"/>
          <p:cNvSpPr/>
          <p:nvPr/>
        </p:nvSpPr>
        <p:spPr>
          <a:xfrm>
            <a:off x="3124080" y="6027840"/>
            <a:ext cx="2895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6553080" y="6027840"/>
            <a:ext cx="213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7C0D-B8BC-4F72-B7DC-EA087BF27F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763640"/>
            <a:ext cx="601992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коны и правила математической лог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115880"/>
            <a:ext cx="6019920" cy="16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99"/>
                </a:solidFill>
                <a:latin typeface="Arial"/>
              </a:rPr>
              <a:t>Упрощение сложных высказыв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6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C4A0-183B-4F31-933F-E78345829F8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836640"/>
          <a:ext cx="8208720" cy="5626080"/>
        </p:xfrm>
        <a:graphic>
          <a:graphicData uri="http://schemas.openxmlformats.org/drawingml/2006/table">
            <a:tbl>
              <a:tblPr/>
              <a:tblGrid>
                <a:gridCol w="939600"/>
                <a:gridCol w="1954440"/>
                <a:gridCol w="2109600"/>
                <a:gridCol w="32050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≡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≡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тожд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Ā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 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непротиворе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=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исключающег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ь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двойного отриц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∙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Морг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&amp;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∙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 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+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(A v 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(A+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CB02-52CE-4743-A621-D0B0384B0C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189000"/>
            <a:ext cx="7793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1280" y="981000"/>
          <a:ext cx="8064360" cy="5184720"/>
        </p:xfrm>
        <a:graphic>
          <a:graphicData uri="http://schemas.openxmlformats.org/drawingml/2006/table">
            <a:tbl>
              <a:tblPr/>
              <a:tblGrid>
                <a:gridCol w="647640"/>
                <a:gridCol w="3349440"/>
                <a:gridCol w="2033640"/>
                <a:gridCol w="2033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A&amp;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&amp;(AvB) = Ā&amp;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∙(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= Ā∙B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Ā&amp;B = Av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Ā∙B = A+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vB) vC =Av(B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&amp;C = A&amp;(B&amp;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+C=A+(B+C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∙C = A∙(B∙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ассоциа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 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C)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(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 +(A∙C) = A∙(B+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дистрибу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 = AA&amp;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A = AA∙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идемпотен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B=B v AA&amp;B=B&amp;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B=B+AA∙B=B∙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коммута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≡B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&amp;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(Ā+B) &amp;(A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8FF7-4BE5-4825-ABD2-34CD94999B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456840"/>
            <a:ext cx="649296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МОРГАН Огастес 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(Morgan Augustus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МОРГАН Огастес  де (Morgan Augustus de)"/>
          <p:cNvPicPr/>
          <p:nvPr/>
        </p:nvPicPr>
        <p:blipFill>
          <a:blip r:embed="rId1"/>
          <a:stretch/>
        </p:blipFill>
        <p:spPr>
          <a:xfrm>
            <a:off x="7020000" y="260280"/>
            <a:ext cx="1752480" cy="2087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755640" y="2469240"/>
            <a:ext cx="7921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рган Огастес (Августус) де (27.6.1806-18.3. 1871)-шотландский математик и логик. Секретарь Королевcкого астрономического общества (1847г.), член Лондонского королевского общества. Первый президент Лондонского математического общества. Родился в Мадуре (Индия). Учился в Тринити-колледж (в Кембридже). Профессор математики в университетском колледже в Лондоне. Основные труды по алгебре, математическому анализу и математической логике. В теории рядов описал логарифмическую шкалу для критериев сходимости; занимался теорией расходящихся рядов. Один из основателей формальной алгебры. Продолжая работы Дж. Пикока, Морган в 1841-1847гг. опубликовал ряд работ по основам алгебры. В трактате "Формальная логика или исчисление выводов необходимых и возможных" (1847г.), Морган некоторыми своими положениями опередил Дж. Буля. Позднее Морган успешно изучал логику отношений - область, не охваченную исследованиями предшественников. В книге "Тригонометрия и двойная алгебра" (1849г.) развил мысль У. Гамильтона о распространении идей символической алгебры на исчисление комплексных величин. Благодаря этому комплексные величины были строго обоснованы не только геометрически, но и алгебраически. Написал много исторических работ, в частности книгу "Бюджет парадоксов" (1872г.). Большой вклад внес также в дедуктивную логику вообще и математическую в частности. Лондонское математическое общество учредило медаль им. О. Морг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3AFE-E729-45B9-BA7A-6C3D3FE8F5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1. Упростить выражение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∙ Y V X ∙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ользуемся распределительным закон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Times New Roman"/>
              </a:rPr>
              <a:t>Х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 </a:t>
            </a:r>
            <a:r>
              <a:rPr b="0" lang="ru-RU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Y V Z ) =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Y V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вынесем общий множитель за скоб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932360" y="4508640"/>
            <a:ext cx="57636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939560" y="5157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e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66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53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97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>
            <a:hlinkClick r:id="" action="ppaction://hlinkshowjump?jump=nextslide"/>
          </p:cNvPr>
          <p:cNvSpPr/>
          <p:nvPr/>
        </p:nvSpPr>
        <p:spPr>
          <a:xfrm>
            <a:off x="8388360" y="6021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8360" y="328464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 Y V X ∙ Y =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780000" y="3284640"/>
            <a:ext cx="2881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(Y V Y 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986800" y="486900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 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 =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1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302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803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303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803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803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4904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404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F2A9-1A57-4761-96F4-5785B45E66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68360" y="333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дание 2. Упростите логическое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 v B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→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 v C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0920" y="206064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авимся от импликации и отрицания. Воспользуемся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Arial"/>
              </a:rPr>
              <a:t>¬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→B)=A&amp; ¬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тс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двойного отрицания, получи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) 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правило дистрибу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∙B) +(A∙C) = A∙(B+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м: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vB)&amp;Bv(AvB)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коммута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&amp;B=B&amp;A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дистрибутивности (16). Получ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vB)&amp;Bv(AvB)&amp;C = A&amp;BvB&amp;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получи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&amp;BvA&amp;CvB&amp;C= A&amp;BvBvA&amp;CvB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&amp;B) v(A&amp;C) = A&amp;(Bv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, т.е. вынесем за скобки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vA&amp;CvB&amp;C= B&amp; (Av1)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 (Av1) vA&amp;CvB&amp;C= 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тавим местами слагаемые, сгруппируем и вынесем  В за скобки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A&amp;CvB&amp;C = B&amp; (1vC)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 и получим ответ: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B&amp;(1vC)vA&amp;C=B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F924-633F-4F22-9983-2EBABD6E0E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9640" y="692280"/>
            <a:ext cx="79930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. Закрепление изуч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¬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¬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(A→B) v (B→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A&amp;CvĀ&amp;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AvBv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492360" y="414972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¬ (A&amp;B) v ¬ (BvC)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 (A→B) v (B→A)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A&amp;CvĀ&amp;C=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AvBvC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A4C5-B7BF-4324-BDBF-29FFD857D0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20640"/>
            <a:ext cx="475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amp;¬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Z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987640" y="3860640"/>
            <a:ext cx="50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¬(X&amp;Yv ¬(X&amp;Y))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¬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 =X&amp;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5BB7-985D-4FFE-93BF-F1EAEEBF12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Домашня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826920" y="836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остите логические вы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vB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A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1V (AvB)) V ((AvC) &amp;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611280" y="3500280"/>
            <a:ext cx="3543120" cy="2554560"/>
            <a:chOff x="611280" y="3500280"/>
            <a:chExt cx="3543120" cy="2554560"/>
          </a:xfrm>
        </p:grpSpPr>
        <p:sp>
          <p:nvSpPr>
            <p:cNvPr id="153" name="AutoShape 7"/>
            <p:cNvSpPr/>
            <p:nvPr/>
          </p:nvSpPr>
          <p:spPr>
            <a:xfrm>
              <a:off x="611280" y="3500280"/>
              <a:ext cx="3543120" cy="25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1089360" y="381024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1854000" y="3504600"/>
              <a:ext cx="38268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1854000" y="431964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2715120" y="391176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1184760" y="493056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1184760" y="5643360"/>
              <a:ext cx="382680" cy="40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1950120" y="5236200"/>
              <a:ext cx="38196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3575880" y="4625280"/>
              <a:ext cx="38196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802800" y="3606120"/>
              <a:ext cx="1051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>
              <a:off x="802800" y="3911760"/>
              <a:ext cx="286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898200" y="3606120"/>
              <a:ext cx="0" cy="15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>
              <a:off x="898200" y="5133960"/>
              <a:ext cx="2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>
              <a:off x="993960" y="3911760"/>
              <a:ext cx="360" cy="19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993960" y="58474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802800" y="4421160"/>
              <a:ext cx="1050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993960" y="4522680"/>
              <a:ext cx="8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1472040" y="3810240"/>
              <a:ext cx="381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1567440" y="533772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1567440" y="564336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2332080" y="5439240"/>
              <a:ext cx="95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2236680" y="381024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>
              <a:off x="2523960" y="38102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2523960" y="40132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>
              <a:off x="2236680" y="4522680"/>
              <a:ext cx="286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 flipV="1">
              <a:off x="2523960" y="4217040"/>
              <a:ext cx="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2523960" y="421704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 flipV="1">
              <a:off x="3288600" y="4930200"/>
              <a:ext cx="0" cy="50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3288600" y="49305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3097800" y="41155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7"/>
            <p:cNvSpPr/>
            <p:nvPr/>
          </p:nvSpPr>
          <p:spPr>
            <a:xfrm>
              <a:off x="3288600" y="411552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>
              <a:off x="3288600" y="472680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9"/>
            <p:cNvSpPr/>
            <p:nvPr/>
          </p:nvSpPr>
          <p:spPr>
            <a:xfrm>
              <a:off x="1184760" y="3911760"/>
              <a:ext cx="19152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0"/>
            <p:cNvSpPr/>
            <p:nvPr/>
          </p:nvSpPr>
          <p:spPr>
            <a:xfrm>
              <a:off x="1950120" y="3606120"/>
              <a:ext cx="19224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41"/>
            <p:cNvSpPr/>
            <p:nvPr/>
          </p:nvSpPr>
          <p:spPr>
            <a:xfrm>
              <a:off x="1950120" y="442116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42"/>
            <p:cNvSpPr/>
            <p:nvPr/>
          </p:nvSpPr>
          <p:spPr>
            <a:xfrm>
              <a:off x="2045880" y="5439240"/>
              <a:ext cx="1929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3"/>
            <p:cNvSpPr/>
            <p:nvPr/>
          </p:nvSpPr>
          <p:spPr>
            <a:xfrm>
              <a:off x="1280520" y="503208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4"/>
            <p:cNvSpPr/>
            <p:nvPr/>
          </p:nvSpPr>
          <p:spPr>
            <a:xfrm>
              <a:off x="1280520" y="5745600"/>
              <a:ext cx="1929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45"/>
            <p:cNvSpPr/>
            <p:nvPr/>
          </p:nvSpPr>
          <p:spPr>
            <a:xfrm>
              <a:off x="2810520" y="4013280"/>
              <a:ext cx="19260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6"/>
            <p:cNvSpPr/>
            <p:nvPr/>
          </p:nvSpPr>
          <p:spPr>
            <a:xfrm>
              <a:off x="3671280" y="4726800"/>
              <a:ext cx="192960" cy="2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7"/>
            <p:cNvSpPr/>
            <p:nvPr/>
          </p:nvSpPr>
          <p:spPr>
            <a:xfrm>
              <a:off x="611280" y="350460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8"/>
            <p:cNvSpPr/>
            <p:nvPr/>
          </p:nvSpPr>
          <p:spPr>
            <a:xfrm>
              <a:off x="611280" y="38102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49"/>
            <p:cNvSpPr/>
            <p:nvPr/>
          </p:nvSpPr>
          <p:spPr>
            <a:xfrm>
              <a:off x="611280" y="43196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>
              <a:off x="3957840" y="4828320"/>
              <a:ext cx="191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51"/>
          <p:cNvSpPr/>
          <p:nvPr/>
        </p:nvSpPr>
        <p:spPr>
          <a:xfrm>
            <a:off x="611280" y="2708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а следующая логическая схема. Упростите ее, используя минимальное количество вент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4859280" y="3860640"/>
            <a:ext cx="41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II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 составить распис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оставлении расписания учителя высказали следующие пожелания: учитель физики хочет иметь первый и второй урок; учитель химии - первый или третий; учитель информатики — второй или третий. Предложите возможные варианты рас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7:50:47Z</dcterms:created>
  <dc:creator>Лида</dc:creator>
  <dc:description/>
  <dc:language>en-US</dc:language>
  <cp:lastModifiedBy>Owner</cp:lastModifiedBy>
  <dcterms:modified xsi:type="dcterms:W3CDTF">2011-03-28T22:03:27Z</dcterms:modified>
  <cp:revision>9</cp:revision>
  <dc:subject/>
  <dc:title>Законы и правила математической логики</dc:title>
</cp:coreProperties>
</file>