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BBA-9985-4122-A6C8-AC8A4528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03E-519C-4301-90B9-95ECEEAC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89E-15A6-4F2A-92C7-73E31FB4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1FCE-201C-4835-BB10-3E317370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14D6-A315-4622-9639-A613D699A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C94B-F04B-468B-AAA5-FC899A23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DAB2-B351-4B69-975E-E8ADA119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5D1B-E1DE-4780-903C-FEB0FE63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98DF-299D-4CEE-9AF6-CCCBE78C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080E-F6A7-4379-AC6A-72E39488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3826-D341-41B3-8B25-B0FE538A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783-A398-41C9-B486-EDCE0BCA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FAEC-CD5F-497B-BC0F-172CFDA4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FD59-48BA-45DA-BC21-9EE96FA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1B13-FBBD-414A-A2AB-4B019D4E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9AC7-F003-4A8D-88A6-C249EC29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6031-8189-4363-B3FC-8D410003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DFE-DE91-436C-92DF-27C35F6C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AB9-7CC9-4172-ABFA-EB7DFC95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74D7-9DF9-4563-8686-D21E7186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D1A-7AE0-4187-A1FF-F8B67F7A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872-3E9C-4F33-B823-CB48DB4E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9A8-E26A-4904-B585-C6595A8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693-CCCA-4967-AFC6-8507EB13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91C8-39B6-47FB-BF00-FA43BC7A95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4D46-6DD7-4681-9718-2E6FE865E1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Великие математи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97080" y="414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у выполни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к 8 класса 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ещов Серг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9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химед-вершина научной мысли древнего мира. Последующие ученые - Герон Александрийский (1-11 вв. до н. э.), Папп Александрийский (III в. н. э.) - мало что прибавили к наследию Архиме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рхимед родился в 287 году до нашей эры в греческом городе Сиракузы, где и прожил почти всю свою жизнь. Отцом его был Фидий, придворный астроном правителя города Гиерона. Учился Архимед в Александрии, где правители Египта Птолемеи собрали лучших греческих ученых и мыслителей, а также основали самую большую в мире библиоте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5435640" y="404640"/>
            <a:ext cx="3708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рхим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архимед"/>
          <p:cNvPicPr/>
          <p:nvPr/>
        </p:nvPicPr>
        <p:blipFill>
          <a:blip r:embed="rId1"/>
          <a:stretch/>
        </p:blipFill>
        <p:spPr>
          <a:xfrm>
            <a:off x="5867280" y="1844640"/>
            <a:ext cx="3129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3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мар Хайям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- (полное имя) Гияс ад-дин Фатх ибн Ибрахим Омар Хайям Нишапури - Ghiyath al-Din Abu'l-Fath Umar ibn Ibrahim Al-Nisaburi al-Khayyami (анг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одиной Омара Хайяма был Хорасан (г. Нишапур) - область, расположенная к востоку и юго-востоку от Каспийского моря. В настоящее время большая часть Хорасана с городами Мешхед и Нишапур является одноименной провинцией Ирана, северная часть с городами Ашхабад и Мары составляет основную часть Туркменистана, а восточная часть с городами Герат и Балх входит в состав Афганист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516720" y="1484280"/>
            <a:ext cx="262728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мар Хай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9" name="Picture 5" descr="images"/>
          <p:cNvPicPr/>
          <p:nvPr/>
        </p:nvPicPr>
        <p:blipFill>
          <a:blip r:embed="rId1"/>
          <a:stretch/>
        </p:blipFill>
        <p:spPr>
          <a:xfrm>
            <a:off x="6732720" y="3500280"/>
            <a:ext cx="2411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601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иофант - древнегреческий математик из Александрии (возможно, что он был эллинизированный вавилонянин). Мы очень мало знаем о нем. В одной из эпиграмм Палатинской антологии говорит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ах Диофанта гробница покоит дивись ей - и камен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удрым искусством его скажет усопшего ве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лей богов шестую часть жизни он прожил ребенко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половину шестой встретил с пушком на ще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минула седьмая, подружкою он обручил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 ней пять лет проведя, сына дождался мудрец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полжизни отцовской возлюбленный сын его прожи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нят он был у отца ранней могилой свое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важды два года родитель оплакивал тяжкое гор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ут и увидел предел жизни печальной сво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830920" y="1197000"/>
            <a:ext cx="33130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офан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2" name="Picture 5" descr="диофант"/>
          <p:cNvPicPr/>
          <p:nvPr/>
        </p:nvPicPr>
        <p:blipFill>
          <a:blip r:embed="rId1"/>
          <a:stretch/>
        </p:blipFill>
        <p:spPr>
          <a:xfrm>
            <a:off x="6603840" y="2708280"/>
            <a:ext cx="25401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568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афнутий Львович Чебышев - великий русский математик и механик, родился в дворянской семье в селе Окатово Боровского уезда Калужской губернии. Получив домашнее образование, он в 1837 году поступил в Московский университет, с отличием окончил его в 1841 году, а в 1847 году переехал в Петербург, где в 1849 году защитил докторскую диссертац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ще в 1841 году за работу "Вычисление корней уравнений" по теме, предложенной факультетом в Московском университете, Чебышев награждается серебряной медалью, а его докторская диссертация "Теория сравнений" удостоена специальной премии Петербургской Академии наук.В 1859 году Пафнутий Львович избирается академиком Петербургской Академии на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6553080" y="836640"/>
            <a:ext cx="2590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быш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Picture 5" descr="чебышов"/>
          <p:cNvPicPr/>
          <p:nvPr/>
        </p:nvPicPr>
        <p:blipFill>
          <a:blip r:embed="rId1"/>
          <a:stretch/>
        </p:blipFill>
        <p:spPr>
          <a:xfrm>
            <a:off x="6394320" y="2276640"/>
            <a:ext cx="2749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665280"/>
            <a:ext cx="5761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внегреческий учёный. Родился в Кирене. Образование получил в Александрии, а затем в Афинах у известных наставников, поэта Каллимаха, грамматика Лисания, а также философов - стоика Аристона и платоника Аркесилая. Вероятно, именно благодаря столь широкому образованию и разнообразию интересов ок. 245 до н.э. Эратосфен получил от Птолемея III Эвергета приглашение вернуться в Александрию, чтобы стать воспитателем наследника престола и возглавить Александрийскую библиотеку. Эратосфен принял это предложение и занимал должность библиотекаря вплоть до своей конч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6300720" y="333360"/>
            <a:ext cx="2592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ратосф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8" name="Picture 5" descr="эратосфен"/>
          <p:cNvPicPr/>
          <p:nvPr/>
        </p:nvPicPr>
        <p:blipFill>
          <a:blip r:embed="rId1"/>
          <a:stretch/>
        </p:blipFill>
        <p:spPr>
          <a:xfrm>
            <a:off x="6203880" y="2276640"/>
            <a:ext cx="294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дился на острове Самос около 580 г. до н.э. Его отцом был некий Мнесарх из Самоса, человек благородного происхождения и образования. Спасаясь от тирании Поликрата, Пифагор ок. 530 до н.э. покинул Само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сторию его жизни трудно отделить от легенд, представляющих Пифагора в качестве полубога и чудотворца, совершенного мудреца и "великого посвященного" во все тайные доктрины греков и варваров. По преданию, Пифагор объездил весь свет и собрал свою философию из различных систем, к которым имел доступ. Так, он изучал эзотерические науки у брахманов Индии, астрономию и астрологию в Халдее и Египт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6156360" y="1341360"/>
            <a:ext cx="2987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ифаго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1" name="Picture 5" descr="пифагор"/>
          <p:cNvPicPr/>
          <p:nvPr/>
        </p:nvPicPr>
        <p:blipFill>
          <a:blip r:embed="rId1"/>
          <a:stretch/>
        </p:blipFill>
        <p:spPr>
          <a:xfrm>
            <a:off x="6227640" y="3200400"/>
            <a:ext cx="29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61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Евклиде почти ничего неизвестно, откуда он был родом, где и у кого учи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се же у нас нет оснований сомневаться в существовании Евклида, тем более что в этом не сомневались и позднейшие греческие ученые, кое-что рассказывавшие о н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апп Александрийский (III в.) сообщает, что он был очень доброжелателен ко всем тем, кто сделал хоть какой-нибудь вклад в математику, корректен, в высшей степени порядочен и совершенно лишен тщеслав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7056360" y="1413000"/>
            <a:ext cx="2087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вкли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Picture 6" descr="евклид"/>
          <p:cNvPicPr/>
          <p:nvPr/>
        </p:nvPicPr>
        <p:blipFill>
          <a:blip r:embed="rId1"/>
          <a:stretch/>
        </p:blipFill>
        <p:spPr>
          <a:xfrm>
            <a:off x="6964200" y="3200400"/>
            <a:ext cx="217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597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 Милетский имел титул одного из семи мудрецов Греции, он был поистине первым философом, первым математиком, астрономом и, вообще, первым по всем наукам в Греции. Он был то же для Греции, что Ломоносов для Росс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300720" y="1125360"/>
            <a:ext cx="2843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л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7" name="Picture 5" descr="фалес"/>
          <p:cNvPicPr/>
          <p:nvPr/>
        </p:nvPicPr>
        <p:blipFill>
          <a:blip r:embed="rId1"/>
          <a:stretch/>
        </p:blipFill>
        <p:spPr>
          <a:xfrm>
            <a:off x="6477120" y="2781360"/>
            <a:ext cx="266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7:18Z</dcterms:created>
  <dc:creator>Admin</dc:creator>
  <dc:description/>
  <dc:language>en-US</dc:language>
  <cp:lastModifiedBy>Name</cp:lastModifiedBy>
  <dcterms:modified xsi:type="dcterms:W3CDTF">2011-02-05T00:33:22Z</dcterms:modified>
  <cp:revision>3</cp:revision>
  <dc:subject/>
  <dc:title>Великие математики</dc:title>
</cp:coreProperties>
</file>