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AF60-1F1A-4EA7-B480-2B95A5709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402D-BE95-4599-98BE-A1138127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62BC-F6A8-4158-9823-3F9FC3F4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A351-8FFD-44F5-A7B2-41E6A4793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46FC-F05C-46DC-A055-1E09619CB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6727-F7C4-4A43-A04B-F512EF8D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721E-7947-439A-AA5B-79BB9EC7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5DBB-E9E2-4860-B7FA-ACC04D95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9389-DA9C-4233-B0E6-4AAF819E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D847-C19E-4770-8C66-4FF1B7AE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F50C-2997-4D39-B752-F7297D73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634D-186D-48FC-8CEF-0E2F5B63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D8ED-6924-4B07-AA5D-988BAA98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F281-8A78-43E4-8508-DEFC567E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13DD-AF55-466F-8579-C44CA364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80DB-309D-4115-B03A-1E2BC9AF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0E31-A928-4E27-A264-B4B2FC593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C45F-5424-4793-B59F-06AED6C4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7A18-59E2-4E1D-96FF-D7BB417D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5E68-BECB-49A9-AC96-01006399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01C1-DB29-45B8-A41A-9CE47109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A0A2-317A-44F7-9975-03054728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FFF4-430C-42AD-9AA5-43AEF57D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D782-71C8-4D74-BFE6-D47F3F5A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F9FC-4515-4A68-B09C-C510BF9E8C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323F-9245-4DEB-B955-8C768462DF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360" y="1483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резентация на тему: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Великие математик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-397080" y="414936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боту выполни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ченик 8 класса 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рещов Серге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5940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Архимед-вершина научной мысли древнего мира. Последующие ученые - Герон Александрийский (1-11 вв. до н. э.), Папп Александрийский (III в. н. э.) - мало что прибавили к наследию Архимед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Архимед родился в 287 году до нашей эры в греческом городе Сиракузы, где и прожил почти всю свою жизнь. Отцом его был Фидий, придворный астроном правителя города Гиерона. Учился Архимед в Александрии, где правители Египта Птолемеи собрали лучших греческих ученых и мыслителей, а также основали самую большую в мире библиотек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WordArt 4"/>
          <p:cNvSpPr txBox="1"/>
          <p:nvPr/>
        </p:nvSpPr>
        <p:spPr>
          <a:xfrm>
            <a:off x="5435640" y="404640"/>
            <a:ext cx="3708360" cy="9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рхиме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6" name="Picture 5" descr="архимед"/>
          <p:cNvPicPr/>
          <p:nvPr/>
        </p:nvPicPr>
        <p:blipFill>
          <a:blip r:embed="rId1"/>
          <a:stretch/>
        </p:blipFill>
        <p:spPr>
          <a:xfrm>
            <a:off x="5867280" y="1844640"/>
            <a:ext cx="31291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6300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Омар Хайям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- (полное имя) Гияс ад-дин Фатх ибн Ибрахим Омар Хайям Нишапури - Ghiyath al-Din Abu'l-Fath Umar ibn Ibrahim Al-Nisaburi al-Khayyami (анг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одиной Омара Хайяма был Хорасан (г. Нишапур) - область, расположенная к востоку и юго-востоку от Каспийского моря. В настоящее время большая часть Хорасана с городами Мешхед и Нишапур является одноименной провинцией Ирана, северная часть с городами Ашхабад и Мары составляет основную часть Туркменистана, а восточная часть с городами Герат и Балх входит в состав Афганиста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WordArt 4"/>
          <p:cNvSpPr txBox="1"/>
          <p:nvPr/>
        </p:nvSpPr>
        <p:spPr>
          <a:xfrm>
            <a:off x="6516720" y="1484280"/>
            <a:ext cx="2627280" cy="145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мар Хайя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9" name="Picture 5" descr="images"/>
          <p:cNvPicPr/>
          <p:nvPr/>
        </p:nvPicPr>
        <p:blipFill>
          <a:blip r:embed="rId1"/>
          <a:stretch/>
        </p:blipFill>
        <p:spPr>
          <a:xfrm>
            <a:off x="6732720" y="3500280"/>
            <a:ext cx="241128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601200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Диофант - древнегреческий математик из Александрии (возможно, что он был эллинизированный вавилонянин). Мы очень мало знаем о нем. В одной из эпиграмм Палатинской антологии говорится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Прах Диофанта гробница покоит дивись ей - и камен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Мудрым искусством его скажет усопшего век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Волей богов шестую часть жизни он прожил ребенком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И половину шестой встретил с пушком на щеках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Только минула седьмая, подружкою он обручилс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С ней пять лет проведя, сына дождался мудрец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Только полжизни отцовской возлюбленный сын его прожи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Отнят он был у отца ранней могилой своей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Дважды два года родитель оплакивал тяжкое гор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Тут и увидел предел жизни печальной свое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5830920" y="1197000"/>
            <a:ext cx="331308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иофан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62" name="Picture 5" descr="диофант"/>
          <p:cNvPicPr/>
          <p:nvPr/>
        </p:nvPicPr>
        <p:blipFill>
          <a:blip r:embed="rId1"/>
          <a:stretch/>
        </p:blipFill>
        <p:spPr>
          <a:xfrm>
            <a:off x="6603840" y="2708280"/>
            <a:ext cx="254016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5689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афнутий Львович Чебышев - великий русский математик и механик, родился в дворянской семье в селе Окатово Боровского уезда Калужской губернии. Получив домашнее образование, он в 1837 году поступил в Московский университет, с отличием окончил его в 1841 году, а в 1847 году переехал в Петербург, где в 1849 году защитил докторскую диссертацию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Еще в 1841 году за работу "Вычисление корней уравнений" по теме, предложенной факультетом в Московском университете, Чебышев награждается серебряной медалью, а его докторская диссертация "Теория сравнений" удостоена специальной премии Петербургской Академии наук.В 1859 году Пафнутий Львович избирается академиком Петербургской Академии наук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WordArt 4"/>
          <p:cNvSpPr txBox="1"/>
          <p:nvPr/>
        </p:nvSpPr>
        <p:spPr>
          <a:xfrm>
            <a:off x="6553080" y="836640"/>
            <a:ext cx="25909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Чебышо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65" name="Picture 5" descr="чебышов"/>
          <p:cNvPicPr/>
          <p:nvPr/>
        </p:nvPicPr>
        <p:blipFill>
          <a:blip r:embed="rId1"/>
          <a:stretch/>
        </p:blipFill>
        <p:spPr>
          <a:xfrm>
            <a:off x="6394320" y="2276640"/>
            <a:ext cx="2749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560" y="665280"/>
            <a:ext cx="576108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Древнегреческий учёный. Родился в Кирене. Образование получил в Александрии, а затем в Афинах у известных наставников, поэта Каллимаха, грамматика Лисания, а также философов - стоика Аристона и платоника Аркесилая. Вероятно, именно благодаря столь широкому образованию и разнообразию интересов ок. 245 до н.э. Эратосфен получил от Птолемея III Эвергета приглашение вернуться в Александрию, чтобы стать воспитателем наследника престола и возглавить Александрийскую библиотеку. Эратосфен принял это предложение и занимал должность библиотекаря вплоть до своей кончин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WordArt 4"/>
          <p:cNvSpPr txBox="1"/>
          <p:nvPr/>
        </p:nvSpPr>
        <p:spPr>
          <a:xfrm>
            <a:off x="6300720" y="333360"/>
            <a:ext cx="2592360" cy="9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Эратосфен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68" name="Picture 5" descr="эратосфен"/>
          <p:cNvPicPr/>
          <p:nvPr/>
        </p:nvPicPr>
        <p:blipFill>
          <a:blip r:embed="rId1"/>
          <a:stretch/>
        </p:blipFill>
        <p:spPr>
          <a:xfrm>
            <a:off x="6203880" y="2276640"/>
            <a:ext cx="2940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576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Родился на острове Самос около 580 г. до н.э. Его отцом был некий Мнесарх из Самоса, человек благородного происхождения и образования. Спасаясь от тирании Поликрата, Пифагор ок. 530 до н.э. покинул Само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Историю его жизни трудно отделить от легенд, представляющих Пифагора в качестве полубога и чудотворца, совершенного мудреца и "великого посвященного" во все тайные доктрины греков и варваров. По преданию, Пифагор объездил весь свет и собрал свою философию из различных систем, к которым имел доступ. Так, он изучал эзотерические науки у брахманов Индии, астрономию и астрологию в Халдее и Египте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WordArt 4"/>
          <p:cNvSpPr txBox="1"/>
          <p:nvPr/>
        </p:nvSpPr>
        <p:spPr>
          <a:xfrm>
            <a:off x="6156360" y="1341360"/>
            <a:ext cx="298764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ифагор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71" name="Picture 5" descr="пифагор"/>
          <p:cNvPicPr/>
          <p:nvPr/>
        </p:nvPicPr>
        <p:blipFill>
          <a:blip r:embed="rId1"/>
          <a:stretch/>
        </p:blipFill>
        <p:spPr>
          <a:xfrm>
            <a:off x="6227640" y="3200400"/>
            <a:ext cx="2916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15920"/>
            <a:ext cx="6192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 Евклиде почти ничего неизвестно, откуда он был родом, где и у кого училс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се же у нас нет оснований сомневаться в существовании Евклида, тем более что в этом не сомневались и позднейшие греческие ученые, кое-что рассказывавшие о не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апп Александрийский (III в.) сообщает, что он был очень доброжелателен ко всем тем, кто сделал хоть какой-нибудь вклад в математику, корректен, в высшей степени порядочен и совершенно лишен тщеслави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WordArt 5"/>
          <p:cNvSpPr txBox="1"/>
          <p:nvPr/>
        </p:nvSpPr>
        <p:spPr>
          <a:xfrm>
            <a:off x="7056360" y="1413000"/>
            <a:ext cx="2087640" cy="12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Евкли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74" name="Picture 6" descr="евклид"/>
          <p:cNvPicPr/>
          <p:nvPr/>
        </p:nvPicPr>
        <p:blipFill>
          <a:blip r:embed="rId1"/>
          <a:stretch/>
        </p:blipFill>
        <p:spPr>
          <a:xfrm>
            <a:off x="6964200" y="3200400"/>
            <a:ext cx="2179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5976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Фалес Милетский имел титул одного из семи мудрецов Греции, он был поистине первым философом, первым математиком, астрономом и, вообще, первым по всем наукам в Греции. Он был то же для Греции, что Ломоносов для Росси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Фалесу Милетскому приписывают простой способ определения высоты пирамиды. В солнечный день он поставил свой посох там, где оканчивалась тень от пирамиды. Затем он показал, что как длина одной тени относится к длине другой тени, так и высота пирамиды относится к высоте посох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WordArt 4"/>
          <p:cNvSpPr txBox="1"/>
          <p:nvPr/>
        </p:nvSpPr>
        <p:spPr>
          <a:xfrm>
            <a:off x="6300720" y="1125360"/>
            <a:ext cx="28432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Фалес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77" name="Picture 5" descr="фалес"/>
          <p:cNvPicPr/>
          <p:nvPr/>
        </p:nvPicPr>
        <p:blipFill>
          <a:blip r:embed="rId1"/>
          <a:stretch/>
        </p:blipFill>
        <p:spPr>
          <a:xfrm>
            <a:off x="6477120" y="2781360"/>
            <a:ext cx="26668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8:57:18Z</dcterms:created>
  <dc:creator>Admin</dc:creator>
  <dc:description/>
  <dc:language>en-US</dc:language>
  <cp:lastModifiedBy>Name</cp:lastModifiedBy>
  <dcterms:modified xsi:type="dcterms:W3CDTF">2011-02-05T00:33:22Z</dcterms:modified>
  <cp:revision>3</cp:revision>
  <dc:subject/>
  <dc:title>Великие математики</dc:title>
</cp:coreProperties>
</file>