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584B-1A3B-45F7-A9B7-016135A6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DD0C-6A5A-4C24-90C9-0B0B6F65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D2A0-5EBE-487C-98F1-ECC8E3778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192-A151-488D-B94A-9EA00CCB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8372-C1B2-4238-824F-A1431A92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3361-6F9B-42F4-AC0E-A67109A4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D6D-C704-4BC4-AB5E-A50D3EB9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0614-EB77-4446-A385-B6EA32C9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96B8-BB94-4A99-BE1A-E61666920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191D-DDC2-45C9-9A01-20408D20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E1DD-F899-484A-AE1D-04FAEA73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A3C7-3792-4D03-967A-7441B23C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420-6AC6-44B4-BE33-AB8702B6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0B23-7391-40E3-B282-2899035A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BD13-5552-4E8B-BA63-A7B3316D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6C3BE-3F3A-48E9-9347-58AA9B42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BBBB-3C03-487E-8205-A550A0F07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EBC-3AD3-492A-B8C8-66E79F46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4137-F2A2-43CA-B842-25095AED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D48-991A-4C72-8E74-AFE77D03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38E-7482-46EA-942C-63C984EC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A61-B91C-411E-8272-3AD6E300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9D76-E3E9-4977-87BC-7BA1A673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B4B-5A95-4AB0-A6D6-D97A303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FA6E-C1C8-425F-A42B-04BF12CFA9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25A4-5DC3-4561-8314-9528930F94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360" y="1483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езентация на тему: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Великие математи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397080" y="414936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боту выполнил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ченик 8 класса Б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ещов Серг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5940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Архимед-вершина научной мысли древнего мира. Последующие ученые - Герон Александрийский (1-11 вв. до н. э.), Папп Александрийский (III в. н. э.) - мало что прибавили к наследию Архимед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Архимед родился в 287 году до нашей эры в греческом городе Сиракузы, где и прожил почти всю свою жизнь. Отцом его был Фидий, придворный астроном правителя города Гиерона. Учился Архимед в Александрии, где правители Египта Птолемеи собрали лучших греческих ученых и мыслителей, а также основали самую большую в мире библиотеку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5435640" y="404640"/>
            <a:ext cx="3708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Архиме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6" name="Picture 5" descr="архимед"/>
          <p:cNvPicPr/>
          <p:nvPr/>
        </p:nvPicPr>
        <p:blipFill>
          <a:blip r:embed="rId1"/>
          <a:stretch/>
        </p:blipFill>
        <p:spPr>
          <a:xfrm>
            <a:off x="5867280" y="1844640"/>
            <a:ext cx="31291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630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Омар Хайям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- (полное имя) Гияс ад-дин Фатх ибн Ибрахим Омар Хайям Нишапури - Ghiyath al-Din Abu'l-Fath Umar ibn Ibrahim Al-Nisaburi al-Khayyami (анг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одиной Омара Хайяма был Хорасан (г. Нишапур) - область, расположенная к востоку и юго-востоку от Каспийского моря. В настоящее время большая часть Хорасана с городами Мешхед и Нишапур является одноименной провинцией Ирана, северная часть с городами Ашхабад и Мары составляет основную часть Туркменистана, а восточная часть с городами Герат и Балх входит в состав Афганиста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WordArt 4"/>
          <p:cNvSpPr txBox="1"/>
          <p:nvPr/>
        </p:nvSpPr>
        <p:spPr>
          <a:xfrm>
            <a:off x="6516720" y="1484280"/>
            <a:ext cx="262728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мар Хай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59" name="Picture 5" descr="images"/>
          <p:cNvPicPr/>
          <p:nvPr/>
        </p:nvPicPr>
        <p:blipFill>
          <a:blip r:embed="rId1"/>
          <a:stretch/>
        </p:blipFill>
        <p:spPr>
          <a:xfrm>
            <a:off x="6732720" y="3500280"/>
            <a:ext cx="2411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601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иофант - древнегреческий математик из Александрии (возможно, что он был эллинизированный вавилонянин). Мы очень мало знаем о нем. В одной из эпиграмм Палатинской антологии говорится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рах Диофанта гробница покоит дивись ей - и камен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удрым искусством его скажет усопшего век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Волей богов шестую часть жизни он прожил ребенком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И половину шестой встретил с пушком на щеках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минула седьмая, подружкою он обручился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С ней пять лет проведя, сына дождался мудрец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олько полжизни отцовской возлюбленный сын его прожи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Отнят он был у отца ранней могилой свое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Дважды два года родитель оплакивал тяжкое гор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Тут и увидел предел жизни печальной сво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WordArt 4"/>
          <p:cNvSpPr txBox="1"/>
          <p:nvPr/>
        </p:nvSpPr>
        <p:spPr>
          <a:xfrm>
            <a:off x="5830920" y="1197000"/>
            <a:ext cx="3313080" cy="9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иофан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2" name="Picture 5" descr="диофант"/>
          <p:cNvPicPr/>
          <p:nvPr/>
        </p:nvPicPr>
        <p:blipFill>
          <a:blip r:embed="rId1"/>
          <a:stretch/>
        </p:blipFill>
        <p:spPr>
          <a:xfrm>
            <a:off x="6603840" y="2708280"/>
            <a:ext cx="254016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568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афнутий Львович Чебышев - великий русский математик и механик, родился в дворянской семье в селе Окатово Боровского уезда Калужской губернии. Получив домашнее образование, он в 1837 году поступил в Московский университет, с отличием окончил его в 1841 году, а в 1847 году переехал в Петербург, где в 1849 году защитил докторскую диссертац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ще в 1841 году за работу "Вычисление корней уравнений" по теме, предложенной факультетом в Московском университете, Чебышев награждается серебряной медалью, а его докторская диссертация "Теория сравнений" удостоена специальной премии Петербургской Академии наук.В 1859 году Пафнутий Львович избирается академиком Петербургской Академии наук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6553080" y="836640"/>
            <a:ext cx="2590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ебышов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5" name="Picture 5" descr="чебышов"/>
          <p:cNvPicPr/>
          <p:nvPr/>
        </p:nvPicPr>
        <p:blipFill>
          <a:blip r:embed="rId1"/>
          <a:stretch/>
        </p:blipFill>
        <p:spPr>
          <a:xfrm>
            <a:off x="6394320" y="2276640"/>
            <a:ext cx="2749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560" y="665280"/>
            <a:ext cx="576108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Древнегреческий учёный. Родился в Кирене. Образование получил в Александрии, а затем в Афинах у известных наставников, поэта Каллимаха, грамматика Лисания, а также философов - стоика Аристона и платоника Аркесилая. Вероятно, именно благодаря столь широкому образованию и разнообразию интересов ок. 245 до н.э. Эратосфен получил от Птолемея III Эвергета приглашение вернуться в Александрию, чтобы стать воспитателем наследника престола и возглавить Александрийскую библиотеку. Эратосфен принял это предложение и занимал должность библиотекаря вплоть до своей кончин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WordArt 4"/>
          <p:cNvSpPr txBox="1"/>
          <p:nvPr/>
        </p:nvSpPr>
        <p:spPr>
          <a:xfrm>
            <a:off x="6300720" y="333360"/>
            <a:ext cx="2592360" cy="94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ратосфе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68" name="Picture 5" descr="эратосфен"/>
          <p:cNvPicPr/>
          <p:nvPr/>
        </p:nvPicPr>
        <p:blipFill>
          <a:blip r:embed="rId1"/>
          <a:stretch/>
        </p:blipFill>
        <p:spPr>
          <a:xfrm>
            <a:off x="6203880" y="2276640"/>
            <a:ext cx="29401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576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Родился на острове Самос около 580 г. до н.э. Его отцом был некий Мнесарх из Самоса, человек благородного происхождения и образования. Спасаясь от тирании Поликрата, Пифагор ок. 530 до н.э. покинул Самос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Историю его жизни трудно отделить от легенд, представляющих Пифагора в качестве полубога и чудотворца, совершенного мудреца и "великого посвященного" во все тайные доктрины греков и варваров. По преданию, Пифагор объездил весь свет и собрал свою философию из различных систем, к которым имел доступ. Так, он изучал эзотерические науки у брахманов Индии, астрономию и астрологию в Халдее и Египт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6156360" y="1341360"/>
            <a:ext cx="298764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ифагор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1" name="Picture 5" descr="пифагор"/>
          <p:cNvPicPr/>
          <p:nvPr/>
        </p:nvPicPr>
        <p:blipFill>
          <a:blip r:embed="rId1"/>
          <a:stretch/>
        </p:blipFill>
        <p:spPr>
          <a:xfrm>
            <a:off x="6227640" y="3200400"/>
            <a:ext cx="2916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24000" y="115920"/>
            <a:ext cx="6192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О Евклиде почти ничего неизвестно, откуда он был родом, где и у кого учи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Все же у нас нет оснований сомневаться в существовании Евклида, тем более что в этом не сомневались и позднейшие греческие ученые, кое-что рассказывавшие о нем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Папп Александрийский (III в.) сообщает, что он был очень доброжелателен ко всем тем, кто сделал хоть какой-нибудь вклад в математику, корректен, в высшей степени порядочен и совершенно лишен тщеслав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WordArt 5"/>
          <p:cNvSpPr txBox="1"/>
          <p:nvPr/>
        </p:nvSpPr>
        <p:spPr>
          <a:xfrm>
            <a:off x="7056360" y="1413000"/>
            <a:ext cx="2087640" cy="12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Евкли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4" name="Picture 6" descr="евклид"/>
          <p:cNvPicPr/>
          <p:nvPr/>
        </p:nvPicPr>
        <p:blipFill>
          <a:blip r:embed="rId1"/>
          <a:stretch/>
        </p:blipFill>
        <p:spPr>
          <a:xfrm>
            <a:off x="6964200" y="3200400"/>
            <a:ext cx="21798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597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 Милетский имел титул одного из семи мудрецов Греции, он был поистине первым философом, первым математиком, астрономом и, вообще, первым по всем наукам в Греции. Он был то же для Греции, что Ломоносов для Росс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алесу Милетскому приписывают простой способ определения высоты пирамиды. В солнечный день он поставил свой посох там, где оканчивалась тень от пирамиды. Затем он показал, что как длина одной тени относится к длине другой тени, так и высота пирамиды относится к высоте посох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WordArt 4"/>
          <p:cNvSpPr txBox="1"/>
          <p:nvPr/>
        </p:nvSpPr>
        <p:spPr>
          <a:xfrm>
            <a:off x="6300720" y="1125360"/>
            <a:ext cx="28432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Фалес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7" name="Picture 5" descr="фалес"/>
          <p:cNvPicPr/>
          <p:nvPr/>
        </p:nvPicPr>
        <p:blipFill>
          <a:blip r:embed="rId1"/>
          <a:stretch/>
        </p:blipFill>
        <p:spPr>
          <a:xfrm>
            <a:off x="6477120" y="2781360"/>
            <a:ext cx="266688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8:57:18Z</dcterms:created>
  <dc:creator>Admin</dc:creator>
  <dc:description/>
  <dc:language>en-US</dc:language>
  <cp:lastModifiedBy>Name</cp:lastModifiedBy>
  <dcterms:modified xsi:type="dcterms:W3CDTF">2011-02-05T00:33:22Z</dcterms:modified>
  <cp:revision>3</cp:revision>
  <dc:subject/>
  <dc:title>Великие математики</dc:title>
</cp:coreProperties>
</file>