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BA4-5ED9-407E-96F8-A1DA8A32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851-8B9A-4ED5-B315-65A7243B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08B-7D61-4F06-9971-6D7834D3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A7A-F70F-4855-93DD-E0B0EAD9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484-95EC-4243-BA3C-623DAAA9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840-3C3C-4BDC-A9F2-0A5B23CB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1C1-5BDB-4181-939C-D6F803E5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E68-2331-41A1-A660-B2B9B466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DC7-D101-41F5-B30A-03616E7B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5D1-67E1-4465-B2D6-AF33FE7E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40D-4AD6-4ACD-A636-82891952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CDD-34AF-4015-AB46-A1B86E6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671D-D58F-4E9C-8474-5A802E2C0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urier New Cyr"/>
              </a:rPr>
              <a:t>Системы счисл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Системы счисления делятся на позиционные и непозиционные. В позиционной системе вес цифры зависит от ее позиции (места) в числе. В непозиционной – не зависит. Примером </a:t>
            </a: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непозиционной СС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является Римская система счисления (иероглифическая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1280" y="32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urier New Cyr"/>
              </a:rPr>
              <a:t>РИМ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63640" y="4030560"/>
          <a:ext cx="5562720" cy="1708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990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32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CMXCIX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1999,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3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2952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Таблица перевода первых 15 чисел натурального ряда  из десятичной системы счисления в двоичную, восьмеричную, шестнадцатеричну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371600" y="0"/>
          <a:ext cx="6095880" cy="6827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907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 Cyr"/>
              </a:rPr>
              <a:t>8-ми и 16-ричная СС используются как промежуточные между десятичной и двоичной СС. Перевести число из двоичной в 8-ми или 16-ричную системы очень легко. Так же легко сделать обратный пере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воичной системы счисления в восьмеричную и шестнадцатеричную (2  8) (2  16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795672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665964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20500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риада – три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8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риады справа налево и каждую триаду записываем восьмеричным числом 1.011.101.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3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8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восьмеричного числа записываем как триаду 15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01.011.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2781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386064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0" y="457524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етрада – четыре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етрады справа налево и каждую тетраду записываем 16-ричным числом 1.0111.1011.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16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ичного числа записываем как триаду 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F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4000" y="515772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468360" y="6237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476360" y="1989000"/>
          <a:ext cx="6095880" cy="4098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любой сс в 10-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ложение по степеням 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10-ой сс в люб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Деление на 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2 в 8 и 16-ричн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биение на триады и тетр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8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urier New Cyr"/>
              </a:rPr>
              <a:t>Три способа перевода чисел из одной системы счисления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Другие с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177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3+3=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65964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6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9640" y="836640"/>
            <a:ext cx="59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5+1=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73272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5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9640" y="2708280"/>
            <a:ext cx="59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201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 в десят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32720" y="2852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8360" y="364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400 в тринадцатер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732720" y="386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95280" y="4581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Так как 400:13=30 остаток А; 30:13=2 остаток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65964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7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55640" y="51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10-3=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68360" y="2781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Courier New Cyr"/>
              </a:rPr>
              <a:t>М</a:t>
            </a:r>
            <a:r>
              <a:rPr b="1" lang="ru-RU" sz="9600" spc="-1" strike="noStrike">
                <a:solidFill>
                  <a:srgbClr val="ff33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009900"/>
                </a:solidFill>
                <a:latin typeface="Courier New Cyr"/>
              </a:rPr>
              <a:t>Л</a:t>
            </a:r>
            <a:r>
              <a:rPr b="1" lang="ru-RU" sz="9600" spc="-1" strike="noStrike">
                <a:solidFill>
                  <a:srgbClr val="ff99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urier New Cyr"/>
              </a:rPr>
              <a:t>Д</a:t>
            </a:r>
            <a:r>
              <a:rPr b="1" lang="ru-RU" sz="9600" spc="-1" strike="noStrike">
                <a:solidFill>
                  <a:srgbClr val="66ff33"/>
                </a:solidFill>
                <a:latin typeface="Courier New Cyr"/>
              </a:rPr>
              <a:t>Ц</a:t>
            </a:r>
            <a:r>
              <a:rPr b="1" lang="ru-RU" sz="9600" spc="-1" strike="noStrike">
                <a:solidFill>
                  <a:srgbClr val="66ccff"/>
                </a:solidFill>
                <a:latin typeface="Courier New Cyr"/>
              </a:rPr>
              <a:t>Ы</a:t>
            </a:r>
            <a:r>
              <a:rPr b="1" lang="ru-RU" sz="9600" spc="-1" strike="noStrike">
                <a:solidFill>
                  <a:srgbClr val="ff0066"/>
                </a:solidFill>
                <a:latin typeface="Courier New Cyr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9" descr="j0078748"/>
          <p:cNvPicPr/>
          <p:nvPr/>
        </p:nvPicPr>
        <p:blipFill>
          <a:blip r:embed="rId1"/>
          <a:stretch/>
        </p:blipFill>
        <p:spPr>
          <a:xfrm>
            <a:off x="5850000" y="2538360"/>
            <a:ext cx="2712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9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 Cyr"/>
              </a:rPr>
              <a:t>Позиционные системы счис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оличество цифр в СС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озиция цифры в числе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, а количество цифр в числе его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0" y="155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есят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,2,3,…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снование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0" y="3068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21 – 4-х разряд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000 и 1, вес двоек 200 и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4"/>
          <p:cNvSpPr/>
          <p:nvPr/>
        </p:nvSpPr>
        <p:spPr>
          <a:xfrm>
            <a:off x="0" y="43657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азложим это число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urier New Cyr"/>
              </a:rPr>
              <a:t> (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разряды нумеруются справа налево от 0)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2 1=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00+200+20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основание (10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равной разря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воичная система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83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9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69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1844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– 5-и разрядное двоич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,2,4,8,16 справа на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06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0" y="3141720"/>
            <a:ext cx="9144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римера, разложим число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по степеням основания для перевода двоичного числа в десятичную систему счис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4  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0 0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6+0+0+0+1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(число 2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= разряду, складываем произведения и получаем десятичный эквивалент двоичного числа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равило обратного перевода (из десятичной СС в двоичную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десятичного числа на 2 несколько раз, пока в частном не получится 1. Записать 1 и приписать к ней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1"/>
          <p:cNvPicPr/>
          <p:nvPr/>
        </p:nvPicPr>
        <p:blipFill>
          <a:blip r:embed="rId1"/>
          <a:stretch/>
        </p:blipFill>
        <p:spPr>
          <a:xfrm>
            <a:off x="2916360" y="2205000"/>
            <a:ext cx="192384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4076640"/>
            <a:ext cx="9144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твет: 13=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роверка разложением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1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8+4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2514600"/>
          <a:ext cx="9144000" cy="1574640"/>
        </p:xfrm>
        <a:graphic>
          <a:graphicData uri="http://schemas.openxmlformats.org/drawingml/2006/table">
            <a:tbl>
              <a:tblPr/>
              <a:tblGrid>
                <a:gridCol w="938160"/>
                <a:gridCol w="723960"/>
                <a:gridCol w="830160"/>
                <a:gridCol w="830520"/>
                <a:gridCol w="831600"/>
                <a:gridCol w="835200"/>
                <a:gridCol w="831600"/>
                <a:gridCol w="830520"/>
                <a:gridCol w="830160"/>
                <a:gridCol w="831960"/>
                <a:gridCol w="830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8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ТАБЛИЦА СТЕПЕНЕЙ ЧИСЛ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есятичной системы счисления в двоичную вычитанием степеней дво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1"/>
          <a:stretch/>
        </p:blipFill>
        <p:spPr>
          <a:xfrm>
            <a:off x="2700360" y="765000"/>
            <a:ext cx="2060640" cy="26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335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день рождения в двоичную систему счисления двумя способ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4149720"/>
            <a:ext cx="914400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Сложение в двоичной системе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1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27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     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11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5076720" y="6093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2411280" y="609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780000" y="609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4932360" y="5229360"/>
            <a:ext cx="287280" cy="287280"/>
            <a:chOff x="4932360" y="5229360"/>
            <a:chExt cx="287280" cy="287280"/>
          </a:xfrm>
        </p:grpSpPr>
        <p:sp>
          <p:nvSpPr>
            <p:cNvPr id="74" name="Line 25"/>
            <p:cNvSpPr/>
            <p:nvPr/>
          </p:nvSpPr>
          <p:spPr>
            <a:xfrm>
              <a:off x="4932360" y="53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5076000" y="522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564000" y="5300640"/>
            <a:ext cx="287280" cy="287280"/>
            <a:chOff x="3564000" y="5300640"/>
            <a:chExt cx="287280" cy="287280"/>
          </a:xfrm>
        </p:grpSpPr>
        <p:sp>
          <p:nvSpPr>
            <p:cNvPr id="77" name="Line 28"/>
            <p:cNvSpPr/>
            <p:nvPr/>
          </p:nvSpPr>
          <p:spPr>
            <a:xfrm>
              <a:off x="3564000" y="544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3707640" y="5300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2195640" y="5373720"/>
            <a:ext cx="287280" cy="287280"/>
            <a:chOff x="2195640" y="5373720"/>
            <a:chExt cx="287280" cy="287280"/>
          </a:xfrm>
        </p:grpSpPr>
        <p:sp>
          <p:nvSpPr>
            <p:cNvPr id="80" name="Line 31"/>
            <p:cNvSpPr/>
            <p:nvPr/>
          </p:nvSpPr>
          <p:spPr>
            <a:xfrm>
              <a:off x="2195640" y="55177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2339280" y="5373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Восьм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8-ричной СС в 10-ную разложим его по степеням основания (восьмер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7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64+16+7=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197 = 3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8 несколько раз пока в частном не получим цифру&lt;8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8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100010001"/>
          <p:cNvPicPr/>
          <p:nvPr/>
        </p:nvPicPr>
        <p:blipFill>
          <a:blip r:embed="rId1"/>
          <a:stretch/>
        </p:blipFill>
        <p:spPr>
          <a:xfrm>
            <a:off x="2268360" y="9079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 Cyr"/>
              </a:rPr>
              <a:t>Пример перевода десятичного числа 1601 в восьмерично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149720"/>
            <a:ext cx="91440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Ответ: 1601=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  2  1  0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 Проверка: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= 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0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= 3∙512 + 64 + 0 + 1 = 1536 + 64 + 1=16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Шестнадца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9,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</a:t>
            </a: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-ричной СС в 10-ную разложим его по степеням основания (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А 0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5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560+0+5=2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2565 =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16 несколько раз пока в частном не получим цифру&lt;16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16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2:20:32Z</dcterms:created>
  <dc:creator>GEG Prestige</dc:creator>
  <dc:description/>
  <dc:language>en-US</dc:language>
  <cp:lastModifiedBy>Name</cp:lastModifiedBy>
  <dcterms:modified xsi:type="dcterms:W3CDTF">2011-02-05T00:33:24Z</dcterms:modified>
  <cp:revision>36</cp:revision>
  <dc:subject/>
  <dc:title>Системы счисления</dc:title>
</cp:coreProperties>
</file>