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FAD3-9A8B-4676-B3F6-AE7911F98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61E9-F378-426D-87D9-3EDF1DD9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1A40-A1AE-434C-B524-1752875E3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1DB-0F73-407F-98C7-CA5CF117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052-49E0-4F82-83F1-3ABDA63BA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3243-D16D-4A34-9074-E8FD0C8ED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A7835-1342-45E2-9E4A-DE90D778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C6229-AFD6-4C31-9BF6-06C65FFB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E07B-FE96-492D-88A7-AF5707875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A8B-D407-4DAA-BC11-4A2F984FF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F97-6C53-489F-BB53-1727110F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90454-3634-4B2A-973D-79370C69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E9C-54BC-469A-B8B6-74A53298BC8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900igr.net/" TargetMode="External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0" y="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ourier New Cyr"/>
              </a:rPr>
              <a:t>Системы счисления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Системы счисления делятся на позиционные и непозиционные. В позиционной системе вес цифры зависит от ее позиции (места) в числе. В непозиционной – не зависит. Примером </a:t>
            </a: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непозиционной СС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является Римская система счисления (иероглифическая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611280" y="3247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cc"/>
                </a:solidFill>
                <a:latin typeface="Courier New Cyr"/>
              </a:rPr>
              <a:t>РИМСКАЯ СИСТЕМА СЧИС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63640" y="4030560"/>
          <a:ext cx="5562720" cy="17082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990720"/>
              </a:tblGrid>
              <a:tr h="8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" name="Text Box 32"/>
          <p:cNvSpPr/>
          <p:nvPr/>
        </p:nvSpPr>
        <p:spPr>
          <a:xfrm>
            <a:off x="0" y="60246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CMXCIX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1999,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MM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 200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Скругленный прямоугольник 32">
            <a:hlinkClick r:id="rId1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52280" y="1295280"/>
            <a:ext cx="9144000" cy="44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imes New Roman"/>
                <a:ea typeface="Courier New"/>
              </a:rPr>
              <a:t>Таблица перевода первых 15 чисел натурального ряда  из десятичной системы счисления в двоичную, восьмеричную, шестнадцатеричну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371600" y="0"/>
          <a:ext cx="6095880" cy="682776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сс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0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1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0" y="907920"/>
            <a:ext cx="9144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 Cyr"/>
              </a:rPr>
              <a:t>8-ми и 16-ричная СС используются как промежуточные между десятичной и двоичной СС. Перевести число из двоичной в 8-ми или 16-ричную системы очень легко. Так же легко сделать обратный перев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воичной системы счисления в восьмеричную и шестнадцатеричную (2  8) (2  16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"/>
          <p:cNvSpPr/>
          <p:nvPr/>
        </p:nvSpPr>
        <p:spPr>
          <a:xfrm>
            <a:off x="795672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7"/>
          <p:cNvSpPr/>
          <p:nvPr/>
        </p:nvSpPr>
        <p:spPr>
          <a:xfrm>
            <a:off x="6659640" y="549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0" y="220500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риада – три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8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риады справа налево и каждую триаду записываем восьмеричным числом 1.011.101.1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356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8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восьмеричного числа записываем как триаду 153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01.011.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10"/>
          <p:cNvSpPr/>
          <p:nvPr/>
        </p:nvSpPr>
        <p:spPr>
          <a:xfrm>
            <a:off x="250920" y="2781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11"/>
          <p:cNvSpPr/>
          <p:nvPr/>
        </p:nvSpPr>
        <p:spPr>
          <a:xfrm>
            <a:off x="250920" y="386064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0" y="4575240"/>
            <a:ext cx="9144000" cy="23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Тетрада – четыре двоичных разря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2  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Разбиваем двоичное число на тетрады справа налево и каждую тетраду записываем 16-ричным числом 1.0111.1011.10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B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16  2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ичного числа записываем как триаду 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F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1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0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0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Line 14"/>
          <p:cNvSpPr/>
          <p:nvPr/>
        </p:nvSpPr>
        <p:spPr>
          <a:xfrm>
            <a:off x="324000" y="515772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Line 15"/>
          <p:cNvSpPr/>
          <p:nvPr/>
        </p:nvSpPr>
        <p:spPr>
          <a:xfrm>
            <a:off x="468360" y="6237360"/>
            <a:ext cx="36036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1476360" y="1989000"/>
          <a:ext cx="6095880" cy="409896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любой сс в 10-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ложение по степеням основа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10-ой сс в люб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Деление на осно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Из 2 в 8 и 16-ричну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ourier New Cyr"/>
                        </a:rPr>
                        <a:t>Разбиение на триады и тетрад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Text Box 18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ourier New Cyr"/>
              </a:rPr>
              <a:t>Три способа перевода чисел из одной системы счисления в другу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"/>
              </a:rPr>
              <a:t>Другие системы счисле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611280" y="177336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3+3=11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6"/>
          <p:cNvSpPr/>
          <p:nvPr/>
        </p:nvSpPr>
        <p:spPr>
          <a:xfrm>
            <a:off x="6659640" y="90792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6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539640" y="836640"/>
            <a:ext cx="59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5+1=10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8"/>
          <p:cNvSpPr/>
          <p:nvPr/>
        </p:nvSpPr>
        <p:spPr>
          <a:xfrm>
            <a:off x="6732720" y="1989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5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9"/>
          <p:cNvSpPr/>
          <p:nvPr/>
        </p:nvSpPr>
        <p:spPr>
          <a:xfrm>
            <a:off x="539640" y="2708280"/>
            <a:ext cx="59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201</a:t>
            </a:r>
            <a:r>
              <a:rPr b="0" lang="ru-RU" sz="2400" spc="-1" strike="noStrike" baseline="-25000">
                <a:solidFill>
                  <a:srgbClr val="3333cc"/>
                </a:solidFill>
                <a:latin typeface="Courier New"/>
              </a:rPr>
              <a:t>3</a:t>
            </a: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 в десят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0"/>
          <p:cNvSpPr/>
          <p:nvPr/>
        </p:nvSpPr>
        <p:spPr>
          <a:xfrm>
            <a:off x="6732720" y="2852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68360" y="3645000"/>
            <a:ext cx="597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Переведите число 400 в тринадцатеричную С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6732720" y="3860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24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395280" y="4581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Так как 400:13=30 остаток А; 30:13=2 остаток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6"/>
          <p:cNvSpPr/>
          <p:nvPr/>
        </p:nvSpPr>
        <p:spPr>
          <a:xfrm>
            <a:off x="6659640" y="544500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7-ричн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7"/>
          <p:cNvSpPr/>
          <p:nvPr/>
        </p:nvSpPr>
        <p:spPr>
          <a:xfrm>
            <a:off x="755640" y="5157720"/>
            <a:ext cx="518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Courier New"/>
              </a:rPr>
              <a:t>В какой системе счисления 10-3=4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8"/>
          <p:cNvSpPr/>
          <p:nvPr/>
        </p:nvSpPr>
        <p:spPr>
          <a:xfrm>
            <a:off x="468360" y="2781360"/>
            <a:ext cx="6337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3333cc"/>
                </a:solidFill>
                <a:latin typeface="Courier New Cyr"/>
              </a:rPr>
              <a:t>М</a:t>
            </a:r>
            <a:r>
              <a:rPr b="1" lang="ru-RU" sz="9600" spc="-1" strike="noStrike">
                <a:solidFill>
                  <a:srgbClr val="ff33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009900"/>
                </a:solidFill>
                <a:latin typeface="Courier New Cyr"/>
              </a:rPr>
              <a:t>Л</a:t>
            </a:r>
            <a:r>
              <a:rPr b="1" lang="ru-RU" sz="9600" spc="-1" strike="noStrike">
                <a:solidFill>
                  <a:srgbClr val="ff9900"/>
                </a:solidFill>
                <a:latin typeface="Courier New Cyr"/>
              </a:rPr>
              <a:t>О</a:t>
            </a:r>
            <a:r>
              <a:rPr b="1" lang="ru-RU" sz="9600" spc="-1" strike="noStrike">
                <a:solidFill>
                  <a:srgbClr val="cc00cc"/>
                </a:solidFill>
                <a:latin typeface="Courier New Cyr"/>
              </a:rPr>
              <a:t>Д</a:t>
            </a:r>
            <a:r>
              <a:rPr b="1" lang="ru-RU" sz="9600" spc="-1" strike="noStrike">
                <a:solidFill>
                  <a:srgbClr val="66ff33"/>
                </a:solidFill>
                <a:latin typeface="Courier New Cyr"/>
              </a:rPr>
              <a:t>Ц</a:t>
            </a:r>
            <a:r>
              <a:rPr b="1" lang="ru-RU" sz="9600" spc="-1" strike="noStrike">
                <a:solidFill>
                  <a:srgbClr val="66ccff"/>
                </a:solidFill>
                <a:latin typeface="Courier New Cyr"/>
              </a:rPr>
              <a:t>Ы</a:t>
            </a:r>
            <a:r>
              <a:rPr b="1" lang="ru-RU" sz="9600" spc="-1" strike="noStrike">
                <a:solidFill>
                  <a:srgbClr val="ff0066"/>
                </a:solidFill>
                <a:latin typeface="Courier New Cyr"/>
              </a:rPr>
              <a:t>!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19" descr="j0078748"/>
          <p:cNvPicPr/>
          <p:nvPr/>
        </p:nvPicPr>
        <p:blipFill>
          <a:blip r:embed="rId1"/>
          <a:stretch/>
        </p:blipFill>
        <p:spPr>
          <a:xfrm>
            <a:off x="5850000" y="2538360"/>
            <a:ext cx="2712960" cy="40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77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5" dur="770" fill="hold"/>
                                        <p:tgtEl>
                                          <p:spTgt spid="11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7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9" dur="77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39"/>
          <p:cNvSpPr/>
          <p:nvPr/>
        </p:nvSpPr>
        <p:spPr>
          <a:xfrm>
            <a:off x="0" y="0"/>
            <a:ext cx="9144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ourier New Cyr"/>
              </a:rPr>
              <a:t>Позиционные системы счис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оличество цифр в СС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озиция цифры в числе называется ее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ом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, а количество цифр в числе его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разрядностью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40"/>
          <p:cNvSpPr/>
          <p:nvPr/>
        </p:nvSpPr>
        <p:spPr>
          <a:xfrm>
            <a:off x="0" y="227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1"/>
          <p:cNvSpPr/>
          <p:nvPr/>
        </p:nvSpPr>
        <p:spPr>
          <a:xfrm>
            <a:off x="0" y="155736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есят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42"/>
          <p:cNvSpPr/>
          <p:nvPr/>
        </p:nvSpPr>
        <p:spPr>
          <a:xfrm>
            <a:off x="0" y="2060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,2,3,…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снование =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43"/>
          <p:cNvSpPr/>
          <p:nvPr/>
        </p:nvSpPr>
        <p:spPr>
          <a:xfrm>
            <a:off x="0" y="306864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21 – 4-х разряд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000 и 1, вес двоек 200 и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44"/>
          <p:cNvSpPr/>
          <p:nvPr/>
        </p:nvSpPr>
        <p:spPr>
          <a:xfrm>
            <a:off x="0" y="4365720"/>
            <a:ext cx="9144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Разложим это число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en-US" sz="2400" spc="-1" strike="noStrike" baseline="30000">
                <a:solidFill>
                  <a:srgbClr val="ff3300"/>
                </a:solidFill>
                <a:latin typeface="Courier New Cyr"/>
              </a:rPr>
              <a:t> (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разряды нумеруются справа налево от 0)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2 1=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2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∙1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00+200+20+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основание (10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равной разря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0" y="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Двоичная система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836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0" y="692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0" y="6922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 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0" y="19162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0" y="1844640"/>
            <a:ext cx="9144000" cy="10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1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– 5-и разрядное двоичное число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ес единиц – 1,2,4,8,16 справа нал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2"/>
          <p:cNvSpPr/>
          <p:nvPr/>
        </p:nvSpPr>
        <p:spPr>
          <a:xfrm>
            <a:off x="0" y="306864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3"/>
          <p:cNvSpPr/>
          <p:nvPr/>
        </p:nvSpPr>
        <p:spPr>
          <a:xfrm>
            <a:off x="0" y="3141720"/>
            <a:ext cx="9144000" cy="39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римера, разложим число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по степеням основания для перевода двоичного числа в десятичную систему счисле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4  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r>
              <a:rPr b="0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0 0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6+0+0+0+1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Каждую цифру умножаем на 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(число 2)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в степени = разряду, складываем произведения и получаем десятичный эквивалент двоичного числа 100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0" y="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равило обратного перевода (из десятичной СС в двоичную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десятичного числа на 2 несколько раз, пока в частном не получится 1. Записать 1 и приписать к ней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6" descr="1"/>
          <p:cNvPicPr/>
          <p:nvPr/>
        </p:nvPicPr>
        <p:blipFill>
          <a:blip r:embed="rId1"/>
          <a:stretch/>
        </p:blipFill>
        <p:spPr>
          <a:xfrm>
            <a:off x="2916360" y="2205000"/>
            <a:ext cx="1923840" cy="23036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7"/>
          <p:cNvSpPr/>
          <p:nvPr/>
        </p:nvSpPr>
        <p:spPr>
          <a:xfrm>
            <a:off x="0" y="4076640"/>
            <a:ext cx="9144000" cy="22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твет: 13=1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Проверка разложением по степеням основания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ff3300"/>
                </a:solidFill>
                <a:latin typeface="Courier New Cyr"/>
              </a:rPr>
              <a:t>3  2  1  0 – </a:t>
            </a:r>
            <a:r>
              <a:rPr b="0" lang="ru-RU" sz="2400" spc="-1" strike="noStrike" baseline="30000">
                <a:solidFill>
                  <a:srgbClr val="ff3300"/>
                </a:solidFill>
                <a:latin typeface="Courier New Cyr"/>
              </a:rPr>
              <a:t>номера разряд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1 0 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=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1∙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8+4+1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0" y="2514600"/>
          <a:ext cx="9144000" cy="1574640"/>
        </p:xfrm>
        <a:graphic>
          <a:graphicData uri="http://schemas.openxmlformats.org/drawingml/2006/table">
            <a:tbl>
              <a:tblPr/>
              <a:tblGrid>
                <a:gridCol w="938160"/>
                <a:gridCol w="723960"/>
                <a:gridCol w="830160"/>
                <a:gridCol w="830520"/>
                <a:gridCol w="831600"/>
                <a:gridCol w="835200"/>
                <a:gridCol w="831600"/>
                <a:gridCol w="830520"/>
                <a:gridCol w="830160"/>
                <a:gridCol w="831960"/>
                <a:gridCol w="830160"/>
              </a:tblGrid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Text Box 48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ТАБЛИЦА СТЕПЕНЕЙ ЧИСЛА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0" y="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Перевод из десятичной системы счисления в двоичную вычитанием степеней двой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5" descr="2"/>
          <p:cNvPicPr/>
          <p:nvPr/>
        </p:nvPicPr>
        <p:blipFill>
          <a:blip r:embed="rId1"/>
          <a:stretch/>
        </p:blipFill>
        <p:spPr>
          <a:xfrm>
            <a:off x="2700360" y="765000"/>
            <a:ext cx="2060640" cy="2664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0" y="33577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день рождения в двоичную систему счисления двумя способа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0" y="4149720"/>
            <a:ext cx="9144000" cy="28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Сложение в двоичной системе счисл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1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27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          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 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01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1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   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800" spc="-1" strike="noStrike">
                <a:solidFill>
                  <a:srgbClr val="000000"/>
                </a:solidFill>
                <a:latin typeface="Courier New Cyr"/>
              </a:rPr>
              <a:t>          </a:t>
            </a:r>
            <a:r>
              <a:rPr b="1" lang="ru-RU" sz="3200" spc="-1" strike="noStrike">
                <a:solidFill>
                  <a:srgbClr val="000000"/>
                </a:solidFill>
                <a:latin typeface="Courier New Cyr"/>
              </a:rPr>
              <a:t>101110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Courier New Cyr"/>
              </a:rPr>
              <a:t>2</a:t>
            </a:r>
            <a:r>
              <a:rPr b="1" lang="ru-RU" sz="3200" spc="-1" strike="noStrike">
                <a:solidFill>
                  <a:srgbClr val="ffffff"/>
                </a:solidFill>
                <a:latin typeface="Courier New Cyr"/>
              </a:rPr>
              <a:t>=4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2"/>
          <p:cNvSpPr/>
          <p:nvPr/>
        </p:nvSpPr>
        <p:spPr>
          <a:xfrm>
            <a:off x="5076720" y="6093000"/>
            <a:ext cx="165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3"/>
          <p:cNvSpPr/>
          <p:nvPr/>
        </p:nvSpPr>
        <p:spPr>
          <a:xfrm>
            <a:off x="2411280" y="6093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4"/>
          <p:cNvSpPr/>
          <p:nvPr/>
        </p:nvSpPr>
        <p:spPr>
          <a:xfrm>
            <a:off x="3780000" y="6093000"/>
            <a:ext cx="50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Group 24"/>
          <p:cNvGrpSpPr/>
          <p:nvPr/>
        </p:nvGrpSpPr>
        <p:grpSpPr>
          <a:xfrm>
            <a:off x="4932360" y="5229360"/>
            <a:ext cx="287280" cy="287280"/>
            <a:chOff x="4932360" y="5229360"/>
            <a:chExt cx="287280" cy="287280"/>
          </a:xfrm>
        </p:grpSpPr>
        <p:sp>
          <p:nvSpPr>
            <p:cNvPr id="74" name="Line 25"/>
            <p:cNvSpPr/>
            <p:nvPr/>
          </p:nvSpPr>
          <p:spPr>
            <a:xfrm>
              <a:off x="4932360" y="537336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6"/>
            <p:cNvSpPr/>
            <p:nvPr/>
          </p:nvSpPr>
          <p:spPr>
            <a:xfrm>
              <a:off x="5076000" y="5229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Group 27"/>
          <p:cNvGrpSpPr/>
          <p:nvPr/>
        </p:nvGrpSpPr>
        <p:grpSpPr>
          <a:xfrm>
            <a:off x="3564000" y="5300640"/>
            <a:ext cx="287280" cy="287280"/>
            <a:chOff x="3564000" y="5300640"/>
            <a:chExt cx="287280" cy="287280"/>
          </a:xfrm>
        </p:grpSpPr>
        <p:sp>
          <p:nvSpPr>
            <p:cNvPr id="77" name="Line 28"/>
            <p:cNvSpPr/>
            <p:nvPr/>
          </p:nvSpPr>
          <p:spPr>
            <a:xfrm>
              <a:off x="3564000" y="544464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9"/>
            <p:cNvSpPr/>
            <p:nvPr/>
          </p:nvSpPr>
          <p:spPr>
            <a:xfrm>
              <a:off x="3707640" y="5300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" name="Group 30"/>
          <p:cNvGrpSpPr/>
          <p:nvPr/>
        </p:nvGrpSpPr>
        <p:grpSpPr>
          <a:xfrm>
            <a:off x="2195640" y="5373720"/>
            <a:ext cx="287280" cy="287280"/>
            <a:chOff x="2195640" y="5373720"/>
            <a:chExt cx="287280" cy="287280"/>
          </a:xfrm>
        </p:grpSpPr>
        <p:sp>
          <p:nvSpPr>
            <p:cNvPr id="80" name="Line 31"/>
            <p:cNvSpPr/>
            <p:nvPr/>
          </p:nvSpPr>
          <p:spPr>
            <a:xfrm>
              <a:off x="2195640" y="551772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32"/>
            <p:cNvSpPr/>
            <p:nvPr/>
          </p:nvSpPr>
          <p:spPr>
            <a:xfrm>
              <a:off x="2339280" y="5373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Восьм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8-ричной СС в 10-ную разложим его по степеням основания (восьмерк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12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1 2 7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2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7·8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64+16+7=8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197 = 3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8 несколько раз пока в частном не получим цифру&lt;8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8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100010001"/>
          <p:cNvPicPr/>
          <p:nvPr/>
        </p:nvPicPr>
        <p:blipFill>
          <a:blip r:embed="rId1"/>
          <a:stretch/>
        </p:blipFill>
        <p:spPr>
          <a:xfrm>
            <a:off x="2268360" y="907920"/>
            <a:ext cx="3598920" cy="359892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250920" y="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Courier New Cyr"/>
              </a:rPr>
              <a:t>Пример перевода десятичного числа 1601 в восьмеричное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0" y="4149720"/>
            <a:ext cx="9144000" cy="25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Ответ: 1601=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3  2  1  0</a:t>
            </a: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 Проверка: 3101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Courier New Cyr"/>
              </a:rPr>
              <a:t>8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</a:rPr>
              <a:t> = 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0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+ 1∙8</a:t>
            </a:r>
            <a:r>
              <a:rPr b="0" lang="ru-RU" sz="2800" spc="-1" strike="noStrike" baseline="30000">
                <a:solidFill>
                  <a:srgbClr val="000000"/>
                </a:solidFill>
                <a:latin typeface="Courier New Cyr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Courier New Cyr"/>
                <a:ea typeface="Times New Roman"/>
              </a:rPr>
              <a:t> = 3∙512 + 64 + 0 + 1 = 1536 + 64 + 1=16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0" y="18900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Courier New Cyr"/>
              </a:rPr>
              <a:t>Шестнадцатеричная система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Цифры: 0,1,2,…,9,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A,B,C,D,E,F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Courier New Cyr"/>
              </a:rPr>
              <a:t>Основание = </a:t>
            </a:r>
            <a:r>
              <a:rPr b="1" lang="en-US" sz="2400" spc="-1" strike="noStrike">
                <a:solidFill>
                  <a:srgbClr val="ff33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Для перевода числа из 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-ричной СС в 10-ную разложим его по степеням основания (</a:t>
            </a:r>
            <a:r>
              <a:rPr b="0" lang="en-US" sz="2400" spc="-1" strike="noStrike">
                <a:solidFill>
                  <a:srgbClr val="000000"/>
                </a:solidFill>
                <a:latin typeface="Courier New Cyr"/>
              </a:rPr>
              <a:t>16-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ти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0" y="2205000"/>
            <a:ext cx="914400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Например: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  1 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А 0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 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1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0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+5·16</a:t>
            </a:r>
            <a:r>
              <a:rPr b="0" lang="ru-RU" sz="2400" spc="-1" strike="noStrike" baseline="30000">
                <a:solidFill>
                  <a:srgbClr val="000000"/>
                </a:solidFill>
                <a:latin typeface="Courier New Cyr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=2560+0+5=25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Обратный перевод: 2565 = А0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Courier New Cyr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0" y="4005360"/>
            <a:ext cx="9144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Правило обратного перевод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urier New Cyr"/>
              </a:rPr>
              <a:t>Целочисленное деление на 16 несколько раз пока в частном не получим цифру&lt;16, затем записываем эту цифру и приписываем все остатки целочисленного деления в обратном порядке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urier New Cyr"/>
              </a:rPr>
              <a:t>Задание: перевести свой год рождения в 16-ричную систему счисления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9T02:20:32Z</dcterms:created>
  <dc:creator>GEG Prestige</dc:creator>
  <dc:description/>
  <dc:language>en-US</dc:language>
  <cp:lastModifiedBy>Name</cp:lastModifiedBy>
  <dcterms:modified xsi:type="dcterms:W3CDTF">2011-02-05T00:33:24Z</dcterms:modified>
  <cp:revision>36</cp:revision>
  <dc:subject/>
  <dc:title>Системы счисления</dc:title>
</cp:coreProperties>
</file>