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3A0-30A6-4C1C-962A-FDD7627E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D23-491C-4CEB-BBFA-A1A62503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C94-2CFD-480A-AF80-072196C1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619-010D-4B9A-9ED3-91D2360C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17E-B6AB-4BBD-B649-FA446BB4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4F1-5D25-42BD-9E42-045F580D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AC0-7CF9-4D2D-B65A-B967EC84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0DC-267C-41FF-87EA-C5A0ED1E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722-AF64-4C29-AB83-D2858B21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ABD-4743-4F97-B830-3CFBB77F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815-12F1-4A97-972E-1F333432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95C-D080-46FB-A5A4-1BA97DF4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7D74-B8A5-4710-B38A-F09A8D5001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Courier New Cyr"/>
              </a:rPr>
              <a:t>Системы счислен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Системы счисления делятся на позиционные и непозиционные. В позиционной системе вес цифры зависит от ее позиции (места) в числе. В непозиционной – не зависит. Примером </a:t>
            </a: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непозиционной СС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является Римская система счисления (иероглифическая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11280" y="3247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ourier New Cyr"/>
              </a:rPr>
              <a:t>РИМСКАЯ 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63640" y="4030560"/>
          <a:ext cx="5562720" cy="17082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9907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32"/>
          <p:cNvSpPr/>
          <p:nvPr/>
        </p:nvSpPr>
        <p:spPr>
          <a:xfrm>
            <a:off x="0" y="602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MCMXCIX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 1999,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Скругленный прямоугольник 32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2280" y="129528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Таблица перевода первых 15 чисел натурального ряда  из десятичной системы счисления в двоичную, восьмеричную, шестнадцатеричную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371600" y="0"/>
          <a:ext cx="6095880" cy="6827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907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 Cyr"/>
              </a:rPr>
              <a:t>8-ми и 16-ричная СС используются как промежуточные между десятичной и двоичной СС. Перевести число из двоичной в 8-ми или 16-ричную системы очень легко. Так же легко сделать обратный перев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еревод из двоичной системы счисления в восьмеричную и шестнадцатеричную (2  8) (2  16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7956720" y="549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"/>
          <p:cNvSpPr/>
          <p:nvPr/>
        </p:nvSpPr>
        <p:spPr>
          <a:xfrm>
            <a:off x="6659640" y="549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2205000"/>
            <a:ext cx="914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Триада – три двоичных раз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2  8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Разбиваем двоичное число на триады справа налево и каждую триаду записываем восьмеричным числом 1.011.101.1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35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8  2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восьмеричного числа записываем как триаду 153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101.011.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50920" y="2781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50920" y="386064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0" y="4575240"/>
            <a:ext cx="914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Тетрада – четыре двоичных раз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2  16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Разбиваем двоичное число на тетрады справа налево и каждую тетраду записываем 16-ричным числом 1.0111.1011.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7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16  2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-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ричного числа записываем как триаду 1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F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1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0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00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0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324000" y="515772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468360" y="6237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476360" y="1989000"/>
          <a:ext cx="6095880" cy="4098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любой сс в 10-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Разложение по степеням осн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10-ой сс в люб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Деление на осн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2 в 8 и 16-ричн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Разбиение на триады и тетра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8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ourier New Cyr"/>
              </a:rPr>
              <a:t>Три способа перевода чисел из одной системы счисления в другу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urier New"/>
              </a:rPr>
              <a:t>Другие системы счис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11280" y="177336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3+3=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659640" y="9079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6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39640" y="836640"/>
            <a:ext cx="59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5+1=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732720" y="198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5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39640" y="2708280"/>
            <a:ext cx="597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Переведите число 201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 в десятичную 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6732720" y="2852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468360" y="364500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Переведите число 400 в тринадцатеричную 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732720" y="3860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24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95280" y="4581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Так как 400:13=30 остаток А; 30:13=2 остаток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6659640" y="54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7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755640" y="51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10-3=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68360" y="278136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Courier New Cyr"/>
              </a:rPr>
              <a:t>М</a:t>
            </a:r>
            <a:r>
              <a:rPr b="1" lang="ru-RU" sz="9600" spc="-1" strike="noStrike">
                <a:solidFill>
                  <a:srgbClr val="ff3300"/>
                </a:solidFill>
                <a:latin typeface="Courier New Cyr"/>
              </a:rPr>
              <a:t>О</a:t>
            </a:r>
            <a:r>
              <a:rPr b="1" lang="ru-RU" sz="9600" spc="-1" strike="noStrike">
                <a:solidFill>
                  <a:srgbClr val="009900"/>
                </a:solidFill>
                <a:latin typeface="Courier New Cyr"/>
              </a:rPr>
              <a:t>Л</a:t>
            </a:r>
            <a:r>
              <a:rPr b="1" lang="ru-RU" sz="9600" spc="-1" strike="noStrike">
                <a:solidFill>
                  <a:srgbClr val="ff9900"/>
                </a:solidFill>
                <a:latin typeface="Courier New Cyr"/>
              </a:rPr>
              <a:t>О</a:t>
            </a:r>
            <a:r>
              <a:rPr b="1" lang="ru-RU" sz="9600" spc="-1" strike="noStrike">
                <a:solidFill>
                  <a:srgbClr val="cc00cc"/>
                </a:solidFill>
                <a:latin typeface="Courier New Cyr"/>
              </a:rPr>
              <a:t>Д</a:t>
            </a:r>
            <a:r>
              <a:rPr b="1" lang="ru-RU" sz="9600" spc="-1" strike="noStrike">
                <a:solidFill>
                  <a:srgbClr val="66ff33"/>
                </a:solidFill>
                <a:latin typeface="Courier New Cyr"/>
              </a:rPr>
              <a:t>Ц</a:t>
            </a:r>
            <a:r>
              <a:rPr b="1" lang="ru-RU" sz="9600" spc="-1" strike="noStrike">
                <a:solidFill>
                  <a:srgbClr val="66ccff"/>
                </a:solidFill>
                <a:latin typeface="Courier New Cyr"/>
              </a:rPr>
              <a:t>Ы</a:t>
            </a:r>
            <a:r>
              <a:rPr b="1" lang="ru-RU" sz="9600" spc="-1" strike="noStrike">
                <a:solidFill>
                  <a:srgbClr val="ff0066"/>
                </a:solidFill>
                <a:latin typeface="Courier New Cyr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9" descr="j0078748"/>
          <p:cNvPicPr/>
          <p:nvPr/>
        </p:nvPicPr>
        <p:blipFill>
          <a:blip r:embed="rId1"/>
          <a:stretch/>
        </p:blipFill>
        <p:spPr>
          <a:xfrm>
            <a:off x="5850000" y="2538360"/>
            <a:ext cx="27129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9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urier New Cyr"/>
              </a:rPr>
              <a:t>Позиционные системы счис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оличество цифр в СС называется ее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м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Позиция цифры в числе называется ее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разрядом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, а количество цифр в числе его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разрядностью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0"/>
          <p:cNvSpPr/>
          <p:nvPr/>
        </p:nvSpPr>
        <p:spPr>
          <a:xfrm>
            <a:off x="0" y="227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1"/>
          <p:cNvSpPr/>
          <p:nvPr/>
        </p:nvSpPr>
        <p:spPr>
          <a:xfrm>
            <a:off x="0" y="155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Десят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0" y="2060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 0,1,2,3,…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снование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3"/>
          <p:cNvSpPr/>
          <p:nvPr/>
        </p:nvSpPr>
        <p:spPr>
          <a:xfrm>
            <a:off x="0" y="3068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221 – 4-х разрядное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ес единиц – 1000 и 1, вес двоек 200 и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4"/>
          <p:cNvSpPr/>
          <p:nvPr/>
        </p:nvSpPr>
        <p:spPr>
          <a:xfrm>
            <a:off x="0" y="43657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Разложим это число по степеням осн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urier New Cyr"/>
              </a:rPr>
              <a:t> (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разряды нумеруются справа налево от 0)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2 2 1=1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000+200+20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умножаем на 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основание (10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 степени равной разря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Двоичная система с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83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9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6922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</a:t>
            </a: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1916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0" y="1844640"/>
            <a:ext cx="9144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– 5-и разрядное двоичное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ес единиц – 1,2,4,8,16 справа нале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306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0" y="3141720"/>
            <a:ext cx="91440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римера, разложим число 10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по степеням основания для перевода двоичного числа в десятичную систему счисл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4  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0 0 0 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6+0+0+0+1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умножаем на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(число 2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 степени = разряду, складываем произведения и получаем десятичный эквивалент двоичного числа 10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равило обратного перевода (из десятичной СС в двоичную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десятичного числа на 2 несколько раз, пока в частном не получится 1. Записать 1 и приписать к ней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1"/>
          <p:cNvPicPr/>
          <p:nvPr/>
        </p:nvPicPr>
        <p:blipFill>
          <a:blip r:embed="rId1"/>
          <a:stretch/>
        </p:blipFill>
        <p:spPr>
          <a:xfrm>
            <a:off x="2916360" y="2205000"/>
            <a:ext cx="1923840" cy="23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0" y="4076640"/>
            <a:ext cx="9144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твет: 13=1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Проверка разложением по степеням осн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1 0 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8+4+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2514600"/>
          <a:ext cx="9144000" cy="1574640"/>
        </p:xfrm>
        <a:graphic>
          <a:graphicData uri="http://schemas.openxmlformats.org/drawingml/2006/table">
            <a:tbl>
              <a:tblPr/>
              <a:tblGrid>
                <a:gridCol w="938160"/>
                <a:gridCol w="723960"/>
                <a:gridCol w="830160"/>
                <a:gridCol w="830520"/>
                <a:gridCol w="831600"/>
                <a:gridCol w="835200"/>
                <a:gridCol w="831600"/>
                <a:gridCol w="830520"/>
                <a:gridCol w="830160"/>
                <a:gridCol w="831960"/>
                <a:gridCol w="83016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48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ТАБЛИЦА СТЕПЕНЕЙ ЧИСЛА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еревод из десятичной системы счисления в двоичную вычитанием степеней двой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2"/>
          <p:cNvPicPr/>
          <p:nvPr/>
        </p:nvPicPr>
        <p:blipFill>
          <a:blip r:embed="rId1"/>
          <a:stretch/>
        </p:blipFill>
        <p:spPr>
          <a:xfrm>
            <a:off x="2700360" y="765000"/>
            <a:ext cx="2060640" cy="2664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0" y="3357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день рождения в двоичную систему счисления двумя способ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0" y="4149720"/>
            <a:ext cx="9144000" cy="28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Сложение в двоичной системе с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1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27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            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0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1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0111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5076720" y="60930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2411280" y="609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3780000" y="609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4"/>
          <p:cNvGrpSpPr/>
          <p:nvPr/>
        </p:nvGrpSpPr>
        <p:grpSpPr>
          <a:xfrm>
            <a:off x="4932360" y="5229360"/>
            <a:ext cx="287280" cy="287280"/>
            <a:chOff x="4932360" y="5229360"/>
            <a:chExt cx="287280" cy="287280"/>
          </a:xfrm>
        </p:grpSpPr>
        <p:sp>
          <p:nvSpPr>
            <p:cNvPr id="74" name="Line 25"/>
            <p:cNvSpPr/>
            <p:nvPr/>
          </p:nvSpPr>
          <p:spPr>
            <a:xfrm>
              <a:off x="4932360" y="53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6"/>
            <p:cNvSpPr/>
            <p:nvPr/>
          </p:nvSpPr>
          <p:spPr>
            <a:xfrm>
              <a:off x="5076000" y="522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3564000" y="5300640"/>
            <a:ext cx="287280" cy="287280"/>
            <a:chOff x="3564000" y="5300640"/>
            <a:chExt cx="287280" cy="287280"/>
          </a:xfrm>
        </p:grpSpPr>
        <p:sp>
          <p:nvSpPr>
            <p:cNvPr id="77" name="Line 28"/>
            <p:cNvSpPr/>
            <p:nvPr/>
          </p:nvSpPr>
          <p:spPr>
            <a:xfrm>
              <a:off x="3564000" y="5444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9"/>
            <p:cNvSpPr/>
            <p:nvPr/>
          </p:nvSpPr>
          <p:spPr>
            <a:xfrm>
              <a:off x="3707640" y="5300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30"/>
          <p:cNvGrpSpPr/>
          <p:nvPr/>
        </p:nvGrpSpPr>
        <p:grpSpPr>
          <a:xfrm>
            <a:off x="2195640" y="5373720"/>
            <a:ext cx="287280" cy="287280"/>
            <a:chOff x="2195640" y="5373720"/>
            <a:chExt cx="287280" cy="287280"/>
          </a:xfrm>
        </p:grpSpPr>
        <p:sp>
          <p:nvSpPr>
            <p:cNvPr id="80" name="Line 31"/>
            <p:cNvSpPr/>
            <p:nvPr/>
          </p:nvSpPr>
          <p:spPr>
            <a:xfrm>
              <a:off x="2195640" y="55177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>
              <a:off x="2339280" y="5373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Восьм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: 0,1,2,…,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еревода числа из 8-ричной СС в 10-ную разложим его по степеням основания (восьмер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2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2 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7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64+16+7=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братный перевод: 197 = 3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Правило обратного перево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на 8 несколько раз пока в частном не получим цифру&lt;8, затем записываем эту цифру и приписываем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год рождения в 8-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100010001"/>
          <p:cNvPicPr/>
          <p:nvPr/>
        </p:nvPicPr>
        <p:blipFill>
          <a:blip r:embed="rId1"/>
          <a:stretch/>
        </p:blipFill>
        <p:spPr>
          <a:xfrm>
            <a:off x="2268360" y="90792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urier New Cyr"/>
              </a:rPr>
              <a:t>Пример перевода десятичного числа 1601 в восьмерично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0" y="4149720"/>
            <a:ext cx="9144000" cy="25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Ответ: 1601= 31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           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3  2  1  0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  Проверка: 31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 = 3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1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0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1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= 3∙512 + 64 + 0 + 1 = 1536 + 64 + 1=16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Шестнадцат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: 0,1,2,…,9,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A,B,C,D,E,F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= </a:t>
            </a:r>
            <a:r>
              <a:rPr b="1" lang="en-US" sz="2400" spc="-1" strike="noStrike">
                <a:solidFill>
                  <a:srgbClr val="ff33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еревода числа из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-ричной СС в 10-ную разложим его по степеням основания (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-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А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А 0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0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5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2560+0+5=25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братный перевод: 2565 = А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Правило обратного перево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на 16 несколько раз пока в частном не получим цифру&lt;16, затем записываем эту цифру и приписываем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год рождения в 16-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2:20:32Z</dcterms:created>
  <dc:creator>GEG Prestige</dc:creator>
  <dc:description/>
  <dc:language>en-US</dc:language>
  <cp:lastModifiedBy>Name</cp:lastModifiedBy>
  <dcterms:modified xsi:type="dcterms:W3CDTF">2011-02-05T00:33:24Z</dcterms:modified>
  <cp:revision>36</cp:revision>
  <dc:subject/>
  <dc:title>Системы счисления</dc:title>
</cp:coreProperties>
</file>