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E03-D864-4D12-9F37-AC1272E8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1519-3026-4751-AC7B-EF29AA46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D8A-9D38-41A7-AE9B-3E7D5897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A80F-2E63-4DD4-A1A3-7ED8DADFE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EFCD-8E63-4EAC-B48D-59BA501A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D72-5A53-4133-882E-0F9C9B89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F0B-73CF-40AF-8EE3-C46EA0A6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A00-362C-4CF1-97D3-E81EA5FF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DB7-BA5C-496A-B42E-B0D03C0F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1E05-D390-49DA-A8E6-9EC1F44F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7B63-E0BA-4409-A2C8-8014050C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FA5-818B-44BD-A091-E09D8583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F829-1F04-4639-880A-BF02384B4D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Calibri"/>
              </a:rPr>
              <a:t>Сложение чисел с разными знакам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Учитель математик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МКОУ « Москаленский лицей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Бадюк Ольга Яросла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помн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Чтобы сложить два числа с разным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       </a:t>
            </a: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знаками: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из большего модуля слагаемых вычесть меньш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поставить перед полученным числом знак того слагаемого, модуль которого больш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Calibri"/>
              </a:rPr>
              <a:t>Закрепи правил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1557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 + ( - 3) = + ( 7 - 3) = 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5,5 + (- 7,3) = -(7,3-5,5) = -1,8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- 32 + 11 = - ( 32 - 11) = - 2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Вычисли уст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1412640"/>
            <a:ext cx="8640720" cy="49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8 + 6 =           -4 + 1,4 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 5 + 5 =           5,1+(-8,4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-9+(–2)=         8,1+(-4,1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Calibri"/>
              </a:rPr>
              <a:t>12+(-4)=          1,2+(-3,2)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Овал 3"/>
          <p:cNvSpPr/>
          <p:nvPr/>
        </p:nvSpPr>
        <p:spPr>
          <a:xfrm>
            <a:off x="2711520" y="1484280"/>
            <a:ext cx="141768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4"/>
          <p:cNvSpPr/>
          <p:nvPr/>
        </p:nvSpPr>
        <p:spPr>
          <a:xfrm>
            <a:off x="2700360" y="2421000"/>
            <a:ext cx="141912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5"/>
          <p:cNvSpPr/>
          <p:nvPr/>
        </p:nvSpPr>
        <p:spPr>
          <a:xfrm>
            <a:off x="2700360" y="3425760"/>
            <a:ext cx="1440000" cy="86364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-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6"/>
          <p:cNvSpPr/>
          <p:nvPr/>
        </p:nvSpPr>
        <p:spPr>
          <a:xfrm>
            <a:off x="2811600" y="4473720"/>
            <a:ext cx="1417680" cy="863280"/>
          </a:xfrm>
          <a:prstGeom prst="ellips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7"/>
          <p:cNvSpPr/>
          <p:nvPr/>
        </p:nvSpPr>
        <p:spPr>
          <a:xfrm>
            <a:off x="7361280" y="1550880"/>
            <a:ext cx="12952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,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7451640" y="249228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3,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7451640" y="3425760"/>
            <a:ext cx="1216080" cy="79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7451640" y="4437000"/>
            <a:ext cx="1216080" cy="79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Вставьте пропущенные чис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26828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+ ( -3) = 5   13 +         = - 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4 +         = - 3  -4,5+         = 1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-0,12 +           =  3,2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5-конечная звезда 2"/>
          <p:cNvGrpSpPr/>
          <p:nvPr/>
        </p:nvGrpSpPr>
        <p:grpSpPr>
          <a:xfrm>
            <a:off x="480960" y="1627200"/>
            <a:ext cx="884160" cy="834840"/>
            <a:chOff x="480960" y="1627200"/>
            <a:chExt cx="884160" cy="834840"/>
          </a:xfrm>
        </p:grpSpPr>
        <p:pic>
          <p:nvPicPr>
            <p:cNvPr id="60" name="5-конечная звезда 2" descr=""/>
            <p:cNvPicPr/>
            <p:nvPr/>
          </p:nvPicPr>
          <p:blipFill>
            <a:blip r:embed="rId1"/>
            <a:stretch/>
          </p:blipFill>
          <p:spPr>
            <a:xfrm>
              <a:off x="480960" y="1627200"/>
              <a:ext cx="8841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76160" y="1936800"/>
              <a:ext cx="295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Прямоугольник 3"/>
          <p:cNvGrpSpPr/>
          <p:nvPr/>
        </p:nvGrpSpPr>
        <p:grpSpPr>
          <a:xfrm>
            <a:off x="268200" y="1463760"/>
            <a:ext cx="1243080" cy="1388880"/>
            <a:chOff x="268200" y="1463760"/>
            <a:chExt cx="1243080" cy="1388880"/>
          </a:xfrm>
        </p:grpSpPr>
        <p:pic>
          <p:nvPicPr>
            <p:cNvPr id="63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268200" y="1463760"/>
              <a:ext cx="1243080" cy="13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24000" y="1608120"/>
              <a:ext cx="11318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5-конечная звезда 6"/>
          <p:cNvGrpSpPr/>
          <p:nvPr/>
        </p:nvGrpSpPr>
        <p:grpSpPr>
          <a:xfrm>
            <a:off x="2000160" y="2925720"/>
            <a:ext cx="876240" cy="828720"/>
            <a:chOff x="2000160" y="2925720"/>
            <a:chExt cx="876240" cy="828720"/>
          </a:xfrm>
        </p:grpSpPr>
        <p:pic>
          <p:nvPicPr>
            <p:cNvPr id="66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2000160" y="292572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289240" y="3228840"/>
              <a:ext cx="29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Прямоугольник 7"/>
          <p:cNvGrpSpPr/>
          <p:nvPr/>
        </p:nvGrpSpPr>
        <p:grpSpPr>
          <a:xfrm>
            <a:off x="1457280" y="2828880"/>
            <a:ext cx="1650960" cy="1389240"/>
            <a:chOff x="1457280" y="2828880"/>
            <a:chExt cx="1650960" cy="1389240"/>
          </a:xfrm>
        </p:grpSpPr>
        <p:pic>
          <p:nvPicPr>
            <p:cNvPr id="69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1457280" y="2828880"/>
              <a:ext cx="165096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668600" y="2933640"/>
              <a:ext cx="1224000" cy="9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57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5-конечная звезда 8"/>
          <p:cNvGrpSpPr/>
          <p:nvPr/>
        </p:nvGrpSpPr>
        <p:grpSpPr>
          <a:xfrm>
            <a:off x="6102360" y="1579680"/>
            <a:ext cx="878040" cy="828720"/>
            <a:chOff x="6102360" y="1579680"/>
            <a:chExt cx="878040" cy="828720"/>
          </a:xfrm>
        </p:grpSpPr>
        <p:pic>
          <p:nvPicPr>
            <p:cNvPr id="72" name="5-конечная звезда 8" descr=""/>
            <p:cNvPicPr/>
            <p:nvPr/>
          </p:nvPicPr>
          <p:blipFill>
            <a:blip r:embed="rId5"/>
            <a:stretch/>
          </p:blipFill>
          <p:spPr>
            <a:xfrm>
              <a:off x="6102360" y="1579680"/>
              <a:ext cx="8780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394320" y="1882800"/>
              <a:ext cx="293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4" name="5-конечная звезда 9"/>
          <p:cNvGrpSpPr/>
          <p:nvPr/>
        </p:nvGrpSpPr>
        <p:grpSpPr>
          <a:xfrm>
            <a:off x="6242040" y="3060720"/>
            <a:ext cx="884160" cy="828720"/>
            <a:chOff x="6242040" y="3060720"/>
            <a:chExt cx="884160" cy="828720"/>
          </a:xfrm>
        </p:grpSpPr>
        <p:pic>
          <p:nvPicPr>
            <p:cNvPr id="75" name="5-конечная звезда 9" descr=""/>
            <p:cNvPicPr/>
            <p:nvPr/>
          </p:nvPicPr>
          <p:blipFill>
            <a:blip r:embed="rId6"/>
            <a:stretch/>
          </p:blipFill>
          <p:spPr>
            <a:xfrm>
              <a:off x="6242040" y="3060720"/>
              <a:ext cx="88416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539040" y="3365640"/>
              <a:ext cx="2934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" name="5-конечная звезда 10"/>
          <p:cNvGrpSpPr/>
          <p:nvPr/>
        </p:nvGrpSpPr>
        <p:grpSpPr>
          <a:xfrm>
            <a:off x="3724200" y="4406760"/>
            <a:ext cx="1023840" cy="830520"/>
            <a:chOff x="3724200" y="4406760"/>
            <a:chExt cx="1023840" cy="830520"/>
          </a:xfrm>
        </p:grpSpPr>
        <p:pic>
          <p:nvPicPr>
            <p:cNvPr id="78" name="5-конечная звезда 10" descr=""/>
            <p:cNvPicPr/>
            <p:nvPr/>
          </p:nvPicPr>
          <p:blipFill>
            <a:blip r:embed="rId7"/>
            <a:stretch/>
          </p:blipFill>
          <p:spPr>
            <a:xfrm>
              <a:off x="3724200" y="4406760"/>
              <a:ext cx="1023840" cy="8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062240" y="4711680"/>
              <a:ext cx="34956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" name="Прямоугольник 12"/>
          <p:cNvGrpSpPr/>
          <p:nvPr/>
        </p:nvGrpSpPr>
        <p:grpSpPr>
          <a:xfrm>
            <a:off x="5718240" y="1444680"/>
            <a:ext cx="1652400" cy="1390680"/>
            <a:chOff x="5718240" y="1444680"/>
            <a:chExt cx="1652400" cy="1390680"/>
          </a:xfrm>
        </p:grpSpPr>
        <p:pic>
          <p:nvPicPr>
            <p:cNvPr id="81" name="Прямоугольник 12" descr=""/>
            <p:cNvPicPr/>
            <p:nvPr/>
          </p:nvPicPr>
          <p:blipFill>
            <a:blip r:embed="rId8"/>
            <a:stretch/>
          </p:blipFill>
          <p:spPr>
            <a:xfrm>
              <a:off x="5718240" y="1444680"/>
              <a:ext cx="16524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929200" y="1550880"/>
              <a:ext cx="12240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-18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Прямоугольник 13"/>
          <p:cNvGrpSpPr/>
          <p:nvPr/>
        </p:nvGrpSpPr>
        <p:grpSpPr>
          <a:xfrm>
            <a:off x="5718240" y="2846520"/>
            <a:ext cx="1931760" cy="1390680"/>
            <a:chOff x="5718240" y="2846520"/>
            <a:chExt cx="1931760" cy="1390680"/>
          </a:xfrm>
        </p:grpSpPr>
        <p:pic>
          <p:nvPicPr>
            <p:cNvPr id="84" name="Прямоугольник 13" descr=""/>
            <p:cNvPicPr/>
            <p:nvPr/>
          </p:nvPicPr>
          <p:blipFill>
            <a:blip r:embed="rId9"/>
            <a:stretch/>
          </p:blipFill>
          <p:spPr>
            <a:xfrm>
              <a:off x="5718240" y="2846520"/>
              <a:ext cx="19317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000840" y="2954160"/>
              <a:ext cx="1368360" cy="93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15,5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Прямоугольник 14"/>
          <p:cNvGrpSpPr/>
          <p:nvPr/>
        </p:nvGrpSpPr>
        <p:grpSpPr>
          <a:xfrm>
            <a:off x="3267000" y="4224240"/>
            <a:ext cx="1933560" cy="1390680"/>
            <a:chOff x="3267000" y="4224240"/>
            <a:chExt cx="1933560" cy="1390680"/>
          </a:xfrm>
        </p:grpSpPr>
        <p:pic>
          <p:nvPicPr>
            <p:cNvPr id="87" name="Прямоугольник 14" descr=""/>
            <p:cNvPicPr/>
            <p:nvPr/>
          </p:nvPicPr>
          <p:blipFill>
            <a:blip r:embed="rId10"/>
            <a:stretch/>
          </p:blipFill>
          <p:spPr>
            <a:xfrm>
              <a:off x="3267000" y="4224240"/>
              <a:ext cx="19335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552840" y="4327560"/>
              <a:ext cx="136836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Calibri"/>
                </a:rPr>
                <a:t>3,36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ибавь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– 5 и -31 число 10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числу 6,5 сумму -3,2 и 9,5;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к сумме 12 и -7 сумму-2,3 и -5,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68360" y="1773360"/>
            <a:ext cx="7991280" cy="1150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-5 + (-31)) + 10 = - 36 +10 = -2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74840" y="3213000"/>
            <a:ext cx="7992720" cy="11527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,5 + (- 3,2 + 9,5 )= 6,5+6,3=12,8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514440" y="4653000"/>
            <a:ext cx="7993080" cy="1152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12 + (-7)) +(-2,3+(-5,7))=5+(-8)=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Найдите значени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2" descr=""/>
          <p:cNvPicPr/>
          <p:nvPr/>
        </p:nvPicPr>
        <p:blipFill>
          <a:blip r:embed="rId1"/>
          <a:stretch/>
        </p:blipFill>
        <p:spPr>
          <a:xfrm>
            <a:off x="324000" y="1542960"/>
            <a:ext cx="8362800" cy="4583160"/>
          </a:xfrm>
          <a:prstGeom prst="rect">
            <a:avLst/>
          </a:prstGeom>
          <a:ln w="0">
            <a:noFill/>
          </a:ln>
        </p:spPr>
      </p:pic>
      <p:sp>
        <p:nvSpPr>
          <p:cNvPr id="96" name="Скругленный прямоугольник 3"/>
          <p:cNvSpPr/>
          <p:nvPr/>
        </p:nvSpPr>
        <p:spPr>
          <a:xfrm>
            <a:off x="5526000" y="242100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- 8.5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4"/>
          <p:cNvSpPr/>
          <p:nvPr/>
        </p:nvSpPr>
        <p:spPr>
          <a:xfrm>
            <a:off x="5529240" y="3500280"/>
            <a:ext cx="22320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20,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кругленный прямоугольник 5" descr=""/>
          <p:cNvPicPr/>
          <p:nvPr/>
        </p:nvPicPr>
        <p:blipFill>
          <a:blip r:embed="rId2"/>
          <a:stretch/>
        </p:blipFill>
        <p:spPr>
          <a:xfrm>
            <a:off x="5516640" y="4651200"/>
            <a:ext cx="22320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324000" y="1133640"/>
            <a:ext cx="83628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Объект 2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838188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02:33:33Z</dcterms:created>
  <dc:creator>user</dc:creator>
  <dc:description/>
  <dc:language>en-US</dc:language>
  <cp:lastModifiedBy>user</cp:lastModifiedBy>
  <dcterms:modified xsi:type="dcterms:W3CDTF">2012-03-19T09:43:10Z</dcterms:modified>
  <cp:revision>27</cp:revision>
  <dc:subject/>
  <dc:title>Сложение чисел с разными знаками</dc:title>
</cp:coreProperties>
</file>