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70D-D0FE-4783-AF6B-307085C5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322-734E-410F-B977-44E19DB0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F99-2CFB-437D-B9D8-F4BD479C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816-70D0-49D8-AED8-C0F1849A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5E2-1C7E-482C-A848-C3B30858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F42-2C01-4E01-A8C1-B2082EC9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C9A-83DE-4229-B5D4-78CDF48D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315-6A22-4636-87CB-2C53D37F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E32-A420-4C4E-9F38-8C510A1A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C29-6866-4C10-9A27-FE71C030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E20-97B0-4631-989B-94D333FF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45B-41B6-47E1-9295-916775B3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BCCA-3E06-41BD-93F9-EFA0398DCE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Сложение чисел с разными знака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КОУ « Москаленский лиц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Бадюк Ольга Яросла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помн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Чтобы сложить два числа с разны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знаками: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з большего модуля слагаемых вычесть меньш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ставить перед полученным числом знак того слагаемого, модуль которого больш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креп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 + ( - 3) = + ( 7 - 3) =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,5 + (- 7,3) = -(7,3-5,5) = -1,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32 + 11 = - ( 32 - 11) = - 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412640"/>
            <a:ext cx="86407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8 + 6 =           -4 + 1,4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5 + 5 =           5,1+(-8,4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9+(–2)=         8,1+(-4,1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12+(-4)=          1,2+(-3,2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3"/>
          <p:cNvSpPr/>
          <p:nvPr/>
        </p:nvSpPr>
        <p:spPr>
          <a:xfrm>
            <a:off x="2711520" y="1484280"/>
            <a:ext cx="141768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2700360" y="2421000"/>
            <a:ext cx="141912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2700360" y="3425760"/>
            <a:ext cx="144000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2811600" y="4473720"/>
            <a:ext cx="1417680" cy="8632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7361280" y="1550880"/>
            <a:ext cx="12952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,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7451640" y="249228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3,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7451640" y="342576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7451640" y="4437000"/>
            <a:ext cx="1216080" cy="79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ставьте пропущенны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26828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( -3) = 5   13 +         = -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4 +         = - 3  -4,5+         = 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0,12 +           =  3,2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5-конечная звезда 2"/>
          <p:cNvGrpSpPr/>
          <p:nvPr/>
        </p:nvGrpSpPr>
        <p:grpSpPr>
          <a:xfrm>
            <a:off x="480960" y="1627200"/>
            <a:ext cx="884160" cy="834840"/>
            <a:chOff x="480960" y="1627200"/>
            <a:chExt cx="884160" cy="834840"/>
          </a:xfrm>
        </p:grpSpPr>
        <p:pic>
          <p:nvPicPr>
            <p:cNvPr id="60" name="5-конечная звезда 2" descr=""/>
            <p:cNvPicPr/>
            <p:nvPr/>
          </p:nvPicPr>
          <p:blipFill>
            <a:blip r:embed="rId1"/>
            <a:stretch/>
          </p:blipFill>
          <p:spPr>
            <a:xfrm>
              <a:off x="480960" y="1627200"/>
              <a:ext cx="884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6160" y="1936800"/>
              <a:ext cx="29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Прямоугольник 3"/>
          <p:cNvGrpSpPr/>
          <p:nvPr/>
        </p:nvGrpSpPr>
        <p:grpSpPr>
          <a:xfrm>
            <a:off x="268200" y="1463760"/>
            <a:ext cx="1243080" cy="1388880"/>
            <a:chOff x="268200" y="1463760"/>
            <a:chExt cx="1243080" cy="138888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68200" y="1463760"/>
              <a:ext cx="1243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4000" y="1608120"/>
              <a:ext cx="11318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5-конечная звезда 6"/>
          <p:cNvGrpSpPr/>
          <p:nvPr/>
        </p:nvGrpSpPr>
        <p:grpSpPr>
          <a:xfrm>
            <a:off x="2000160" y="2925720"/>
            <a:ext cx="876240" cy="828720"/>
            <a:chOff x="2000160" y="2925720"/>
            <a:chExt cx="876240" cy="828720"/>
          </a:xfrm>
        </p:grpSpPr>
        <p:pic>
          <p:nvPicPr>
            <p:cNvPr id="66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2000160" y="2925720"/>
              <a:ext cx="876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289240" y="3228840"/>
              <a:ext cx="29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Прямоугольник 7"/>
          <p:cNvGrpSpPr/>
          <p:nvPr/>
        </p:nvGrpSpPr>
        <p:grpSpPr>
          <a:xfrm>
            <a:off x="1457280" y="2828880"/>
            <a:ext cx="1650960" cy="1389240"/>
            <a:chOff x="1457280" y="2828880"/>
            <a:chExt cx="1650960" cy="1389240"/>
          </a:xfrm>
        </p:grpSpPr>
        <p:pic>
          <p:nvPicPr>
            <p:cNvPr id="69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457280" y="2828880"/>
              <a:ext cx="16509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668600" y="2933640"/>
              <a:ext cx="12240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57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5-конечная звезда 8"/>
          <p:cNvGrpSpPr/>
          <p:nvPr/>
        </p:nvGrpSpPr>
        <p:grpSpPr>
          <a:xfrm>
            <a:off x="6102360" y="1579680"/>
            <a:ext cx="878040" cy="828720"/>
            <a:chOff x="6102360" y="1579680"/>
            <a:chExt cx="878040" cy="828720"/>
          </a:xfrm>
        </p:grpSpPr>
        <p:pic>
          <p:nvPicPr>
            <p:cNvPr id="72" name="5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1579680"/>
              <a:ext cx="878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394320" y="1882800"/>
              <a:ext cx="29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5-конечная звезда 9"/>
          <p:cNvGrpSpPr/>
          <p:nvPr/>
        </p:nvGrpSpPr>
        <p:grpSpPr>
          <a:xfrm>
            <a:off x="6242040" y="3060720"/>
            <a:ext cx="884160" cy="828720"/>
            <a:chOff x="6242040" y="3060720"/>
            <a:chExt cx="884160" cy="828720"/>
          </a:xfrm>
        </p:grpSpPr>
        <p:pic>
          <p:nvPicPr>
            <p:cNvPr id="75" name="5-конечная звезда 9" descr=""/>
            <p:cNvPicPr/>
            <p:nvPr/>
          </p:nvPicPr>
          <p:blipFill>
            <a:blip r:embed="rId6"/>
            <a:stretch/>
          </p:blipFill>
          <p:spPr>
            <a:xfrm>
              <a:off x="6242040" y="3060720"/>
              <a:ext cx="884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539040" y="336564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5-конечная звезда 10"/>
          <p:cNvGrpSpPr/>
          <p:nvPr/>
        </p:nvGrpSpPr>
        <p:grpSpPr>
          <a:xfrm>
            <a:off x="3724200" y="4406760"/>
            <a:ext cx="1023840" cy="830520"/>
            <a:chOff x="3724200" y="4406760"/>
            <a:chExt cx="1023840" cy="830520"/>
          </a:xfrm>
        </p:grpSpPr>
        <p:pic>
          <p:nvPicPr>
            <p:cNvPr id="78" name="5-конечная звезда 10" descr=""/>
            <p:cNvPicPr/>
            <p:nvPr/>
          </p:nvPicPr>
          <p:blipFill>
            <a:blip r:embed="rId7"/>
            <a:stretch/>
          </p:blipFill>
          <p:spPr>
            <a:xfrm>
              <a:off x="3724200" y="4406760"/>
              <a:ext cx="10238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062240" y="4711680"/>
              <a:ext cx="349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Прямоугольник 12"/>
          <p:cNvGrpSpPr/>
          <p:nvPr/>
        </p:nvGrpSpPr>
        <p:grpSpPr>
          <a:xfrm>
            <a:off x="5718240" y="1444680"/>
            <a:ext cx="1652400" cy="1390680"/>
            <a:chOff x="5718240" y="1444680"/>
            <a:chExt cx="1652400" cy="1390680"/>
          </a:xfrm>
        </p:grpSpPr>
        <p:pic>
          <p:nvPicPr>
            <p:cNvPr id="81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5718240" y="1444680"/>
              <a:ext cx="16524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29200" y="1550880"/>
              <a:ext cx="1224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1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13"/>
          <p:cNvGrpSpPr/>
          <p:nvPr/>
        </p:nvGrpSpPr>
        <p:grpSpPr>
          <a:xfrm>
            <a:off x="5718240" y="2846520"/>
            <a:ext cx="1931760" cy="1390680"/>
            <a:chOff x="5718240" y="2846520"/>
            <a:chExt cx="1931760" cy="1390680"/>
          </a:xfrm>
        </p:grpSpPr>
        <p:pic>
          <p:nvPicPr>
            <p:cNvPr id="84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718240" y="2846520"/>
              <a:ext cx="19317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00840" y="2954160"/>
              <a:ext cx="136836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15,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Прямоугольник 14"/>
          <p:cNvGrpSpPr/>
          <p:nvPr/>
        </p:nvGrpSpPr>
        <p:grpSpPr>
          <a:xfrm>
            <a:off x="3267000" y="4224240"/>
            <a:ext cx="1933560" cy="1390680"/>
            <a:chOff x="3267000" y="4224240"/>
            <a:chExt cx="1933560" cy="1390680"/>
          </a:xfrm>
        </p:grpSpPr>
        <p:pic>
          <p:nvPicPr>
            <p:cNvPr id="87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3267000" y="4224240"/>
              <a:ext cx="1933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552840" y="4327560"/>
              <a:ext cx="1368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3,36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ибав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– 5 и -31 число 10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числу 6,5 сумму -3,2 и 9,5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12 и -7 сумму-2,3 и -5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68360" y="1773360"/>
            <a:ext cx="7991280" cy="1150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-5 + (-31)) + 10 = - 36 +10 = -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74840" y="3213000"/>
            <a:ext cx="7992720" cy="1152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,5 + (- 3,2 + 9,5 )= 6,5+6,3=12,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514440" y="4653000"/>
            <a:ext cx="7993080" cy="115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 + (-7)) +(-2,3+(-5,7))=5+(-8)=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5526000" y="242100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- 8.5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5529240" y="350028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20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5516640" y="4651200"/>
            <a:ext cx="223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324000" y="1133640"/>
            <a:ext cx="83628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8381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2:33:33Z</dcterms:created>
  <dc:creator>user</dc:creator>
  <dc:description/>
  <dc:language>en-US</dc:language>
  <cp:lastModifiedBy>user</cp:lastModifiedBy>
  <dcterms:modified xsi:type="dcterms:W3CDTF">2012-03-19T09:43:10Z</dcterms:modified>
  <cp:revision>27</cp:revision>
  <dc:subject/>
  <dc:title>Сложение чисел с разными знаками</dc:title>
</cp:coreProperties>
</file>