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jpeg" ContentType="image/jpeg"/>
  <Override PartName="/ppt/media/image23.jpeg" ContentType="image/jpeg"/>
  <Override PartName="/ppt/media/image25.jpeg" ContentType="image/jpeg"/>
  <Override PartName="/ppt/media/image10.wmf" ContentType="image/x-wmf"/>
  <Override PartName="/ppt/media/image31.jpeg" ContentType="image/jpeg"/>
  <Override PartName="/ppt/media/image4.jpeg" ContentType="image/jpeg"/>
  <Override PartName="/ppt/media/image8.jpeg" ContentType="image/jpeg"/>
  <Override PartName="/ppt/media/image13.jpeg" ContentType="image/jpeg"/>
  <Override PartName="/ppt/media/image20.wmf" ContentType="image/x-wmf"/>
  <Override PartName="/ppt/media/image26.jpeg" ContentType="image/jpeg"/>
  <Override PartName="/ppt/media/image18.wmf" ContentType="image/x-wmf"/>
  <Override PartName="/ppt/media/image5.jpeg" ContentType="image/jpeg"/>
  <Override PartName="/ppt/media/image2.gif" ContentType="image/gif"/>
  <Override PartName="/ppt/media/image32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9.wmf" ContentType="image/x-wmf"/>
  <Override PartName="/ppt/media/image21.wmf" ContentType="image/x-wmf"/>
  <Override PartName="/ppt/media/image6.jpeg" ContentType="image/jpeg"/>
  <Override PartName="/ppt/media/image2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4883-6930-4EAE-B063-B18A6662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6990-0591-400B-AC11-95BB25AF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BC9-7176-4250-B7EE-91B58A28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969-6E01-4778-AC85-DCB0E322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093E-4E32-4C6C-B1FB-1F2F14AD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8B76-97F7-41BC-9CD1-429199AD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A418-6744-45BB-8BCB-5C727606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7924-C719-4A5E-8343-73FC8703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D8D4-E10F-4821-924E-FA11DDED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0139-E0FD-4966-99B5-3848CBF9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2158-9E5F-4836-965E-5E34A02E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DCB2-30EE-4490-8A08-FCBA027C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E63A-1993-43D9-9C7F-DED5E8E5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9308-B56F-41D5-BDA6-2730D2C6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B308-62D2-4AF4-B1E5-BF5F1938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955C-FE0D-4F35-8C0C-ADFF39FD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21BC-33CE-41E8-A830-9F30E5CE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A296D-4051-4286-8BA3-ABBDE9EE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D3544-52DA-4273-8A29-BB41D62D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100B2-DB0F-4316-87BC-5FF05A93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17B4E-259F-4743-9B2F-D915C254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417C3-CE94-42D7-97D4-390425C9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19E-514A-4827-85B6-B14E40C3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1767D-877D-49EE-BC9D-F05B268B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39286-6501-4331-8292-64E36F92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49902-6F40-4E11-8FC8-50A3F86C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73951-4BEF-46FB-B747-9C673D60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029E9-35DF-4D0B-BDAD-3EC581D1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9A662-1AF7-4CD8-B66A-96BC937E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5AF2E-2035-4433-B4A3-FADC451E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FD3B-EE50-4217-9CFD-27C3766E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211E-B6AA-47C1-A633-2AA8FA06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B623-61AC-4C70-BD9F-3F091FA7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5874-16E8-4F95-AAD0-3A4F4236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AC78-6172-4E97-A4C2-DDD0DA2C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9052-797E-40E5-81CE-37ABF6FD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44D9-715C-4B35-B7C7-5842A4389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B054-A482-4D5A-AC30-1730506277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E9E4-D6F7-4093-AFDC-DD42826AAFB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Внутренние воды Северной Америки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212720" y="3886200"/>
            <a:ext cx="3559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кт – комплект по курсу географии материков и океанов подготовлен Ореховой О.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MMj02852480000[1]"/>
          <p:cNvPicPr/>
          <p:nvPr/>
        </p:nvPicPr>
        <p:blipFill>
          <a:blip r:embed="rId2"/>
          <a:stretch/>
        </p:blipFill>
        <p:spPr>
          <a:xfrm>
            <a:off x="324000" y="3716280"/>
            <a:ext cx="3600360" cy="2592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MCj02291130000[1]"/>
          <p:cNvPicPr/>
          <p:nvPr/>
        </p:nvPicPr>
        <p:blipFill>
          <a:blip r:embed="rId3"/>
          <a:stretch/>
        </p:blipFill>
        <p:spPr>
          <a:xfrm>
            <a:off x="4284720" y="260280"/>
            <a:ext cx="4248000" cy="1873440"/>
          </a:xfrm>
          <a:prstGeom prst="rect">
            <a:avLst/>
          </a:prstGeom>
          <a:ln w="0">
            <a:noFill/>
          </a:ln>
        </p:spPr>
      </p:pic>
      <p:sp>
        <p:nvSpPr>
          <p:cNvPr id="133" name="Рамка 5"/>
          <p:cNvSpPr/>
          <p:nvPr/>
        </p:nvSpPr>
        <p:spPr>
          <a:xfrm>
            <a:off x="3714840" y="6429240"/>
            <a:ext cx="2714400" cy="4287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ордильерах много озер вулканического и ледникового происхо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внутренних плоскогорьях встречаются мелководные засоленные озера. Это остатки крупных водоемов, которые существовали здесь при более влажном климате. Многие озера покрыты коркой соли. Самое крупное из них – Большое Соленое озе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леность – от 137 до 300 пром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Гурон"/>
          <p:cNvPicPr/>
          <p:nvPr/>
        </p:nvPicPr>
        <p:blipFill>
          <a:blip r:embed="rId2"/>
          <a:stretch/>
        </p:blipFill>
        <p:spPr>
          <a:xfrm>
            <a:off x="4859280" y="1916280"/>
            <a:ext cx="3889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южной окраине Канадского щита находится Великие Североамериканские озер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убина озер значительная, у Верхнего она достигает 393 м. По обьему воды все озера превосходят Балтийское море. Они круглогодично используются как транспортные пути, так как и зимой озера не замерзают.  Почему?                        оз. Мичи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Верхнее                      оз. Онтар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Гу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. Э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Мичиган"/>
          <p:cNvPicPr/>
          <p:nvPr/>
        </p:nvPicPr>
        <p:blipFill>
          <a:blip r:embed="rId2"/>
          <a:stretch/>
        </p:blipFill>
        <p:spPr>
          <a:xfrm>
            <a:off x="6480000" y="2565360"/>
            <a:ext cx="2664000" cy="1368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Онтарио"/>
          <p:cNvPicPr/>
          <p:nvPr/>
        </p:nvPicPr>
        <p:blipFill>
          <a:blip r:embed="rId3"/>
          <a:stretch/>
        </p:blipFill>
        <p:spPr>
          <a:xfrm>
            <a:off x="2627280" y="3068640"/>
            <a:ext cx="3276720" cy="2016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Верхнее"/>
          <p:cNvPicPr/>
          <p:nvPr/>
        </p:nvPicPr>
        <p:blipFill>
          <a:blip r:embed="rId4"/>
          <a:stretch/>
        </p:blipFill>
        <p:spPr>
          <a:xfrm>
            <a:off x="250920" y="2708280"/>
            <a:ext cx="2232000" cy="2017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Гурон"/>
          <p:cNvPicPr/>
          <p:nvPr/>
        </p:nvPicPr>
        <p:blipFill>
          <a:blip r:embed="rId5"/>
          <a:stretch/>
        </p:blipFill>
        <p:spPr>
          <a:xfrm>
            <a:off x="6516720" y="4724280"/>
            <a:ext cx="2376360" cy="1800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Круизы по озерам"/>
          <p:cNvPicPr/>
          <p:nvPr/>
        </p:nvPicPr>
        <p:blipFill>
          <a:blip r:embed="rId6"/>
          <a:stretch/>
        </p:blipFill>
        <p:spPr>
          <a:xfrm>
            <a:off x="1619280" y="5229360"/>
            <a:ext cx="2736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еликие Североамериканские озера соединены между собой короткими ре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озера Эри в Онтарио течет бурная река Ниагара, на которой образовался водоп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1" descr="Север"/>
          <p:cNvPicPr/>
          <p:nvPr/>
        </p:nvPicPr>
        <p:blipFill>
          <a:blip r:embed="rId2"/>
          <a:stretch/>
        </p:blipFill>
        <p:spPr>
          <a:xfrm>
            <a:off x="684360" y="4076640"/>
            <a:ext cx="3816360" cy="223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5" descr="MMj02852480000[1]"/>
          <p:cNvPicPr/>
          <p:nvPr/>
        </p:nvPicPr>
        <p:blipFill>
          <a:blip r:embed="rId3"/>
          <a:stretch/>
        </p:blipFill>
        <p:spPr>
          <a:xfrm>
            <a:off x="755640" y="1484280"/>
            <a:ext cx="3745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ИАГАРСКИЙ ВОДОП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Выполнила Антипенко Анастас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ученица 7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МОУ «Гимназии искусств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5435640" y="907920"/>
            <a:ext cx="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1" descr="MPj04005500000[1]"/>
          <p:cNvPicPr/>
          <p:nvPr/>
        </p:nvPicPr>
        <p:blipFill>
          <a:blip r:embed="rId1"/>
          <a:stretch/>
        </p:blipFill>
        <p:spPr>
          <a:xfrm>
            <a:off x="468360" y="1628640"/>
            <a:ext cx="39020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Forte"/>
              </a:rPr>
              <a:t>НИАГАРСКИЙ ВОДОПАД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2920" y="1600200"/>
            <a:ext cx="403236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 озера Эри в Онтарио течет бурная река Ниагара, на которой образовался водопад высотой 50 м (десятиэтажный дом) и шириной более 1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Река Ниагара – единственный путь, по которому устремляются воды четырех величайших озер: Верхнего, Мичиган, Гурона и Э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9" descr="MCj04060620000[1]"/>
          <p:cNvPicPr/>
          <p:nvPr/>
        </p:nvPicPr>
        <p:blipFill>
          <a:blip r:embed="rId1"/>
          <a:stretch/>
        </p:blipFill>
        <p:spPr>
          <a:xfrm>
            <a:off x="395280" y="1413000"/>
            <a:ext cx="4105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485800"/>
            <a:ext cx="403848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Шум Ниагарского водопада слышен на расстоян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25 к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«</a:t>
            </a:r>
            <a:r>
              <a:rPr b="1" i="1" lang="en-US" sz="4800" spc="-1" strike="noStrike">
                <a:solidFill>
                  <a:srgbClr val="ff33cc"/>
                </a:solidFill>
                <a:latin typeface="Tahoma"/>
              </a:rPr>
              <a:t>Ниагар</a:t>
            </a:r>
            <a:r>
              <a:rPr b="1" i="1" lang="en-US" sz="4400" spc="-1" strike="noStrike">
                <a:solidFill>
                  <a:srgbClr val="ff33cc"/>
                </a:solidFill>
                <a:latin typeface="Tahoma"/>
              </a:rPr>
              <a:t>а</a:t>
            </a:r>
            <a:r>
              <a:rPr b="1" i="1" lang="en-US" sz="4000" spc="-1" strike="noStrike">
                <a:solidFill>
                  <a:srgbClr val="ff33cc"/>
                </a:solidFill>
                <a:latin typeface="Tahoma"/>
              </a:rPr>
              <a:t>»</a:t>
            </a: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 - индийское слово, в переводе означает </a:t>
            </a:r>
            <a:r>
              <a:rPr b="1" i="1" lang="en-US" sz="4400" spc="-1" strike="noStrike">
                <a:solidFill>
                  <a:srgbClr val="ff33cc"/>
                </a:solidFill>
                <a:latin typeface="Tahoma"/>
              </a:rPr>
              <a:t>«грохочущая вода»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7" name="Picture 11" descr="MPj04005500000[1]"/>
          <p:cNvPicPr/>
          <p:nvPr/>
        </p:nvPicPr>
        <p:blipFill>
          <a:blip r:embed="rId1"/>
          <a:stretch/>
        </p:blipFill>
        <p:spPr>
          <a:xfrm>
            <a:off x="4356000" y="2421000"/>
            <a:ext cx="4262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Образование водопад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352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924000" y="162864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Ниагара несется широким и спокойным протоком, пока не встречает большой уступ. Тут течение становится быстрее и, наконец, вся масса воды низвергается с высоты десятиэтажного дома. Перед уступом из пенящихся вод реки выдвигается небольшой островок. Он весь зарос густым лесом. Говорят, что на этом острове жило когда – то стадо диких коз; они погибли во время одной суровой зимы. </a:t>
            </a:r>
            <a:r>
              <a:rPr b="1" i="1" lang="en-US" sz="2000" spc="-1" strike="noStrike" u="sng">
                <a:solidFill>
                  <a:srgbClr val="ff33cc"/>
                </a:solidFill>
                <a:uFillTx/>
                <a:latin typeface="Tahoma"/>
              </a:rPr>
              <a:t>Отсюда и весь островок получил название Козьего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.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7" descr="MCj04081680000[1]"/>
          <p:cNvPicPr/>
          <p:nvPr/>
        </p:nvPicPr>
        <p:blipFill>
          <a:blip r:embed="rId1"/>
          <a:stretch/>
        </p:blipFill>
        <p:spPr>
          <a:xfrm>
            <a:off x="179280" y="1484280"/>
            <a:ext cx="35895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Раздвоенная Козьим островком, река низвергается двумя потоками: правый принадлежит США, а левый – Канад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3" name="AutoShape 19"/>
          <p:cNvSpPr/>
          <p:nvPr/>
        </p:nvSpPr>
        <p:spPr>
          <a:xfrm>
            <a:off x="3276720" y="2492280"/>
            <a:ext cx="3311280" cy="10080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иагарский 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0"/>
          <p:cNvSpPr/>
          <p:nvPr/>
        </p:nvSpPr>
        <p:spPr>
          <a:xfrm>
            <a:off x="250920" y="4149720"/>
            <a:ext cx="3529080" cy="1368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над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1"/>
          <p:cNvSpPr/>
          <p:nvPr/>
        </p:nvSpPr>
        <p:spPr>
          <a:xfrm>
            <a:off x="5364000" y="4292640"/>
            <a:ext cx="3529080" cy="1224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мерика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о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>
            <a:off x="3276720" y="3573360"/>
            <a:ext cx="431640" cy="647640"/>
          </a:xfrm>
          <a:prstGeom prst="downArrow">
            <a:avLst>
              <a:gd name="adj1" fmla="val 50000"/>
              <a:gd name="adj2" fmla="val 3751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5"/>
          <p:cNvSpPr/>
          <p:nvPr/>
        </p:nvSpPr>
        <p:spPr>
          <a:xfrm>
            <a:off x="6012000" y="3573360"/>
            <a:ext cx="504720" cy="647640"/>
          </a:xfrm>
          <a:prstGeom prst="downArrow">
            <a:avLst>
              <a:gd name="adj1" fmla="val 50000"/>
              <a:gd name="adj2" fmla="val 32079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6" descr="MCj02829340000[1]"/>
          <p:cNvPicPr/>
          <p:nvPr/>
        </p:nvPicPr>
        <p:blipFill>
          <a:blip r:embed="rId1"/>
          <a:stretch/>
        </p:blipFill>
        <p:spPr>
          <a:xfrm>
            <a:off x="250920" y="2133720"/>
            <a:ext cx="2324160" cy="1839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7" descr="MCj01836160000[1]"/>
          <p:cNvPicPr/>
          <p:nvPr/>
        </p:nvPicPr>
        <p:blipFill>
          <a:blip r:embed="rId2"/>
          <a:stretch/>
        </p:blipFill>
        <p:spPr>
          <a:xfrm>
            <a:off x="6732720" y="2060640"/>
            <a:ext cx="2160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облема Ниагарского водопада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ка Ниагара пропилила холмистую возвышенность, сложенную известняками, и соединили озера Эри и Онтарио. Срываясь с крутого уступа, она образует водопад.Так как вода разрушает известняки, то водопад медленно отступает к озеру Эри. Необходимо вмешательство людей, чтобы сохранить этот уникальный объект природ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4" descr="MCj02005510000[1]"/>
          <p:cNvPicPr/>
          <p:nvPr/>
        </p:nvPicPr>
        <p:blipFill>
          <a:blip r:embed="rId1"/>
          <a:stretch/>
        </p:blipFill>
        <p:spPr>
          <a:xfrm>
            <a:off x="4500720" y="4076640"/>
            <a:ext cx="3743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материка характерно современное оледенение, площадь которого более 2 млн. кв. к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6"/>
          <p:cNvSpPr/>
          <p:nvPr/>
        </p:nvSpPr>
        <p:spPr>
          <a:xfrm>
            <a:off x="2050920" y="1773360"/>
            <a:ext cx="4681800" cy="15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ременное оледе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р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чины: низкие температу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ильные снегоп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179280" y="3860640"/>
            <a:ext cx="3745080" cy="25927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кровные 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ренланд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ад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ктиче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рхипе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4788000" y="3933720"/>
            <a:ext cx="3527280" cy="23749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орные 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дильер, Аляс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н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2"/>
          <p:cNvSpPr/>
          <p:nvPr/>
        </p:nvSpPr>
        <p:spPr>
          <a:xfrm flipH="1">
            <a:off x="2484360" y="3284640"/>
            <a:ext cx="43200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5867280" y="3284640"/>
            <a:ext cx="57636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ими внутренними водами представлен материк Северная Амери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85186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179280" y="2349360"/>
            <a:ext cx="216072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2700360" y="2349360"/>
            <a:ext cx="1871640" cy="5050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з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8"/>
          <p:cNvSpPr/>
          <p:nvPr/>
        </p:nvSpPr>
        <p:spPr>
          <a:xfrm>
            <a:off x="5364000" y="2421000"/>
            <a:ext cx="2159280" cy="503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9"/>
          <p:cNvSpPr/>
          <p:nvPr/>
        </p:nvSpPr>
        <p:spPr>
          <a:xfrm>
            <a:off x="5003640" y="5805360"/>
            <a:ext cx="2953080" cy="719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олетня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рз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1" descr="Америка"/>
          <p:cNvPicPr/>
          <p:nvPr/>
        </p:nvPicPr>
        <p:blipFill>
          <a:blip r:embed="rId2"/>
          <a:stretch/>
        </p:blipFill>
        <p:spPr>
          <a:xfrm>
            <a:off x="179280" y="3068640"/>
            <a:ext cx="1944720" cy="2160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2" descr="Гурон"/>
          <p:cNvPicPr/>
          <p:nvPr/>
        </p:nvPicPr>
        <p:blipFill>
          <a:blip r:embed="rId3"/>
          <a:stretch/>
        </p:blipFill>
        <p:spPr>
          <a:xfrm>
            <a:off x="2340000" y="2997360"/>
            <a:ext cx="2263680" cy="2160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3" descr="ледник"/>
          <p:cNvPicPr/>
          <p:nvPr/>
        </p:nvPicPr>
        <p:blipFill>
          <a:blip r:embed="rId4"/>
          <a:stretch/>
        </p:blipFill>
        <p:spPr>
          <a:xfrm>
            <a:off x="5076720" y="2997360"/>
            <a:ext cx="3024360" cy="1066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4" descr="мерзлота картинка"/>
          <p:cNvPicPr/>
          <p:nvPr/>
        </p:nvPicPr>
        <p:blipFill>
          <a:blip r:embed="rId5"/>
          <a:stretch/>
        </p:blipFill>
        <p:spPr>
          <a:xfrm>
            <a:off x="5076720" y="4365720"/>
            <a:ext cx="30243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временное оледенение матер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ренландия (покровный ледник).            Горный ледник сполза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 межгорным долина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стами достигают океа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орный ледник.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Гренландия"/>
          <p:cNvPicPr/>
          <p:nvPr/>
        </p:nvPicPr>
        <p:blipFill>
          <a:blip r:embed="rId2"/>
          <a:stretch/>
        </p:blipFill>
        <p:spPr>
          <a:xfrm>
            <a:off x="826920" y="1989000"/>
            <a:ext cx="4032360" cy="2376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Долинный ледник самый крупный"/>
          <p:cNvPicPr/>
          <p:nvPr/>
        </p:nvPicPr>
        <p:blipFill>
          <a:blip r:embed="rId3"/>
          <a:stretch/>
        </p:blipFill>
        <p:spPr>
          <a:xfrm>
            <a:off x="5364000" y="2781360"/>
            <a:ext cx="3306960" cy="1727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ледник"/>
          <p:cNvPicPr/>
          <p:nvPr/>
        </p:nvPicPr>
        <p:blipFill>
          <a:blip r:embed="rId4"/>
          <a:stretch/>
        </p:blipFill>
        <p:spPr>
          <a:xfrm>
            <a:off x="2987640" y="4797360"/>
            <a:ext cx="3743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 севере материка распространена многолетняя мерзл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пространение многолетней                Многолетняя мерзл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злоты (фиолетовый цве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Мерзлота карта"/>
          <p:cNvPicPr/>
          <p:nvPr/>
        </p:nvPicPr>
        <p:blipFill>
          <a:blip r:embed="rId2"/>
          <a:stretch/>
        </p:blipFill>
        <p:spPr>
          <a:xfrm>
            <a:off x="900000" y="3429000"/>
            <a:ext cx="3167280" cy="2448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мерзлота картинка"/>
          <p:cNvPicPr/>
          <p:nvPr/>
        </p:nvPicPr>
        <p:blipFill>
          <a:blip r:embed="rId3"/>
          <a:stretch/>
        </p:blipFill>
        <p:spPr>
          <a:xfrm>
            <a:off x="4788000" y="3284640"/>
            <a:ext cx="32353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Какими цифрами на контуре Северной Америки обозначены следующие географические объек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4249800" cy="4896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1 –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оз. Атаба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оз. Виннинпе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Великие Американские оз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. Миссисип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 р. Колорад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2 – вариа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) р. Юко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) оз. Большое Солено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) Ниагарский водопа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) р.Макен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) оз. Гур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Найти вопросы к отве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блица от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Через эту реку вода из Великих озер попадает в Атлантический оке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Река, которая соединяет два озера: Эри и Онтари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Котловина этого озера образовалась в результате разлома земной коры, затем углублена ледни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Река впадает в Северный Ледовитый океан, имеет снеговое питани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долго замерза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Река, которая образовала Большой кань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 Озеро в Кордильерах, покрытое коркой со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8360" y="2276640"/>
          <a:ext cx="4032360" cy="3600360"/>
        </p:xfrm>
        <a:graphic>
          <a:graphicData uri="http://schemas.openxmlformats.org/drawingml/2006/table">
            <a:tbl>
              <a:tblPr/>
              <a:tblGrid>
                <a:gridCol w="1342800"/>
                <a:gridCol w="1346400"/>
                <a:gridCol w="1343160"/>
              </a:tblGrid>
              <a:tr h="1800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fb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Свя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врент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ed2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нп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800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е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f1ad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 Ниаг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fb7e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.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7f9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Характеристика реки Северной Америки по пл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вариант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– р. Макензи;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 вариант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– р. Колор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ан описание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й части материка те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де берет начало? Куда впад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аком направлении те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ясните зависимость характера течения от релье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ределите источники питания р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в режим реки и как зависит от клима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j0090386"/>
          <p:cNvPicPr/>
          <p:nvPr/>
        </p:nvPicPr>
        <p:blipFill>
          <a:blip r:embed="rId2"/>
          <a:stretch/>
        </p:blipFill>
        <p:spPr>
          <a:xfrm>
            <a:off x="5148360" y="5157720"/>
            <a:ext cx="39956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Знаешь ли ты карту Север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"/>
          <p:cNvPicPr/>
          <p:nvPr/>
        </p:nvPicPr>
        <p:blipFill>
          <a:blip r:embed="rId2"/>
          <a:stretch/>
        </p:blipFill>
        <p:spPr>
          <a:xfrm>
            <a:off x="2421000" y="1357200"/>
            <a:ext cx="2049480" cy="19274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 каком  фрагменте кар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зображен следующий географический объек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о одна из самых длинных рек на Земле, смешанное питание с преобладанием дождев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та река несет свои воды в Тихий океан, она полноводна летом, с индейского «большая вод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Через реку …. вода из Великих озер попадает в оке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ка Ниагара, соединяет озера Эри и …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амое глубокое и большое по площади озер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3"/>
          <a:stretch/>
        </p:blipFill>
        <p:spPr>
          <a:xfrm>
            <a:off x="0" y="3656160"/>
            <a:ext cx="2357280" cy="21081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2" descr=""/>
          <p:cNvPicPr/>
          <p:nvPr/>
        </p:nvPicPr>
        <p:blipFill>
          <a:blip r:embed="rId4"/>
          <a:srcRect l="0" t="0" r="0" b="8295"/>
          <a:stretch/>
        </p:blipFill>
        <p:spPr>
          <a:xfrm>
            <a:off x="2500200" y="4000680"/>
            <a:ext cx="2203560" cy="2304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"/>
          <p:cNvPicPr/>
          <p:nvPr/>
        </p:nvPicPr>
        <p:blipFill>
          <a:blip r:embed="rId5"/>
          <a:srcRect l="0" t="0" r="0" b="10361"/>
          <a:stretch/>
        </p:blipFill>
        <p:spPr>
          <a:xfrm>
            <a:off x="219240" y="1285920"/>
            <a:ext cx="2073240" cy="214308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7"/>
          <p:cNvSpPr/>
          <p:nvPr/>
        </p:nvSpPr>
        <p:spPr>
          <a:xfrm>
            <a:off x="285840" y="1285920"/>
            <a:ext cx="2000160" cy="214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8"/>
          <p:cNvSpPr/>
          <p:nvPr/>
        </p:nvSpPr>
        <p:spPr>
          <a:xfrm>
            <a:off x="2357280" y="1285920"/>
            <a:ext cx="2214720" cy="2143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9"/>
          <p:cNvSpPr/>
          <p:nvPr/>
        </p:nvSpPr>
        <p:spPr>
          <a:xfrm>
            <a:off x="0" y="3786120"/>
            <a:ext cx="2357280" cy="1928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1"/>
          <p:cNvSpPr/>
          <p:nvPr/>
        </p:nvSpPr>
        <p:spPr>
          <a:xfrm>
            <a:off x="2571840" y="4000680"/>
            <a:ext cx="2143080" cy="2286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324000" y="333360"/>
          <a:ext cx="8640720" cy="6120000"/>
        </p:xfrm>
        <a:graphic>
          <a:graphicData uri="http://schemas.openxmlformats.org/drawingml/2006/table">
            <a:tbl>
              <a:tblPr/>
              <a:tblGrid>
                <a:gridCol w="2971800"/>
                <a:gridCol w="1452240"/>
                <a:gridCol w="1605240"/>
                <a:gridCol w="1298520"/>
                <a:gridCol w="1312920"/>
              </a:tblGrid>
              <a:tr h="5796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56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Реки, впадающие в Северный Ледовитый океан, полноводны и летом, так как они получают воду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зер и боло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обычных муссонных дожд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таяния ледников в г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кают высоко в гор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К бассейну Тихого океана относятся реки Сев. Амер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анза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у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В систему Великих озер входят озер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х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ннинп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аба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тари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мешанное питание с преобладанием снегового имеют рек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Колора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кенз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сип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2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Мощное современное покровное оледенение имеется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ренланд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восток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д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тичес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хипелаг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полу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в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радо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орь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ой Бассей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wfall00004"/>
          <p:cNvPicPr/>
          <p:nvPr/>
        </p:nvPicPr>
        <p:blipFill>
          <a:blip r:embed="rId2"/>
          <a:stretch/>
        </p:blipFill>
        <p:spPr>
          <a:xfrm>
            <a:off x="2268360" y="1773360"/>
            <a:ext cx="4824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2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крупные реки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текают по материку Северная Амер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4608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рупнейшая речная система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ИССИСИП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т индейского «миси сепе» - великая река)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 притоком МИССУР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имени индейского племени, жившего на его берега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а имеет большой бассейн,собирает воду со Скалистых гор, Аппалачей, с Центральных и Великих равнин. Миссисипи многоводна весь год, разливается весной за счет таяния снегов и вовремя летних дождей. В нижнем течении петляет, образует в русле много остро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РЕКА"/>
          <p:cNvPicPr/>
          <p:nvPr/>
        </p:nvPicPr>
        <p:blipFill>
          <a:blip r:embed="rId2"/>
          <a:stretch/>
        </p:blipFill>
        <p:spPr>
          <a:xfrm>
            <a:off x="5219640" y="1484280"/>
            <a:ext cx="3313080" cy="2592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Сев"/>
          <p:cNvPicPr/>
          <p:nvPr/>
        </p:nvPicPr>
        <p:blipFill>
          <a:blip r:embed="rId3"/>
          <a:stretch/>
        </p:blipFill>
        <p:spPr>
          <a:xfrm>
            <a:off x="5219640" y="4221000"/>
            <a:ext cx="33130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Задание: сравнить реки Северной Америки с реками других материков ,сделайте вывод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«Крупнейшие реки мир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600200"/>
          <a:ext cx="8229600" cy="4826160"/>
        </p:xfrm>
        <a:graphic>
          <a:graphicData uri="http://schemas.openxmlformats.org/drawingml/2006/table">
            <a:tbl>
              <a:tblPr/>
              <a:tblGrid>
                <a:gridCol w="2386080"/>
                <a:gridCol w="2808360"/>
                <a:gridCol w="303516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, к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 бассейн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км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67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Кагеро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8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сип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20 ( с Миссур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азон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4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 Мараньон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410 ( с Иртышо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у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440 ( с Аргунью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ен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орад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7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какие океаны несут свои воды реки Северной Америки?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ассейн какого океана больше?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овы основные источники питания рек?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я с картами атласа, заполните блок – схем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Organization Chart 5"/>
          <p:cNvGrpSpPr/>
          <p:nvPr/>
        </p:nvGrpSpPr>
        <p:grpSpPr>
          <a:xfrm>
            <a:off x="682560" y="2492280"/>
            <a:ext cx="7868880" cy="3425040"/>
            <a:chOff x="682560" y="2492280"/>
            <a:chExt cx="7868880" cy="3425040"/>
          </a:xfrm>
        </p:grpSpPr>
        <p:cxnSp>
          <p:nvCxnSpPr>
            <p:cNvPr id="152" name="_s1028"/>
            <p:cNvCxnSpPr>
              <a:stCxn id="153" idx="0"/>
              <a:endCxn id="154" idx="0"/>
            </p:cNvCxnSpPr>
            <p:nvPr/>
          </p:nvCxnSpPr>
          <p:spPr>
            <a:xfrm flipV="1">
              <a:off x="7317000" y="4207320"/>
              <a:ext cx="3600" cy="494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_s1029"/>
            <p:cNvCxnSpPr>
              <a:stCxn id="156" idx="0"/>
              <a:endCxn id="157" idx="0"/>
            </p:cNvCxnSpPr>
            <p:nvPr/>
          </p:nvCxnSpPr>
          <p:spPr>
            <a:xfrm flipV="1" rot="16200000">
              <a:off x="4475160" y="4881960"/>
              <a:ext cx="286200" cy="214920"/>
            </a:xfrm>
            <a:prstGeom prst="bentConnector3">
              <a:avLst>
                <a:gd name="adj1" fmla="val 4017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_s1030"/>
            <p:cNvCxnSpPr>
              <a:stCxn id="159" idx="0"/>
              <a:endCxn id="160" idx="1"/>
            </p:cNvCxnSpPr>
            <p:nvPr/>
          </p:nvCxnSpPr>
          <p:spPr>
            <a:xfrm flipV="1">
              <a:off x="1845360" y="4346280"/>
              <a:ext cx="3240" cy="286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_s1031"/>
            <p:cNvCxnSpPr>
              <a:stCxn id="154" idx="1"/>
              <a:endCxn id="162" idx="1"/>
            </p:cNvCxnSpPr>
            <p:nvPr/>
          </p:nvCxnSpPr>
          <p:spPr>
            <a:xfrm rot="5400000">
              <a:off x="5946840" y="2053080"/>
              <a:ext cx="76680" cy="2662560"/>
            </a:xfrm>
            <a:prstGeom prst="bentConnector5">
              <a:avLst>
                <a:gd name="adj1" fmla="val -152830"/>
                <a:gd name="adj2" fmla="val 50087"/>
                <a:gd name="adj3" fmla="val 40613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" name="_s1032"/>
            <p:cNvCxnSpPr>
              <a:stCxn id="157" idx="1"/>
              <a:endCxn id="162" idx="2"/>
            </p:cNvCxnSpPr>
            <p:nvPr/>
          </p:nvCxnSpPr>
          <p:spPr>
            <a:xfrm flipH="1" flipV="1" rot="5400000">
              <a:off x="4262760" y="3670560"/>
              <a:ext cx="640080" cy="143640"/>
            </a:xfrm>
            <a:prstGeom prst="bentConnector3">
              <a:avLst>
                <a:gd name="adj1" fmla="val 1783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" name="_s1033"/>
            <p:cNvCxnSpPr>
              <a:stCxn id="160" idx="0"/>
              <a:endCxn id="162" idx="0"/>
            </p:cNvCxnSpPr>
            <p:nvPr/>
          </p:nvCxnSpPr>
          <p:spPr>
            <a:xfrm flipH="1" flipV="1" rot="5400000">
              <a:off x="3180240" y="2087640"/>
              <a:ext cx="140040" cy="2809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" name="_s1034"/>
            <p:cNvSpPr/>
            <p:nvPr/>
          </p:nvSpPr>
          <p:spPr>
            <a:xfrm>
              <a:off x="3420360" y="2492280"/>
              <a:ext cx="2468520" cy="9306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Реки Северной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мери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35"/>
            <p:cNvSpPr/>
            <p:nvPr/>
          </p:nvSpPr>
          <p:spPr>
            <a:xfrm>
              <a:off x="682560" y="3562560"/>
              <a:ext cx="232596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36"/>
            <p:cNvSpPr/>
            <p:nvPr/>
          </p:nvSpPr>
          <p:spPr>
            <a:xfrm>
              <a:off x="3277080" y="4062600"/>
              <a:ext cx="246852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37"/>
            <p:cNvSpPr/>
            <p:nvPr/>
          </p:nvSpPr>
          <p:spPr>
            <a:xfrm>
              <a:off x="6082920" y="3346920"/>
              <a:ext cx="2468520" cy="860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? океан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38"/>
            <p:cNvSpPr/>
            <p:nvPr/>
          </p:nvSpPr>
          <p:spPr>
            <a:xfrm>
              <a:off x="682560" y="4632840"/>
              <a:ext cx="2325960" cy="999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39"/>
            <p:cNvSpPr/>
            <p:nvPr/>
          </p:nvSpPr>
          <p:spPr>
            <a:xfrm>
              <a:off x="3491640" y="5132880"/>
              <a:ext cx="2465280" cy="78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40"/>
            <p:cNvSpPr/>
            <p:nvPr/>
          </p:nvSpPr>
          <p:spPr>
            <a:xfrm>
              <a:off x="6082920" y="4701960"/>
              <a:ext cx="2468520" cy="860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имеры рек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характеристика: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а рек Север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Organization Chart 4"/>
          <p:cNvGrpSpPr/>
          <p:nvPr/>
        </p:nvGrpSpPr>
        <p:grpSpPr>
          <a:xfrm>
            <a:off x="179280" y="1600200"/>
            <a:ext cx="8964000" cy="4997160"/>
            <a:chOff x="179280" y="1600200"/>
            <a:chExt cx="8964000" cy="4997160"/>
          </a:xfrm>
        </p:grpSpPr>
        <p:cxnSp>
          <p:nvCxnSpPr>
            <p:cNvPr id="167" name="_s2052"/>
            <p:cNvCxnSpPr>
              <a:stCxn id="168" idx="0"/>
              <a:endCxn id="169" idx="0"/>
            </p:cNvCxnSpPr>
            <p:nvPr/>
          </p:nvCxnSpPr>
          <p:spPr>
            <a:xfrm flipV="1" rot="16200000">
              <a:off x="7443000" y="4222440"/>
              <a:ext cx="564120" cy="147240"/>
            </a:xfrm>
            <a:prstGeom prst="bentConnector3">
              <a:avLst>
                <a:gd name="adj1" fmla="val 2011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0" name="_s2053"/>
            <p:cNvCxnSpPr>
              <a:stCxn id="171" idx="0"/>
              <a:endCxn id="172" idx="0"/>
            </p:cNvCxnSpPr>
            <p:nvPr/>
          </p:nvCxnSpPr>
          <p:spPr>
            <a:xfrm flipV="1" rot="16200000">
              <a:off x="4546080" y="5037120"/>
              <a:ext cx="353160" cy="205920"/>
            </a:xfrm>
            <a:prstGeom prst="bentConnector3">
              <a:avLst>
                <a:gd name="adj1" fmla="val 3234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3" name="_s2054"/>
            <p:cNvCxnSpPr>
              <a:stCxn id="174" idx="0"/>
              <a:endCxn id="175" idx="1"/>
            </p:cNvCxnSpPr>
            <p:nvPr/>
          </p:nvCxnSpPr>
          <p:spPr>
            <a:xfrm flipH="1" flipV="1" rot="5400000">
              <a:off x="1461960" y="4383720"/>
              <a:ext cx="402840" cy="56880"/>
            </a:xfrm>
            <a:prstGeom prst="bentConnector3">
              <a:avLst>
                <a:gd name="adj1" fmla="val 31842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6" name="_s2055"/>
            <p:cNvCxnSpPr>
              <a:stCxn id="169" idx="1"/>
              <a:endCxn id="177" idx="1"/>
            </p:cNvCxnSpPr>
            <p:nvPr/>
          </p:nvCxnSpPr>
          <p:spPr>
            <a:xfrm rot="5400000">
              <a:off x="6147720" y="1405800"/>
              <a:ext cx="107640" cy="2900880"/>
            </a:xfrm>
            <a:prstGeom prst="bentConnector5">
              <a:avLst>
                <a:gd name="adj1" fmla="val -153020"/>
                <a:gd name="adj2" fmla="val 50080"/>
                <a:gd name="adj3" fmla="val 4063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" name="_s2056"/>
            <p:cNvCxnSpPr>
              <a:stCxn id="172" idx="1"/>
              <a:endCxn id="177" idx="2"/>
            </p:cNvCxnSpPr>
            <p:nvPr/>
          </p:nvCxnSpPr>
          <p:spPr>
            <a:xfrm flipH="1" flipV="1" rot="5400000">
              <a:off x="4281120" y="3248640"/>
              <a:ext cx="809640" cy="131760"/>
            </a:xfrm>
            <a:prstGeom prst="bentConnector3">
              <a:avLst>
                <a:gd name="adj1" fmla="val 1414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9" name="_s2057"/>
            <p:cNvCxnSpPr>
              <a:stCxn id="175" idx="0"/>
              <a:endCxn id="177" idx="0"/>
            </p:cNvCxnSpPr>
            <p:nvPr/>
          </p:nvCxnSpPr>
          <p:spPr>
            <a:xfrm flipH="1" flipV="1" rot="5400000">
              <a:off x="3214800" y="1386000"/>
              <a:ext cx="13320" cy="3060360"/>
            </a:xfrm>
            <a:prstGeom prst="bentConnector3">
              <a:avLst>
                <a:gd name="adj1" fmla="val 5555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7" name="_s2058"/>
            <p:cNvSpPr/>
            <p:nvPr/>
          </p:nvSpPr>
          <p:spPr>
            <a:xfrm>
              <a:off x="3407040" y="1600200"/>
              <a:ext cx="2689200" cy="13100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Реки Северной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мерик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2059"/>
            <p:cNvSpPr/>
            <p:nvPr/>
          </p:nvSpPr>
          <p:spPr>
            <a:xfrm>
              <a:off x="424800" y="2923200"/>
              <a:ext cx="2533680" cy="1287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Атлантического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2060"/>
            <p:cNvSpPr/>
            <p:nvPr/>
          </p:nvSpPr>
          <p:spPr>
            <a:xfrm>
              <a:off x="3275640" y="3719520"/>
              <a:ext cx="2689200" cy="1244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Сев.Ледовитого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300" spc="-1" strike="noStrike">
                  <a:solidFill>
                    <a:srgbClr val="000000"/>
                  </a:solidFill>
                  <a:latin typeface="Arial"/>
                </a:rPr>
                <a:t>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2061"/>
            <p:cNvSpPr/>
            <p:nvPr/>
          </p:nvSpPr>
          <p:spPr>
            <a:xfrm>
              <a:off x="6307200" y="2803320"/>
              <a:ext cx="2689200" cy="12114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бассей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Тихого океан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2062"/>
            <p:cNvSpPr/>
            <p:nvPr/>
          </p:nvSpPr>
          <p:spPr>
            <a:xfrm>
              <a:off x="179280" y="4613400"/>
              <a:ext cx="2912760" cy="1934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. Св. Лаврент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роткие порожистые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огатые энергоресурсам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меющие постоянный ст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2063"/>
            <p:cNvSpPr/>
            <p:nvPr/>
          </p:nvSpPr>
          <p:spPr>
            <a:xfrm>
              <a:off x="3484800" y="5317200"/>
              <a:ext cx="2685600" cy="1104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. Макенз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неговое питани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адолго замерзают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различия в сток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064"/>
            <p:cNvSpPr/>
            <p:nvPr/>
          </p:nvSpPr>
          <p:spPr>
            <a:xfrm>
              <a:off x="6454080" y="4578480"/>
              <a:ext cx="2689200" cy="20188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. Колорадо, Юк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урные, многоводные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роткие,богат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идроэнергией, доли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узкие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лубокие( Большой каньон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ольшой каньон на реке Колорад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убина 1800м и длиной свыше 320 км, врезанный в пласты осадочных пород плато того наз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MCj02290950000[1]"/>
          <p:cNvPicPr/>
          <p:nvPr/>
        </p:nvPicPr>
        <p:blipFill>
          <a:blip r:embed="rId2"/>
          <a:stretch/>
        </p:blipFill>
        <p:spPr>
          <a:xfrm>
            <a:off x="2627280" y="3284640"/>
            <a:ext cx="540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сновные источники питания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к Север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Diagram 5"/>
          <p:cNvGrpSpPr/>
          <p:nvPr/>
        </p:nvGrpSpPr>
        <p:grpSpPr>
          <a:xfrm>
            <a:off x="564120" y="2107080"/>
            <a:ext cx="8228520" cy="3556080"/>
            <a:chOff x="564120" y="2107080"/>
            <a:chExt cx="8228520" cy="3556080"/>
          </a:xfrm>
        </p:grpSpPr>
        <p:sp>
          <p:nvSpPr>
            <p:cNvPr id="185" name="_s3076"/>
            <p:cNvSpPr/>
            <p:nvPr/>
          </p:nvSpPr>
          <p:spPr>
            <a:xfrm flipV="1">
              <a:off x="3308400" y="2106720"/>
              <a:ext cx="2740320" cy="1185840"/>
            </a:xfrm>
            <a:custGeom>
              <a:avLst/>
              <a:gdLst>
                <a:gd name="textAreaLeft" fmla="*/ 983160 w 2740320"/>
                <a:gd name="textAreaRight" fmla="*/ 1757160 w 2740320"/>
                <a:gd name="textAreaTop" fmla="*/ 425520 h 1185840"/>
                <a:gd name="textAreaBottom" fmla="*/ 760320 h 11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леднико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3077"/>
            <p:cNvSpPr/>
            <p:nvPr/>
          </p:nvSpPr>
          <p:spPr>
            <a:xfrm flipV="1">
              <a:off x="1936080" y="3291840"/>
              <a:ext cx="5484240" cy="1184040"/>
            </a:xfrm>
            <a:custGeom>
              <a:avLst/>
              <a:gdLst>
                <a:gd name="textAreaLeft" fmla="*/ 1206000 w 5484240"/>
                <a:gd name="textAreaRight" fmla="*/ 4278240 w 5484240"/>
                <a:gd name="textAreaTop" fmla="*/ 260280 h 1184040"/>
                <a:gd name="textAreaBottom" fmla="*/ 923760 h 11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дождево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078"/>
            <p:cNvSpPr/>
            <p:nvPr/>
          </p:nvSpPr>
          <p:spPr>
            <a:xfrm flipV="1">
              <a:off x="564120" y="4476960"/>
              <a:ext cx="8228520" cy="1185840"/>
            </a:xfrm>
            <a:custGeom>
              <a:avLst/>
              <a:gdLst>
                <a:gd name="textAreaLeft" fmla="*/ 1428480 w 8228520"/>
                <a:gd name="textAreaRight" fmla="*/ 6800040 w 8228520"/>
                <a:gd name="textAreaTop" fmla="*/ 205920 h 1185840"/>
                <a:gd name="textAreaBottom" fmla="*/ 979920 h 118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смешан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(дождевое и снегово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еверная Америка богата озер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йдите на карте и назовите их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зера распространены неравномерно. Большая часть их расположена в пределах Канадского кристаллического щи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ы озер имеют ледниковое и ледниково – тектоническое происхож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доль западной окраины щита располагаются такие озера,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ннинпег (на языке индейцев «вода»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 Медвежь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е Невольничье, Атабас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ы их образовались в результате разломов земной коры, затем углублены ледни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0328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9" descr="Виннипег"/>
          <p:cNvPicPr/>
          <p:nvPr/>
        </p:nvPicPr>
        <p:blipFill>
          <a:blip r:embed="rId2"/>
          <a:stretch/>
        </p:blipFill>
        <p:spPr>
          <a:xfrm>
            <a:off x="4932360" y="1628640"/>
            <a:ext cx="39607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08:51Z</dcterms:created>
  <dc:creator>user-1</dc:creator>
  <dc:description/>
  <dc:language>en-US</dc:language>
  <cp:lastModifiedBy>User</cp:lastModifiedBy>
  <dcterms:modified xsi:type="dcterms:W3CDTF">2012-05-28T16:05:22Z</dcterms:modified>
  <cp:revision>79</cp:revision>
  <dc:subject/>
  <dc:title>«Внутренние воды Северной Америки».</dc:title>
</cp:coreProperties>
</file>