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3.jpeg" ContentType="image/jpeg"/>
  <Override PartName="/ppt/media/image25.jpeg" ContentType="image/jpeg"/>
  <Override PartName="/ppt/media/image10.wmf" ContentType="image/x-wmf"/>
  <Override PartName="/ppt/media/image31.jpeg" ContentType="image/jpeg"/>
  <Override PartName="/ppt/media/image4.jpeg" ContentType="image/jpeg"/>
  <Override PartName="/ppt/media/image8.jpeg" ContentType="image/jpeg"/>
  <Override PartName="/ppt/media/image13.jpeg" ContentType="image/jpeg"/>
  <Override PartName="/ppt/media/image20.wmf" ContentType="image/x-wmf"/>
  <Override PartName="/ppt/media/image26.jpeg" ContentType="image/jpeg"/>
  <Override PartName="/ppt/media/image18.wmf" ContentType="image/x-wmf"/>
  <Override PartName="/ppt/media/image5.jpeg" ContentType="image/jpeg"/>
  <Override PartName="/ppt/media/image2.gif" ContentType="image/gif"/>
  <Override PartName="/ppt/media/image32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9.wmf" ContentType="image/x-wmf"/>
  <Override PartName="/ppt/media/image21.wmf" ContentType="image/x-wmf"/>
  <Override PartName="/ppt/media/image6.jpeg" ContentType="image/jpeg"/>
  <Override PartName="/ppt/media/image2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F41-B02A-420F-9AEA-2BC34F37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42A-3BF2-4198-8E6F-43825FCE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1AA3-5BD0-4841-925C-254BF92E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C55-8B63-4656-A94D-410DE201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D184-6C8D-43B9-AA3C-61EBC108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BFA9-85DA-45D3-BF66-6A21CF5D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C65D-3EF9-4CC2-81AB-1709F7BE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FC99-0D2B-4D10-83B4-72197849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3C1C-1579-4DE9-A4F6-AA2FE50F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53A3-913A-438E-82DA-62B40572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BD4E-588A-4497-91A2-009246DB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99E8-C59B-4C06-A817-716AF6FD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2365-D982-4077-A09D-641A994F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689E-BBE7-45A8-87C8-834CECF1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25D4-56AF-4449-917B-EF4A1DF7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A902-C409-487B-99E8-212A5CAD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E144-B0B9-41C4-AD6F-A66A0EE8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E6921-56CA-4E8A-B3B5-E61D41FE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A477C-A1C3-4039-89D0-D3AADC28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B6AF1-E856-4ABC-8599-E3940F35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CFEC8-69BA-406C-BF4C-936A0383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55B25-AEC9-48BD-A75E-0F8CA6F5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DFEC-38FF-41DD-969E-3ADCE8D7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5AC77-88A4-44D3-88BB-B36F2BA0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1E8A4-CA69-4A95-9F6A-E42D851B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0542B-523B-4820-A46E-2CDDF974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9E7C7-A341-481A-BBCB-1D68540E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26944-EBAB-40CE-95EA-920D2117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8D208-8DD2-4A73-BDA0-559A78BF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2D0C0-EC5C-4DDA-924D-85B26079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5998-1515-4FF8-BCAD-DFB089E9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C738-A98E-4739-9E21-05AB9093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3824-71CD-467B-AF0C-CE7061F2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FDF4-3F95-4FF0-8AA4-70199E30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0038-9DF1-4B58-BE26-2EE7A055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8AD-8D28-4814-8F7C-5D7F190B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34BA-AAFC-4851-ABA9-237A1B974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3082-0047-4B50-8F9D-6F1F85E4FD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336D-40B9-4F68-B5FF-BA6431C5D12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Внутренние воды Северной Америк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212720" y="3886200"/>
            <a:ext cx="355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кт – комплект по курсу географии материков и океанов подготовлен Ореховой О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MMj02852480000[1]"/>
          <p:cNvPicPr/>
          <p:nvPr/>
        </p:nvPicPr>
        <p:blipFill>
          <a:blip r:embed="rId2"/>
          <a:stretch/>
        </p:blipFill>
        <p:spPr>
          <a:xfrm>
            <a:off x="324000" y="371628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Cj02291130000[1]"/>
          <p:cNvPicPr/>
          <p:nvPr/>
        </p:nvPicPr>
        <p:blipFill>
          <a:blip r:embed="rId3"/>
          <a:stretch/>
        </p:blipFill>
        <p:spPr>
          <a:xfrm>
            <a:off x="4284720" y="260280"/>
            <a:ext cx="4248000" cy="1873440"/>
          </a:xfrm>
          <a:prstGeom prst="rect">
            <a:avLst/>
          </a:prstGeom>
          <a:ln w="0">
            <a:noFill/>
          </a:ln>
        </p:spPr>
      </p:pic>
      <p:sp>
        <p:nvSpPr>
          <p:cNvPr id="133" name="Рамка 5"/>
          <p:cNvSpPr/>
          <p:nvPr/>
        </p:nvSpPr>
        <p:spPr>
          <a:xfrm>
            <a:off x="3714840" y="6429240"/>
            <a:ext cx="2714400" cy="428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ордильерах много озер вулканического и ледникового происхо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внутренних плоскогорьях встречаются мелководные засоленные озера. Это остатки крупных водоемов, которые существовали здесь при более влажном климате. Многие озера покрыты коркой соли. Самое крупное из них – Большое Соленое озе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еность – от 137 до 300 пром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Гурон"/>
          <p:cNvPicPr/>
          <p:nvPr/>
        </p:nvPicPr>
        <p:blipFill>
          <a:blip r:embed="rId2"/>
          <a:stretch/>
        </p:blipFill>
        <p:spPr>
          <a:xfrm>
            <a:off x="4859280" y="1916280"/>
            <a:ext cx="3889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южной окраине Канадского щита находится Великие Североамериканские озе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убина озер значительная, у Верхнего она достигает 393 м. По обьему воды все озера превосходят Балтийское море. Они круглогодично используются как транспортные пути, так как и зимой озера не замерзают.  Почему?                        оз. Мичи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Верхнее                      оз. Онтар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Гу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Э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Мичиган"/>
          <p:cNvPicPr/>
          <p:nvPr/>
        </p:nvPicPr>
        <p:blipFill>
          <a:blip r:embed="rId2"/>
          <a:stretch/>
        </p:blipFill>
        <p:spPr>
          <a:xfrm>
            <a:off x="6480000" y="2565360"/>
            <a:ext cx="2664000" cy="1368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Онтарио"/>
          <p:cNvPicPr/>
          <p:nvPr/>
        </p:nvPicPr>
        <p:blipFill>
          <a:blip r:embed="rId3"/>
          <a:stretch/>
        </p:blipFill>
        <p:spPr>
          <a:xfrm>
            <a:off x="2627280" y="3068640"/>
            <a:ext cx="3276720" cy="201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Верхнее"/>
          <p:cNvPicPr/>
          <p:nvPr/>
        </p:nvPicPr>
        <p:blipFill>
          <a:blip r:embed="rId4"/>
          <a:stretch/>
        </p:blipFill>
        <p:spPr>
          <a:xfrm>
            <a:off x="250920" y="2708280"/>
            <a:ext cx="2232000" cy="2017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Гурон"/>
          <p:cNvPicPr/>
          <p:nvPr/>
        </p:nvPicPr>
        <p:blipFill>
          <a:blip r:embed="rId5"/>
          <a:stretch/>
        </p:blipFill>
        <p:spPr>
          <a:xfrm>
            <a:off x="6516720" y="472428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Круизы по озерам"/>
          <p:cNvPicPr/>
          <p:nvPr/>
        </p:nvPicPr>
        <p:blipFill>
          <a:blip r:embed="rId6"/>
          <a:stretch/>
        </p:blipFill>
        <p:spPr>
          <a:xfrm>
            <a:off x="1619280" y="5229360"/>
            <a:ext cx="2736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ликие Североамериканские озера соединены между собой короткими ре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озера Эри в Онтарио течет бурная река Ниагара, на которой образовался водоп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Север"/>
          <p:cNvPicPr/>
          <p:nvPr/>
        </p:nvPicPr>
        <p:blipFill>
          <a:blip r:embed="rId2"/>
          <a:stretch/>
        </p:blipFill>
        <p:spPr>
          <a:xfrm>
            <a:off x="684360" y="4076640"/>
            <a:ext cx="3816360" cy="223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MMj02852480000[1]"/>
          <p:cNvPicPr/>
          <p:nvPr/>
        </p:nvPicPr>
        <p:blipFill>
          <a:blip r:embed="rId3"/>
          <a:stretch/>
        </p:blipFill>
        <p:spPr>
          <a:xfrm>
            <a:off x="755640" y="1484280"/>
            <a:ext cx="3745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ыполнила Антипенко Анастас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ученица 7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МОУ «Гимназии искусст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5435640" y="907920"/>
            <a:ext cx="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MPj04005500000[1]"/>
          <p:cNvPicPr/>
          <p:nvPr/>
        </p:nvPicPr>
        <p:blipFill>
          <a:blip r:embed="rId1"/>
          <a:stretch/>
        </p:blipFill>
        <p:spPr>
          <a:xfrm>
            <a:off x="468360" y="1628640"/>
            <a:ext cx="39020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Forte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600200"/>
            <a:ext cx="40323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 озера Эри в Онтарио течет бурная река Ниагара, на которой образовался водопад высотой 50 м (десятиэтажный дом) и шириной более 1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ека Ниагара – единственный путь, по которому устремляются воды четырех величайших озер: Верхнего, Мичиган, Гурона и Э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9" descr="MCj04060620000[1]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485800"/>
            <a:ext cx="403848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Шум Ниагарского водопада слышен на расстоя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25 к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«</a:t>
            </a:r>
            <a:r>
              <a:rPr b="1" i="1" lang="en-US" sz="4800" spc="-1" strike="noStrike">
                <a:solidFill>
                  <a:srgbClr val="ff33cc"/>
                </a:solidFill>
                <a:latin typeface="Tahoma"/>
              </a:rPr>
              <a:t>Ниагар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а</a:t>
            </a: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»</a:t>
            </a: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 - индийское слово, в переводе означает 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«грохочущая вода»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7" name="Picture 11" descr="MPj04005500000[1]"/>
          <p:cNvPicPr/>
          <p:nvPr/>
        </p:nvPicPr>
        <p:blipFill>
          <a:blip r:embed="rId1"/>
          <a:stretch/>
        </p:blipFill>
        <p:spPr>
          <a:xfrm>
            <a:off x="4356000" y="2421000"/>
            <a:ext cx="4262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бразование водопад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92400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иагара несется широким и спокойным протоком, пока не встречает большой уступ. Тут течение становится быстрее и, наконец, вся масса воды низвергается с высоты десятиэтажного дома. Перед уступом из пенящихся вод реки выдвигается небольшой островок. Он весь зарос густым лесом. Говорят, что на этом острове жило когда – то стадо диких коз; они погибли во время одной суровой зимы. </a:t>
            </a:r>
            <a:r>
              <a:rPr b="1" i="1" lang="en-US" sz="2000" spc="-1" strike="noStrike" u="sng">
                <a:solidFill>
                  <a:srgbClr val="ff33cc"/>
                </a:solidFill>
                <a:uFillTx/>
                <a:latin typeface="Tahoma"/>
              </a:rPr>
              <a:t>Отсюда и весь островок получил название Козьего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.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7" descr="MCj04081680000[1]"/>
          <p:cNvPicPr/>
          <p:nvPr/>
        </p:nvPicPr>
        <p:blipFill>
          <a:blip r:embed="rId1"/>
          <a:stretch/>
        </p:blipFill>
        <p:spPr>
          <a:xfrm>
            <a:off x="179280" y="1484280"/>
            <a:ext cx="3589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Раздвоенная Козьим островком, река низвергается двумя потоками: правый принадлежит США, а левый – Канад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AutoShape 19"/>
          <p:cNvSpPr/>
          <p:nvPr/>
        </p:nvSpPr>
        <p:spPr>
          <a:xfrm>
            <a:off x="3276720" y="2492280"/>
            <a:ext cx="3311280" cy="10080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агарский 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0"/>
          <p:cNvSpPr/>
          <p:nvPr/>
        </p:nvSpPr>
        <p:spPr>
          <a:xfrm>
            <a:off x="250920" y="4149720"/>
            <a:ext cx="3529080" cy="1368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над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1"/>
          <p:cNvSpPr/>
          <p:nvPr/>
        </p:nvSpPr>
        <p:spPr>
          <a:xfrm>
            <a:off x="5364000" y="4292640"/>
            <a:ext cx="3529080" cy="1224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ерика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>
            <a:off x="3276720" y="3573360"/>
            <a:ext cx="431640" cy="647640"/>
          </a:xfrm>
          <a:prstGeom prst="downArrow">
            <a:avLst>
              <a:gd name="adj1" fmla="val 50000"/>
              <a:gd name="adj2" fmla="val 3751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5"/>
          <p:cNvSpPr/>
          <p:nvPr/>
        </p:nvSpPr>
        <p:spPr>
          <a:xfrm>
            <a:off x="6012000" y="357336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6" descr="MCj02829340000[1]"/>
          <p:cNvPicPr/>
          <p:nvPr/>
        </p:nvPicPr>
        <p:blipFill>
          <a:blip r:embed="rId1"/>
          <a:stretch/>
        </p:blipFill>
        <p:spPr>
          <a:xfrm>
            <a:off x="250920" y="2133720"/>
            <a:ext cx="2324160" cy="1839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7" descr="MCj01836160000[1]"/>
          <p:cNvPicPr/>
          <p:nvPr/>
        </p:nvPicPr>
        <p:blipFill>
          <a:blip r:embed="rId2"/>
          <a:stretch/>
        </p:blipFill>
        <p:spPr>
          <a:xfrm>
            <a:off x="6732720" y="2060640"/>
            <a:ext cx="2160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облема Ниагарского водопад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ка Ниагара пропилила холмистую возвышенность, сложенную известняками, и соединили озера Эри и Онтарио. Срываясь с крутого уступа, она образует водопад.Так как вода разрушает известняки, то водопад медленно отступает к озеру Эри. Необходимо вмешательство людей, чтобы сохранить этот уникальный объект прир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4" descr="MCj02005510000[1]"/>
          <p:cNvPicPr/>
          <p:nvPr/>
        </p:nvPicPr>
        <p:blipFill>
          <a:blip r:embed="rId1"/>
          <a:stretch/>
        </p:blipFill>
        <p:spPr>
          <a:xfrm>
            <a:off x="4500720" y="4076640"/>
            <a:ext cx="3743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материка характерно современное оледенение, площадь которого более 2 млн. кв. к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2050920" y="1773360"/>
            <a:ext cx="4681800" cy="15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ременное оледе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чины: низкие темпера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льные снегоп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179280" y="3860640"/>
            <a:ext cx="3745080" cy="25927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кров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енланд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ктич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хипе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4788000" y="3933720"/>
            <a:ext cx="3527280" cy="23749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дильер, Аляс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 flipH="1">
            <a:off x="2484360" y="3284640"/>
            <a:ext cx="43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5867280" y="3284640"/>
            <a:ext cx="576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ми внутренними водами представлен материк Северная Амер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85186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179280" y="2349360"/>
            <a:ext cx="216072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2700360" y="2349360"/>
            <a:ext cx="1871640" cy="505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8"/>
          <p:cNvSpPr/>
          <p:nvPr/>
        </p:nvSpPr>
        <p:spPr>
          <a:xfrm>
            <a:off x="5364000" y="2421000"/>
            <a:ext cx="2159280" cy="503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"/>
          <p:cNvSpPr/>
          <p:nvPr/>
        </p:nvSpPr>
        <p:spPr>
          <a:xfrm>
            <a:off x="5003640" y="5805360"/>
            <a:ext cx="2953080" cy="719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лет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рз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1" descr="Америка"/>
          <p:cNvPicPr/>
          <p:nvPr/>
        </p:nvPicPr>
        <p:blipFill>
          <a:blip r:embed="rId2"/>
          <a:stretch/>
        </p:blipFill>
        <p:spPr>
          <a:xfrm>
            <a:off x="179280" y="3068640"/>
            <a:ext cx="1944720" cy="216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2" descr="Гурон"/>
          <p:cNvPicPr/>
          <p:nvPr/>
        </p:nvPicPr>
        <p:blipFill>
          <a:blip r:embed="rId3"/>
          <a:stretch/>
        </p:blipFill>
        <p:spPr>
          <a:xfrm>
            <a:off x="2340000" y="2997360"/>
            <a:ext cx="2263680" cy="2160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3" descr="ледник"/>
          <p:cNvPicPr/>
          <p:nvPr/>
        </p:nvPicPr>
        <p:blipFill>
          <a:blip r:embed="rId4"/>
          <a:stretch/>
        </p:blipFill>
        <p:spPr>
          <a:xfrm>
            <a:off x="5076720" y="2997360"/>
            <a:ext cx="3024360" cy="1066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4" descr="мерзлота картинка"/>
          <p:cNvPicPr/>
          <p:nvPr/>
        </p:nvPicPr>
        <p:blipFill>
          <a:blip r:embed="rId5"/>
          <a:stretch/>
        </p:blipFill>
        <p:spPr>
          <a:xfrm>
            <a:off x="5076720" y="4365720"/>
            <a:ext cx="30243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временное оледенение матер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енландия (покровный ледник).            Горный ледник сполз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межгорным долин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стами достигают оке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рный ледник.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Гренландия"/>
          <p:cNvPicPr/>
          <p:nvPr/>
        </p:nvPicPr>
        <p:blipFill>
          <a:blip r:embed="rId2"/>
          <a:stretch/>
        </p:blipFill>
        <p:spPr>
          <a:xfrm>
            <a:off x="826920" y="1989000"/>
            <a:ext cx="4032360" cy="2376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Долинный ледник самый крупный"/>
          <p:cNvPicPr/>
          <p:nvPr/>
        </p:nvPicPr>
        <p:blipFill>
          <a:blip r:embed="rId3"/>
          <a:stretch/>
        </p:blipFill>
        <p:spPr>
          <a:xfrm>
            <a:off x="5364000" y="2781360"/>
            <a:ext cx="3306960" cy="1727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ледник"/>
          <p:cNvPicPr/>
          <p:nvPr/>
        </p:nvPicPr>
        <p:blipFill>
          <a:blip r:embed="rId4"/>
          <a:stretch/>
        </p:blipFill>
        <p:spPr>
          <a:xfrm>
            <a:off x="2987640" y="4797360"/>
            <a:ext cx="3743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севере материка распространена многолетняя мерзл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пространение многолетней                Многолетняя мерзл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злоты (фиолетовый цве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Мерзлота карта"/>
          <p:cNvPicPr/>
          <p:nvPr/>
        </p:nvPicPr>
        <p:blipFill>
          <a:blip r:embed="rId2"/>
          <a:stretch/>
        </p:blipFill>
        <p:spPr>
          <a:xfrm>
            <a:off x="900000" y="3429000"/>
            <a:ext cx="3167280" cy="244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мерзлота картинка"/>
          <p:cNvPicPr/>
          <p:nvPr/>
        </p:nvPicPr>
        <p:blipFill>
          <a:blip r:embed="rId3"/>
          <a:stretch/>
        </p:blipFill>
        <p:spPr>
          <a:xfrm>
            <a:off x="4788000" y="3284640"/>
            <a:ext cx="32353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Какими цифрами на контуре Северной Америки обозначены следующие географические объ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4249800" cy="4896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оз. Атаба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Виннинпе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Великие Американские оз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 Миссисип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р. Колорад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р. Юк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Большое Соле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Ниагарский водопа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Макен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оз. Гур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Найти вопросы к отв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блица от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Через эту реку вода из Великих озер попадает в Атлантический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Река, которая соединяет два озера: Эри и Онтари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Котловина этого озера образовалась в результате разлома земной коры, затем углублена ледни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Река впадает в Северный Ледовитый океан, имеет снеговое питан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олго замерза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Река, которая образовала Большой кань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Озеро в Кордильерах, покрытое коркой с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360" y="2276640"/>
          <a:ext cx="4032360" cy="3600360"/>
        </p:xfrm>
        <a:graphic>
          <a:graphicData uri="http://schemas.openxmlformats.org/drawingml/2006/table">
            <a:tbl>
              <a:tblPr/>
              <a:tblGrid>
                <a:gridCol w="1342800"/>
                <a:gridCol w="1346400"/>
                <a:gridCol w="1343160"/>
              </a:tblGrid>
              <a:tr h="1800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Свя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врен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d2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800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е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1a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Ниаг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7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Характеристика реки Северной Америки по пл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Макензи;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Колор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 описание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й части материка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берет начало? Куда впад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м направлении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ясните зависимость характера течения от релье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ите источники питания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в режим реки и как зависит от клима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j0090386"/>
          <p:cNvPicPr/>
          <p:nvPr/>
        </p:nvPicPr>
        <p:blipFill>
          <a:blip r:embed="rId2"/>
          <a:stretch/>
        </p:blipFill>
        <p:spPr>
          <a:xfrm>
            <a:off x="5148360" y="5157720"/>
            <a:ext cx="39956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Знаешь ли ты карту 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2421000" y="1357200"/>
            <a:ext cx="2049480" cy="19274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каком  фрагменте кар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зображен следующий географический объ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 одна из самых длинных рек на Земле, смешанное питание с преобладанием дождев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а река несет свои воды в Тихий океан, она полноводна летом, с индейского «большая во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рез реку …. вода из Великих озер попадает в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ка Ниагара, соединяет озера Эри и …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амое глубокое и большое по площади озе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3"/>
          <a:stretch/>
        </p:blipFill>
        <p:spPr>
          <a:xfrm>
            <a:off x="0" y="3656160"/>
            <a:ext cx="2357280" cy="2108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"/>
          <p:cNvPicPr/>
          <p:nvPr/>
        </p:nvPicPr>
        <p:blipFill>
          <a:blip r:embed="rId4"/>
          <a:srcRect l="0" t="0" r="0" b="8295"/>
          <a:stretch/>
        </p:blipFill>
        <p:spPr>
          <a:xfrm>
            <a:off x="2500200" y="4000680"/>
            <a:ext cx="2203560" cy="2304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"/>
          <p:cNvPicPr/>
          <p:nvPr/>
        </p:nvPicPr>
        <p:blipFill>
          <a:blip r:embed="rId5"/>
          <a:srcRect l="0" t="0" r="0" b="10361"/>
          <a:stretch/>
        </p:blipFill>
        <p:spPr>
          <a:xfrm>
            <a:off x="219240" y="1285920"/>
            <a:ext cx="2073240" cy="214308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7"/>
          <p:cNvSpPr/>
          <p:nvPr/>
        </p:nvSpPr>
        <p:spPr>
          <a:xfrm>
            <a:off x="285840" y="1285920"/>
            <a:ext cx="200016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8"/>
          <p:cNvSpPr/>
          <p:nvPr/>
        </p:nvSpPr>
        <p:spPr>
          <a:xfrm>
            <a:off x="2357280" y="1285920"/>
            <a:ext cx="221472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9"/>
          <p:cNvSpPr/>
          <p:nvPr/>
        </p:nvSpPr>
        <p:spPr>
          <a:xfrm>
            <a:off x="0" y="3786120"/>
            <a:ext cx="2357280" cy="1928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1"/>
          <p:cNvSpPr/>
          <p:nvPr/>
        </p:nvSpPr>
        <p:spPr>
          <a:xfrm>
            <a:off x="2571840" y="4000680"/>
            <a:ext cx="2143080" cy="2286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324000" y="333360"/>
          <a:ext cx="8640720" cy="6120000"/>
        </p:xfrm>
        <a:graphic>
          <a:graphicData uri="http://schemas.openxmlformats.org/drawingml/2006/table">
            <a:tbl>
              <a:tblPr/>
              <a:tblGrid>
                <a:gridCol w="2971800"/>
                <a:gridCol w="1452240"/>
                <a:gridCol w="1605240"/>
                <a:gridCol w="1298520"/>
                <a:gridCol w="1312920"/>
              </a:tblGrid>
              <a:tr h="579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Реки, впадающие в Северный Ледовитый океан, полноводны и летом, так как они получают воду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зер и боло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бычных муссонных дож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таяния ледников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кают высоко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 бассейну Тихого океана относятся реки Сев. Амер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анз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у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 систему Великих озер входят озер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аба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тар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мешанное питание с преобладанием снегового имеют рек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2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Мощное современное покровное оледенение имеетс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ренланд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осток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д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иче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пела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олу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радо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орь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й Бассей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wfall00004"/>
          <p:cNvPicPr/>
          <p:nvPr/>
        </p:nvPicPr>
        <p:blipFill>
          <a:blip r:embed="rId2"/>
          <a:stretch/>
        </p:blipFill>
        <p:spPr>
          <a:xfrm>
            <a:off x="2268360" y="1773360"/>
            <a:ext cx="482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крупные реки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екают по материку Северная Амер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4608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упнейшая речная система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ИССИСИП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 индейского «миси сепе» - великая река)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 притоком МИССУР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мени индейского племени, жившего на его берега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а имеет большой бассейн,собирает воду со Скалистых гор, Аппалачей, с Центральных и Великих равнин. Миссисипи многоводна весь год, разливается весной за счет таяния снегов и вовремя летних дождей. В нижнем течении петляет, образует в русле много остро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РЕКА"/>
          <p:cNvPicPr/>
          <p:nvPr/>
        </p:nvPicPr>
        <p:blipFill>
          <a:blip r:embed="rId2"/>
          <a:stretch/>
        </p:blipFill>
        <p:spPr>
          <a:xfrm>
            <a:off x="5219640" y="1484280"/>
            <a:ext cx="3313080" cy="2592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Сев"/>
          <p:cNvPicPr/>
          <p:nvPr/>
        </p:nvPicPr>
        <p:blipFill>
          <a:blip r:embed="rId3"/>
          <a:stretch/>
        </p:blipFill>
        <p:spPr>
          <a:xfrm>
            <a:off x="5219640" y="4221000"/>
            <a:ext cx="3313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адание: сравнить реки Северной Америки с реками других материков ,сделайте вывод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«Крупнейшие реки ми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8229600" cy="4826160"/>
        </p:xfrm>
        <a:graphic>
          <a:graphicData uri="http://schemas.openxmlformats.org/drawingml/2006/table">
            <a:tbl>
              <a:tblPr/>
              <a:tblGrid>
                <a:gridCol w="2386080"/>
                <a:gridCol w="2808360"/>
                <a:gridCol w="30351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,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 бассейн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км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Кагеро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20 ( с Миссур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азо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Мараньон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10 ( с Иртыш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у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40 ( с Аргунью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ен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кие океаны несут свои воды реки Северной Америки?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ассейн какого океана больше?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овы основные источники питания рек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я с картами атласа, заполните блок – схем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Organization Chart 5"/>
          <p:cNvGrpSpPr/>
          <p:nvPr/>
        </p:nvGrpSpPr>
        <p:grpSpPr>
          <a:xfrm>
            <a:off x="682560" y="2492280"/>
            <a:ext cx="7868880" cy="3425040"/>
            <a:chOff x="682560" y="2492280"/>
            <a:chExt cx="7868880" cy="3425040"/>
          </a:xfrm>
        </p:grpSpPr>
        <p:cxnSp>
          <p:nvCxnSpPr>
            <p:cNvPr id="152" name="_s1028"/>
            <p:cNvCxnSpPr>
              <a:stCxn id="153" idx="0"/>
              <a:endCxn id="154" idx="0"/>
            </p:cNvCxnSpPr>
            <p:nvPr/>
          </p:nvCxnSpPr>
          <p:spPr>
            <a:xfrm flipV="1">
              <a:off x="7317000" y="4207320"/>
              <a:ext cx="3600" cy="494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7" idx="0"/>
            </p:cNvCxnSpPr>
            <p:nvPr/>
          </p:nvCxnSpPr>
          <p:spPr>
            <a:xfrm flipV="1" rot="16200000">
              <a:off x="4475160" y="4881960"/>
              <a:ext cx="286200" cy="214920"/>
            </a:xfrm>
            <a:prstGeom prst="bentConnector3">
              <a:avLst>
                <a:gd name="adj1" fmla="val 4017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_s1030"/>
            <p:cNvCxnSpPr>
              <a:stCxn id="159" idx="0"/>
              <a:endCxn id="160" idx="1"/>
            </p:cNvCxnSpPr>
            <p:nvPr/>
          </p:nvCxnSpPr>
          <p:spPr>
            <a:xfrm flipV="1">
              <a:off x="1845360" y="4346280"/>
              <a:ext cx="3240" cy="28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_s1031"/>
            <p:cNvCxnSpPr>
              <a:stCxn id="154" idx="1"/>
              <a:endCxn id="162" idx="1"/>
            </p:cNvCxnSpPr>
            <p:nvPr/>
          </p:nvCxnSpPr>
          <p:spPr>
            <a:xfrm rot="5400000">
              <a:off x="5946840" y="2053080"/>
              <a:ext cx="76680" cy="2662560"/>
            </a:xfrm>
            <a:prstGeom prst="bentConnector5">
              <a:avLst>
                <a:gd name="adj1" fmla="val -152830"/>
                <a:gd name="adj2" fmla="val 50087"/>
                <a:gd name="adj3" fmla="val 40613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" name="_s1032"/>
            <p:cNvCxnSpPr>
              <a:stCxn id="157" idx="1"/>
              <a:endCxn id="162" idx="2"/>
            </p:cNvCxnSpPr>
            <p:nvPr/>
          </p:nvCxnSpPr>
          <p:spPr>
            <a:xfrm flipH="1" flipV="1" rot="5400000">
              <a:off x="4262760" y="3670560"/>
              <a:ext cx="640080" cy="143640"/>
            </a:xfrm>
            <a:prstGeom prst="bentConnector3">
              <a:avLst>
                <a:gd name="adj1" fmla="val 1783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" name="_s1033"/>
            <p:cNvCxnSpPr>
              <a:stCxn id="160" idx="0"/>
              <a:endCxn id="162" idx="0"/>
            </p:cNvCxnSpPr>
            <p:nvPr/>
          </p:nvCxnSpPr>
          <p:spPr>
            <a:xfrm flipH="1" flipV="1" rot="5400000">
              <a:off x="3180240" y="2087640"/>
              <a:ext cx="140040" cy="2809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" name="_s1034"/>
            <p:cNvSpPr/>
            <p:nvPr/>
          </p:nvSpPr>
          <p:spPr>
            <a:xfrm>
              <a:off x="3420360" y="2492280"/>
              <a:ext cx="2468520" cy="930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35"/>
            <p:cNvSpPr/>
            <p:nvPr/>
          </p:nvSpPr>
          <p:spPr>
            <a:xfrm>
              <a:off x="682560" y="3562560"/>
              <a:ext cx="232596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6"/>
            <p:cNvSpPr/>
            <p:nvPr/>
          </p:nvSpPr>
          <p:spPr>
            <a:xfrm>
              <a:off x="3277080" y="4062600"/>
              <a:ext cx="246852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37"/>
            <p:cNvSpPr/>
            <p:nvPr/>
          </p:nvSpPr>
          <p:spPr>
            <a:xfrm>
              <a:off x="6082920" y="334692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38"/>
            <p:cNvSpPr/>
            <p:nvPr/>
          </p:nvSpPr>
          <p:spPr>
            <a:xfrm>
              <a:off x="682560" y="4632840"/>
              <a:ext cx="2325960" cy="999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39"/>
            <p:cNvSpPr/>
            <p:nvPr/>
          </p:nvSpPr>
          <p:spPr>
            <a:xfrm>
              <a:off x="3491640" y="5132880"/>
              <a:ext cx="246528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40"/>
            <p:cNvSpPr/>
            <p:nvPr/>
          </p:nvSpPr>
          <p:spPr>
            <a:xfrm>
              <a:off x="6082920" y="470196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а 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Organization Chart 4"/>
          <p:cNvGrpSpPr/>
          <p:nvPr/>
        </p:nvGrpSpPr>
        <p:grpSpPr>
          <a:xfrm>
            <a:off x="179280" y="1600200"/>
            <a:ext cx="8964000" cy="4997160"/>
            <a:chOff x="179280" y="1600200"/>
            <a:chExt cx="8964000" cy="4997160"/>
          </a:xfrm>
        </p:grpSpPr>
        <p:cxnSp>
          <p:nvCxnSpPr>
            <p:cNvPr id="167" name="_s2052"/>
            <p:cNvCxnSpPr>
              <a:stCxn id="168" idx="0"/>
              <a:endCxn id="169" idx="0"/>
            </p:cNvCxnSpPr>
            <p:nvPr/>
          </p:nvCxnSpPr>
          <p:spPr>
            <a:xfrm flipV="1" rot="16200000">
              <a:off x="7443000" y="4222440"/>
              <a:ext cx="564120" cy="147240"/>
            </a:xfrm>
            <a:prstGeom prst="bentConnector3">
              <a:avLst>
                <a:gd name="adj1" fmla="val 201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" name="_s2053"/>
            <p:cNvCxnSpPr>
              <a:stCxn id="171" idx="0"/>
              <a:endCxn id="172" idx="0"/>
            </p:cNvCxnSpPr>
            <p:nvPr/>
          </p:nvCxnSpPr>
          <p:spPr>
            <a:xfrm flipV="1" rot="16200000">
              <a:off x="4546080" y="5037120"/>
              <a:ext cx="353160" cy="205920"/>
            </a:xfrm>
            <a:prstGeom prst="bentConnector3">
              <a:avLst>
                <a:gd name="adj1" fmla="val 3234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3" name="_s2054"/>
            <p:cNvCxnSpPr>
              <a:stCxn id="174" idx="0"/>
              <a:endCxn id="175" idx="1"/>
            </p:cNvCxnSpPr>
            <p:nvPr/>
          </p:nvCxnSpPr>
          <p:spPr>
            <a:xfrm flipH="1" flipV="1" rot="5400000">
              <a:off x="1461960" y="4383720"/>
              <a:ext cx="402840" cy="56880"/>
            </a:xfrm>
            <a:prstGeom prst="bentConnector3">
              <a:avLst>
                <a:gd name="adj1" fmla="val 3184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_s2055"/>
            <p:cNvCxnSpPr>
              <a:stCxn id="169" idx="1"/>
              <a:endCxn id="177" idx="1"/>
            </p:cNvCxnSpPr>
            <p:nvPr/>
          </p:nvCxnSpPr>
          <p:spPr>
            <a:xfrm rot="5400000">
              <a:off x="6147720" y="1405800"/>
              <a:ext cx="107640" cy="2900880"/>
            </a:xfrm>
            <a:prstGeom prst="bentConnector5">
              <a:avLst>
                <a:gd name="adj1" fmla="val -153020"/>
                <a:gd name="adj2" fmla="val 50080"/>
                <a:gd name="adj3" fmla="val 4063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_s2056"/>
            <p:cNvCxnSpPr>
              <a:stCxn id="172" idx="1"/>
              <a:endCxn id="177" idx="2"/>
            </p:cNvCxnSpPr>
            <p:nvPr/>
          </p:nvCxnSpPr>
          <p:spPr>
            <a:xfrm flipH="1" flipV="1" rot="5400000">
              <a:off x="4281120" y="3248640"/>
              <a:ext cx="809640" cy="131760"/>
            </a:xfrm>
            <a:prstGeom prst="bentConnector3">
              <a:avLst>
                <a:gd name="adj1" fmla="val 141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9" name="_s2057"/>
            <p:cNvCxnSpPr>
              <a:stCxn id="175" idx="0"/>
              <a:endCxn id="177" idx="0"/>
            </p:cNvCxnSpPr>
            <p:nvPr/>
          </p:nvCxnSpPr>
          <p:spPr>
            <a:xfrm flipH="1" flipV="1" rot="5400000">
              <a:off x="3214800" y="1386000"/>
              <a:ext cx="13320" cy="3060360"/>
            </a:xfrm>
            <a:prstGeom prst="bentConnector3">
              <a:avLst>
                <a:gd name="adj1" fmla="val 5555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7" name="_s2058"/>
            <p:cNvSpPr/>
            <p:nvPr/>
          </p:nvSpPr>
          <p:spPr>
            <a:xfrm>
              <a:off x="3407040" y="1600200"/>
              <a:ext cx="2689200" cy="13100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2059"/>
            <p:cNvSpPr/>
            <p:nvPr/>
          </p:nvSpPr>
          <p:spPr>
            <a:xfrm>
              <a:off x="424800" y="2923200"/>
              <a:ext cx="2533680" cy="1287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тлантического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060"/>
            <p:cNvSpPr/>
            <p:nvPr/>
          </p:nvSpPr>
          <p:spPr>
            <a:xfrm>
              <a:off x="3275640" y="3719520"/>
              <a:ext cx="2689200" cy="124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Сев.Ледовитог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2061"/>
            <p:cNvSpPr/>
            <p:nvPr/>
          </p:nvSpPr>
          <p:spPr>
            <a:xfrm>
              <a:off x="6307200" y="2803320"/>
              <a:ext cx="2689200" cy="1211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Тихого 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2062"/>
            <p:cNvSpPr/>
            <p:nvPr/>
          </p:nvSpPr>
          <p:spPr>
            <a:xfrm>
              <a:off x="179280" y="4613400"/>
              <a:ext cx="2912760" cy="1934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. Св. Лаврен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роткие порожистые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огатые энергоресурсам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меющие постоянный ст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2063"/>
            <p:cNvSpPr/>
            <p:nvPr/>
          </p:nvSpPr>
          <p:spPr>
            <a:xfrm>
              <a:off x="3484800" y="5317200"/>
              <a:ext cx="2685600" cy="1104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. Макенз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неговое питани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долго замерзают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азличия в сто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064"/>
            <p:cNvSpPr/>
            <p:nvPr/>
          </p:nvSpPr>
          <p:spPr>
            <a:xfrm>
              <a:off x="6454080" y="4578480"/>
              <a:ext cx="2689200" cy="2018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. Колорадо, Юк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урные, многоводны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роткие,богат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идроэнергией, доли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зкие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лубокие( Большой каньон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льшой каньон на реке Колорад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убина 1800м и длиной свыше 320 км, врезанный в пласты осадочных пород плато того наз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MCj02290950000[1]"/>
          <p:cNvPicPr/>
          <p:nvPr/>
        </p:nvPicPr>
        <p:blipFill>
          <a:blip r:embed="rId2"/>
          <a:stretch/>
        </p:blipFill>
        <p:spPr>
          <a:xfrm>
            <a:off x="2627280" y="3284640"/>
            <a:ext cx="540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источники пита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Diagram 5"/>
          <p:cNvGrpSpPr/>
          <p:nvPr/>
        </p:nvGrpSpPr>
        <p:grpSpPr>
          <a:xfrm>
            <a:off x="564120" y="2107080"/>
            <a:ext cx="8228520" cy="3556080"/>
            <a:chOff x="564120" y="2107080"/>
            <a:chExt cx="8228520" cy="3556080"/>
          </a:xfrm>
        </p:grpSpPr>
        <p:sp>
          <p:nvSpPr>
            <p:cNvPr id="185" name="_s3076"/>
            <p:cNvSpPr/>
            <p:nvPr/>
          </p:nvSpPr>
          <p:spPr>
            <a:xfrm flipV="1">
              <a:off x="3308400" y="2106720"/>
              <a:ext cx="2740320" cy="1185840"/>
            </a:xfrm>
            <a:custGeom>
              <a:avLst/>
              <a:gdLst>
                <a:gd name="textAreaLeft" fmla="*/ 983160 w 2740320"/>
                <a:gd name="textAreaRight" fmla="*/ 1757160 w 2740320"/>
                <a:gd name="textAreaTop" fmla="*/ 425520 h 1185840"/>
                <a:gd name="textAreaBottom" fmla="*/ 7603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леднико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3077"/>
            <p:cNvSpPr/>
            <p:nvPr/>
          </p:nvSpPr>
          <p:spPr>
            <a:xfrm flipV="1">
              <a:off x="1936080" y="3291840"/>
              <a:ext cx="5484240" cy="1184040"/>
            </a:xfrm>
            <a:custGeom>
              <a:avLst/>
              <a:gdLst>
                <a:gd name="textAreaLeft" fmla="*/ 1206000 w 5484240"/>
                <a:gd name="textAreaRight" fmla="*/ 4278240 w 5484240"/>
                <a:gd name="textAreaTop" fmla="*/ 260280 h 1184040"/>
                <a:gd name="textAreaBottom" fmla="*/ 923760 h 11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дожде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078"/>
            <p:cNvSpPr/>
            <p:nvPr/>
          </p:nvSpPr>
          <p:spPr>
            <a:xfrm flipV="1">
              <a:off x="564120" y="4476960"/>
              <a:ext cx="8228520" cy="1185840"/>
            </a:xfrm>
            <a:custGeom>
              <a:avLst/>
              <a:gdLst>
                <a:gd name="textAreaLeft" fmla="*/ 1428480 w 8228520"/>
                <a:gd name="textAreaRight" fmla="*/ 6800040 w 8228520"/>
                <a:gd name="textAreaTop" fmla="*/ 205920 h 1185840"/>
                <a:gd name="textAreaBottom" fmla="*/ 9799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смешан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дождевое и снегово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верная Америка богата озе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йдите на карте и назовите их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ера распространены неравномерно. Большая часть их расположена в пределах Канадского кристаллического щ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озер имеют ледниковое и ледниково – тектоническое происхо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оль западной окраины щита располагаются такие озера,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ннинпег (на языке индейцев «вода»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Медвеж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Невольничье, Атаба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их образовались в результате разломов земной коры, затем углублены лед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Виннипег"/>
          <p:cNvPicPr/>
          <p:nvPr/>
        </p:nvPicPr>
        <p:blipFill>
          <a:blip r:embed="rId2"/>
          <a:stretch/>
        </p:blipFill>
        <p:spPr>
          <a:xfrm>
            <a:off x="4932360" y="1628640"/>
            <a:ext cx="3960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08:51Z</dcterms:created>
  <dc:creator>user-1</dc:creator>
  <dc:description/>
  <dc:language>en-US</dc:language>
  <cp:lastModifiedBy>User</cp:lastModifiedBy>
  <dcterms:modified xsi:type="dcterms:W3CDTF">2012-05-28T16:05:22Z</dcterms:modified>
  <cp:revision>79</cp:revision>
  <dc:subject/>
  <dc:title>«Внутренние воды Северной Америки».</dc:title>
</cp:coreProperties>
</file>