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670-96BF-431A-B669-216AE4FD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E2F-4DE2-4C12-87BE-D209398B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3DF-4E95-48B9-BFF7-D1E82090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5AC-380D-46FC-A921-45E3A95D8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1455-1952-4345-933A-72B49836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8832-E23A-43D0-94E5-219B6CE2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3CC8-1E38-44A3-BDCB-C402B3F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F559-3A91-4701-94B9-AC923B4F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86DA-E904-4D15-A486-EACF5E2D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16F8-1E8A-49C0-B707-7019F104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19AE-4C5E-4AD0-9929-11DD150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BA6-99EF-464D-B5D4-B7AEABC1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0942-8881-4641-9311-86292A9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8ABF-9FF0-4E5F-AA9F-8852CED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C289-74BA-4C7B-BEE0-BCCA88BB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D35D-C7A2-4E35-87CA-C63A311B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E126-D1BB-4A27-A895-7D1FAE12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3BB-0EC5-41A7-B7CF-6521074F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981-8BEF-4437-9D41-9108F731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1CF5-E122-4018-B833-00DB745F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D39-41C4-4E57-A03E-3DF9E4D1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C62-E22B-4714-B82E-68EE2F4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9DA-8D1C-4C5D-A9E5-467D94E6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CE3-0B68-4446-9694-9633310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7F82-F5D0-441E-BEE1-A74CA4E53F7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67BF-D1E7-4049-83D4-705B70A691B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ДНК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Днк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– Дезоксирибонуклеиновая кислот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881680" y="692280"/>
            <a:ext cx="29383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становлено, чт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 образовании межнуклеотидной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связи участвуют гидроксильные группы в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'- и 5'-положениях остатков углевода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астоящее время проводятся исследования первичных структур различных молекул ДНК. Около 15 лет назад была полностью расшифрована нуклеотидная последовательность митохондриальной ДНК человека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16569 пар нуклеотид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. Известны полные нуклеотидные последовательности ДНК ряда вирусов и плазмид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сем недавно завершено определение нуклеотидных последовательностей геномов двух прокариотических организмов (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Haemophilus influenzae и Mycoplasma genitalum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) и появились сообщения о расшифровке генома первого эукариотического организма – дрожжей. Близки к завершению аналогичные исследования гено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E.col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генома нематоды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Caenorhabditis elegans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Исследователи активно работают над полной расшифровкой генома человек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и варианта схемы нуклеотидной последовательности ДНК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769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Строение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пол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Мономеры</a:t>
            </a: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уклеотид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Verdana"/>
              </a:rPr>
              <a:t>Нуклеотид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химическое соединение остатков трех веществ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40000" y="3573000"/>
            <a:ext cx="461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Строение нуклеоти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4365720"/>
            <a:ext cx="42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692000" y="4365720"/>
            <a:ext cx="718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436572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4365720"/>
            <a:ext cx="649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18120"/>
            <a:ext cx="19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Азотис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основания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ffcc"/>
                </a:solidFill>
                <a:latin typeface="Verdana"/>
              </a:rPr>
              <a:t>Аденин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Гуани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ffcc00"/>
                </a:solidFill>
                <a:latin typeface="Verdana"/>
              </a:rPr>
              <a:t>Цитаз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cc0066"/>
                </a:solidFill>
                <a:latin typeface="Verdana"/>
              </a:rPr>
              <a:t>Тим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0" y="537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0000"/>
                </a:solidFill>
                <a:uFillTx/>
                <a:latin typeface="Verdana"/>
              </a:rPr>
              <a:t>Углевод</a:t>
            </a: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Verdana"/>
              </a:rPr>
              <a:t>- Дезоксириб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530064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Остаток фосфорной кислоты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</a:rPr>
              <a:t> (ФК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Конформации компонентов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5 гетероциклических оснований, входящих в состав НК, имеют плоскую конформацию. Для остатков рибозы и дезоксирибозы плоская конформация энергетически невыгодна. Среди многочисленных теоритически возможных конформаций этих остатков в полинуклеотидах выделяются только 2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716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Син- и анти- конформации нуклеоз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свободных нуклеозидах и нуклеотидах переход от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2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эндо- к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C3`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ндо- между син – и анти-конформациями происходит достаточно легко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3429000"/>
            <a:ext cx="763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1953 г.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Дж.Уотсон и Ф.Кри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редложили модель структуры ДНК. При постоении стуктуры ученые основывались н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4 группах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данны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ДНК представляет собой полимер, состоящий из нуклеотидов, соединенных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`-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фосфодиэфирными связям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Состав нуклеотидов ДНК подчиняется правилам Чаргаффа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A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 = (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T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); число остатков А=Т, 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66ff33"/>
                </a:solidFill>
                <a:latin typeface="Verdana"/>
              </a:rPr>
              <a:t>C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Рентгенограммы волокон ДНК указывают на то, что молекула обладает спиральной структурой и содержи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более одной полинуклеотидной цепи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Стабильность структуры за счет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Макромолекулярная структура ДН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равильная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равовинтовая спираль, состоящая из 2 полинуклеатидных цепе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которые закручены друг относительно друга вокруг общей ос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цепи имею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антипараллельную ориентацию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пиримидиновые и пуриновые основания уложены стопкой с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интервалом 0,34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длина витка спирали –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3,40 н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стабильность цепи за сче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водородных связей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- наличие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комплиментарных па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– основания,которые образуют пары, в которых они сочетаются водородными связям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48320" y="1484280"/>
            <a:ext cx="4038480" cy="4969080"/>
            <a:chOff x="4648320" y="1484280"/>
            <a:chExt cx="4038480" cy="49690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rcRect l="53239" t="25781" r="21075" b="18526"/>
            <a:stretch/>
          </p:blipFill>
          <p:spPr>
            <a:xfrm>
              <a:off x="4648320" y="1484280"/>
              <a:ext cx="4038480" cy="496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4648320" y="1484280"/>
              <a:ext cx="4038480" cy="49690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олиморфизм двойной спирали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авые спирали образуют 2 семейства: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А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3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эндо-) и </a:t>
            </a:r>
            <a:r>
              <a:rPr b="0" lang="ru-RU" sz="3200" spc="-1" strike="noStrike">
                <a:solidFill>
                  <a:srgbClr val="66ff33"/>
                </a:solidFill>
                <a:latin typeface="Verdana"/>
              </a:rPr>
              <a:t>В-семейство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конформация сахара С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`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-эндо-). Структуры в пределах каждого из семейств в зависимости от условий (концентрации соли, температуры) могут иметь разное число пар, приходящихся на виток спирал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Розалинда Франклин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получила эксперементальные свидетельства существования весьма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упорядоченной структуры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ориентированных вытягиванием и подсушенных волокнах ДНК. Эта структура получила название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А-форма ДНК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Этой форме долгое время не придавали особого значения, т.к. она возникла при малой влажности, т.е. не при физиологических условия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3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`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- эндоко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сахара приводит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фосфатными группа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, следовательно, к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меньшению расстояния между нуклеотидными парами вдоль оси спирал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Это ведет к увеличению количества нуклеотидов на виток спирали (11 нуклеотидных остатков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788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Дезоксирибонуклеиновая кислот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ДНК</a:t>
            </a: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–биологический полимер, состоящий из двух спирально закрученных цепоче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877000" y="1268280"/>
            <a:ext cx="2655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Пары основ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в А-форме образуют с осью спирали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угол около 20 градус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очень сильно отодвинуты от оси спирали к переферии молекулы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сдвиг достигает 0,4 – 0,5 н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т.е. почти половину радиу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аствует в транскрипции и передаче информации от ДНК к РНК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331308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88000" y="3068640"/>
            <a:ext cx="3384360" cy="1440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33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А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45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В – семейство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этого семейства характерно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структурное разнообраз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ДНК со случайными последовательностями могут находиться в В-,С-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 и других конформационных состояниях. На структуру ДНК </a:t>
            </a: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влияют тип и концентрация катионов, а также температур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ff33"/>
                </a:solidFill>
                <a:latin typeface="Verdana"/>
              </a:rPr>
              <a:t>На виток приходится 10 пар нуклеотидов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частвует в репликативных процессах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-форма в хранении информац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21964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Z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 – форма ДН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Левоспиральная конформация ДНК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Она была открыта в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1979 г. при исследовании структуры гексануклеотида  d(CG)3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Если полинуклеотид poly(dG-dC) поместить в водный раствор с высокой концентрацией MgCl2, NaCl или спирта, то образуется левая двойная спираль Z-ДНК .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Повторяющейся единицей спирали является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е пара нуклеотидов, а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двойка соседних пар.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В каждой из комплементарных нитей Z-ДНК происходит </a:t>
            </a:r>
            <a:r>
              <a:rPr b="0" lang="ru-RU" sz="1600" spc="-1" strike="noStrike">
                <a:solidFill>
                  <a:srgbClr val="66ff33"/>
                </a:solidFill>
                <a:latin typeface="Verdana"/>
              </a:rPr>
              <a:t>чередование син- и анти-конформаций нуклеотидных звеньев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, а в каждой паре оснований одно всегда находится в син-конформации относительно гликозидной связи, другое - в анти-конформации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527640" cy="2303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386064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Взаимодействия между гетероциклическими основаниями в нуклеиновых кислотах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33"/>
                </a:solidFill>
                <a:latin typeface="Verdana"/>
              </a:rPr>
              <a:t>2 типа взаимодействия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между гетероциклическими основаниями нуклеотидных остатков: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взаимодействия м/у основаниями в комплиментарных парах и вертикальными межплоскостными взаимодействиями оснований,расположенными друг над друг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ff3399"/>
                </a:solidFill>
                <a:latin typeface="Verdana"/>
              </a:rPr>
              <a:t>стэкинг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заимодействия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роме уотсон-криковских пар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T, G-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гетероциклические основания способны образовывать множество связанными водородными связями пар другой структур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бразование пар между двумя пуринами, двумя пиримидинами или некомплиментарными основаниями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-C, G-T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) стерически затруднено, что нарушает геометрию спирал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Стэкинг – взаимодейств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обусловлены ван-дер-ваальсовыми сил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висят от состава комплиментарных пар и от их последовательност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1869 г. 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Фридрих Мише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швейцарский врач биохимик, выделил нуклеиновые кислоты из ядер клеток гноя. Эти клетки содержали фосфоорганическое вещество, которое Мишер назвал «</a:t>
            </a:r>
            <a:r>
              <a:rPr b="0" lang="ru-RU" sz="2000" spc="-1" strike="noStrike">
                <a:solidFill>
                  <a:srgbClr val="66ff33"/>
                </a:solidFill>
                <a:latin typeface="Verdana"/>
              </a:rPr>
              <a:t>нуклеином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учая его состав было получено, что данное соединение носит кислотный характер и содержит белковые компоненты. Остальная часть элементарного состава представлена такими элементами, как: С,Н,О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Альтман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бнаружил ортофосфорную кислоту в составе аминокислот. Именно ее он поначалу называл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нуклеиновой кислото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Пиккар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 конце 19 века открыл азотистое основание –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гуанин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Позже были обнаружены тимин, аденин и ураци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1912 г. Леви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обнаружил, что в состав нуклеиновых кислот входит углевод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пентоз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В начале 20 века был полностью изучен состав всех нуклеиновых кислот, однако вопрос об их строении оставался открытым до 50-х г.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Ф. Мишер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сделал правильное предположение о том, что </a:t>
            </a: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нуклеиновые кислоты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заполняют ядро и принимают участие в оплодотворении и передаче наследственной информации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днако, эта правильная точка зрения просуществовала не долго. При гистохимическом анализе кислот было обнаружено, что гигантские хромосомы не дают похожего аналитического эффекта с нуклеиновыми кисло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ыл сделан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вывод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 том, что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е все хромосомы содержат нуклеи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 он не может быть наследственным материалом. Долгое время таким материалом считали белки. А существовавшие в то время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нуклеиновые кислоты подразделяли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на растительные и животные (тимоаминокислоты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В 1936 г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 советский ученый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Белозерский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доказал что в проростках конского каштана содержится </a:t>
            </a:r>
            <a:r>
              <a:rPr b="0" lang="en-US" sz="2400" spc="-1" strike="noStrike">
                <a:solidFill>
                  <a:srgbClr val="66ff33"/>
                </a:solidFill>
                <a:latin typeface="Verdana"/>
              </a:rPr>
              <a:t>тимонуклеиновая кислота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которая относится только  к животным кислота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Девидсон и Брамс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доказали, что растительные нуклеиновые кислоты существуют и животных клет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Verdana"/>
              </a:rPr>
              <a:t>С 1936 г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. стали различать дезоксирибонуклеи- новую и рибонуклеиновую кислот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История открыт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3 г. американские биохимик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Дж.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Уотсон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2800" spc="-1" strike="noStrike">
                <a:solidFill>
                  <a:srgbClr val="66ff33"/>
                </a:solidFill>
                <a:latin typeface="Verdana"/>
              </a:rPr>
              <a:t>Ф.Крик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установили расположение частей молекулы ДН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3214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Первичная структура нуклеиновых кислот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д </a:t>
            </a:r>
            <a:r>
              <a:rPr b="0" lang="en-US" sz="2000" spc="-1" strike="noStrike">
                <a:solidFill>
                  <a:srgbClr val="ff3399"/>
                </a:solidFill>
                <a:latin typeface="Verdana"/>
              </a:rPr>
              <a:t>первичной структурой нуклеиновых кислот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нимают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порядок, последовательность расположения мононуклеотидов в полинуклеотидной цепи ДНК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Поскольку молекулярная масса нуклеиновых кислот колеблется в широких пределах (от 2•10(4) до 10(10)–10(11), установить первичную структуру ДНК весьма сложн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 не менее в одноцепочечной нуклеиновой кислоте имеется один и тот же тип связи – </a:t>
            </a:r>
            <a:r>
              <a:rPr b="0" lang="en-US" sz="2000" spc="-1" strike="noStrike">
                <a:solidFill>
                  <a:srgbClr val="66ff33"/>
                </a:solidFill>
                <a:latin typeface="Verdana"/>
              </a:rPr>
              <a:t>3',5'-фосфодиэфирная связь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между соседними нуклеотидами. Эту общую основу структуры можно представить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388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42:33Z</dcterms:created>
  <dc:creator>Devilry</dc:creator>
  <dc:description/>
  <dc:language>en-US</dc:language>
  <cp:lastModifiedBy>Devilry</cp:lastModifiedBy>
  <dcterms:modified xsi:type="dcterms:W3CDTF">2009-10-11T15:42:44Z</dcterms:modified>
  <cp:revision>2</cp:revision>
  <dc:subject/>
  <dc:title>ДНК</dc:title>
</cp:coreProperties>
</file>