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7F2-CAB5-43CE-A5D3-A138C16C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63E-78C5-4C61-A0F7-837D7827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E56-60B2-4845-9861-2DA5AFA4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912-A5C7-4D80-A459-6CEE202E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684D-CEF4-4D95-9E62-EE7465F5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A5E3-9BB2-4566-8CC0-0C734BCB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D696-B321-4BE9-ACFD-B8AF1BDE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2060-5F46-4FD8-899A-022CDF3C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3195-E250-4175-ABC0-51F71B01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78E6-2A46-4D21-8D4A-0FA0DBBE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69B8-DADB-4FF2-88A5-29198DEA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F2C-B17F-4993-B633-3AACD829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1D52-10B5-4A2E-9B1A-3FA0D613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6D92-BAB5-429F-A88A-D5C29D79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CED3-63F4-4CE6-94CC-F88F5531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1284-5C87-45A2-B948-0A25F3DC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3AC0-1CD0-41FD-9F1F-2BE8A636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9B1-1D7A-4DD2-9A7E-63CB95E2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B59-9882-4EDD-8F76-4CD260BF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C98-504E-4182-A495-0C5577D8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7B6-DCE1-4CC5-A92E-195CE3BA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289-0F0B-40BD-9A12-978BDF6C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C1A-4677-4EAB-82A8-3E84D74D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552-7EE4-4C98-825C-856D42E3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47FE-A39E-47E3-B251-2BDA7A93A7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AE38-B979-4D67-B970-A0AED8BA5C7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ДНК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нк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– Дезоксирибонуклеиновая кисло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81680" y="692280"/>
            <a:ext cx="2938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ановлено, чт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 образовании межнуклеотидно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вязи участвуют гидроксильные группы в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'- и 5'-положениях остатков углевода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настоящее время проводятся исследования первичных структур различных молекул ДНК. Около 15 лет назад была полностью расшифрована нуклеотидная последовательность митохондриальной ДНК человека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16569 пар нуклеотид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. Известны полные нуклеотидные последовательности ДНК ряда вирусов и плазми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сем недавно завершено определение нуклеотидных последовательностей геномов двух прокариотических организмов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Haemophilus influenzae и Mycoplasma genitalum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и появились сообщения о расшифровке генома первого эукариотического организма – дрожжей. Близки к завершению аналогичные исследования гено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E.col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генома нематоды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Caenorhabditis elegan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Исследователи активно работают над полной расшифровкой генома челове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и варианта схемы нуклеотидной последовательности ДНК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9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пол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уклеоти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Нуклеотид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40000" y="3573000"/>
            <a:ext cx="461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Строение нуклеоти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436572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92000" y="4365720"/>
            <a:ext cx="718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4365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65720"/>
            <a:ext cx="64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1812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Азоти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основания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Аденин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Гуан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Цитаз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Ти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0" y="537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Углевод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Дезоксириб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53006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Остаток фосфорной кислоты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 (Ф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Конформации компонентов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5 гетероциклических оснований, входящих в состав НК, имеют плоскую конформацию. Для остатков рибозы и дезоксирибозы плоская конформация энергетически невыгодна. Среди многочисленных теоритически возможных конформаций этих остатков в полинуклеотидах выделяются только 2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471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ин- и анти- конформации нуклеоз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бодных нуклеозидах и нуклеотидах переход о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2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ндо- к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3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ндо- между син – и анти-конформациями происходит достаточно легк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763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53 г.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Дж.Уотсон и Ф.Кри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редложили модель структуры ДНК. При постоении стуктуры ученые основывались н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4 групп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данных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ДНК представляет собой полимер, состоящий из нуклеотидов, соединенных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фосфодиэфирными связя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Состав нуклеотидов ДНК подчиняется правилам Чаргафф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 = 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; число остатков А=Т, 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Рентгенограммы волокон ДНК указывают на то, что молекула обладает спиральной структурой и содержи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более одной полинуклеотидной цеп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Стабильность структуры за сче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равильная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равовинтовая спираль, состоящая из 2 полинуклеатидных цепей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которые закручены друг относительно друга вокруг общей ос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цепи имею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антипараллельную ориентац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иримидиновые и пуриновые основания уложены стопкой с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интервалом 0,34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длина витка спирали –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3,40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стабильность цепи за сче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наличие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комплиментарных па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– основания,которые образуют пары, в которых они сочетаются водородными связя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48320" y="1484280"/>
            <a:ext cx="4038480" cy="4969080"/>
            <a:chOff x="4648320" y="1484280"/>
            <a:chExt cx="4038480" cy="49690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53239" t="25781" r="21075" b="18526"/>
            <a:stretch/>
          </p:blipFill>
          <p:spPr>
            <a:xfrm>
              <a:off x="4648320" y="1484280"/>
              <a:ext cx="403848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4648320" y="1484280"/>
              <a:ext cx="4038480" cy="4969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олиморфизм двойной спирал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ые спирали образуют 2 семейства: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А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ндо-) и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В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эндо-). Структуры в пределах каждого из семейств в зависимости от условий (концентрации соли, температуры) могут иметь разное число пар, приходящихся на виток спир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Розалинда Франклин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олучила эксперементальные свидетельства существования весь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упорядоченной структу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ориентированных вытягиванием и подсушенных волокнах ДНК. Эта структура получила название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А-форма ДН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Этой форме долгое время не придавали особого значения, т.к. она возникла при малой влажности, т.е. не при физиологических услов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3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`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- эндоко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ахара приводит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фосфатными группа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, следовательно,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нуклеотидными парами вдоль оси спирал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Это ведет к увеличению количества нуклеотидов на виток спирали (11 нуклеотидных остатков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7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77000" y="1268280"/>
            <a:ext cx="2655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ары основ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 А-форме образуют с осью спирали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гол около 20 градус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очень сильно отодвинуты от оси спирали к переферии молекулы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двиг достигает 0,4 – 0,5 н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т.е. почти половину радиу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вует в транскрипции и передаче информации от ДНК к РН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31308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38436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3384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В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этого семейства характерн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структурное разнообраз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ДНК со случайными последовательностями могут находиться в В-,С-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 других конформационных состояниях. На структуру ДНК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лияют тип и концентрация катионов, а также температур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На виток приходится 10 пар нуклеотид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аствует в репликативных процесс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-форма в хранении информ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Z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 – форма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Левоспиральная конформация ДН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Она была открыта в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1979 г. при исследовании структуры гексануклеотида  d(CG)3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Если полинуклеотид poly(dG-dC) поместить в водный раствор с высокой концентрацией MgCl2, NaCl или спирта, то образуется левая двойная спираль Z-ДНК .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овторяющейся единицей спирали являетс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е пара нуклеотидов, а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двойка соседних пар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В каждой из комплементарных нитей Z-ДНК происходи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чередование син- и анти-конформаций нуклеотидных звенье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а в каждой паре оснований одно всегда находится в син-конформации относительно гликозидной связи, другое - в анти-конформац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527640" cy="2303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52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Взаимодействия между гетероциклическими основаниями в нуклеиновых кислотах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2 типа взаимодейств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между гетероциклическими основаниями нуклеотидных остатков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заимодействия м/у основаниями в комплиментарных парах и вертикальными межплоскостными взаимодействиями оснований,расположенными друг над друг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3399"/>
                </a:solidFill>
                <a:latin typeface="Verdana"/>
              </a:rPr>
              <a:t>стэкинг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аимодействия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оме уотсон-криковских пар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T, G-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гетероциклические основания способны образовывать множество связанными водородными связями пар другой структу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разование пар между двумя пуринами, двумя пиримидинами или некомплиментарными основаниями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C, G-T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стерически затруднено, что нарушает геометрию спирал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тэкинг – взаимодейств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обусловлены ван-дер-ваальсовыми сил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ят от состава комплиментарных пар и от их последователь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69 г.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Фридрих Мише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швейцарский врач биохимик, выделил нуклеиновые кислоты из ядер клеток гноя. Эти клетки содержали фосфоорганическое вещество, которое Мишер назвал «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уклеин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учая его состав было получено, что данное соединение носит кислотный характер и содержит белковые компоненты. Остальная часть элементарного состава представлена такими элементами, как: С,Н,О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Альтман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наружил ортофосфорную кислоту в составе аминокислот. Именно ее он поначалу называл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нуклеиновой кислот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Пиккард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конце 19 века открыл азотистое основание –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гуанин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озже были обнаружены тимин, аденин и ураци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1912 г. Лев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обнаружил, что в состав нуклеиновых кислот входит углевод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пентоз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В начале 20 века был полностью изучен состав всех нуклеиновых кислот, однако вопрос об их строении оставался открытым до 50-х г.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Ф. Мише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делал правильное предположение о том, что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уклеинов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полняют ядро и принимают участие в оплодотворении и передаче наследственной информ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нако, эта правильная точка зрения просуществовала не долго. При гистохимическом анализе кислот было обнаружено, что гигантские хромосомы не дают похожего аналитического эффекта с нуклеиновыми кислот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ыл сделан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вывод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 том, что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е все хромосомы содержат нуклеи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 он не может быть наследственным материалом. Долгое время таким материалом считали белки. А существовавшие в то время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уклеиновые кислоты подразделял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на растительные и животные (тимоаминокислоты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В 1936 г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советский ученый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Белозерский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доказал что в проростках конского каштана содержится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тимонуклеиновая кислот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которая относится только  к животным кислота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Девидсон и Брамс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оказали, что растительные нуклеиновые кислоты существуют и животных клет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 1936 г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стали различать дезоксирибонуклеи- новую и рибонуклеиновую кисло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3 г. американские биохимик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Дж.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Уотсон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Ф.Кри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214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0" lang="en-US" sz="2000" spc="-1" strike="noStrike">
                <a:solidFill>
                  <a:srgbClr val="ff3399"/>
                </a:solidFill>
                <a:latin typeface="Verdana"/>
              </a:rPr>
              <a:t>первичной структурой нуклеиновых кислот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нимают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порядок, последовательность расположения мононуклеотидов в полинуклеотидной цепи ДНК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скольку молекулярная масса нуклеиновых кислот колеблется в широких пределах (от 2•10(4) до 10(10)–10(11), установить первичную структуру ДНК весьма слож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ем не менее в одноцепочечной нуклеиновой кислоте имеется один и тот же тип связи –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3',5'-фосфодиэфирная связь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между соседними нуклеотидами. Эту общую основу структуры можно представить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388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42:33Z</dcterms:created>
  <dc:creator>Devilry</dc:creator>
  <dc:description/>
  <dc:language>en-US</dc:language>
  <cp:lastModifiedBy>Devilry</cp:lastModifiedBy>
  <dcterms:modified xsi:type="dcterms:W3CDTF">2009-10-11T15:42:44Z</dcterms:modified>
  <cp:revision>2</cp:revision>
  <dc:subject/>
  <dc:title>ДНК</dc:title>
</cp:coreProperties>
</file>